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587-A378-4CA7-AFA9-D4CB1969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379-79EA-492E-B847-F70DE299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181-671A-4BE2-A72D-25DDB903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511-E284-409F-86C8-F2515746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8B7-B6EB-42C5-A96E-B564C324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80E-BED9-42AF-BCD6-BD776DB2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730-3B43-403B-95F8-DAEC3C63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08E2-B92E-4A97-87D7-9B9A1E2A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E74-9055-49AC-80E2-A6CC72E0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68C-4737-49F3-B238-09BA235F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662-2A16-4A6F-89B4-B42A0A29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4D3-A279-4996-82BD-8ED8A829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1E27-FDDF-444A-A694-1BFF9BDB6BD3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B613-6390-44A8-B1FF-CE1310D740C5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wg_blurred_backgrounds_15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背景图简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1147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wg_blurred_backgrounds_15"/>
          <p:cNvPicPr/>
          <p:nvPr/>
        </p:nvPicPr>
        <p:blipFill>
          <a:blip r:embed="rId1"/>
          <a:srcRect l="0" t="0" r="0" b="77821"/>
          <a:stretch/>
        </p:blipFill>
        <p:spPr>
          <a:xfrm>
            <a:off x="0" y="4670280"/>
            <a:ext cx="899964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5080" y="240840"/>
            <a:ext cx="678492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65080" y="1403280"/>
            <a:ext cx="678492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wg_blurred_backgrounds_15"/>
          <p:cNvPicPr/>
          <p:nvPr/>
        </p:nvPicPr>
        <p:blipFill>
          <a:blip r:embed="rId1"/>
          <a:srcRect l="53574" t="0" r="28758" b="0"/>
          <a:stretch/>
        </p:blipFill>
        <p:spPr>
          <a:xfrm>
            <a:off x="0" y="0"/>
            <a:ext cx="15908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857840" y="914400"/>
            <a:ext cx="10731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857840" y="914400"/>
            <a:ext cx="10731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2222640" y="882720"/>
            <a:ext cx="4030560" cy="4030560"/>
          </a:xfrm>
          <a:custGeom>
            <a:avLst/>
            <a:gdLst>
              <a:gd name="textAreaLeft" fmla="*/ 590040 w 4030560"/>
              <a:gd name="textAreaRight" fmla="*/ 3440520 w 4030560"/>
              <a:gd name="textAreaTop" fmla="*/ 590040 h 4030560"/>
              <a:gd name="textAreaBottom" fmla="*/ 3440520 h 4030560"/>
            </a:gdLst>
            <a:ahLst/>
            <a:rect l="textAreaLeft" t="textAreaTop" r="textAreaRight" b="textAreaBottom"/>
            <a:pathLst>
              <a:path w="24246" h="13137">
                <a:moveTo>
                  <a:pt x="20439" y="9939"/>
                </a:moveTo>
                <a:cubicBezTo>
                  <a:pt x="20311" y="8505"/>
                  <a:pt x="19865" y="7117"/>
                  <a:pt x="19132" y="5877"/>
                </a:cubicBezTo>
                <a:lnTo>
                  <a:pt x="20098" y="5306"/>
                </a:lnTo>
                <a:cubicBezTo>
                  <a:pt x="20916" y="6690"/>
                  <a:pt x="21414" y="8239"/>
                  <a:pt x="21557" y="9840"/>
                </a:cubicBezTo>
                <a:lnTo>
                  <a:pt x="24246" y="9600"/>
                </a:lnTo>
                <a:lnTo>
                  <a:pt x="21288" y="13137"/>
                </a:lnTo>
                <a:lnTo>
                  <a:pt x="17750" y="10179"/>
                </a:lnTo>
                <a:lnTo>
                  <a:pt x="20439" y="9939"/>
                </a:lnTo>
                <a:close/>
              </a:path>
            </a:pathLst>
          </a:custGeom>
          <a:solidFill>
            <a:srgbClr val="ff87c8"/>
          </a:solidFill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5533920" y="2997360"/>
            <a:ext cx="10749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533920" y="2997360"/>
            <a:ext cx="10749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2298600" y="819000"/>
            <a:ext cx="4030920" cy="4030920"/>
          </a:xfrm>
          <a:custGeom>
            <a:avLst/>
            <a:gdLst>
              <a:gd name="textAreaLeft" fmla="*/ 590040 w 4030920"/>
              <a:gd name="textAreaRight" fmla="*/ 3440880 w 4030920"/>
              <a:gd name="textAreaTop" fmla="*/ 590040 h 4030920"/>
              <a:gd name="textAreaBottom" fmla="*/ 3440880 h 4030920"/>
            </a:gdLst>
            <a:ahLst/>
            <a:rect l="textAreaLeft" t="textAreaTop" r="textAreaRight" b="textAreaBottom"/>
            <a:pathLst>
              <a:path w="19363" h="23219">
                <a:moveTo>
                  <a:pt x="14593" y="19703"/>
                </a:moveTo>
                <a:cubicBezTo>
                  <a:pt x="16123" y="19051"/>
                  <a:pt x="17459" y="18016"/>
                  <a:pt x="18473" y="16697"/>
                </a:cubicBezTo>
                <a:lnTo>
                  <a:pt x="19363" y="17381"/>
                </a:lnTo>
                <a:cubicBezTo>
                  <a:pt x="18231" y="18853"/>
                  <a:pt x="16740" y="20008"/>
                  <a:pt x="15032" y="20735"/>
                </a:cubicBezTo>
                <a:lnTo>
                  <a:pt x="16091" y="23219"/>
                </a:lnTo>
                <a:lnTo>
                  <a:pt x="11812" y="21497"/>
                </a:lnTo>
                <a:lnTo>
                  <a:pt x="13534" y="17219"/>
                </a:lnTo>
                <a:lnTo>
                  <a:pt x="14593" y="19703"/>
                </a:lnTo>
                <a:close/>
              </a:path>
            </a:pathLst>
          </a:custGeom>
          <a:solidFill>
            <a:srgbClr val="ff87c8"/>
          </a:solidFill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762360" y="4284720"/>
            <a:ext cx="107316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513240" y="4284720"/>
            <a:ext cx="10746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2222640" y="882720"/>
            <a:ext cx="4030560" cy="4030560"/>
          </a:xfrm>
          <a:custGeom>
            <a:avLst/>
            <a:gdLst>
              <a:gd name="textAreaLeft" fmla="*/ 590040 w 4030560"/>
              <a:gd name="textAreaRight" fmla="*/ 3440520 w 4030560"/>
              <a:gd name="textAreaTop" fmla="*/ 590040 h 4030560"/>
              <a:gd name="textAreaBottom" fmla="*/ 3440520 h 4030560"/>
            </a:gdLst>
            <a:ahLst/>
            <a:rect l="textAreaLeft" t="textAreaTop" r="textAreaRight" b="textAreaBottom"/>
            <a:pathLst>
              <a:path w="7893" h="21101">
                <a:moveTo>
                  <a:pt x="3738" y="17417"/>
                </a:moveTo>
                <a:cubicBezTo>
                  <a:pt x="4875" y="18631"/>
                  <a:pt x="6306" y="19531"/>
                  <a:pt x="7893" y="20031"/>
                </a:cubicBezTo>
                <a:lnTo>
                  <a:pt x="7556" y="21101"/>
                </a:lnTo>
                <a:cubicBezTo>
                  <a:pt x="5785" y="20543"/>
                  <a:pt x="4188" y="19539"/>
                  <a:pt x="2919" y="18184"/>
                </a:cubicBezTo>
                <a:lnTo>
                  <a:pt x="949" y="20031"/>
                </a:lnTo>
                <a:lnTo>
                  <a:pt x="1098" y="15421"/>
                </a:lnTo>
                <a:lnTo>
                  <a:pt x="5708" y="15571"/>
                </a:lnTo>
                <a:lnTo>
                  <a:pt x="3738" y="17417"/>
                </a:lnTo>
                <a:close/>
              </a:path>
            </a:pathLst>
          </a:custGeom>
          <a:solidFill>
            <a:srgbClr val="ff87c8"/>
          </a:solidFill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1990800" y="2997360"/>
            <a:ext cx="10746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990800" y="2997360"/>
            <a:ext cx="10746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2187720" y="973080"/>
            <a:ext cx="4030560" cy="4030560"/>
          </a:xfrm>
          <a:custGeom>
            <a:avLst/>
            <a:gdLst>
              <a:gd name="textAreaLeft" fmla="*/ 590040 w 4030560"/>
              <a:gd name="textAreaRight" fmla="*/ 3440520 w 4030560"/>
              <a:gd name="textAreaTop" fmla="*/ 590040 h 4030560"/>
              <a:gd name="textAreaBottom" fmla="*/ 3440520 h 4030560"/>
            </a:gdLst>
            <a:ahLst/>
            <a:rect l="textAreaLeft" t="textAreaTop" r="textAreaRight" b="textAreaBottom"/>
            <a:pathLst>
              <a:path w="5912" h="10893">
                <a:moveTo>
                  <a:pt x="2027" y="6713"/>
                </a:moveTo>
                <a:cubicBezTo>
                  <a:pt x="1430" y="7993"/>
                  <a:pt x="1122" y="9387"/>
                  <a:pt x="1122" y="10800"/>
                </a:cubicBezTo>
                <a:cubicBezTo>
                  <a:pt x="1122" y="10827"/>
                  <a:pt x="1122" y="10855"/>
                  <a:pt x="1122" y="10883"/>
                </a:cubicBezTo>
                <a:lnTo>
                  <a:pt x="0" y="10893"/>
                </a:lnTo>
                <a:cubicBezTo>
                  <a:pt x="0" y="10862"/>
                  <a:pt x="0" y="10831"/>
                  <a:pt x="0" y="10800"/>
                </a:cubicBezTo>
                <a:cubicBezTo>
                  <a:pt x="0" y="9224"/>
                  <a:pt x="344" y="7667"/>
                  <a:pt x="1010" y="6239"/>
                </a:cubicBezTo>
                <a:lnTo>
                  <a:pt x="-1438" y="5099"/>
                </a:lnTo>
                <a:lnTo>
                  <a:pt x="2895" y="3520"/>
                </a:lnTo>
                <a:lnTo>
                  <a:pt x="4474" y="7853"/>
                </a:lnTo>
                <a:lnTo>
                  <a:pt x="2027" y="6713"/>
                </a:lnTo>
                <a:close/>
              </a:path>
            </a:pathLst>
          </a:custGeom>
          <a:solidFill>
            <a:srgbClr val="ff87c8"/>
          </a:solidFill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2666880" y="914400"/>
            <a:ext cx="10749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2666880" y="914400"/>
            <a:ext cx="10749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6"/>
          <p:cNvSpPr/>
          <p:nvPr/>
        </p:nvSpPr>
        <p:spPr>
          <a:xfrm>
            <a:off x="2222640" y="882720"/>
            <a:ext cx="4030560" cy="4030560"/>
          </a:xfrm>
          <a:custGeom>
            <a:avLst/>
            <a:gdLst>
              <a:gd name="textAreaLeft" fmla="*/ 590040 w 4030560"/>
              <a:gd name="textAreaRight" fmla="*/ 3440520 w 4030560"/>
              <a:gd name="textAreaTop" fmla="*/ 590040 h 4030560"/>
              <a:gd name="textAreaBottom" fmla="*/ 3440520 h 4030560"/>
            </a:gdLst>
            <a:ahLst/>
            <a:rect l="textAreaLeft" t="textAreaTop" r="textAreaRight" b="textAreaBottom"/>
            <a:pathLst>
              <a:path w="15972" h="6400">
                <a:moveTo>
                  <a:pt x="12664" y="1303"/>
                </a:moveTo>
                <a:cubicBezTo>
                  <a:pt x="12050" y="1182"/>
                  <a:pt x="11425" y="1122"/>
                  <a:pt x="10799" y="1122"/>
                </a:cubicBezTo>
                <a:cubicBezTo>
                  <a:pt x="9857" y="1122"/>
                  <a:pt x="8920" y="1259"/>
                  <a:pt x="8018" y="1530"/>
                </a:cubicBezTo>
                <a:lnTo>
                  <a:pt x="7695" y="455"/>
                </a:lnTo>
                <a:cubicBezTo>
                  <a:pt x="8702" y="153"/>
                  <a:pt x="9748" y="0"/>
                  <a:pt x="10799" y="0"/>
                </a:cubicBezTo>
                <a:cubicBezTo>
                  <a:pt x="11498" y="0"/>
                  <a:pt x="12195" y="67"/>
                  <a:pt x="12880" y="202"/>
                </a:cubicBezTo>
                <a:lnTo>
                  <a:pt x="13401" y="-2448"/>
                </a:lnTo>
                <a:lnTo>
                  <a:pt x="15972" y="1380"/>
                </a:lnTo>
                <a:lnTo>
                  <a:pt x="12144" y="3952"/>
                </a:lnTo>
                <a:lnTo>
                  <a:pt x="12664" y="1303"/>
                </a:lnTo>
                <a:close/>
              </a:path>
            </a:pathLst>
          </a:custGeom>
          <a:solidFill>
            <a:srgbClr val="ff87c8"/>
          </a:solidFill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639800" y="1349280"/>
            <a:ext cx="29210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040" rIns="320040" tIns="320040" bIns="32004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560840" y="1349280"/>
            <a:ext cx="29224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040" rIns="320040" tIns="320040" bIns="32004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639800" y="3357720"/>
            <a:ext cx="29210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040" rIns="320040" tIns="320040" bIns="32004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4560840" y="3357720"/>
            <a:ext cx="29210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0040" rIns="320040" tIns="320040" bIns="32004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3684600" y="2554200"/>
            <a:ext cx="1752480" cy="8035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3724200" y="2593800"/>
            <a:ext cx="1673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171360" tIns="171360" bIns="171360" anchor="ctr">
            <a:noAutofit/>
          </a:bodyPr>
          <a:p>
            <a:pPr algn="ctr">
              <a:lnSpc>
                <a:spcPct val="90000"/>
              </a:lnSpc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wg_blurred_backgrounds_15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4280" y="221256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0080" y="165240"/>
            <a:ext cx="8078760" cy="5047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200" y="1112400"/>
            <a:ext cx="8786880" cy="45766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 fontScale="9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172280" y="291960"/>
            <a:ext cx="1366920" cy="306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16:3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