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4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image" Target="../media/image11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3.png"/><Relationship Id="rId41" Type="http://schemas.openxmlformats.org/officeDocument/2006/relationships/image" Target="../media/image13.png"/><Relationship Id="rId42" Type="http://schemas.openxmlformats.org/officeDocument/2006/relationships/image" Target="../media/image13.png"/><Relationship Id="rId43" Type="http://schemas.openxmlformats.org/officeDocument/2006/relationships/image" Target="../media/image13.png"/><Relationship Id="rId44" Type="http://schemas.openxmlformats.org/officeDocument/2006/relationships/image" Target="../media/image13.png"/><Relationship Id="rId45" Type="http://schemas.openxmlformats.org/officeDocument/2006/relationships/image" Target="../media/image13.png"/><Relationship Id="rId46" Type="http://schemas.openxmlformats.org/officeDocument/2006/relationships/image" Target="../media/image13.png"/><Relationship Id="rId47" Type="http://schemas.openxmlformats.org/officeDocument/2006/relationships/image" Target="../media/image13.png"/><Relationship Id="rId48" Type="http://schemas.openxmlformats.org/officeDocument/2006/relationships/image" Target="../media/image13.png"/><Relationship Id="rId49" Type="http://schemas.openxmlformats.org/officeDocument/2006/relationships/image" Target="../media/image13.png"/><Relationship Id="rId50" Type="http://schemas.openxmlformats.org/officeDocument/2006/relationships/image" Target="../media/image13.png"/><Relationship Id="rId51" Type="http://schemas.openxmlformats.org/officeDocument/2006/relationships/image" Target="../media/image13.png"/><Relationship Id="rId52" Type="http://schemas.openxmlformats.org/officeDocument/2006/relationships/image" Target="../media/image13.png"/><Relationship Id="rId53" Type="http://schemas.openxmlformats.org/officeDocument/2006/relationships/image" Target="../media/image13.png"/><Relationship Id="rId54" Type="http://schemas.openxmlformats.org/officeDocument/2006/relationships/image" Target="../media/image13.png"/><Relationship Id="rId55" Type="http://schemas.openxmlformats.org/officeDocument/2006/relationships/image" Target="../media/image13.png"/><Relationship Id="rId56" Type="http://schemas.openxmlformats.org/officeDocument/2006/relationships/image" Target="../media/image13.png"/><Relationship Id="rId57" Type="http://schemas.openxmlformats.org/officeDocument/2006/relationships/image" Target="../media/image13.png"/><Relationship Id="rId58" Type="http://schemas.openxmlformats.org/officeDocument/2006/relationships/image" Target="../media/image13.png"/><Relationship Id="rId59" Type="http://schemas.openxmlformats.org/officeDocument/2006/relationships/image" Target="../media/image13.png"/><Relationship Id="rId60" Type="http://schemas.openxmlformats.org/officeDocument/2006/relationships/image" Target="../media/image13.png"/><Relationship Id="rId61" Type="http://schemas.openxmlformats.org/officeDocument/2006/relationships/image" Target="../media/image13.png"/><Relationship Id="rId62" Type="http://schemas.openxmlformats.org/officeDocument/2006/relationships/image" Target="../media/image13.png"/><Relationship Id="rId63" Type="http://schemas.openxmlformats.org/officeDocument/2006/relationships/image" Target="../media/image13.png"/><Relationship Id="rId64" Type="http://schemas.openxmlformats.org/officeDocument/2006/relationships/image" Target="../media/image13.png"/><Relationship Id="rId65" Type="http://schemas.openxmlformats.org/officeDocument/2006/relationships/image" Target="../media/image13.png"/><Relationship Id="rId66" Type="http://schemas.openxmlformats.org/officeDocument/2006/relationships/image" Target="../media/image13.png"/><Relationship Id="rId67" Type="http://schemas.openxmlformats.org/officeDocument/2006/relationships/image" Target="../media/image13.png"/><Relationship Id="rId68" Type="http://schemas.openxmlformats.org/officeDocument/2006/relationships/image" Target="../media/image13.png"/><Relationship Id="rId69" Type="http://schemas.openxmlformats.org/officeDocument/2006/relationships/image" Target="../media/image13.png"/><Relationship Id="rId70" Type="http://schemas.openxmlformats.org/officeDocument/2006/relationships/image" Target="../media/image13.png"/><Relationship Id="rId71" Type="http://schemas.openxmlformats.org/officeDocument/2006/relationships/image" Target="../media/image13.png"/><Relationship Id="rId72" Type="http://schemas.openxmlformats.org/officeDocument/2006/relationships/image" Target="../media/image13.png"/><Relationship Id="rId73" Type="http://schemas.openxmlformats.org/officeDocument/2006/relationships/image" Target="../media/image13.png"/><Relationship Id="rId74" Type="http://schemas.openxmlformats.org/officeDocument/2006/relationships/image" Target="../media/image13.png"/><Relationship Id="rId75" Type="http://schemas.openxmlformats.org/officeDocument/2006/relationships/image" Target="../media/image13.png"/><Relationship Id="rId76" Type="http://schemas.openxmlformats.org/officeDocument/2006/relationships/image" Target="../media/image13.png"/><Relationship Id="rId77" Type="http://schemas.openxmlformats.org/officeDocument/2006/relationships/image" Target="../media/image13.png"/><Relationship Id="rId78" Type="http://schemas.openxmlformats.org/officeDocument/2006/relationships/image" Target="../media/image13.png"/><Relationship Id="rId79" Type="http://schemas.openxmlformats.org/officeDocument/2006/relationships/image" Target="../media/image13.png"/><Relationship Id="rId80" Type="http://schemas.openxmlformats.org/officeDocument/2006/relationships/image" Target="../media/image13.png"/><Relationship Id="rId81" Type="http://schemas.openxmlformats.org/officeDocument/2006/relationships/image" Target="../media/image13.png"/><Relationship Id="rId82" Type="http://schemas.openxmlformats.org/officeDocument/2006/relationships/image" Target="../media/image13.png"/><Relationship Id="rId83" Type="http://schemas.openxmlformats.org/officeDocument/2006/relationships/image" Target="../media/image13.png"/><Relationship Id="rId84" Type="http://schemas.openxmlformats.org/officeDocument/2006/relationships/image" Target="../media/image13.png"/><Relationship Id="rId85" Type="http://schemas.openxmlformats.org/officeDocument/2006/relationships/image" Target="../media/image13.png"/><Relationship Id="rId86" Type="http://schemas.openxmlformats.org/officeDocument/2006/relationships/image" Target="../media/image13.png"/><Relationship Id="rId87" Type="http://schemas.openxmlformats.org/officeDocument/2006/relationships/image" Target="../media/image13.png"/><Relationship Id="rId88" Type="http://schemas.openxmlformats.org/officeDocument/2006/relationships/image" Target="../media/image13.png"/><Relationship Id="rId89" Type="http://schemas.openxmlformats.org/officeDocument/2006/relationships/image" Target="../media/image12.png"/><Relationship Id="rId90" Type="http://schemas.openxmlformats.org/officeDocument/2006/relationships/image" Target="../media/image13.png"/><Relationship Id="rId91" Type="http://schemas.openxmlformats.org/officeDocument/2006/relationships/image" Target="../media/image13.png"/><Relationship Id="rId92" Type="http://schemas.openxmlformats.org/officeDocument/2006/relationships/image" Target="../media/image13.png"/><Relationship Id="rId93" Type="http://schemas.openxmlformats.org/officeDocument/2006/relationships/image" Target="../media/image13.png"/><Relationship Id="rId94" Type="http://schemas.openxmlformats.org/officeDocument/2006/relationships/image" Target="../media/image13.png"/><Relationship Id="rId95" Type="http://schemas.openxmlformats.org/officeDocument/2006/relationships/image" Target="../media/image13.png"/><Relationship Id="rId96" Type="http://schemas.openxmlformats.org/officeDocument/2006/relationships/image" Target="../media/image13.png"/><Relationship Id="rId97" Type="http://schemas.openxmlformats.org/officeDocument/2006/relationships/image" Target="../media/image13.png"/><Relationship Id="rId98" Type="http://schemas.openxmlformats.org/officeDocument/2006/relationships/image" Target="../media/image13.png"/><Relationship Id="rId99" Type="http://schemas.openxmlformats.org/officeDocument/2006/relationships/image" Target="../media/image13.png"/><Relationship Id="rId100" Type="http://schemas.openxmlformats.org/officeDocument/2006/relationships/image" Target="../media/image13.png"/><Relationship Id="rId101" Type="http://schemas.openxmlformats.org/officeDocument/2006/relationships/image" Target="../media/image13.png"/><Relationship Id="rId102" Type="http://schemas.openxmlformats.org/officeDocument/2006/relationships/image" Target="../media/image13.png"/><Relationship Id="rId103" Type="http://schemas.openxmlformats.org/officeDocument/2006/relationships/image" Target="../media/image13.png"/><Relationship Id="rId104" Type="http://schemas.openxmlformats.org/officeDocument/2006/relationships/image" Target="../media/image13.png"/><Relationship Id="rId105" Type="http://schemas.openxmlformats.org/officeDocument/2006/relationships/image" Target="../media/image13.png"/><Relationship Id="rId106" Type="http://schemas.openxmlformats.org/officeDocument/2006/relationships/image" Target="../media/image13.png"/><Relationship Id="rId107" Type="http://schemas.openxmlformats.org/officeDocument/2006/relationships/image" Target="../media/image13.png"/><Relationship Id="rId108" Type="http://schemas.openxmlformats.org/officeDocument/2006/relationships/image" Target="../media/image13.png"/><Relationship Id="rId109" Type="http://schemas.openxmlformats.org/officeDocument/2006/relationships/image" Target="../media/image13.png"/><Relationship Id="rId110" Type="http://schemas.openxmlformats.org/officeDocument/2006/relationships/image" Target="../media/image13.png"/><Relationship Id="rId111" Type="http://schemas.openxmlformats.org/officeDocument/2006/relationships/image" Target="../media/image13.png"/><Relationship Id="rId112" Type="http://schemas.openxmlformats.org/officeDocument/2006/relationships/image" Target="../media/image13.png"/><Relationship Id="rId113" Type="http://schemas.openxmlformats.org/officeDocument/2006/relationships/image" Target="../media/image13.png"/><Relationship Id="rId114" Type="http://schemas.openxmlformats.org/officeDocument/2006/relationships/image" Target="../media/image13.png"/><Relationship Id="rId115" Type="http://schemas.openxmlformats.org/officeDocument/2006/relationships/image" Target="../media/image13.png"/><Relationship Id="rId116" Type="http://schemas.openxmlformats.org/officeDocument/2006/relationships/image" Target="../media/image13.png"/><Relationship Id="rId117" Type="http://schemas.openxmlformats.org/officeDocument/2006/relationships/image" Target="../media/image13.png"/><Relationship Id="rId118" Type="http://schemas.openxmlformats.org/officeDocument/2006/relationships/image" Target="../media/image13.png"/><Relationship Id="rId119" Type="http://schemas.openxmlformats.org/officeDocument/2006/relationships/image" Target="../media/image13.png"/><Relationship Id="rId120" Type="http://schemas.openxmlformats.org/officeDocument/2006/relationships/image" Target="../media/image13.png"/><Relationship Id="rId121" Type="http://schemas.openxmlformats.org/officeDocument/2006/relationships/image" Target="../media/image13.png"/><Relationship Id="rId122" Type="http://schemas.openxmlformats.org/officeDocument/2006/relationships/image" Target="../media/image13.png"/><Relationship Id="rId123" Type="http://schemas.openxmlformats.org/officeDocument/2006/relationships/image" Target="../media/image13.png"/><Relationship Id="rId124" Type="http://schemas.openxmlformats.org/officeDocument/2006/relationships/image" Target="../media/image13.png"/><Relationship Id="rId125" Type="http://schemas.openxmlformats.org/officeDocument/2006/relationships/image" Target="../media/image13.png"/><Relationship Id="rId126" Type="http://schemas.openxmlformats.org/officeDocument/2006/relationships/image" Target="../media/image13.png"/><Relationship Id="rId127" Type="http://schemas.openxmlformats.org/officeDocument/2006/relationships/image" Target="../media/image13.png"/><Relationship Id="rId128" Type="http://schemas.openxmlformats.org/officeDocument/2006/relationships/image" Target="../media/image13.png"/><Relationship Id="rId129" Type="http://schemas.openxmlformats.org/officeDocument/2006/relationships/image" Target="../media/image13.png"/><Relationship Id="rId130" Type="http://schemas.openxmlformats.org/officeDocument/2006/relationships/image" Target="../media/image13.png"/><Relationship Id="rId131" Type="http://schemas.openxmlformats.org/officeDocument/2006/relationships/image" Target="../media/image13.png"/><Relationship Id="rId132" Type="http://schemas.openxmlformats.org/officeDocument/2006/relationships/image" Target="../media/image13.png"/><Relationship Id="rId133" Type="http://schemas.openxmlformats.org/officeDocument/2006/relationships/image" Target="../media/image13.png"/><Relationship Id="rId134" Type="http://schemas.openxmlformats.org/officeDocument/2006/relationships/image" Target="../media/image13.png"/><Relationship Id="rId135" Type="http://schemas.openxmlformats.org/officeDocument/2006/relationships/image" Target="../media/image13.png"/><Relationship Id="rId136" Type="http://schemas.openxmlformats.org/officeDocument/2006/relationships/image" Target="../media/image13.png"/><Relationship Id="rId137" Type="http://schemas.openxmlformats.org/officeDocument/2006/relationships/image" Target="../media/image13.png"/><Relationship Id="rId138" Type="http://schemas.openxmlformats.org/officeDocument/2006/relationships/image" Target="../media/image13.png"/><Relationship Id="rId139" Type="http://schemas.openxmlformats.org/officeDocument/2006/relationships/image" Target="../media/image13.png"/><Relationship Id="rId140" Type="http://schemas.openxmlformats.org/officeDocument/2006/relationships/image" Target="../media/image13.png"/><Relationship Id="rId141" Type="http://schemas.openxmlformats.org/officeDocument/2006/relationships/image" Target="../media/image13.png"/><Relationship Id="rId142" Type="http://schemas.openxmlformats.org/officeDocument/2006/relationships/image" Target="../media/image13.png"/><Relationship Id="rId14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图片 289" descr="07.png"/>
          <p:cNvPicPr/>
          <p:nvPr/>
        </p:nvPicPr>
        <p:blipFill>
          <a:blip r:embed="rId2"/>
          <a:stretch/>
        </p:blipFill>
        <p:spPr>
          <a:xfrm>
            <a:off x="934920" y="2867040"/>
            <a:ext cx="6193080" cy="33274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90" descr="13.png"/>
          <p:cNvPicPr/>
          <p:nvPr/>
        </p:nvPicPr>
        <p:blipFill>
          <a:blip r:embed="rId3"/>
          <a:stretch/>
        </p:blipFill>
        <p:spPr>
          <a:xfrm>
            <a:off x="5699160" y="669960"/>
            <a:ext cx="353880" cy="3524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7" descr="13.png"/>
          <p:cNvPicPr/>
          <p:nvPr/>
        </p:nvPicPr>
        <p:blipFill>
          <a:blip r:embed="rId4"/>
          <a:stretch/>
        </p:blipFill>
        <p:spPr>
          <a:xfrm>
            <a:off x="3841920" y="59040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0" descr="13.png"/>
          <p:cNvPicPr/>
          <p:nvPr/>
        </p:nvPicPr>
        <p:blipFill>
          <a:blip r:embed="rId5"/>
          <a:stretch/>
        </p:blipFill>
        <p:spPr>
          <a:xfrm>
            <a:off x="2984400" y="450720"/>
            <a:ext cx="211320" cy="2127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93" descr="13.png"/>
          <p:cNvPicPr/>
          <p:nvPr/>
        </p:nvPicPr>
        <p:blipFill>
          <a:blip r:embed="rId6"/>
          <a:stretch/>
        </p:blipFill>
        <p:spPr>
          <a:xfrm>
            <a:off x="3198960" y="812880"/>
            <a:ext cx="21096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94" descr="13.png"/>
          <p:cNvPicPr/>
          <p:nvPr/>
        </p:nvPicPr>
        <p:blipFill>
          <a:blip r:embed="rId7"/>
          <a:stretch/>
        </p:blipFill>
        <p:spPr>
          <a:xfrm>
            <a:off x="5985000" y="380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0" descr="13.png"/>
          <p:cNvPicPr/>
          <p:nvPr/>
        </p:nvPicPr>
        <p:blipFill>
          <a:blip r:embed="rId8"/>
          <a:stretch/>
        </p:blipFill>
        <p:spPr>
          <a:xfrm>
            <a:off x="5556240" y="7365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96" descr="13.png"/>
          <p:cNvPicPr/>
          <p:nvPr/>
        </p:nvPicPr>
        <p:blipFill>
          <a:blip r:embed="rId9"/>
          <a:stretch/>
        </p:blipFill>
        <p:spPr>
          <a:xfrm>
            <a:off x="5065560" y="603360"/>
            <a:ext cx="354240" cy="355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97" descr="13.png"/>
          <p:cNvPicPr/>
          <p:nvPr/>
        </p:nvPicPr>
        <p:blipFill>
          <a:blip r:embed="rId10"/>
          <a:stretch/>
        </p:blipFill>
        <p:spPr>
          <a:xfrm>
            <a:off x="4127400" y="165240"/>
            <a:ext cx="354240" cy="3553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98" descr="13.png"/>
          <p:cNvPicPr/>
          <p:nvPr/>
        </p:nvPicPr>
        <p:blipFill>
          <a:blip r:embed="rId11"/>
          <a:stretch/>
        </p:blipFill>
        <p:spPr>
          <a:xfrm>
            <a:off x="4416480" y="380880"/>
            <a:ext cx="353880" cy="352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99" descr="13.png"/>
          <p:cNvPicPr/>
          <p:nvPr/>
        </p:nvPicPr>
        <p:blipFill>
          <a:blip r:embed="rId12"/>
          <a:stretch/>
        </p:blipFill>
        <p:spPr>
          <a:xfrm>
            <a:off x="4770360" y="307800"/>
            <a:ext cx="354240" cy="355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00" descr="13.png"/>
          <p:cNvPicPr/>
          <p:nvPr/>
        </p:nvPicPr>
        <p:blipFill>
          <a:blip r:embed="rId13"/>
          <a:stretch/>
        </p:blipFill>
        <p:spPr>
          <a:xfrm>
            <a:off x="3270240" y="450720"/>
            <a:ext cx="353880" cy="3556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01" descr="13.png"/>
          <p:cNvPicPr/>
          <p:nvPr/>
        </p:nvPicPr>
        <p:blipFill>
          <a:blip r:embed="rId14"/>
          <a:stretch/>
        </p:blipFill>
        <p:spPr>
          <a:xfrm>
            <a:off x="6342120" y="669960"/>
            <a:ext cx="353880" cy="352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02" descr="13.png"/>
          <p:cNvPicPr/>
          <p:nvPr/>
        </p:nvPicPr>
        <p:blipFill>
          <a:blip r:embed="rId15"/>
          <a:stretch/>
        </p:blipFill>
        <p:spPr>
          <a:xfrm>
            <a:off x="5270400" y="669960"/>
            <a:ext cx="35424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03" descr="13.png"/>
          <p:cNvPicPr/>
          <p:nvPr/>
        </p:nvPicPr>
        <p:blipFill>
          <a:blip r:embed="rId16"/>
          <a:stretch/>
        </p:blipFill>
        <p:spPr>
          <a:xfrm>
            <a:off x="5985000" y="812880"/>
            <a:ext cx="210960" cy="2095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04" descr="13.png"/>
          <p:cNvPicPr/>
          <p:nvPr/>
        </p:nvPicPr>
        <p:blipFill>
          <a:blip r:embed="rId17"/>
          <a:stretch/>
        </p:blipFill>
        <p:spPr>
          <a:xfrm>
            <a:off x="4127400" y="593640"/>
            <a:ext cx="21132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05" descr="13.png"/>
          <p:cNvPicPr/>
          <p:nvPr/>
        </p:nvPicPr>
        <p:blipFill>
          <a:blip r:embed="rId18"/>
          <a:stretch/>
        </p:blipFill>
        <p:spPr>
          <a:xfrm>
            <a:off x="3770280" y="81288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06" descr="13.png"/>
          <p:cNvPicPr/>
          <p:nvPr/>
        </p:nvPicPr>
        <p:blipFill>
          <a:blip r:embed="rId19"/>
          <a:stretch/>
        </p:blipFill>
        <p:spPr>
          <a:xfrm>
            <a:off x="3627360" y="52380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07" descr="13.png"/>
          <p:cNvPicPr/>
          <p:nvPr/>
        </p:nvPicPr>
        <p:blipFill>
          <a:blip r:embed="rId20"/>
          <a:stretch/>
        </p:blipFill>
        <p:spPr>
          <a:xfrm>
            <a:off x="5413320" y="450720"/>
            <a:ext cx="211320" cy="212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08" descr="13.png"/>
          <p:cNvPicPr/>
          <p:nvPr/>
        </p:nvPicPr>
        <p:blipFill>
          <a:blip r:embed="rId21"/>
          <a:stretch/>
        </p:blipFill>
        <p:spPr>
          <a:xfrm>
            <a:off x="4913280" y="593640"/>
            <a:ext cx="211320" cy="212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09" descr="13.png"/>
          <p:cNvPicPr/>
          <p:nvPr/>
        </p:nvPicPr>
        <p:blipFill>
          <a:blip r:embed="rId22"/>
          <a:stretch/>
        </p:blipFill>
        <p:spPr>
          <a:xfrm>
            <a:off x="5699160" y="812880"/>
            <a:ext cx="210960" cy="209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10" descr="13.png"/>
          <p:cNvPicPr/>
          <p:nvPr/>
        </p:nvPicPr>
        <p:blipFill>
          <a:blip r:embed="rId23"/>
          <a:stretch/>
        </p:blipFill>
        <p:spPr>
          <a:xfrm>
            <a:off x="2556000" y="812880"/>
            <a:ext cx="210960" cy="209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11" descr="13.png"/>
          <p:cNvPicPr/>
          <p:nvPr/>
        </p:nvPicPr>
        <p:blipFill>
          <a:blip r:embed="rId24"/>
          <a:stretch/>
        </p:blipFill>
        <p:spPr>
          <a:xfrm>
            <a:off x="2698920" y="380880"/>
            <a:ext cx="353880" cy="352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12" descr="13.png"/>
          <p:cNvPicPr/>
          <p:nvPr/>
        </p:nvPicPr>
        <p:blipFill>
          <a:blip r:embed="rId25"/>
          <a:stretch/>
        </p:blipFill>
        <p:spPr>
          <a:xfrm>
            <a:off x="4484520" y="7365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13" descr="13.png"/>
          <p:cNvPicPr/>
          <p:nvPr/>
        </p:nvPicPr>
        <p:blipFill>
          <a:blip r:embed="rId26"/>
          <a:stretch/>
        </p:blipFill>
        <p:spPr>
          <a:xfrm>
            <a:off x="3556080" y="87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14" descr="13.png"/>
          <p:cNvPicPr/>
          <p:nvPr/>
        </p:nvPicPr>
        <p:blipFill>
          <a:blip r:embed="rId27"/>
          <a:stretch/>
        </p:blipFill>
        <p:spPr>
          <a:xfrm>
            <a:off x="3627360" y="307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15" descr="13.png"/>
          <p:cNvPicPr/>
          <p:nvPr/>
        </p:nvPicPr>
        <p:blipFill>
          <a:blip r:embed="rId28"/>
          <a:stretch/>
        </p:blipFill>
        <p:spPr>
          <a:xfrm>
            <a:off x="5199120" y="307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16" descr="13.png"/>
          <p:cNvPicPr/>
          <p:nvPr/>
        </p:nvPicPr>
        <p:blipFill>
          <a:blip r:embed="rId29"/>
          <a:stretch/>
        </p:blipFill>
        <p:spPr>
          <a:xfrm>
            <a:off x="6199200" y="666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17" descr="13.png"/>
          <p:cNvPicPr/>
          <p:nvPr/>
        </p:nvPicPr>
        <p:blipFill>
          <a:blip r:embed="rId30"/>
          <a:stretch/>
        </p:blipFill>
        <p:spPr>
          <a:xfrm>
            <a:off x="2841480" y="87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6" descr=""/>
          <p:cNvPicPr/>
          <p:nvPr/>
        </p:nvPicPr>
        <p:blipFill>
          <a:blip r:embed="rId31"/>
          <a:stretch/>
        </p:blipFill>
        <p:spPr>
          <a:xfrm>
            <a:off x="2414520" y="1989000"/>
            <a:ext cx="4314960" cy="28800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14.png"/>
          <p:cNvPicPr/>
          <p:nvPr/>
        </p:nvPicPr>
        <p:blipFill>
          <a:blip r:embed="rId32"/>
          <a:srcRect l="12584" t="38392" r="0" b="19535"/>
          <a:stretch/>
        </p:blipFill>
        <p:spPr>
          <a:xfrm>
            <a:off x="1150920" y="1757520"/>
            <a:ext cx="7993080" cy="28857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15.png"/>
          <p:cNvPicPr/>
          <p:nvPr/>
        </p:nvPicPr>
        <p:blipFill>
          <a:blip r:embed="rId33"/>
          <a:srcRect l="0" t="54027" r="72073" b="22989"/>
          <a:stretch/>
        </p:blipFill>
        <p:spPr>
          <a:xfrm>
            <a:off x="0" y="3067200"/>
            <a:ext cx="3786120" cy="1576080"/>
          </a:xfrm>
          <a:prstGeom prst="rect">
            <a:avLst/>
          </a:prstGeom>
          <a:ln w="0">
            <a:noFill/>
          </a:ln>
        </p:spPr>
      </p:pic>
      <p:pic>
        <p:nvPicPr>
          <p:cNvPr id="73" name="幕帘" descr=""/>
          <p:cNvPicPr/>
          <p:nvPr/>
        </p:nvPicPr>
        <p:blipFill>
          <a:blip r:embed="rId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75" descr="14.png"/>
          <p:cNvPicPr/>
          <p:nvPr/>
        </p:nvPicPr>
        <p:blipFill>
          <a:blip r:embed="rId35"/>
          <a:stretch/>
        </p:blipFill>
        <p:spPr>
          <a:xfrm rot="8761200">
            <a:off x="6533640" y="819396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76" descr="14.png"/>
          <p:cNvPicPr/>
          <p:nvPr/>
        </p:nvPicPr>
        <p:blipFill>
          <a:blip r:embed="rId36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77" descr="14.png"/>
          <p:cNvPicPr/>
          <p:nvPr/>
        </p:nvPicPr>
        <p:blipFill>
          <a:blip r:embed="rId37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78" descr="14.png"/>
          <p:cNvPicPr/>
          <p:nvPr/>
        </p:nvPicPr>
        <p:blipFill>
          <a:blip r:embed="rId38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9" descr="14.png"/>
          <p:cNvPicPr/>
          <p:nvPr/>
        </p:nvPicPr>
        <p:blipFill>
          <a:blip r:embed="rId39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0" descr="14.png"/>
          <p:cNvPicPr/>
          <p:nvPr/>
        </p:nvPicPr>
        <p:blipFill>
          <a:blip r:embed="rId40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81" descr="14.png"/>
          <p:cNvPicPr/>
          <p:nvPr/>
        </p:nvPicPr>
        <p:blipFill>
          <a:blip r:embed="rId41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82" descr="14.png"/>
          <p:cNvPicPr/>
          <p:nvPr/>
        </p:nvPicPr>
        <p:blipFill>
          <a:blip r:embed="rId42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83" descr="14.png"/>
          <p:cNvPicPr/>
          <p:nvPr/>
        </p:nvPicPr>
        <p:blipFill>
          <a:blip r:embed="rId43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84" descr="14.png"/>
          <p:cNvPicPr/>
          <p:nvPr/>
        </p:nvPicPr>
        <p:blipFill>
          <a:blip r:embed="rId44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85" descr="14.png"/>
          <p:cNvPicPr/>
          <p:nvPr/>
        </p:nvPicPr>
        <p:blipFill>
          <a:blip r:embed="rId45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86" descr="14.png"/>
          <p:cNvPicPr/>
          <p:nvPr/>
        </p:nvPicPr>
        <p:blipFill>
          <a:blip r:embed="rId46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87" descr="14.png"/>
          <p:cNvPicPr/>
          <p:nvPr/>
        </p:nvPicPr>
        <p:blipFill>
          <a:blip r:embed="rId47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88" descr="14.png"/>
          <p:cNvPicPr/>
          <p:nvPr/>
        </p:nvPicPr>
        <p:blipFill>
          <a:blip r:embed="rId48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89" descr="14.png"/>
          <p:cNvPicPr/>
          <p:nvPr/>
        </p:nvPicPr>
        <p:blipFill>
          <a:blip r:embed="rId49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90" descr="14.png"/>
          <p:cNvPicPr/>
          <p:nvPr/>
        </p:nvPicPr>
        <p:blipFill>
          <a:blip r:embed="rId50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91" descr="14.png"/>
          <p:cNvPicPr/>
          <p:nvPr/>
        </p:nvPicPr>
        <p:blipFill>
          <a:blip r:embed="rId51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92" descr="14.png"/>
          <p:cNvPicPr/>
          <p:nvPr/>
        </p:nvPicPr>
        <p:blipFill>
          <a:blip r:embed="rId52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93" descr="14.png"/>
          <p:cNvPicPr/>
          <p:nvPr/>
        </p:nvPicPr>
        <p:blipFill>
          <a:blip r:embed="rId53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94" descr="14.png"/>
          <p:cNvPicPr/>
          <p:nvPr/>
        </p:nvPicPr>
        <p:blipFill>
          <a:blip r:embed="rId54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95" descr="14.png"/>
          <p:cNvPicPr/>
          <p:nvPr/>
        </p:nvPicPr>
        <p:blipFill>
          <a:blip r:embed="rId55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96" descr="14.png"/>
          <p:cNvPicPr/>
          <p:nvPr/>
        </p:nvPicPr>
        <p:blipFill>
          <a:blip r:embed="rId56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97" descr="14.png"/>
          <p:cNvPicPr/>
          <p:nvPr/>
        </p:nvPicPr>
        <p:blipFill>
          <a:blip r:embed="rId57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8" descr="14.png"/>
          <p:cNvPicPr/>
          <p:nvPr/>
        </p:nvPicPr>
        <p:blipFill>
          <a:blip r:embed="rId58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99" descr="14.png"/>
          <p:cNvPicPr/>
          <p:nvPr/>
        </p:nvPicPr>
        <p:blipFill>
          <a:blip r:embed="rId59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00" descr="14.png"/>
          <p:cNvPicPr/>
          <p:nvPr/>
        </p:nvPicPr>
        <p:blipFill>
          <a:blip r:embed="rId60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01" descr="14.png"/>
          <p:cNvPicPr/>
          <p:nvPr/>
        </p:nvPicPr>
        <p:blipFill>
          <a:blip r:embed="rId61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02" descr="14.png"/>
          <p:cNvPicPr/>
          <p:nvPr/>
        </p:nvPicPr>
        <p:blipFill>
          <a:blip r:embed="rId62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03" descr="14.png"/>
          <p:cNvPicPr/>
          <p:nvPr/>
        </p:nvPicPr>
        <p:blipFill>
          <a:blip r:embed="rId63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04" descr="14.png"/>
          <p:cNvPicPr/>
          <p:nvPr/>
        </p:nvPicPr>
        <p:blipFill>
          <a:blip r:embed="rId64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05" descr="14.png"/>
          <p:cNvPicPr/>
          <p:nvPr/>
        </p:nvPicPr>
        <p:blipFill>
          <a:blip r:embed="rId65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06" descr="14.png"/>
          <p:cNvPicPr/>
          <p:nvPr/>
        </p:nvPicPr>
        <p:blipFill>
          <a:blip r:embed="rId66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07" descr="14.png"/>
          <p:cNvPicPr/>
          <p:nvPr/>
        </p:nvPicPr>
        <p:blipFill>
          <a:blip r:embed="rId67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08" descr="14.png"/>
          <p:cNvPicPr/>
          <p:nvPr/>
        </p:nvPicPr>
        <p:blipFill>
          <a:blip r:embed="rId68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09" descr="14.png"/>
          <p:cNvPicPr/>
          <p:nvPr/>
        </p:nvPicPr>
        <p:blipFill>
          <a:blip r:embed="rId69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10" descr="14.png"/>
          <p:cNvPicPr/>
          <p:nvPr/>
        </p:nvPicPr>
        <p:blipFill>
          <a:blip r:embed="rId70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11" descr="14.png"/>
          <p:cNvPicPr/>
          <p:nvPr/>
        </p:nvPicPr>
        <p:blipFill>
          <a:blip r:embed="rId71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12" descr="14.png"/>
          <p:cNvPicPr/>
          <p:nvPr/>
        </p:nvPicPr>
        <p:blipFill>
          <a:blip r:embed="rId72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13" descr="14.png"/>
          <p:cNvPicPr/>
          <p:nvPr/>
        </p:nvPicPr>
        <p:blipFill>
          <a:blip r:embed="rId73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14" descr="14.png"/>
          <p:cNvPicPr/>
          <p:nvPr/>
        </p:nvPicPr>
        <p:blipFill>
          <a:blip r:embed="rId74"/>
          <a:stretch/>
        </p:blipFill>
        <p:spPr>
          <a:xfrm rot="8761200">
            <a:off x="667656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15" descr="14.png"/>
          <p:cNvPicPr/>
          <p:nvPr/>
        </p:nvPicPr>
        <p:blipFill>
          <a:blip r:embed="rId75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16" descr="14.png"/>
          <p:cNvPicPr/>
          <p:nvPr/>
        </p:nvPicPr>
        <p:blipFill>
          <a:blip r:embed="rId76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17" descr="14.png"/>
          <p:cNvPicPr/>
          <p:nvPr/>
        </p:nvPicPr>
        <p:blipFill>
          <a:blip r:embed="rId77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18" descr="14.png"/>
          <p:cNvPicPr/>
          <p:nvPr/>
        </p:nvPicPr>
        <p:blipFill>
          <a:blip r:embed="rId78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19" descr="14.png"/>
          <p:cNvPicPr/>
          <p:nvPr/>
        </p:nvPicPr>
        <p:blipFill>
          <a:blip r:embed="rId79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20" descr="14.png"/>
          <p:cNvPicPr/>
          <p:nvPr/>
        </p:nvPicPr>
        <p:blipFill>
          <a:blip r:embed="rId80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21" descr="14.png"/>
          <p:cNvPicPr/>
          <p:nvPr/>
        </p:nvPicPr>
        <p:blipFill>
          <a:blip r:embed="rId81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22" descr="14.png"/>
          <p:cNvPicPr/>
          <p:nvPr/>
        </p:nvPicPr>
        <p:blipFill>
          <a:blip r:embed="rId82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23" descr="14.png"/>
          <p:cNvPicPr/>
          <p:nvPr/>
        </p:nvPicPr>
        <p:blipFill>
          <a:blip r:embed="rId83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24" descr="14.png"/>
          <p:cNvPicPr/>
          <p:nvPr/>
        </p:nvPicPr>
        <p:blipFill>
          <a:blip r:embed="rId84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25" descr="14.png"/>
          <p:cNvPicPr/>
          <p:nvPr/>
        </p:nvPicPr>
        <p:blipFill>
          <a:blip r:embed="rId85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26" descr="14.png"/>
          <p:cNvPicPr/>
          <p:nvPr/>
        </p:nvPicPr>
        <p:blipFill>
          <a:blip r:embed="rId86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27" descr="14.png"/>
          <p:cNvPicPr/>
          <p:nvPr/>
        </p:nvPicPr>
        <p:blipFill>
          <a:blip r:embed="rId87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28" descr="14.png"/>
          <p:cNvPicPr/>
          <p:nvPr/>
        </p:nvPicPr>
        <p:blipFill>
          <a:blip r:embed="rId88"/>
          <a:stretch/>
        </p:blipFill>
        <p:spPr>
          <a:xfrm rot="8761200">
            <a:off x="66686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29" descr="14.png"/>
          <p:cNvPicPr/>
          <p:nvPr/>
        </p:nvPicPr>
        <p:blipFill>
          <a:blip r:embed="rId89"/>
          <a:stretch/>
        </p:blipFill>
        <p:spPr>
          <a:xfrm rot="8761200">
            <a:off x="1550520" y="819396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30" descr="14.png"/>
          <p:cNvPicPr/>
          <p:nvPr/>
        </p:nvPicPr>
        <p:blipFill>
          <a:blip r:embed="rId90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31" descr="14.png"/>
          <p:cNvPicPr/>
          <p:nvPr/>
        </p:nvPicPr>
        <p:blipFill>
          <a:blip r:embed="rId91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32" descr="14.png"/>
          <p:cNvPicPr/>
          <p:nvPr/>
        </p:nvPicPr>
        <p:blipFill>
          <a:blip r:embed="rId92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33" descr="14.png"/>
          <p:cNvPicPr/>
          <p:nvPr/>
        </p:nvPicPr>
        <p:blipFill>
          <a:blip r:embed="rId93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34" descr="14.png"/>
          <p:cNvPicPr/>
          <p:nvPr/>
        </p:nvPicPr>
        <p:blipFill>
          <a:blip r:embed="rId94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35" descr="14.png"/>
          <p:cNvPicPr/>
          <p:nvPr/>
        </p:nvPicPr>
        <p:blipFill>
          <a:blip r:embed="rId95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36" descr="14.png"/>
          <p:cNvPicPr/>
          <p:nvPr/>
        </p:nvPicPr>
        <p:blipFill>
          <a:blip r:embed="rId96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37" descr="14.png"/>
          <p:cNvPicPr/>
          <p:nvPr/>
        </p:nvPicPr>
        <p:blipFill>
          <a:blip r:embed="rId97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38" descr="14.png"/>
          <p:cNvPicPr/>
          <p:nvPr/>
        </p:nvPicPr>
        <p:blipFill>
          <a:blip r:embed="rId98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39" descr="14.png"/>
          <p:cNvPicPr/>
          <p:nvPr/>
        </p:nvPicPr>
        <p:blipFill>
          <a:blip r:embed="rId99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40" descr="14.png"/>
          <p:cNvPicPr/>
          <p:nvPr/>
        </p:nvPicPr>
        <p:blipFill>
          <a:blip r:embed="rId100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41" descr="14.png"/>
          <p:cNvPicPr/>
          <p:nvPr/>
        </p:nvPicPr>
        <p:blipFill>
          <a:blip r:embed="rId101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42" descr="14.png"/>
          <p:cNvPicPr/>
          <p:nvPr/>
        </p:nvPicPr>
        <p:blipFill>
          <a:blip r:embed="rId102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43" descr="14.png"/>
          <p:cNvPicPr/>
          <p:nvPr/>
        </p:nvPicPr>
        <p:blipFill>
          <a:blip r:embed="rId103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44" descr="14.png"/>
          <p:cNvPicPr/>
          <p:nvPr/>
        </p:nvPicPr>
        <p:blipFill>
          <a:blip r:embed="rId104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45" descr="14.png"/>
          <p:cNvPicPr/>
          <p:nvPr/>
        </p:nvPicPr>
        <p:blipFill>
          <a:blip r:embed="rId105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46" descr="14.png"/>
          <p:cNvPicPr/>
          <p:nvPr/>
        </p:nvPicPr>
        <p:blipFill>
          <a:blip r:embed="rId106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47" descr="14.png"/>
          <p:cNvPicPr/>
          <p:nvPr/>
        </p:nvPicPr>
        <p:blipFill>
          <a:blip r:embed="rId107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48" descr="14.png"/>
          <p:cNvPicPr/>
          <p:nvPr/>
        </p:nvPicPr>
        <p:blipFill>
          <a:blip r:embed="rId108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49" descr="14.png"/>
          <p:cNvPicPr/>
          <p:nvPr/>
        </p:nvPicPr>
        <p:blipFill>
          <a:blip r:embed="rId109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50" descr="14.png"/>
          <p:cNvPicPr/>
          <p:nvPr/>
        </p:nvPicPr>
        <p:blipFill>
          <a:blip r:embed="rId110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51" descr="14.png"/>
          <p:cNvPicPr/>
          <p:nvPr/>
        </p:nvPicPr>
        <p:blipFill>
          <a:blip r:embed="rId111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52" descr="14.png"/>
          <p:cNvPicPr/>
          <p:nvPr/>
        </p:nvPicPr>
        <p:blipFill>
          <a:blip r:embed="rId112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53" descr="14.png"/>
          <p:cNvPicPr/>
          <p:nvPr/>
        </p:nvPicPr>
        <p:blipFill>
          <a:blip r:embed="rId113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54" descr="14.png"/>
          <p:cNvPicPr/>
          <p:nvPr/>
        </p:nvPicPr>
        <p:blipFill>
          <a:blip r:embed="rId114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55" descr="14.png"/>
          <p:cNvPicPr/>
          <p:nvPr/>
        </p:nvPicPr>
        <p:blipFill>
          <a:blip r:embed="rId115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56" descr="14.png"/>
          <p:cNvPicPr/>
          <p:nvPr/>
        </p:nvPicPr>
        <p:blipFill>
          <a:blip r:embed="rId116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57" descr="14.png"/>
          <p:cNvPicPr/>
          <p:nvPr/>
        </p:nvPicPr>
        <p:blipFill>
          <a:blip r:embed="rId117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58" descr="14.png"/>
          <p:cNvPicPr/>
          <p:nvPr/>
        </p:nvPicPr>
        <p:blipFill>
          <a:blip r:embed="rId118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59" descr="14.png"/>
          <p:cNvPicPr/>
          <p:nvPr/>
        </p:nvPicPr>
        <p:blipFill>
          <a:blip r:embed="rId119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60" descr="14.png"/>
          <p:cNvPicPr/>
          <p:nvPr/>
        </p:nvPicPr>
        <p:blipFill>
          <a:blip r:embed="rId120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61" descr="14.png"/>
          <p:cNvPicPr/>
          <p:nvPr/>
        </p:nvPicPr>
        <p:blipFill>
          <a:blip r:embed="rId121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262" descr="14.png"/>
          <p:cNvPicPr/>
          <p:nvPr/>
        </p:nvPicPr>
        <p:blipFill>
          <a:blip r:embed="rId122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263" descr="14.png"/>
          <p:cNvPicPr/>
          <p:nvPr/>
        </p:nvPicPr>
        <p:blipFill>
          <a:blip r:embed="rId123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64" descr="14.png"/>
          <p:cNvPicPr/>
          <p:nvPr/>
        </p:nvPicPr>
        <p:blipFill>
          <a:blip r:embed="rId124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65" descr="14.png"/>
          <p:cNvPicPr/>
          <p:nvPr/>
        </p:nvPicPr>
        <p:blipFill>
          <a:blip r:embed="rId125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66" descr="14.png"/>
          <p:cNvPicPr/>
          <p:nvPr/>
        </p:nvPicPr>
        <p:blipFill>
          <a:blip r:embed="rId126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67" descr="14.png"/>
          <p:cNvPicPr/>
          <p:nvPr/>
        </p:nvPicPr>
        <p:blipFill>
          <a:blip r:embed="rId127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68" descr="14.png"/>
          <p:cNvPicPr/>
          <p:nvPr/>
        </p:nvPicPr>
        <p:blipFill>
          <a:blip r:embed="rId128"/>
          <a:stretch/>
        </p:blipFill>
        <p:spPr>
          <a:xfrm rot="8761200">
            <a:off x="1693440" y="8337240"/>
            <a:ext cx="222480" cy="2142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269" descr="14.png"/>
          <p:cNvPicPr/>
          <p:nvPr/>
        </p:nvPicPr>
        <p:blipFill>
          <a:blip r:embed="rId129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270" descr="14.png"/>
          <p:cNvPicPr/>
          <p:nvPr/>
        </p:nvPicPr>
        <p:blipFill>
          <a:blip r:embed="rId130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71" descr="14.png"/>
          <p:cNvPicPr/>
          <p:nvPr/>
        </p:nvPicPr>
        <p:blipFill>
          <a:blip r:embed="rId131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72" descr="14.png"/>
          <p:cNvPicPr/>
          <p:nvPr/>
        </p:nvPicPr>
        <p:blipFill>
          <a:blip r:embed="rId132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273" descr="14.png"/>
          <p:cNvPicPr/>
          <p:nvPr/>
        </p:nvPicPr>
        <p:blipFill>
          <a:blip r:embed="rId133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74" descr="14.png"/>
          <p:cNvPicPr/>
          <p:nvPr/>
        </p:nvPicPr>
        <p:blipFill>
          <a:blip r:embed="rId134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75" descr="14.png"/>
          <p:cNvPicPr/>
          <p:nvPr/>
        </p:nvPicPr>
        <p:blipFill>
          <a:blip r:embed="rId135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76" descr="14.png"/>
          <p:cNvPicPr/>
          <p:nvPr/>
        </p:nvPicPr>
        <p:blipFill>
          <a:blip r:embed="rId136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77" descr="14.png"/>
          <p:cNvPicPr/>
          <p:nvPr/>
        </p:nvPicPr>
        <p:blipFill>
          <a:blip r:embed="rId137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278" descr="14.png"/>
          <p:cNvPicPr/>
          <p:nvPr/>
        </p:nvPicPr>
        <p:blipFill>
          <a:blip r:embed="rId138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279" descr="14.png"/>
          <p:cNvPicPr/>
          <p:nvPr/>
        </p:nvPicPr>
        <p:blipFill>
          <a:blip r:embed="rId139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280" descr="14.png"/>
          <p:cNvPicPr/>
          <p:nvPr/>
        </p:nvPicPr>
        <p:blipFill>
          <a:blip r:embed="rId140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281" descr="14.png"/>
          <p:cNvPicPr/>
          <p:nvPr/>
        </p:nvPicPr>
        <p:blipFill>
          <a:blip r:embed="rId141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82" descr="14.png"/>
          <p:cNvPicPr/>
          <p:nvPr/>
        </p:nvPicPr>
        <p:blipFill>
          <a:blip r:embed="rId142"/>
          <a:stretch/>
        </p:blipFill>
        <p:spPr>
          <a:xfrm rot="8761200">
            <a:off x="1685160" y="8337240"/>
            <a:ext cx="22212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"/>
                            </p:stCondLst>
                            <p:childTnLst>
                              <p:par>
                                <p:cTn id="1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" dur="2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" dur="2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1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1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9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100"/>
                            </p:stCondLst>
                            <p:childTnLst>
                              <p:par>
                                <p:cTn id="3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3.33333E-006 C -0.01458 0.015 -0.01961 0.035 -0.0243 0.05472 C -0.02639 0.06361 -0.02934 0.08111 -0.02934 0.08139 C -0.02795 0.18305 -0.03281 0.1825 -0.02257 0.24111 C -0.02187 0.28166 -0.03211 0.32805 -0.01597 0.36305 C -0.01319 0.37916 -0.00781 0.39055 -0.00086 0.40361 C 0.00191 0.41527 0.00695 0.42583 0.01094 0.43722 C 0.01059 0.46527 0.02014 0.59333 -0.00416 0.645 C -0.00573 0.65805 -0.00677 0.67333 -0.01093 0.68555 C -0.01961 0.71083 -0.0342 0.72805 -0.0342 0.7575 E">
                                      <p:cBhvr>
                                        <p:cTn id="37" dur="6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5.27778E-006 2.22222E-006 C -0.00869 0.01389 -0.01286 0.03278 -0.01668 0.05111 C -0.01841 0.05917 -0.02084 0.07555 -0.02084 0.07555 C -0.0198 0.17028 -0.02379 0.16972 -0.01529 0.22444 C -0.01477 0.26194 -0.02327 0.30528 -0.00973 0.33778 C -0.00747 0.35278 -0.00296 0.36333 0.00277 0.37555 C 0.00503 0.38639 0.00919 0.39611 0.01249 0.40667 C 0.01232 0.43278 0.02013 0.55194 -5.27778E-006 0.6 C -0.00121 0.61222 -0.00209 0.62639 -0.00556 0.63778 C -0.01286 0.66111 -0.02501 0.67722 -0.02501 0.70444 E">
                                      <p:cBhvr>
                                        <p:cTn id="42" dur="1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5.27778E-006 2.22222E-006 C -0.00869 0.01389 -0.01286 0.03278 -0.01668 0.05111 C -0.01841 0.05917 -0.02084 0.07555 -0.02084 0.07555 C -0.0198 0.17028 -0.02379 0.16972 -0.01529 0.22444 C -0.01477 0.26194 -0.02327 0.30528 -0.00973 0.33778 C -0.00747 0.35278 -0.00296 0.36333 0.00277 0.37555 C 0.00503 0.38639 0.00919 0.39611 0.01249 0.40667 C 0.01232 0.43278 0.02013 0.55194 -5.27778E-006 0.6 C -0.00121 0.61222 -0.00209 0.62639 -0.00556 0.63778 C -0.01286 0.66111 -0.02501 0.67722 -0.02501 0.70444 E">
                                      <p:cBhvr>
                                        <p:cTn id="47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1.11111E-006 C -0.00868 0.01639 -0.01285 0.03833 -0.01667 0.05972 C -0.01841 0.06917 -0.02084 0.08778 -0.02084 0.08833 C -0.0198 0.19833 -0.02379 0.1975 -0.01528 0.26139 C -0.01476 0.305 -0.02327 0.35556 -0.00973 0.39333 C -0.00747 0.41083 -0.00296 0.42333 0.00277 0.4375 C 0.00503 0.45 0.0092 0.46139 0.0125 0.47361 C 0.01232 0.50417 0.02013 0.64306 4.44444E-006 0.69889 C -0.00122 0.71333 -0.00209 0.72972 -0.00556 0.74306 C -0.01285 0.77028 -0.025 0.78889 -0.025 0.82083 E">
                                      <p:cBhvr>
                                        <p:cTn id="52" dur="1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1.11022E-016 2.22222E-006 C -0.00434 0.01778 -0.00642 0.04166 -0.00833 0.065 C -0.0092 0.07528 -0.01042 0.09583 -0.01042 0.09611 C -0.0099 0.21611 -0.01198 0.21555 -0.00764 0.285 C -0.00747 0.33222 -0.01163 0.3875 -0.00486 0.42889 C -0.00382 0.44805 -0.00156 0.46139 0.00139 0.47694 C 0.00243 0.49028 0.00451 0.5025 0.00625 0.51639 C 0.00608 0.54916 0.01007 0.70083 -1.11022E-016 0.76194 C -0.00069 0.7775 -0.00104 0.79555 -0.00278 0.81 C -0.00642 0.83944 -0.0125 0.86 -0.0125 0.89472 E">
                                      <p:cBhvr>
                                        <p:cTn id="57" dur="1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389 -1.11111E-006 C 0.01545 0.01778 0.01632 0.04139 0.01701 0.06445 C 0.01736 0.07417 0.01788 0.09445 0.01788 0.09472 C 0.01771 0.21333 0.0184 0.21278 0.01684 0.28139 C 0.01667 0.32806 0.0184 0.38278 0.0158 0.42361 C 0.01528 0.4425 0.01441 0.45556 0.01337 0.47111 C 0.01285 0.48417 0.01215 0.49639 0.01146 0.51 C 0.01146 0.5425 0.01007 0.69222 0.01389 0.7525 C 0.01406 0.76806 0.01423 0.78583 0.01493 0.8 C 0.01632 0.82917 0.01875 0.84945 0.01875 0.88389 E">
                                      <p:cBhvr>
                                        <p:cTn id="62" dur="1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8.33333E-007 3.33333E-006 C -0.01129 0.01777 -0.01684 0.04083 -0.02188 0.06389 C -0.02413 0.07389 -0.02743 0.09416 -0.02743 0.09472 C -0.02604 0.21333 -0.0316 0.2125 -0.02014 0.28111 C -0.01962 0.32805 -0.03056 0.38222 -0.01267 0.42305 C -0.01007 0.44222 -0.00399 0.45527 0.00382 0.47055 C 0.00642 0.48416 0.01198 0.49611 0.01649 0.50944 C 0.01615 0.54194 0.02674 0.69194 8.33333E-007 0.75222 C -0.00174 0.76777 -0.0026 0.78555 -0.00729 0.79972 C -0.01684 0.82889 -0.03281 0.84916 -0.03281 0.88333 E">
                                      <p:cBhvr>
                                        <p:cTn id="67" dur="1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1667 3.33333E-006 C -0.02796 0.01777 -0.03351 0.04111 -0.03855 0.06416 C -0.0408 0.07416 -0.0441 0.09444 -0.0441 0.09472 C -0.04271 0.21333 -0.04827 0.21277 -0.03681 0.28139 C -0.03629 0.32805 -0.04723 0.3825 -0.02934 0.42333 C -0.02674 0.44222 -0.02066 0.45555 -0.01285 0.47083 C -0.01025 0.48416 -0.00469 0.49611 -0.00018 0.50972 C -0.00052 0.54222 0.01007 0.69194 -0.01667 0.75222 C -0.01841 0.76777 -0.01927 0.78555 -0.02396 0.79972 C -0.03351 0.82889 -0.04948 0.84916 -0.04948 0.88361 E">
                                      <p:cBhvr>
                                        <p:cTn id="72" dur="1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33333E-006 C -0.00069 0.01027 -0.00156 0.0175 -0.00312 0.02666 C -0.00382 0.03111 -0.0052 0.04 -0.0052 0.04027 C -0.00503 0.055 -0.00798 0.12389 0.00521 0.145 C 0.00747 0.15583 0.00556 0.14889 0.01459 0.16333 C 0.01841 0.16944 0.02118 0.17889 0.025 0.185 C 0.03056 0.19389 0.03733 0.20139 0.04375 0.20833 C 0.05226 0.23083 0.06355 0.25027 0.07292 0.27166 C 0.08438 0.29777 0.09688 0.32333 0.10938 0.34833 C 0.11719 0.36389 0.12223 0.3925 0.12709 0.41166 C 0.1283 0.42416 0.13039 0.43361 0.13125 0.44666 C 0.13212 0.48277 0.13368 0.51722 0.13438 0.55333 C 0.13403 0.57889 0.13386 0.60444 0.13334 0.63 C 0.13299 0.64472 0.12622 0.67527 0.12084 0.68833 C 0.11858 0.69361 0.11493 0.69833 0.1125 0.70333 C 0.10799 0.71277 0.10521 0.725 0.09896 0.73166 C 0.0948 0.74166 0.0908 0.75472 0.08542 0.76333 E">
                                      <p:cBhvr>
                                        <p:cTn id="77" dur="13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128 3.33333E-006 C -0.01094 0.01027 -0.01059 0.0175 -0.01007 0.02666 C -0.00972 0.03111 -0.0092 0.04 -0.0092 0.04027 C -0.0092 0.055 -0.00799 0.12389 -0.01337 0.145 C -0.01424 0.15583 -0.01354 0.14889 -0.01719 0.16333 C -0.01875 0.16944 -0.01979 0.17889 -0.02135 0.185 C -0.02361 0.19389 -0.02639 0.20139 -0.02899 0.20833 C -0.03246 0.23083 -0.03698 0.25027 -0.0408 0.27166 C -0.04531 0.29777 -0.05035 0.32333 -0.05538 0.34833 C -0.05868 0.36389 -0.06059 0.3925 -0.06267 0.41166 C -0.06302 0.42416 -0.06389 0.43361 -0.06424 0.44666 C -0.06458 0.48277 -0.06528 0.51722 -0.06545 0.55333 C -0.06545 0.57889 -0.06528 0.60444 -0.0651 0.63 C -0.06493 0.64472 -0.06233 0.67527 -0.06007 0.68833 C -0.0592 0.69361 -0.05764 0.69833 -0.05677 0.70333 C -0.05486 0.71277 -0.05382 0.725 -0.05121 0.73166 C -0.04948 0.74166 -0.04792 0.75472 -0.04583 0.76333 E">
                                      <p:cBhvr>
                                        <p:cTn id="82" dur="13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1128 3.33333E-006 C -0.01094 0.01027 -0.01059 0.0175 -0.01007 0.02666 C -0.00972 0.03111 -0.0092 0.04 -0.0092 0.04027 C -0.0092 0.055 -0.00799 0.12389 -0.01337 0.145 C -0.01424 0.15583 -0.01354 0.14889 -0.01719 0.16333 C -0.01875 0.16944 -0.01979 0.17889 -0.02135 0.185 C -0.02361 0.19389 -0.02639 0.20139 -0.02899 0.20833 C -0.03246 0.23083 -0.03698 0.25027 -0.0408 0.27166 C -0.04531 0.29777 -0.05035 0.32333 -0.05538 0.34833 C -0.05868 0.36389 -0.06059 0.3925 -0.06267 0.41166 C -0.06302 0.42416 -0.06389 0.43361 -0.06424 0.44666 C -0.06458 0.48277 -0.06528 0.51722 -0.06545 0.55333 C -0.06545 0.57889 -0.06528 0.60444 -0.0651 0.63 C -0.06493 0.64472 -0.06233 0.67527 -0.06007 0.68833 C -0.0592 0.69361 -0.05764 0.69833 -0.05677 0.70333 C -0.05486 0.71277 -0.05382 0.725 -0.05121 0.73166 C -0.04948 0.74166 -0.04792 0.75472 -0.04583 0.76333 E">
                                      <p:cBhvr>
                                        <p:cTn id="87" dur="13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05556E-006 3.33333E-006 C -0.00034 0.01139 -0.00069 0.01916 -0.00139 0.02944 C -0.00173 0.03444 -0.00243 0.04416 -0.00243 0.04444 C -0.00243 0.06083 -0.00364 0.13722 0.00243 0.16055 C 0.00348 0.1725 0.00261 0.16472 0.00677 0.18083 C 0.00851 0.1875 0.0099 0.19805 0.01164 0.20472 C 0.01424 0.21472 0.01736 0.22305 0.02049 0.23083 C 0.02448 0.25555 0.02969 0.27722 0.03403 0.30083 C 0.03941 0.32972 0.04532 0.35805 0.05104 0.38583 C 0.05469 0.40305 0.05712 0.43472 0.05938 0.45611 C 0.0599 0.47 0.06094 0.48027 0.06129 0.49472 C 0.06164 0.53472 0.0625 0.57305 0.06285 0.61305 C 0.06268 0.64139 0.0625 0.66972 0.06233 0.69805 C 0.06216 0.71416 0.05903 0.74805 0.05643 0.7625 C 0.05539 0.76833 0.05365 0.77361 0.05261 0.77916 C 0.05052 0.78972 0.04914 0.80333 0.04618 0.81055 C 0.04427 0.82166 0.04236 0.83611 0.03993 0.84583 E">
                                      <p:cBhvr>
                                        <p:cTn id="92" dur="13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66667E-006 -1.11111E-006 C -0.00035 0.0125 -0.0007 0.02111 -0.00139 0.03222 C -0.00174 0.03778 -0.00243 0.04833 -0.00243 0.04861 C -0.00243 0.06639 -0.00365 0.14945 0.00243 0.17472 C 0.00347 0.18778 0.0026 0.17945 0.00677 0.19695 C 0.00851 0.20417 0.00989 0.21556 0.01163 0.22306 C 0.01423 0.23389 0.01736 0.24278 0.02048 0.25139 C 0.02448 0.27833 0.02969 0.30195 0.03403 0.32778 C 0.03941 0.35917 0.04531 0.39 0.05104 0.42028 C 0.05469 0.43917 0.05712 0.47361 0.05937 0.49695 C 0.05989 0.51195 0.06094 0.52333 0.06128 0.53889 C 0.06163 0.5825 0.0625 0.62417 0.06285 0.66778 C 0.06267 0.69889 0.0625 0.72972 0.06232 0.76056 C 0.06215 0.77806 0.05903 0.815 0.05642 0.83083 C 0.05538 0.83695 0.05364 0.84278 0.0526 0.84889 C 0.05052 0.86028 0.04913 0.87528 0.04618 0.88306 C 0.04427 0.89528 0.04236 0.91083 0.03993 0.92167 E">
                                      <p:cBhvr>
                                        <p:cTn id="97" dur="13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00278 -1.11111E-006 C -0.00295 0.01222 -0.00295 0.02028 -0.00312 0.03111 C -0.0033 0.03667 -0.00347 0.04667 -0.00347 0.04695 C -0.00347 0.06389 -0.00364 0.14306 -0.00226 0.16722 C -0.00191 0.17972 -0.00226 0.17195 -0.00121 0.18861 C -0.00069 0.19556 -0.00035 0.20639 -8.33333E-007 0.21361 C 0.0007 0.22389 0.00139 0.23278 0.00226 0.24083 C 0.00313 0.26667 0.00451 0.28945 0.00556 0.31417 C 0.00677 0.34417 0.00833 0.37361 0.00972 0.40278 C 0.01059 0.42083 0.01111 0.45389 0.01181 0.47611 C 0.01181 0.49083 0.01215 0.50167 0.01215 0.51639 C 0.01233 0.55833 0.0125 0.59833 0.01267 0.64028 C 0.0125 0.66972 0.0125 0.69945 0.0125 0.72889 C 0.0125 0.74611 0.01163 0.78139 0.01094 0.79639 C 0.01076 0.8025 0.01024 0.80778 0.01007 0.81389 C 0.00955 0.82472 0.0092 0.83917 0.00851 0.84639 C 0.00799 0.85833 0.00764 0.87333 0.00695 0.88389 E">
                                      <p:cBhvr>
                                        <p:cTn id="102" dur="13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1128 3.33333E-006 C -0.01094 0.01027 -0.01059 0.0175 -0.01007 0.02666 C -0.00972 0.03111 -0.0092 0.04 -0.0092 0.04027 C -0.0092 0.055 -0.00799 0.12389 -0.01337 0.145 C -0.01424 0.15583 -0.01354 0.14889 -0.01719 0.16333 C -0.01875 0.16944 -0.01979 0.17889 -0.02135 0.185 C -0.02361 0.19389 -0.02639 0.20139 -0.02899 0.20833 C -0.03246 0.23083 -0.03698 0.25027 -0.0408 0.27166 C -0.04531 0.29777 -0.05035 0.32333 -0.05538 0.34833 C -0.05868 0.36389 -0.06059 0.3925 -0.06267 0.41166 C -0.06302 0.42416 -0.06389 0.43361 -0.06424 0.44666 C -0.06458 0.48277 -0.06528 0.51722 -0.06545 0.55333 C -0.06545 0.57889 -0.06528 0.60444 -0.0651 0.63 C -0.06493 0.64472 -0.06233 0.67527 -0.06007 0.68833 C -0.0592 0.69361 -0.05764 0.69833 -0.05677 0.70333 C -0.05486 0.71277 -0.05382 0.725 -0.05121 0.73166 C -0.04948 0.74166 -0.04792 0.75472 -0.04583 0.76333 E">
                                      <p:cBhvr>
                                        <p:cTn id="107" dur="13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8.33333E-007 3.33333E-006 C -0.00069 0.01111 -0.00156 0.01861 -0.00312 0.02861 C -0.00382 0.03305 -0.00521 0.04277 -0.00521 0.04305 C -0.00503 0.05889 -0.00799 0.13305 0.00521 0.15583 C 0.00747 0.1675 0.00556 0.16 0.01458 0.17555 C 0.0184 0.18194 0.02118 0.19222 0.025 0.19889 C 0.03056 0.20833 0.03733 0.21639 0.04375 0.22389 C 0.05226 0.24805 0.06354 0.26889 0.07292 0.29194 C 0.08438 0.32 0.09688 0.3475 0.10938 0.37444 C 0.11719 0.39111 0.12222 0.42194 0.12708 0.4425 C 0.1283 0.45611 0.13038 0.46611 0.13125 0.48027 C 0.13212 0.51889 0.13368 0.55611 0.13438 0.595 C 0.13403 0.62222 0.13386 0.64972 0.13333 0.67722 C 0.13299 0.69305 0.12622 0.72611 0.12083 0.74 C 0.11858 0.74583 0.11493 0.75083 0.1125 0.75611 C 0.10799 0.76639 0.10521 0.77944 0.09896 0.78666 C 0.09479 0.7975 0.0908 0.81139 0.08542 0.82083 E">
                                      <p:cBhvr>
                                        <p:cTn id="112" dur="13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05556E-006 3.33333E-006 C -0.00034 0.01139 -0.00069 0.01916 -0.00139 0.02944 C -0.00173 0.03444 -0.00243 0.04416 -0.00243 0.04444 C -0.00243 0.06083 -0.00364 0.13722 0.00243 0.16055 C 0.00348 0.1725 0.00261 0.16472 0.00677 0.18083 C 0.00851 0.1875 0.0099 0.19805 0.01164 0.20472 C 0.01424 0.21472 0.01736 0.22305 0.02049 0.23083 C 0.02448 0.25555 0.02969 0.27722 0.03403 0.30083 C 0.03941 0.32972 0.04532 0.35805 0.05104 0.38583 C 0.05469 0.40305 0.05712 0.43472 0.05938 0.45611 C 0.0599 0.47 0.06094 0.48027 0.06129 0.49472 C 0.06164 0.53472 0.0625 0.57305 0.06285 0.61305 C 0.06268 0.64139 0.0625 0.66972 0.06233 0.69805 C 0.06216 0.71416 0.05903 0.74805 0.05643 0.7625 C 0.05539 0.76833 0.05365 0.77361 0.05261 0.77916 C 0.05052 0.78972 0.04914 0.80333 0.04618 0.81055 C 0.04427 0.82166 0.04236 0.83611 0.03993 0.84583 E">
                                      <p:cBhvr>
                                        <p:cTn id="117" dur="13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11022E-016 2.22222E-006 C -0.00434 0.01778 -0.00642 0.04166 -0.00833 0.065 C -0.0092 0.07528 -0.01042 0.09583 -0.01042 0.09611 C -0.0099 0.21611 -0.01198 0.21555 -0.00764 0.285 C -0.00747 0.33222 -0.01163 0.3875 -0.00486 0.42889 C -0.00382 0.44805 -0.00156 0.46139 0.00139 0.47694 C 0.00243 0.49028 0.00451 0.5025 0.00625 0.51639 C 0.00608 0.54916 0.01007 0.70083 -1.11022E-016 0.76194 C -0.00069 0.7775 -0.00104 0.79555 -0.00278 0.81 C -0.00642 0.83944 -0.0125 0.86 -0.0125 0.89472 E">
                                      <p:cBhvr>
                                        <p:cTn id="122" dur="1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27" dur="12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32" dur="12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37" dur="12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42" dur="12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47" dur="12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52" dur="12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57" dur="12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0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72222E-006 2.83951E-006 L 0.00695 -0.97469 E">
                                      <p:cBhvr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1.23457E-007 L -0.10329 -0.49105 E">
                                      <p:cBhvr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23457E-006 L -0.12327 -0.92099 E">
                                      <p:cBhvr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173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175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06025 -0.96296 E">
                                      <p:cBhvr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0.19947 -0.80895 E">
                                      <p:cBhvr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23457E-006 L 0.02638 -0.93519 E">
                                      <p:cBhvr>
                                        <p:cTn id="18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14688 -0.93519 E">
                                      <p:cBhvr>
                                        <p:cTn id="189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193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4.44444E-006 1.23457E-006 L -0.16268 -0.87901 E">
                                      <p:cBhvr>
                                        <p:cTn id="19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61111E-006 1.23457E-006 L 0.12778 -0.9071 E">
                                      <p:cBhvr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211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61111E-006 1.23457E-006 L 0.2066 -0.725 E">
                                      <p:cBhvr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11632 -0.99105 E">
                                      <p:cBhvr>
                                        <p:cTn id="225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77778E-006 2.83951E-006 L 0.17934 -0.84877 E">
                                      <p:cBhvr>
                                        <p:cTn id="232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1.23457E-006 L 0.14358 -0.93519 E">
                                      <p:cBhvr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0.06476 -0.94908 E">
                                      <p:cBhvr>
                                        <p:cTn id="246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75 -0.9071 E">
                                      <p:cBhvr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04548 -0.99105 E">
                                      <p:cBhvr>
                                        <p:cTn id="260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267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3577 -0.86512 E">
                                      <p:cBhvr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2.83951E-006 L 0.03768 -0.87685 E">
                                      <p:cBhvr>
                                        <p:cTn id="281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0.03334 -0.99105 E">
                                      <p:cBhvr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61111E-006 1.23457E-006 L 0.11216 -0.97716 E">
                                      <p:cBhvr>
                                        <p:cTn id="295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0416 -0.86297 E">
                                      <p:cBhvr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309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2.83951E-006 L 0.03768 -0.65278 E">
                                      <p:cBhvr>
                                        <p:cTn id="316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3768 -0.46327 E">
                                      <p:cBhvr>
                                        <p:cTn id="323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330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33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334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5139 -0.82068 E">
                                      <p:cBhvr>
                                        <p:cTn id="336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338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345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61111E-006 1.23457E-006 L -0.0927 -0.92099 E">
                                      <p:cBhvr>
                                        <p:cTn id="347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2.77778E-006 1.23457E-007 L -0.08055 -0.49105 E">
                                      <p:cBhvr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01389 -0.99105 E">
                                      <p:cBhvr>
                                        <p:cTn id="351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353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355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13211 -0.62716 E">
                                      <p:cBhvr>
                                        <p:cTn id="357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14774 -0.725 E">
                                      <p:cBhvr>
                                        <p:cTn id="359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1.23457E-007 L -0.08837 -0.39321 E">
                                      <p:cBhvr>
                                        <p:cTn id="363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08472 -0.97716 E">
                                      <p:cBhvr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61111E-006 1.23457E-006 L -0.00607 -0.89321 E">
                                      <p:cBhvr>
                                        <p:cTn id="367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61111E-006 1.23457E-006 L 0.08837 -0.99105 E">
                                      <p:cBhvr>
                                        <p:cTn id="369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5938 -0.89321 E">
                                      <p:cBhvr>
                                        <p:cTn id="371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xit" presetID="53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xit" presetID="53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3457E-006 L 0.00434 -1.00494 E">
                                      <p:cBhvr>
                                        <p:cTn id="536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375 -0.69722 E">
                                      <p:cBhvr>
                                        <p:cTn id="543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1.23457E-006 L -0.01146 -0.92099 E">
                                      <p:cBhvr>
                                        <p:cTn id="545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547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path" presetID="0" repeatCount="200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549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551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2951 -0.86512 E">
                                      <p:cBhvr>
                                        <p:cTn id="553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555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0.09097 -0.94908 E">
                                      <p:cBhvr>
                                        <p:cTn id="557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559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1.23457E-006 L 0.08299 -0.96296 E">
                                      <p:cBhvr>
                                        <p:cTn id="561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059 -0.75309 E">
                                      <p:cBhvr>
                                        <p:cTn id="563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565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567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4531 -0.80895 E">
                                      <p:cBhvr>
                                        <p:cTn id="56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571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77778E-006 1.23457E-007 L 0.12431 -0.74321 E">
                                      <p:cBhvr>
                                        <p:cTn id="578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585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0.18455 -0.87901 E">
                                      <p:cBhvr>
                                        <p:cTn id="592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2708 -0.96296 E">
                                      <p:cBhvr>
                                        <p:cTn id="599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875 -0.86512 E">
                                      <p:cBhvr>
                                        <p:cTn id="606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1.23457E-006 L 0.05069 -1.01914 E">
                                      <p:cBhvr>
                                        <p:cTn id="613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14618 -0.92099 E">
                                      <p:cBhvr>
                                        <p:cTn id="62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10851 -0.37932 E">
                                      <p:cBhvr>
                                        <p:cTn id="627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0.0743 -0.85124 E">
                                      <p:cBhvr>
                                        <p:cTn id="63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641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6649 -0.93519 E">
                                      <p:cBhvr>
                                        <p:cTn id="648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66667E-006 1.23457E-006 L 0.0191 -0.92099 E">
                                      <p:cBhvr>
                                        <p:cTn id="655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0.11371 -0.89321 E">
                                      <p:cBhvr>
                                        <p:cTn id="662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094 -0.9071 E">
                                      <p:cBhvr>
                                        <p:cTn id="669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4908 E">
                                      <p:cBhvr>
                                        <p:cTn id="676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683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1.23457E-006 L 0.02708 -0.9071 E">
                                      <p:cBhvr>
                                        <p:cTn id="690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66667E-006 1.23457E-006 L 0.04288 -0.92099 E">
                                      <p:cBhvr>
                                        <p:cTn id="69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704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706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708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2099 E">
                                      <p:cBhvr>
                                        <p:cTn id="710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712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719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1.66667E-006 1.23457E-006 L -0.04375 -0.99105 E">
                                      <p:cBhvr>
                                        <p:cTn id="721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1.66667E-006 1.23457E-006 L -0.09896 -1.00494 E">
                                      <p:cBhvr>
                                        <p:cTn id="723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-0.02813 -0.94908 E">
                                      <p:cBhvr>
                                        <p:cTn id="725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72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729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07535 -0.97716 E">
                                      <p:cBhvr>
                                        <p:cTn id="731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955 -0.94908 E">
                                      <p:cBhvr>
                                        <p:cTn id="733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735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-0.13837 -0.64105 E">
                                      <p:cBhvr>
                                        <p:cTn id="737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174 -0.87901 E">
                                      <p:cBhvr>
                                        <p:cTn id="739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1.23457E-007 L -0.02534 -0.43519 E">
                                      <p:cBhvr>
                                        <p:cTn id="741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23457E-006 L 0.05069 -0.87901 E">
                                      <p:cBhvr>
                                        <p:cTn id="743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83951E-006 L 0.11632 -0.63889 E">
                                      <p:cBhvr>
                                        <p:cTn id="745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xit" presetID="53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7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xit" presetID="53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2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下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183" name="上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1406520"/>
          </a:xfrm>
          <a:prstGeom prst="rect">
            <a:avLst/>
          </a:prstGeom>
          <a:ln w="0">
            <a:noFill/>
          </a:ln>
        </p:spPr>
      </p:pic>
      <p:pic>
        <p:nvPicPr>
          <p:cNvPr id="184" name="热烈" descr=""/>
          <p:cNvPicPr/>
          <p:nvPr/>
        </p:nvPicPr>
        <p:blipFill>
          <a:blip r:embed="rId3"/>
          <a:stretch/>
        </p:blipFill>
        <p:spPr>
          <a:xfrm>
            <a:off x="971640" y="33336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185" name="杆石桥街道办事处"/>
          <p:cNvSpPr/>
          <p:nvPr/>
        </p:nvSpPr>
        <p:spPr>
          <a:xfrm>
            <a:off x="3998160" y="4770360"/>
            <a:ext cx="12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单位名称时间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9" dur="1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000"/>
                            </p:stCondLst>
                            <p:childTnLst>
                              <p:par>
                                <p:cTn id="93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2" dur="1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01:28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18:34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