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562F-FFC2-45D8-996A-6A0B1FA1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813-D780-4BF0-A27D-9A7FA825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E26A-F5E1-494C-93AA-33FCEE36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21C5-CC04-458A-B47F-4B54597B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B5D-4021-4085-8C05-28DA32F8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C407-1B3F-4323-A3D6-D7FDF370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5083-14D6-4222-9CC8-2DB77275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D32D-176B-4151-8203-E406899C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FE38-E745-43FB-A7C6-4894A3AB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741-B872-4DB5-8E9F-9AFB5459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4C57-308A-469E-99D3-455B1301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C096-965C-4CD9-BE88-82E90C66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86D1-FC6A-41AB-B34F-DE7F4EE90BF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olorful_Pencils_by_colgatiN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8"/>
          <p:cNvSpPr/>
          <p:nvPr/>
        </p:nvSpPr>
        <p:spPr>
          <a:xfrm>
            <a:off x="1295280" y="228600"/>
            <a:ext cx="15264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523880" y="380880"/>
            <a:ext cx="15264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1066680" y="380880"/>
            <a:ext cx="152640" cy="1676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abstract_0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abstract_00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4495680" y="57754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[Presented b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676520" y="52578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[Name of the Present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abstract_0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6324480" y="6400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[Presented b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0" y="6338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[Name of the Present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248520" y="5943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6400800" y="5791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6553080" y="5943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abstract_0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widewallpapers_eu_1197463534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2743200" y="5715000"/>
            <a:ext cx="6400800" cy="1143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2209680" y="5334120"/>
            <a:ext cx="0" cy="15238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2362320" y="5334120"/>
            <a:ext cx="0" cy="15238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3"/>
          <p:cNvSpPr/>
          <p:nvPr/>
        </p:nvSpPr>
        <p:spPr>
          <a:xfrm>
            <a:off x="2514600" y="5334120"/>
            <a:ext cx="0" cy="15238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2666880" y="57150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[Name of the Present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2209680" y="64612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[Presented b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abstract_010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228600" y="6248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[Presented b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3352680" y="152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[Name of the Present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abstract_01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6095880" y="6172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[Presented b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52280" y="6095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[Name of the Present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6019920" y="5486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7"/>
          <p:cNvSpPr/>
          <p:nvPr/>
        </p:nvSpPr>
        <p:spPr>
          <a:xfrm>
            <a:off x="6172200" y="5638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8"/>
          <p:cNvSpPr/>
          <p:nvPr/>
        </p:nvSpPr>
        <p:spPr>
          <a:xfrm>
            <a:off x="6324480" y="54864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vague_by_djeric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304920" y="228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>
            <a:off x="457200" y="38088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8"/>
          <p:cNvSpPr/>
          <p:nvPr/>
        </p:nvSpPr>
        <p:spPr>
          <a:xfrm>
            <a:off x="609480" y="533520"/>
            <a:ext cx="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9"/>
          <p:cNvSpPr/>
          <p:nvPr/>
        </p:nvSpPr>
        <p:spPr>
          <a:xfrm>
            <a:off x="762120" y="6858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3200400" y="228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[Name of the Presentation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6095880" y="747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[Presented b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05:22:01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19:29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