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F23-CDA5-4477-A63F-F63D5A54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13D-6330-47E2-A484-D16BE61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5D7-D6F0-4F35-ADCA-7C3705E4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0D9-95E2-4EA5-B95C-5E807374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69A-8E09-4C1A-9566-A31B7CE9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1E7-31A0-4C7F-8E2C-38B1C85A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4EB-78F4-4847-A8E5-E6EE62B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EF1-F80C-42A4-A473-B8A9196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0C07-1036-4F11-9CBE-7874773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0C6E-CA1C-4A95-95BB-984C8648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D215-C322-4B07-B93C-1DBEEFD0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255-265E-4D8E-9E14-3FB0B4A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B983-AB49-4C0C-AED4-AAD0343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9416-5848-4CA0-B20C-29207AE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381-8278-4009-9AB5-FCD04B8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0D3-40C3-48DA-8B8E-80AC08E5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9505-8695-4B09-8291-D21DB09C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090-DB5D-4EE9-9EE2-95588F9C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90F-EAB7-4E70-A875-756DE7E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4D2-81F8-4FB3-8555-293CE290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505-04EC-41F8-AB21-9CF09216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04E-03D9-40D9-B203-151CF96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D08-63E4-4EB2-B7C1-62F0089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70D-B65B-4E95-BC79-B8044E0E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B26B-C9BC-4939-967D-FBAE7F0A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081-1449-4562-A534-776B51DFADE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7D5-3642-4986-84D0-9C0A46F3A35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3,14,&#24187;&#28783;&#29255; 14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PM_024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1166760"/>
            <a:ext cx="6764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葡萄沟</a:t>
            </a:r>
            <a:endParaRPr b="1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0" y="6021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3756" y="11138"/>
                </a:moveTo>
                <a:lnTo>
                  <a:pt x="8210" y="11138"/>
                </a:lnTo>
                <a:lnTo>
                  <a:pt x="12655" y="6500"/>
                </a:lnTo>
                <a:lnTo>
                  <a:pt x="12655" y="20588"/>
                </a:lnTo>
                <a:lnTo>
                  <a:pt x="8210" y="15950"/>
                </a:lnTo>
                <a:lnTo>
                  <a:pt x="3756" y="15950"/>
                </a:lnTo>
                <a:close/>
              </a:path>
              <a:path fill="darken" w="21600" h="27088">
                <a:moveTo>
                  <a:pt x="14318" y="13544"/>
                </a:moveTo>
                <a:lnTo>
                  <a:pt x="17844" y="13544"/>
                </a:lnTo>
              </a:path>
              <a:path fill="darken" w="21600" h="27088">
                <a:moveTo>
                  <a:pt x="14318" y="11138"/>
                </a:moveTo>
                <a:lnTo>
                  <a:pt x="17844" y="8355"/>
                </a:lnTo>
              </a:path>
              <a:path fill="darken" w="21600" h="27088">
                <a:moveTo>
                  <a:pt x="14318" y="15950"/>
                </a:moveTo>
                <a:lnTo>
                  <a:pt x="17844" y="18733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39640" y="4221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是这时你到葡萄沟去，热情好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维吾尔族老乡，准会摘下最甜的葡萄，让你吃个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211640" y="4732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准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413080" y="530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吃个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老乡"/>
          <p:cNvPicPr/>
          <p:nvPr/>
        </p:nvPicPr>
        <p:blipFill>
          <a:blip r:embed="rId2"/>
          <a:stretch/>
        </p:blipFill>
        <p:spPr>
          <a:xfrm>
            <a:off x="684360" y="119700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0"/>
          <p:cNvSpPr/>
          <p:nvPr/>
        </p:nvSpPr>
        <p:spPr>
          <a:xfrm>
            <a:off x="853272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2" descr="xin_d5d0a88ac54e433693e6cc609440e7dc_0820_118_0"/>
          <p:cNvPicPr/>
          <p:nvPr/>
        </p:nvPicPr>
        <p:blipFill>
          <a:blip r:embed="rId3"/>
          <a:stretch/>
        </p:blipFill>
        <p:spPr>
          <a:xfrm>
            <a:off x="4716360" y="119700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cc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95280" y="765000"/>
            <a:ext cx="874872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下来的葡萄有的运到城市去，有的运到酿酒厂，还有的运到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Times New Roman"/>
                <a:ea typeface="楷体_GB2312"/>
              </a:rPr>
              <a:t>阴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r>
              <a:rPr b="0" lang="zh-CN" sz="4000" spc="-1" strike="noStrike" u="sng">
                <a:solidFill>
                  <a:srgbClr val="00ff00"/>
                </a:solidFill>
                <a:uFillTx/>
                <a:latin typeface="Times New Roman"/>
                <a:ea typeface="楷体_GB2312"/>
                <a:hlinkClick r:id="rId1"/>
              </a:rPr>
              <a:t>制成葡萄干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阴房修在山坡上，样子很像碉堡。四壁留着许多小孔儿，里面钉着许多木架子。成串的葡萄挂在架子上，利用流动的热空气，把水分蒸发掉，就成了葡萄干儿了。这里生产的葡萄干颜色鲜，味道甜，非常有名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824400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80844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阴  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orr_silu043[1]"/>
          <p:cNvPicPr/>
          <p:nvPr/>
        </p:nvPicPr>
        <p:blipFill>
          <a:blip r:embed="rId2"/>
          <a:srcRect l="1227" t="0" r="0" b="9514"/>
          <a:stretch/>
        </p:blipFill>
        <p:spPr>
          <a:xfrm>
            <a:off x="1619280" y="1413000"/>
            <a:ext cx="586728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putao2"/>
          <p:cNvPicPr/>
          <p:nvPr/>
        </p:nvPicPr>
        <p:blipFill>
          <a:blip r:embed="rId2"/>
          <a:stretch/>
        </p:blipFill>
        <p:spPr>
          <a:xfrm>
            <a:off x="2195640" y="836640"/>
            <a:ext cx="5146560" cy="38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putao02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putao04"/>
          <p:cNvPicPr/>
          <p:nvPr/>
        </p:nvPicPr>
        <p:blipFill>
          <a:blip r:embed="rId2"/>
          <a:stretch/>
        </p:blipFill>
        <p:spPr>
          <a:xfrm>
            <a:off x="4932360" y="0"/>
            <a:ext cx="40356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148280" y="185796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天然晾制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xj3"/>
          <p:cNvPicPr/>
          <p:nvPr/>
        </p:nvPicPr>
        <p:blipFill>
          <a:blip r:embed="rId2"/>
          <a:stretch/>
        </p:blipFill>
        <p:spPr>
          <a:xfrm>
            <a:off x="1908000" y="1341360"/>
            <a:ext cx="5394600" cy="318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042920" y="5229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沟真是个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方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封面"/>
          <p:cNvPicPr/>
          <p:nvPr/>
        </p:nvPicPr>
        <p:blipFill>
          <a:blip r:embed="rId1"/>
          <a:srcRect l="15018" t="20168" r="0" b="0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42920" y="1628640"/>
            <a:ext cx="68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去葡萄沟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想做什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0">
            <a:hlinkClick r:id="" action="ppaction://hlinkshowjump?jump=firstslide"/>
          </p:cNvPr>
          <p:cNvSpPr/>
          <p:nvPr/>
        </p:nvSpPr>
        <p:spPr>
          <a:xfrm>
            <a:off x="179280" y="6237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7283" y="13544"/>
                </a:moveTo>
                <a:lnTo>
                  <a:pt x="17844" y="6500"/>
                </a:lnTo>
                <a:lnTo>
                  <a:pt x="17844" y="20588"/>
                </a:lnTo>
                <a:close/>
              </a:path>
              <a:path fill="darken" w="21600" h="27088">
                <a:moveTo>
                  <a:pt x="3756" y="6500"/>
                </a:moveTo>
                <a:lnTo>
                  <a:pt x="5428" y="6500"/>
                </a:lnTo>
                <a:lnTo>
                  <a:pt x="5428" y="20588"/>
                </a:lnTo>
                <a:lnTo>
                  <a:pt x="3756" y="20588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820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巩固练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读句子学习按时间顺说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月有杏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七、八月有香梨、蜜桃、沙果，到九、十月份，人们最喜爱的葡萄成熟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6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11-7[1]"/>
          <p:cNvPicPr/>
          <p:nvPr/>
        </p:nvPicPr>
        <p:blipFill>
          <a:blip r:embed="rId2"/>
          <a:stretch/>
        </p:blipFill>
        <p:spPr>
          <a:xfrm>
            <a:off x="4495680" y="3124080"/>
            <a:ext cx="4572000" cy="290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[1]"/>
          <p:cNvPicPr/>
          <p:nvPr/>
        </p:nvPicPr>
        <p:blipFill>
          <a:blip r:embed="rId3"/>
          <a:stretch/>
        </p:blipFill>
        <p:spPr>
          <a:xfrm>
            <a:off x="304920" y="2819520"/>
            <a:ext cx="293364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small_tianchi"/>
          <p:cNvPicPr/>
          <p:nvPr/>
        </p:nvPicPr>
        <p:blipFill>
          <a:blip r:embed="rId4"/>
          <a:stretch/>
        </p:blipFill>
        <p:spPr>
          <a:xfrm>
            <a:off x="5791320" y="380880"/>
            <a:ext cx="2765160" cy="195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02-3[1]"/>
          <p:cNvPicPr/>
          <p:nvPr/>
        </p:nvPicPr>
        <p:blipFill>
          <a:blip r:embed="rId5"/>
          <a:stretch/>
        </p:blipFill>
        <p:spPr>
          <a:xfrm>
            <a:off x="324000" y="333360"/>
            <a:ext cx="2857320" cy="2038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3532680" y="35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葡萄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957600" y="595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塔克拉玛干大沙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71148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08112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山牧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0011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塞里木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putaogou_2[1]"/>
          <p:cNvPicPr/>
          <p:nvPr/>
        </p:nvPicPr>
        <p:blipFill>
          <a:blip r:embed="rId6"/>
          <a:stretch/>
        </p:blipFill>
        <p:spPr>
          <a:xfrm>
            <a:off x="2843280" y="1268280"/>
            <a:ext cx="297180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1042920" y="662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xj3"/>
          <p:cNvPicPr/>
          <p:nvPr/>
        </p:nvPicPr>
        <p:blipFill>
          <a:blip r:embed="rId2"/>
          <a:stretch/>
        </p:blipFill>
        <p:spPr>
          <a:xfrm>
            <a:off x="1979640" y="1484280"/>
            <a:ext cx="5249880" cy="3102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42920" y="5229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沟真是个好地方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月有杏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七、八月有香梨、蜜桃、沙果，到九、十月份，人们最喜爱的葡萄成熟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句话是按照什么顺序写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2003622143817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98100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学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段完成练习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段共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话，第二、三、四句分别写了什么 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画出你喜欢的句子，多读几遍，说说你的感受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547640" y="5805360"/>
            <a:ext cx="289080" cy="360360"/>
          </a:xfrm>
          <a:custGeom>
            <a:avLst/>
            <a:gdLst>
              <a:gd name="textAreaLeft" fmla="*/ 18000 w 289080"/>
              <a:gd name="textAreaRight" fmla="*/ 271080 w 289080"/>
              <a:gd name="textAreaTop" fmla="*/ 18000 h 360360"/>
              <a:gd name="textAreaBottom" fmla="*/ 34236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50" y="25569"/>
                </a:lnTo>
                <a:lnTo>
                  <a:pt x="20250" y="135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350" y="25569"/>
                </a:lnTo>
                <a:lnTo>
                  <a:pt x="20250" y="2556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350" y="1350"/>
                </a:lnTo>
                <a:lnTo>
                  <a:pt x="1350" y="25569"/>
                </a:lnTo>
                <a:close/>
              </a:path>
              <a:path fill="darken" w="21600" h="26919">
                <a:moveTo>
                  <a:pt x="10800" y="6460"/>
                </a:moveTo>
                <a:lnTo>
                  <a:pt x="13390" y="9085"/>
                </a:ln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lnTo>
                  <a:pt x="17800" y="13460"/>
                </a:lnTo>
                <a:lnTo>
                  <a:pt x="16138" y="13460"/>
                </a:lnTo>
                <a:lnTo>
                  <a:pt x="16138" y="20687"/>
                </a:lnTo>
                <a:lnTo>
                  <a:pt x="5463" y="20687"/>
                </a:lnTo>
                <a:lnTo>
                  <a:pt x="5463" y="13460"/>
                </a:lnTo>
                <a:lnTo>
                  <a:pt x="3800" y="13460"/>
                </a:lnTo>
                <a:close/>
              </a:path>
              <a:path fill="darkenLess" w="21600" h="26919">
                <a:moveTo>
                  <a:pt x="13390" y="9085"/>
                </a:move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close/>
              </a:path>
              <a:path fill="darkenLess" w="21600" h="26919">
                <a:moveTo>
                  <a:pt x="9873" y="16977"/>
                </a:moveTo>
                <a:lnTo>
                  <a:pt x="11728" y="16977"/>
                </a:lnTo>
                <a:lnTo>
                  <a:pt x="11728" y="20687"/>
                </a:lnTo>
                <a:lnTo>
                  <a:pt x="16138" y="20687"/>
                </a:lnTo>
                <a:lnTo>
                  <a:pt x="16138" y="13460"/>
                </a:lnTo>
                <a:lnTo>
                  <a:pt x="5463" y="13460"/>
                </a:lnTo>
                <a:lnTo>
                  <a:pt x="5463" y="20687"/>
                </a:lnTo>
                <a:lnTo>
                  <a:pt x="9873" y="20687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48000" y="5805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10800" y="6544"/>
                </a:moveTo>
                <a:lnTo>
                  <a:pt x="13390" y="9169"/>
                </a:ln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lnTo>
                  <a:pt x="17800" y="13544"/>
                </a:lnTo>
                <a:lnTo>
                  <a:pt x="16138" y="13544"/>
                </a:lnTo>
                <a:lnTo>
                  <a:pt x="16138" y="20771"/>
                </a:lnTo>
                <a:lnTo>
                  <a:pt x="5463" y="20771"/>
                </a:lnTo>
                <a:lnTo>
                  <a:pt x="5463" y="13544"/>
                </a:lnTo>
                <a:lnTo>
                  <a:pt x="3800" y="13544"/>
                </a:lnTo>
                <a:close/>
              </a:path>
              <a:path fill="darkenLess" w="21600" h="27088">
                <a:moveTo>
                  <a:pt x="13390" y="9169"/>
                </a:move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close/>
              </a:path>
              <a:path fill="darkenLess" w="21600" h="27088">
                <a:moveTo>
                  <a:pt x="9873" y="17061"/>
                </a:moveTo>
                <a:lnTo>
                  <a:pt x="11728" y="17061"/>
                </a:lnTo>
                <a:lnTo>
                  <a:pt x="11728" y="20771"/>
                </a:lnTo>
                <a:lnTo>
                  <a:pt x="16138" y="20771"/>
                </a:lnTo>
                <a:lnTo>
                  <a:pt x="16138" y="13544"/>
                </a:lnTo>
                <a:lnTo>
                  <a:pt x="5463" y="13544"/>
                </a:lnTo>
                <a:lnTo>
                  <a:pt x="5463" y="20771"/>
                </a:lnTo>
                <a:lnTo>
                  <a:pt x="9873" y="2077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292720" y="5805360"/>
            <a:ext cx="289080" cy="360360"/>
          </a:xfrm>
          <a:custGeom>
            <a:avLst/>
            <a:gdLst>
              <a:gd name="textAreaLeft" fmla="*/ 18000 w 289080"/>
              <a:gd name="textAreaRight" fmla="*/ 271080 w 289080"/>
              <a:gd name="textAreaTop" fmla="*/ 18000 h 360360"/>
              <a:gd name="textAreaBottom" fmla="*/ 34236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50" y="25569"/>
                </a:lnTo>
                <a:lnTo>
                  <a:pt x="20250" y="135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350" y="25569"/>
                </a:lnTo>
                <a:lnTo>
                  <a:pt x="20250" y="2556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350" y="1350"/>
                </a:lnTo>
                <a:lnTo>
                  <a:pt x="1350" y="25569"/>
                </a:lnTo>
                <a:close/>
              </a:path>
              <a:path fill="darken" w="21600" h="26919">
                <a:moveTo>
                  <a:pt x="10800" y="6460"/>
                </a:moveTo>
                <a:lnTo>
                  <a:pt x="13390" y="9085"/>
                </a:ln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lnTo>
                  <a:pt x="17800" y="13460"/>
                </a:lnTo>
                <a:lnTo>
                  <a:pt x="16138" y="13460"/>
                </a:lnTo>
                <a:lnTo>
                  <a:pt x="16138" y="20687"/>
                </a:lnTo>
                <a:lnTo>
                  <a:pt x="5463" y="20687"/>
                </a:lnTo>
                <a:lnTo>
                  <a:pt x="5463" y="13460"/>
                </a:lnTo>
                <a:lnTo>
                  <a:pt x="3800" y="13460"/>
                </a:lnTo>
                <a:close/>
              </a:path>
              <a:path fill="darkenLess" w="21600" h="26919">
                <a:moveTo>
                  <a:pt x="13390" y="9085"/>
                </a:move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close/>
              </a:path>
              <a:path fill="darkenLess" w="21600" h="26919">
                <a:moveTo>
                  <a:pt x="9873" y="16977"/>
                </a:moveTo>
                <a:lnTo>
                  <a:pt x="11728" y="16977"/>
                </a:lnTo>
                <a:lnTo>
                  <a:pt x="11728" y="20687"/>
                </a:lnTo>
                <a:lnTo>
                  <a:pt x="16138" y="20687"/>
                </a:lnTo>
                <a:lnTo>
                  <a:pt x="16138" y="13460"/>
                </a:lnTo>
                <a:lnTo>
                  <a:pt x="5463" y="13460"/>
                </a:lnTo>
                <a:lnTo>
                  <a:pt x="5463" y="20687"/>
                </a:lnTo>
                <a:lnTo>
                  <a:pt x="9873" y="2068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1979640" y="2708280"/>
            <a:ext cx="1536840" cy="85680"/>
          </a:xfrm>
          <a:custGeom>
            <a:avLst/>
            <a:gdLst/>
            <a:ahLst/>
            <a:rect l="l" t="t" r="r" b="b"/>
            <a:pathLst>
              <a:path w="968" h="54">
                <a:moveTo>
                  <a:pt x="0" y="0"/>
                </a:moveTo>
                <a:cubicBezTo>
                  <a:pt x="333" y="19"/>
                  <a:pt x="666" y="38"/>
                  <a:pt x="817" y="46"/>
                </a:cubicBezTo>
                <a:cubicBezTo>
                  <a:pt x="968" y="54"/>
                  <a:pt x="892" y="46"/>
                  <a:pt x="907" y="4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7885080" y="587700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7020000" y="5805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10800" y="6544"/>
                </a:moveTo>
                <a:lnTo>
                  <a:pt x="13390" y="9169"/>
                </a:ln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lnTo>
                  <a:pt x="17800" y="13544"/>
                </a:lnTo>
                <a:lnTo>
                  <a:pt x="16138" y="13544"/>
                </a:lnTo>
                <a:lnTo>
                  <a:pt x="16138" y="20771"/>
                </a:lnTo>
                <a:lnTo>
                  <a:pt x="5463" y="20771"/>
                </a:lnTo>
                <a:lnTo>
                  <a:pt x="5463" y="13544"/>
                </a:lnTo>
                <a:lnTo>
                  <a:pt x="3800" y="13544"/>
                </a:lnTo>
                <a:close/>
              </a:path>
              <a:path fill="darkenLess" w="21600" h="27088">
                <a:moveTo>
                  <a:pt x="13390" y="9169"/>
                </a:move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close/>
              </a:path>
              <a:path fill="darkenLess" w="21600" h="27088">
                <a:moveTo>
                  <a:pt x="9873" y="17061"/>
                </a:moveTo>
                <a:lnTo>
                  <a:pt x="11728" y="17061"/>
                </a:lnTo>
                <a:lnTo>
                  <a:pt x="11728" y="20771"/>
                </a:lnTo>
                <a:lnTo>
                  <a:pt x="16138" y="20771"/>
                </a:lnTo>
                <a:lnTo>
                  <a:pt x="16138" y="13544"/>
                </a:lnTo>
                <a:lnTo>
                  <a:pt x="5463" y="13544"/>
                </a:lnTo>
                <a:lnTo>
                  <a:pt x="5463" y="20771"/>
                </a:lnTo>
                <a:lnTo>
                  <a:pt x="9873" y="20771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8"/>
          <p:cNvSpPr/>
          <p:nvPr/>
        </p:nvSpPr>
        <p:spPr>
          <a:xfrm>
            <a:off x="1979640" y="3860640"/>
            <a:ext cx="1608120" cy="1800"/>
          </a:xfrm>
          <a:custGeom>
            <a:avLst/>
            <a:gdLst/>
            <a:ahLst/>
            <a:rect l="l" t="t" r="r" b="b"/>
            <a:pathLst>
              <a:path w="1013" h="1">
                <a:moveTo>
                  <a:pt x="0" y="0"/>
                </a:moveTo>
                <a:cubicBezTo>
                  <a:pt x="355" y="0"/>
                  <a:pt x="711" y="0"/>
                  <a:pt x="862" y="0"/>
                </a:cubicBezTo>
                <a:cubicBezTo>
                  <a:pt x="1013" y="0"/>
                  <a:pt x="892" y="0"/>
                  <a:pt x="907" y="0"/>
                </a:cubicBezTo>
                <a:cubicBezTo>
                  <a:pt x="922" y="0"/>
                  <a:pt x="937" y="0"/>
                  <a:pt x="953" y="0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2411280" y="371628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484280"/>
            <a:ext cx="4495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茂密的枝叶向四面展开，就像搭起了一个个</a:t>
            </a:r>
            <a:r>
              <a:rPr b="1" lang="zh-CN" sz="3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绿色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凉棚。</a:t>
            </a:r>
            <a:r>
              <a:rPr b="0" lang="zh-CN" sz="3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pic1365"/>
          <p:cNvPicPr/>
          <p:nvPr/>
        </p:nvPicPr>
        <p:blipFill>
          <a:blip r:embed="rId1"/>
          <a:stretch/>
        </p:blipFill>
        <p:spPr>
          <a:xfrm>
            <a:off x="1042920" y="1341360"/>
            <a:ext cx="2860920" cy="4292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3"/>
          <p:cNvSpPr/>
          <p:nvPr/>
        </p:nvSpPr>
        <p:spPr>
          <a:xfrm>
            <a:off x="838836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716360" y="1484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茂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7777080" y="148428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凉棚"/>
          <p:cNvPicPr/>
          <p:nvPr/>
        </p:nvPicPr>
        <p:blipFill>
          <a:blip r:embed="rId2"/>
          <a:stretch/>
        </p:blipFill>
        <p:spPr>
          <a:xfrm>
            <a:off x="2195640" y="1700280"/>
            <a:ext cx="5040360" cy="3792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87360" y="6922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凉　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4" descr="m?ci=cn-tencent&amp;cg=0"/>
          <p:cNvPicPr/>
          <p:nvPr/>
        </p:nvPicPr>
        <p:blipFill>
          <a:blip r:embed="rId3"/>
          <a:stretch/>
        </p:blipFill>
        <p:spPr>
          <a:xfrm>
            <a:off x="2238480" y="16794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000003"/>
          <p:cNvPicPr/>
          <p:nvPr/>
        </p:nvPicPr>
        <p:blipFill>
          <a:blip r:embed="rId4"/>
          <a:stretch/>
        </p:blipFill>
        <p:spPr>
          <a:xfrm>
            <a:off x="2406600" y="172548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6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秋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一大串一大串挂在绿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下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白的、</a:t>
            </a:r>
            <a:r>
              <a:rPr b="1" lang="zh-CN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暗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</a:t>
            </a:r>
            <a:r>
              <a:rPr b="1" lang="zh-CN" sz="4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淡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五光十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美丽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沙果"/>
          <p:cNvPicPr/>
          <p:nvPr/>
        </p:nvPicPr>
        <p:blipFill>
          <a:blip r:embed="rId1"/>
          <a:stretch/>
        </p:blipFill>
        <p:spPr>
          <a:xfrm>
            <a:off x="6629400" y="4419720"/>
            <a:ext cx="1884240" cy="201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香梨"/>
          <p:cNvPicPr/>
          <p:nvPr/>
        </p:nvPicPr>
        <p:blipFill>
          <a:blip r:embed="rId2"/>
          <a:stretch/>
        </p:blipFill>
        <p:spPr>
          <a:xfrm>
            <a:off x="611280" y="4365720"/>
            <a:ext cx="150336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952880" y="838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845964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708360" y="836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大串一大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1">
            <a:hlinkClick r:id="" action="ppaction://hlinkshowjump?jump=nextslide"/>
          </p:cNvPr>
          <p:cNvSpPr/>
          <p:nvPr/>
        </p:nvSpPr>
        <p:spPr>
          <a:xfrm>
            <a:off x="25092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0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5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128" name="Picture 6" descr="06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971640" y="3429000"/>
            <a:ext cx="3047760" cy="3124080"/>
            <a:chOff x="971640" y="3429000"/>
            <a:chExt cx="3047760" cy="3124080"/>
          </a:xfrm>
        </p:grpSpPr>
        <p:pic>
          <p:nvPicPr>
            <p:cNvPr id="131" name="Picture 12" descr="08"/>
            <p:cNvPicPr/>
            <p:nvPr/>
          </p:nvPicPr>
          <p:blipFill>
            <a:blip r:embed="rId3"/>
            <a:stretch/>
          </p:blipFill>
          <p:spPr>
            <a:xfrm>
              <a:off x="971640" y="3429000"/>
              <a:ext cx="304776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/>
            <p:cNvSpPr/>
            <p:nvPr/>
          </p:nvSpPr>
          <p:spPr>
            <a:xfrm>
              <a:off x="1580760" y="603252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076720" y="3429000"/>
            <a:ext cx="3200400" cy="3125520"/>
            <a:chOff x="5076720" y="3429000"/>
            <a:chExt cx="3200400" cy="3125520"/>
          </a:xfrm>
        </p:grpSpPr>
        <p:pic>
          <p:nvPicPr>
            <p:cNvPr id="134" name="Picture 15" descr="09"/>
            <p:cNvPicPr/>
            <p:nvPr/>
          </p:nvPicPr>
          <p:blipFill>
            <a:blip r:embed="rId4"/>
            <a:stretch/>
          </p:blipFill>
          <p:spPr>
            <a:xfrm>
              <a:off x="5076720" y="342900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6"/>
            <p:cNvSpPr/>
            <p:nvPr/>
          </p:nvSpPr>
          <p:spPr>
            <a:xfrm>
              <a:off x="5686200" y="60339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Picture 18" descr="5555"/>
          <p:cNvPicPr/>
          <p:nvPr/>
        </p:nvPicPr>
        <p:blipFill>
          <a:blip r:embed="rId5"/>
          <a:stretch/>
        </p:blipFill>
        <p:spPr>
          <a:xfrm>
            <a:off x="6156360" y="549360"/>
            <a:ext cx="2808360" cy="2341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2222"/>
          <p:cNvPicPr/>
          <p:nvPr/>
        </p:nvPicPr>
        <p:blipFill>
          <a:blip r:embed="rId6"/>
          <a:stretch/>
        </p:blipFill>
        <p:spPr>
          <a:xfrm>
            <a:off x="179280" y="549360"/>
            <a:ext cx="2808360" cy="234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826920" y="292428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红  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6877080" y="29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紫 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03"/>
          <p:cNvPicPr/>
          <p:nvPr/>
        </p:nvPicPr>
        <p:blipFill>
          <a:blip r:embed="rId2"/>
          <a:stretch/>
        </p:blipFill>
        <p:spPr>
          <a:xfrm>
            <a:off x="1908000" y="1268280"/>
            <a:ext cx="4751640" cy="42357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43" name="Text Box 3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751880" y="220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2:42:4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0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