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jpeg" ContentType="image/jpeg"/>
  <Override PartName="/ppt/media/image16.jpeg" ContentType="image/jpeg"/>
  <Override PartName="/ppt/media/image14.wmf" ContentType="image/x-wmf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9804-126A-4884-AEDE-1F4044DC3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0024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BB73-2E32-46A1-8FBB-E7F7D330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67B8-1A9E-46FB-969C-8505FCD11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36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36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0024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0024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0024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7084-D35D-4979-87F5-26CE74279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6C45-E40C-4D3B-9C5D-F055962C9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43640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7348-A3C1-45AD-80D6-48EF5E00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EFA6-64D8-4826-A411-F077A875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C0D2-FD98-491A-99D4-E972384F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271E-2821-4E16-B5F9-DAE07021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331560"/>
            <a:ext cx="4648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75D1-A37B-4BC9-B625-07F28CC6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5E9D-C2F3-45A6-B024-749E30EB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3640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9ECA-E9E9-4C5B-AE40-B07F224A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3BD1-4479-4BDF-9517-375B0F2C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0024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F16E-772D-4275-ADF8-C6BDEC7F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0024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3CE8-8A7D-4CC2-9BEA-4026A9D3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A073-C32C-4BF6-AF58-9D3B5AC4A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436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436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0024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0024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0024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217E-DA53-4DA9-B8BA-A4354701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DE536-760E-48EE-9EF2-BB4821D48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43640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76E66-05D4-4F7F-8978-3947B0DF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20752-1D2F-4178-97A4-B89383E9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0FA52-418D-45D2-ABF8-ED07854C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F2B1B-D7EC-4C9D-A34D-38DED877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0CA3-3AE6-4913-88A0-F06E1561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85800" y="331560"/>
            <a:ext cx="4648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F764D-157F-450D-B755-558A475F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3CD2D-466F-4939-AB8C-B3A3787A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5D6AE-B8BF-4BE6-A60A-4AD1DE21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0024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E8DF2-5D3B-4B54-A9DE-F5498CE1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0024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925EA-C77F-4E1B-B020-C3046830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F3A98-B7E0-4F82-8AF2-686302918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436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436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0024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0024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0024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EC9A7-3EED-494E-86C9-1627AE053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854C8-2893-46FC-9E35-ECCE116B6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43640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6E62D-FE40-4C62-A28F-1B15401F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EA058-0B8B-48F0-8642-FE2C7943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6C3F-9088-474E-BBBD-D2E132FF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243D7-EA04-446F-90BA-3621FBD2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F7728-074B-4CC2-B64A-5CBA690F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85800" y="331560"/>
            <a:ext cx="4648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170F4-1AF5-4112-BD76-7171B40F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8B03E-716A-4C76-8013-92F8AB15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F8D8E-9E67-4ED5-B2A2-6668E2DE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0024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4BFDA-3E1E-404D-9FB4-2B0CA02E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0024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1364D-CB53-4CFA-88BB-CB8DC71C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E7857-3967-414A-A9D1-3CD966F2F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436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43640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0024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0024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00240"/>
            <a:ext cx="264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FF468-D18C-4556-ACBF-502DF7646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92DE-6198-4407-8ECD-8D285D3D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31560"/>
            <a:ext cx="4648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EBBD-7624-43A5-AF8C-C3BF1B39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3B20-3EFA-4798-A8D3-7B013564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0024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D21D-4CB1-45CB-ACDB-5FF366BD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22560"/>
            <a:ext cx="4648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36400"/>
            <a:ext cx="4015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00240"/>
            <a:ext cx="82296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9FCE-FDD8-40A1-B6FF-FF103B73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5BD1-2183-4EA9-8156-B074997D18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58" descr="03_back_b"/>
          <p:cNvPicPr/>
          <p:nvPr/>
        </p:nvPicPr>
        <p:blipFill>
          <a:blip r:embed="rId2"/>
          <a:stretch/>
        </p:blipFill>
        <p:spPr>
          <a:xfrm>
            <a:off x="6246720" y="609480"/>
            <a:ext cx="2630520" cy="2543400"/>
          </a:xfrm>
          <a:prstGeom prst="rect">
            <a:avLst/>
          </a:prstGeom>
          <a:ln w="0">
            <a:noFill/>
          </a:ln>
        </p:spPr>
      </p:pic>
      <p:sp>
        <p:nvSpPr>
          <p:cNvPr id="42" name="矩形 53"/>
          <p:cNvSpPr/>
          <p:nvPr/>
        </p:nvSpPr>
        <p:spPr>
          <a:xfrm>
            <a:off x="228600" y="590400"/>
            <a:ext cx="8686800" cy="5943600"/>
          </a:xfrm>
          <a:prstGeom prst="rect">
            <a:avLst/>
          </a:prstGeom>
          <a:noFill/>
          <a:ln w="38160">
            <a:solidFill>
              <a:srgbClr val="4cb0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5"/>
          <p:cNvSpPr/>
          <p:nvPr/>
        </p:nvSpPr>
        <p:spPr>
          <a:xfrm>
            <a:off x="5715000" y="6229440"/>
            <a:ext cx="300996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4"/>
          <p:cNvSpPr/>
          <p:nvPr/>
        </p:nvSpPr>
        <p:spPr>
          <a:xfrm>
            <a:off x="609480" y="190440"/>
            <a:ext cx="5562720" cy="108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43640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b9cb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bb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8797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638320" y="6381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5790960" y="62766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380520" y="62290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3898-F22D-416C-9C27-10F2858A0AB5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title"/>
          </p:nvPr>
        </p:nvSpPr>
        <p:spPr>
          <a:xfrm>
            <a:off x="685800" y="33156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8797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d8797"/>
              </a:solidFill>
              <a:latin typeface="Verdana"/>
            </a:endParaRPr>
          </a:p>
        </p:txBody>
      </p:sp>
      <p:pic>
        <p:nvPicPr>
          <p:cNvPr id="50" name="图片 59" descr="03_icon"/>
          <p:cNvPicPr/>
          <p:nvPr/>
        </p:nvPicPr>
        <p:blipFill>
          <a:blip r:embed="rId3"/>
          <a:stretch/>
        </p:blipFill>
        <p:spPr>
          <a:xfrm>
            <a:off x="5376960" y="166680"/>
            <a:ext cx="749160" cy="92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8" name="未知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未知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804C-714B-4A56-8649-1F2A50FF16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0018-411D-492A-A48D-1B4E0B4EFF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1528560" y="755280"/>
            <a:ext cx="164340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Arial"/>
                <a:ea typeface="黑体"/>
              </a:rPr>
              <a:t>窃读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6984000" y="4952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林海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380880" y="1371600"/>
            <a:ext cx="8569440" cy="43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窃    炒    锅    踮   哟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饿    惧    充    檐   皱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碗    酸    撑    柜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591480" y="9079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qi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2124360" y="914400"/>
            <a:ext cx="135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chǎo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151160" y="90792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gu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5915160" y="90792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diǎ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7580880" y="90792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y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744480" y="24321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2419200" y="24526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j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3922200" y="24526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chō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5925600" y="24321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y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7524720" y="243216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zhò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3"/>
          <p:cNvSpPr/>
          <p:nvPr/>
        </p:nvSpPr>
        <p:spPr>
          <a:xfrm>
            <a:off x="371520" y="419112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wǎ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4"/>
          <p:cNvSpPr/>
          <p:nvPr/>
        </p:nvSpPr>
        <p:spPr>
          <a:xfrm>
            <a:off x="2200320" y="419112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su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3933720" y="4184640"/>
            <a:ext cx="160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chēng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6"/>
          <p:cNvSpPr/>
          <p:nvPr/>
        </p:nvSpPr>
        <p:spPr>
          <a:xfrm>
            <a:off x="6001560" y="418464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gu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1989000" y="2666880"/>
            <a:ext cx="4740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腋       婪       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1601640" y="21891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y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4039560" y="211284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l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6554520" y="213372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l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28240" y="838080"/>
            <a:ext cx="85345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窃（         ）                炒 （ 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锅（         ）                踮 （ 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饿（         ）                惧 （ 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婪（         ）　            充 （         ）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1974240" y="990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窃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7155720" y="990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炒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1974240" y="182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锅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7232040" y="182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踮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1974240" y="2666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饥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7232040" y="2743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惧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7155720" y="3581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充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1975320" y="3505320"/>
            <a:ext cx="9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贪婪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檐（         ）　            皱 （         ）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碗（         ）                酸 （ 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撑（         ）　            柜  （         ）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词语理解：</a:t>
            </a:r>
            <a:br>
              <a:rPr sz="4000"/>
            </a:b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贪婪       惧怕       适宜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知趣       饥肠辘辘     依依不舍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2126520" y="609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屋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7304040" y="609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皱眉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2162520" y="1371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7384320" y="1447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酸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2126520" y="2362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支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7384320" y="2286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书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整体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作者是按什么顺序记叙这件事的吗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间顺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想一想课文记叙了一件什么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” 因无钱买书而偷偷躲在书店看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文章表现了“我”什么样的思想感情？</a:t>
            </a:r>
            <a:br>
              <a:rPr sz="3600"/>
            </a:b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表现了“我”对读书的热爱和对知识的渴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331560"/>
            <a:ext cx="2446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细珊瑚简体"/>
                <a:ea typeface="方正细珊瑚简体"/>
              </a:rPr>
              <a:t>品读感悟</a:t>
            </a:r>
            <a:endParaRPr b="1" lang="en-US" sz="3200" spc="-1" strike="noStrike">
              <a:solidFill>
                <a:srgbClr val="0d8797"/>
              </a:solidFill>
              <a:latin typeface="Verdana"/>
            </a:endParaRPr>
          </a:p>
        </p:txBody>
      </p:sp>
      <p:pic>
        <p:nvPicPr>
          <p:cNvPr id="251" name="图示 2" descr=""/>
          <p:cNvPicPr/>
          <p:nvPr/>
        </p:nvPicPr>
        <p:blipFill>
          <a:blip r:embed="rId1"/>
          <a:stretch/>
        </p:blipFill>
        <p:spPr>
          <a:xfrm rot="120000">
            <a:off x="748800" y="1847520"/>
            <a:ext cx="7529760" cy="2882880"/>
          </a:xfrm>
          <a:prstGeom prst="rect">
            <a:avLst/>
          </a:prstGeom>
          <a:ln w="0">
            <a:noFill/>
          </a:ln>
        </p:spPr>
      </p:pic>
      <p:pic>
        <p:nvPicPr>
          <p:cNvPr id="252" name="图片 6" descr="C:\Users\liu\AppData\Local\Microsoft\Windows\Temporary Internet Files\Content.IE5\HAQLSNB7\MC900417054[1].wmf"/>
          <p:cNvPicPr/>
          <p:nvPr/>
        </p:nvPicPr>
        <p:blipFill>
          <a:blip r:embed="rId2"/>
          <a:stretch/>
        </p:blipFill>
        <p:spPr>
          <a:xfrm>
            <a:off x="612720" y="836640"/>
            <a:ext cx="1511280" cy="1522440"/>
          </a:xfrm>
          <a:prstGeom prst="rect">
            <a:avLst/>
          </a:prstGeom>
          <a:ln w="0">
            <a:noFill/>
          </a:ln>
        </p:spPr>
      </p:pic>
      <p:grpSp>
        <p:nvGrpSpPr>
          <p:cNvPr id="253" name="Group 5"/>
          <p:cNvGrpSpPr/>
          <p:nvPr/>
        </p:nvGrpSpPr>
        <p:grpSpPr>
          <a:xfrm>
            <a:off x="1763640" y="3357720"/>
            <a:ext cx="6943680" cy="1471320"/>
            <a:chOff x="1763640" y="3357720"/>
            <a:chExt cx="6943680" cy="1471320"/>
          </a:xfrm>
        </p:grpSpPr>
        <p:sp>
          <p:nvSpPr>
            <p:cNvPr id="254" name="矩形​​ 5"/>
            <p:cNvSpPr/>
            <p:nvPr/>
          </p:nvSpPr>
          <p:spPr>
            <a:xfrm>
              <a:off x="2346120" y="3603600"/>
              <a:ext cx="61470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矩形​​ 6" descr=""/>
            <p:cNvPicPr/>
            <p:nvPr/>
          </p:nvPicPr>
          <p:blipFill>
            <a:blip r:embed="rId3"/>
            <a:stretch/>
          </p:blipFill>
          <p:spPr>
            <a:xfrm>
              <a:off x="1763640" y="3357720"/>
              <a:ext cx="6943680" cy="138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6" name="椭圆​​ 9"/>
          <p:cNvSpPr/>
          <p:nvPr/>
        </p:nvSpPr>
        <p:spPr>
          <a:xfrm>
            <a:off x="3635280" y="3949560"/>
            <a:ext cx="76320" cy="76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椭圆​​ 10"/>
          <p:cNvSpPr/>
          <p:nvPr/>
        </p:nvSpPr>
        <p:spPr>
          <a:xfrm>
            <a:off x="4025880" y="3933720"/>
            <a:ext cx="76320" cy="76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椭圆​​ 11"/>
          <p:cNvSpPr/>
          <p:nvPr/>
        </p:nvSpPr>
        <p:spPr>
          <a:xfrm>
            <a:off x="4402080" y="3940200"/>
            <a:ext cx="76320" cy="76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685800" y="530208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5050"/>
                </a:solidFill>
                <a:latin typeface="黑体"/>
                <a:ea typeface="黑体"/>
              </a:rPr>
              <a:t>：小姑娘吃饭时间到了，为何不去饭店，反而去书店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3192120" y="10526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050"/>
                </a:solidFill>
                <a:latin typeface="Arial"/>
                <a:ea typeface="黑体"/>
              </a:rPr>
              <a:t>学习第一自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第二自然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由朗读课文，找出这个段落中的一组反义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3763800" y="2637000"/>
            <a:ext cx="17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安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---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担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1391760" y="3046320"/>
            <a:ext cx="403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“我”为什么既安心又担心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1042920" y="3500280"/>
            <a:ext cx="18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1383480" y="3789360"/>
            <a:ext cx="372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此时“我”最渴望的是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6118200" y="37893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找到那本心爱的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4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4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04560" y="76212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阅读的滋味有千百种，请同学们读第四自然段，并找出文中说明“窃读”滋味的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很快乐，也很</a:t>
            </a:r>
            <a:r>
              <a:rPr b="1" lang="zh-CN" sz="3600" spc="-1" strike="noStrike" u="sng">
                <a:solidFill>
                  <a:srgbClr val="009900"/>
                </a:solidFill>
                <a:uFillTx/>
                <a:latin typeface="Arial"/>
              </a:rPr>
              <a:t>惧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——这种窃读的滋味！（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然段）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是文章的</a:t>
            </a:r>
            <a:r>
              <a:rPr b="1" lang="zh-CN" sz="3600" spc="-1" strike="noStrike">
                <a:solidFill>
                  <a:srgbClr val="ff5050"/>
                </a:solidFill>
                <a:latin typeface="Arial"/>
              </a:rPr>
              <a:t>中心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也是作者情感的集中体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147960" y="22824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黑体"/>
              </a:rPr>
              <a:t>合作学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边默读课文边用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_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划出描写“我”是怎样“窃读”的语句。把描写作者心理活动和动作的语句画下来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组交流、汇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黑体"/>
              </a:rPr>
              <a:t>预习要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0" y="1295280"/>
            <a:ext cx="647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会认（拼音下写生字，组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求：给课后字词注音，并参考课文，给生字组词，每个生字需组两个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“窃”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i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】 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窃读）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偷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好词积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求：摘抄你认为写得好的词语或是成语，并附上解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第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自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我跨进店门，暗喜没人注意。我踮起脚尖，从大人的腋下挤过去。哟，把短发弄乱了，没关系，我总算挤到里边来了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3"/>
          <p:cNvSpPr/>
          <p:nvPr/>
        </p:nvSpPr>
        <p:spPr>
          <a:xfrm>
            <a:off x="2133720" y="1828800"/>
            <a:ext cx="4572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"/>
          <p:cNvSpPr/>
          <p:nvPr/>
        </p:nvSpPr>
        <p:spPr>
          <a:xfrm>
            <a:off x="7467480" y="1828800"/>
            <a:ext cx="4572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"/>
          <p:cNvSpPr/>
          <p:nvPr/>
        </p:nvSpPr>
        <p:spPr>
          <a:xfrm>
            <a:off x="4267080" y="2438280"/>
            <a:ext cx="4572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6"/>
          <p:cNvSpPr/>
          <p:nvPr/>
        </p:nvSpPr>
        <p:spPr>
          <a:xfrm>
            <a:off x="5029200" y="3048120"/>
            <a:ext cx="4572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792720" y="45720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动词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8"/>
          <p:cNvSpPr/>
          <p:nvPr/>
        </p:nvSpPr>
        <p:spPr>
          <a:xfrm>
            <a:off x="2514600" y="4038480"/>
            <a:ext cx="533520" cy="1752840"/>
          </a:xfrm>
          <a:custGeom>
            <a:avLst/>
            <a:gdLst>
              <a:gd name="textAreaLeft" fmla="*/ 340920 w 533520"/>
              <a:gd name="textAreaRight" fmla="*/ 533880 w 53352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"/>
          <p:cNvSpPr/>
          <p:nvPr/>
        </p:nvSpPr>
        <p:spPr>
          <a:xfrm>
            <a:off x="3929040" y="37800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书店的顾客之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0"/>
          <p:cNvSpPr/>
          <p:nvPr/>
        </p:nvSpPr>
        <p:spPr>
          <a:xfrm>
            <a:off x="4066200" y="5327640"/>
            <a:ext cx="28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”对读书的如饥似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第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自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急忙打开书，一页，两页，我像一匹饿狼，</a:t>
            </a:r>
            <a:r>
              <a:rPr b="1" lang="zh-CN" sz="3200" spc="-1" strike="noStrike" u="sng">
                <a:solidFill>
                  <a:srgbClr val="ff9900"/>
                </a:solidFill>
                <a:uFillTx/>
                <a:latin typeface="Arial"/>
              </a:rPr>
              <a:t>贪婪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地读着。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一个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比喻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将满怀读书渴望的“我”比作一匹饥饿的狼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写出了“我”强烈的求知欲，对读书的渴望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第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自然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我害怕被书店老板发现，每当我觉得当时的环境已不</a:t>
            </a:r>
            <a:r>
              <a:rPr b="1" lang="zh-CN" sz="3600" spc="-1" strike="noStrike" u="sng">
                <a:solidFill>
                  <a:srgbClr val="ff9900"/>
                </a:solidFill>
                <a:uFillTx/>
                <a:latin typeface="Arial"/>
              </a:rPr>
              <a:t>适宜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再读下去的时候，我会</a:t>
            </a:r>
            <a:r>
              <a:rPr b="1" lang="zh-CN" sz="3600" spc="-1" strike="noStrike" u="sng">
                <a:solidFill>
                  <a:srgbClr val="ff9900"/>
                </a:solidFill>
                <a:uFillTx/>
                <a:latin typeface="Arial"/>
              </a:rPr>
              <a:t>知趣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地放下书走出去，再走进另一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突出“窃读”辛酸历程和求知欲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第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自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我有时还要装着皱起眉头，不时望着街心，好像说：“这雨，害得我回不去了。”其实，我的心里却高兴地喊着：“大些！再大些！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对发愁的表情和快乐的内心对比描写，写出“我”为雨天能够有个充足的理由读书而高兴无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更加表现出了“我”对读书的喜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第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自然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当饭店飘来一阵阵菜香时，我已饿得</a:t>
            </a:r>
            <a:r>
              <a:rPr b="1" lang="zh-CN" sz="3600" spc="-1" strike="noStrike" u="sng">
                <a:solidFill>
                  <a:srgbClr val="ff9900"/>
                </a:solidFill>
                <a:uFillTx/>
                <a:latin typeface="Arial"/>
              </a:rPr>
              <a:t>饥肠辘辘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，那时我也不免要做</a:t>
            </a:r>
            <a:r>
              <a:rPr b="1" lang="zh-CN" sz="3600" spc="-1" strike="noStrike" u="sng">
                <a:solidFill>
                  <a:srgbClr val="ff9900"/>
                </a:solidFill>
                <a:uFillTx/>
                <a:latin typeface="Arial"/>
              </a:rPr>
              <a:t>白日梦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，如果口袋里有钱该多好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对比的手法。突出“窃读”的辛酸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686800" cy="55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第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自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我合上书，咽了一口唾沫，好像把所有的智慧都吞下去了，然后才依依不舍地把书放回书架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咽了一口唾沫”写出了此时的“我”尽管是腿酸脚麻、饥肠辘辘，却在两个多钟头的饱读之后有一种满足感、充实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"/>
          <p:cNvSpPr/>
          <p:nvPr/>
        </p:nvSpPr>
        <p:spPr>
          <a:xfrm>
            <a:off x="3276720" y="1523880"/>
            <a:ext cx="30477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609480" y="4876920"/>
            <a:ext cx="822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在如此艰难的情况下，作者坚持着“窃读”，其动力来源于那里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grpSp>
        <p:nvGrpSpPr>
          <p:cNvPr id="288" name="Group 3"/>
          <p:cNvGrpSpPr/>
          <p:nvPr/>
        </p:nvGrpSpPr>
        <p:grpSpPr>
          <a:xfrm>
            <a:off x="1476360" y="1773360"/>
            <a:ext cx="5903640" cy="4392360"/>
            <a:chOff x="1476360" y="1773360"/>
            <a:chExt cx="5903640" cy="4392360"/>
          </a:xfrm>
        </p:grpSpPr>
        <p:pic>
          <p:nvPicPr>
            <p:cNvPr id="289" name="Picture 4" descr="11"/>
            <p:cNvPicPr/>
            <p:nvPr/>
          </p:nvPicPr>
          <p:blipFill>
            <a:blip r:embed="rId3"/>
            <a:stretch/>
          </p:blipFill>
          <p:spPr>
            <a:xfrm>
              <a:off x="1476360" y="1773360"/>
              <a:ext cx="5903640" cy="43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Text Box 5"/>
            <p:cNvSpPr/>
            <p:nvPr/>
          </p:nvSpPr>
          <p:spPr>
            <a:xfrm>
              <a:off x="2119680" y="2540880"/>
              <a:ext cx="4972680" cy="10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通过学习这篇课文，你知道为什么课文要用</a:t>
              </a: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“</a:t>
              </a:r>
              <a:r>
                <a:rPr b="1" lang="zh-CN" sz="2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窃读记</a:t>
              </a: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”</a:t>
              </a:r>
              <a:r>
                <a:rPr b="1" lang="zh-CN" sz="2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作为标题了吗？你从中学到了什么？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4" descr=""/>
          <p:cNvPicPr/>
          <p:nvPr/>
        </p:nvPicPr>
        <p:blipFill>
          <a:blip r:embed="rId1"/>
          <a:stretch/>
        </p:blipFill>
        <p:spPr>
          <a:xfrm>
            <a:off x="195120" y="347760"/>
            <a:ext cx="8686800" cy="624816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71280" y="907560"/>
            <a:ext cx="46479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202020"/>
                </a:solidFill>
                <a:latin typeface="方正细珊瑚简体"/>
                <a:ea typeface="方正细珊瑚简体"/>
              </a:rPr>
              <a:t>与书交友</a:t>
            </a:r>
            <a:br>
              <a:rPr sz="2900"/>
            </a:br>
            <a:endParaRPr b="1" lang="en-US" sz="2900" spc="-1" strike="noStrike">
              <a:solidFill>
                <a:srgbClr val="0d8797"/>
              </a:solidFill>
              <a:latin typeface="Verdana"/>
            </a:endParaRPr>
          </a:p>
        </p:txBody>
      </p:sp>
      <p:pic>
        <p:nvPicPr>
          <p:cNvPr id="293" name="图示 16" descr=""/>
          <p:cNvPicPr/>
          <p:nvPr/>
        </p:nvPicPr>
        <p:blipFill>
          <a:blip r:embed="rId2"/>
          <a:stretch/>
        </p:blipFill>
        <p:spPr>
          <a:xfrm>
            <a:off x="-752400" y="2670120"/>
            <a:ext cx="9896400" cy="25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8797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1" lang="en-US" sz="1800" spc="-1" strike="noStrike">
              <a:solidFill>
                <a:srgbClr val="0d8797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d8797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600" spc="-1" strike="noStrike" u="sng">
                <a:solidFill>
                  <a:srgbClr val="7b9cb5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600" spc="-1" strike="noStrike" u="sng">
                <a:solidFill>
                  <a:srgbClr val="7b9cb5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0d8797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d8797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d8797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800" spc="-1" strike="noStrike">
              <a:solidFill>
                <a:srgbClr val="0d8797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d8797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0d8797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d8797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d8797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1" lang="en-US" sz="1800" spc="-1" strike="noStrike">
              <a:solidFill>
                <a:srgbClr val="0d8797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7b9cb5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7b9cb5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zh-CN" sz="1600" spc="-1" strike="noStrike" u="sng">
                <a:solidFill>
                  <a:srgbClr val="7b9cb5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0d8797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7b9cb5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600" spc="-1" strike="noStrike" u="sng">
                <a:solidFill>
                  <a:srgbClr val="7b9cb5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7b9cb5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0d8797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7b9cb5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7b9cb5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7b9cb5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0d8797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7b9cb5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7b9cb5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0d8797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7b9cb5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0d8797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7b9cb5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0d8797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d8797"/>
              </a:solidFill>
              <a:latin typeface="Verdana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437920" y="761760"/>
            <a:ext cx="62485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ff0066"/>
                </a:solidFill>
                <a:uFillTx/>
                <a:latin typeface="Arial"/>
              </a:rPr>
              <a:t>3.</a:t>
            </a:r>
            <a:r>
              <a:rPr b="1" i="1" lang="zh-CN" sz="3200" spc="-1" strike="noStrike" u="sng">
                <a:solidFill>
                  <a:srgbClr val="ff0066"/>
                </a:solidFill>
                <a:uFillTx/>
                <a:latin typeface="Arial"/>
              </a:rPr>
              <a:t>给课文划分自然段，概括文章大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出你认为课文当中写得好的句子（至少三句），并说说你的理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能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选取文章一个具有代表性的句子，谈谈你的理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Arial"/>
                <a:ea typeface="黑体"/>
              </a:rPr>
              <a:t>比一比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知道哪些读书名言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知道哪些读书人的故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请同学们来次小比赛，看谁说得多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说得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书籍是人类进步的阶梯。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高尔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书是全世界的营养品。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莎士比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活中没有书籍，就好像没有阳光，智慧里没有书籍，就好像鸟儿没有翅膀。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莎士比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书籍，是了望世界的窗口，是改造灵魂的工具，是打开知识宝库的钥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书，使人愉快，使人聪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匡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ku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ā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ng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衡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(h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é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ng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凿壁偷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车胤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(yǐn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zh-CN" sz="9600" spc="-1" strike="noStrike">
                <a:solidFill>
                  <a:srgbClr val="ff6600"/>
                </a:solidFill>
                <a:latin typeface="Arial"/>
              </a:rPr>
              <a:t>囊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á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ng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萤取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图示 1" descr=""/>
          <p:cNvPicPr/>
          <p:nvPr/>
        </p:nvPicPr>
        <p:blipFill>
          <a:blip r:embed="rId1"/>
          <a:stretch/>
        </p:blipFill>
        <p:spPr>
          <a:xfrm>
            <a:off x="-106200" y="-136440"/>
            <a:ext cx="3740040" cy="1690560"/>
          </a:xfrm>
          <a:prstGeom prst="rect">
            <a:avLst/>
          </a:prstGeom>
          <a:ln w="0">
            <a:noFill/>
          </a:ln>
        </p:spPr>
      </p:pic>
      <p:pic>
        <p:nvPicPr>
          <p:cNvPr id="199" name="竖卷形 3" descr=""/>
          <p:cNvPicPr/>
          <p:nvPr/>
        </p:nvPicPr>
        <p:blipFill>
          <a:blip r:embed="rId2"/>
          <a:stretch/>
        </p:blipFill>
        <p:spPr>
          <a:xfrm>
            <a:off x="530280" y="1474920"/>
            <a:ext cx="6931080" cy="4578120"/>
          </a:xfrm>
          <a:prstGeom prst="rect">
            <a:avLst/>
          </a:prstGeom>
          <a:ln w="0">
            <a:noFill/>
          </a:ln>
        </p:spPr>
      </p:pic>
      <p:sp>
        <p:nvSpPr>
          <p:cNvPr id="200" name="矩形​​ 2"/>
          <p:cNvSpPr/>
          <p:nvPr/>
        </p:nvSpPr>
        <p:spPr>
          <a:xfrm>
            <a:off x="5508720" y="5084640"/>
            <a:ext cx="9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02020"/>
                </a:solidFill>
                <a:latin typeface="方正综艺简体"/>
                <a:ea typeface="方正综艺简体"/>
              </a:rPr>
              <a:t>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4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矩形 11"/>
          <p:cNvSpPr/>
          <p:nvPr/>
        </p:nvSpPr>
        <p:spPr>
          <a:xfrm>
            <a:off x="6315120" y="9144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2"/>
          <p:cNvGrpSpPr/>
          <p:nvPr/>
        </p:nvGrpSpPr>
        <p:grpSpPr>
          <a:xfrm>
            <a:off x="0" y="1828800"/>
            <a:ext cx="9144000" cy="3079800"/>
            <a:chOff x="0" y="1828800"/>
            <a:chExt cx="9144000" cy="3079800"/>
          </a:xfrm>
        </p:grpSpPr>
        <p:sp>
          <p:nvSpPr>
            <p:cNvPr id="203" name="Rectangle 3"/>
            <p:cNvSpPr/>
            <p:nvPr/>
          </p:nvSpPr>
          <p:spPr>
            <a:xfrm>
              <a:off x="0" y="18288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4"/>
            <p:cNvSpPr/>
            <p:nvPr/>
          </p:nvSpPr>
          <p:spPr>
            <a:xfrm>
              <a:off x="0" y="1828800"/>
              <a:ext cx="9144000" cy="30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  </a:t>
              </a:r>
              <a:r>
                <a:rPr b="0" lang="zh-CN" sz="196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 </a:t>
              </a: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  <a:ea typeface="_x000b__x000c_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Picture 5" descr="image/img187609_1.jpg"/>
          <p:cNvPicPr/>
          <p:nvPr/>
        </p:nvPicPr>
        <p:blipFill>
          <a:blip r:embed="rId1"/>
          <a:stretch/>
        </p:blipFill>
        <p:spPr>
          <a:xfrm>
            <a:off x="5148360" y="260280"/>
            <a:ext cx="3657600" cy="31212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457200" y="1600200"/>
            <a:ext cx="4267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_x000b__x000c_"/>
              </a:rPr>
              <a:t>林海音，原名林含英，小名英子，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在日本出生，在北京长大。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_x000b__x000c_"/>
              </a:rPr>
              <a:t>北京新闻专科学校毕业后任《世界日报》记者。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_x000b__x000c_"/>
              </a:rPr>
              <a:t>1948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_x000b__x000c_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_x000b__x000c_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_x000b__x000c_"/>
              </a:rPr>
              <a:t>月回到故乡台湾，任《国语日报》编辑。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_x000b__x000c_"/>
              </a:rPr>
              <a:t>1953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_x000b__x000c_"/>
              </a:rPr>
              <a:t>主编《联合报》副刊，开始文艺创作，并兼任《文星》杂志编辑和世界新闻学校教员，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_x000b__x000c_"/>
              </a:rPr>
              <a:t>1967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_x000b__x000c_"/>
              </a:rPr>
              <a:t>年创办《纯文学杂志》，以后又经营纯文学出版社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611280" y="548640"/>
            <a:ext cx="7336080" cy="71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5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ffffff"/>
                </a:solidFill>
                <a:latin typeface="Times New Roman"/>
              </a:rPr>
              <a:t>林海音</a:t>
            </a:r>
            <a:endParaRPr b="1" lang="en-US" sz="41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6843600" y="3602160"/>
            <a:ext cx="1095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代表作品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《城南旧事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《春风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《窗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《林海音自选集》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0000"/>
                </a:solidFill>
                <a:latin typeface="Arial"/>
                <a:ea typeface="黑体"/>
              </a:rPr>
              <a:t>生字学习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13:49:58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4:51:13Z</dcterms:modified>
  <cp:revision>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ersion">
    <vt:r8>1</vt:r8>
  </property>
</Properties>
</file>