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FC0-8D37-47D5-B11A-196D2BCD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A3D-B395-436B-A037-D588D5BF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0FBE6-7BA5-406C-86EB-1598706E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5D1C-A872-4955-814E-C8231F34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CDEA-2679-4972-9068-FEAAEAE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1C639-150F-488E-82C3-EE0F8DA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D7FA1-A272-428A-9692-7CDEA20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7FF4B-B175-4E85-B33D-07C7C7D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416AB-6654-497B-BD04-2167505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B04A3-7E6F-42F3-9AE5-CE1AF523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F02B0-5704-42BC-91EA-D82840BC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594A9-8249-422C-9556-AA73F2F9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CEC-9AD6-453D-B4D3-AB1FF68F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93ADB-3E1F-4745-98EE-0E178D35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6265D-E758-4E04-A403-DB58FA87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1C19E-5530-48C3-AE3D-E6E9783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84220-7C9A-42D9-A05D-8EEAB6BA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0B5BA-816A-46E9-A36E-11595B27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AF0AA-E530-4E5B-B99A-6E135F6D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8A92C-2FA7-4E51-91DC-97398E1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D5F60-5A29-44CA-BB07-CE00D08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4AF03-96F6-4B5A-A426-8B5446F7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8F204-D0AD-4B2E-B20A-CAE30D1C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62C-E1D4-42D1-8F0C-0451D7A5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2F633-51F0-40B9-80EE-5234CDAE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ADB33-3BE8-461B-BF3B-42117431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81F46-1AC0-4707-A87A-BB618367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166B1-06BB-4CD5-B1E3-3BFDB013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4460E-2CF7-490F-A78D-1536A93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2C01-EAA9-481D-B26B-A69168BF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42B8B-167A-4E8E-B075-974EE35D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57959-B0B0-4FC7-84DD-A768CA7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6442C-7E5F-4B28-BB19-846A149C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9F581-4852-4864-B6D0-74BAB52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98D2-F779-446D-B859-E0D53A75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84D0-13F5-4134-B1C5-CC2C93FB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AA2CB-0221-4BF8-B6E4-50DEB849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CEC7B-52E2-474D-BE11-86B56720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61C68-0BB3-42B5-9B17-0E55769D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82814-3A36-43F2-8E53-9F9738B2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6D988-8775-447A-8DFE-0CF708B9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BD9D1-D0AB-493C-A030-A4DFB271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09BFB-3E96-44CF-B117-73D933F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9DB88-C3F6-4090-B350-BF82305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86101-6449-4FCE-9AEC-359153F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DA11-2526-46EB-8AEC-6507AAD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B8302-0414-474D-B7C0-3BB1B95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FDEB8-7229-44E8-9ACF-2203293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11E6D-E9AA-45F2-A349-31AFE16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35481-F2A3-44E4-8672-57C1EE60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799AA-4E57-4067-A71C-277EE643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80A3E-5441-428C-A71C-03423D4C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4A5C6-EF94-40C0-929B-0AB12F88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DF78C-CBDD-413D-AEB9-DD906F50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11B9D-DF29-44F9-AB26-DA18FC0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FCC10-64F4-47FC-90DB-BF5DFAB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C56C-B505-4766-B3B1-AB6BBC88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D0944-24A2-4DA4-9E56-8CA55C0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80046-D6CD-47EF-9890-B80A3A1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108D9-70A2-4628-ACAF-F91C78F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C04F3-1105-408B-BBF1-F24462B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36EB2-6409-47B5-B27F-B3964F86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CDEBA-5844-4A39-9FEE-2449173F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BDAA7-6AD5-4ACC-A8DC-23DFA270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267E-E6D2-4DCB-9DB8-BD0F4C2A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BDA8-DA9A-4D7D-90F5-9120B475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6D25-78E5-4D5F-B849-1B16AFF5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C2B4-38ED-47A3-A226-CD30A13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539-8950-4785-A928-788EE7D4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A20-9F0A-4EE9-9248-9F691DE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0795-BAF4-4366-A674-FC77FAF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AC97-366B-48C8-B181-8A103CC6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D3CE-BC00-48F3-B627-E7A72DC2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025-9534-4FD4-B5E7-A63547F5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C17A-945D-4564-868E-776CD037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82A4-2AB9-41CB-8DD9-9B0962AB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22A6-9F44-4919-9BF4-14CBC030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4BB5-3D2D-4574-997B-10EF7211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E9A3-6A0A-441A-8358-88FBE85C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0B1-E7D9-43CA-891B-DECF69B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693D-EAAB-4183-BA2B-CB35C8C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6C36-5CC8-4BF3-8463-DDD9BB9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9902-E3EC-4836-9133-320E3269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17C7-BDFC-4812-907E-0EE323D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E3AA-0AEF-43BA-AA3E-461A2632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1B35-B902-48F7-9FE3-9D5DC35F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6549-2349-419E-82C1-91B2E837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94E6-1B42-487A-B6A0-A8347074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FFE3-376A-49E8-8288-4E096F0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1857-ABAF-4D02-9F67-676F9F47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649-98A3-4F88-8DD8-D5D901B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A5AB-1AEE-4F63-82A2-E1310591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EA6B-3E92-4308-8308-FE0A401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EA27-9238-41F1-9B6B-C9DB8046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A5C2-1B3C-4EC5-81C6-4CD03DA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5239-BB63-437B-A239-F802639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62E8-DB67-4993-B37F-74D35B3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C02C-E27A-49A0-A534-52243AA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1DF4-8043-42D1-B96B-11E5282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E9AF-1FF0-4A2D-88C2-CFF26D96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8FE6-141B-4BBF-8B7F-F2A02289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090-DE2B-4FC9-80E9-12774CA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496A-E2CF-45E1-B8ED-8CAF5300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C4967-E432-4B50-ACC7-274E2AC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ACD88-478A-4400-A4C4-78A5408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5D9C2-F0CC-4B7E-9E21-1DD86AFF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FA374-C4A4-4A08-BB54-A35666AF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2139-907B-469B-A0B1-F4595DC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6B10-4880-4E45-9EFB-573C87E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0812-27E0-4B7F-A1D2-CE46D22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077F-DD30-4EA8-B43E-94376DD1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4715-2B7D-4333-867E-B95720C5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BAA-858D-434E-AF4E-D5493D98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E2EEC-0D96-4E36-A001-6DCFF433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C578-FAFB-4348-9A6C-44B4695C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EA75-5451-4F87-B728-2EE0B53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9916-20EB-4852-9BB7-A513F0C1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A8FC6-C117-4BE1-B93B-F44D823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9FDD2-495A-4693-B2F2-82574843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6C51D-EC0A-40F6-84CE-2262490F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E09DC-BFD4-4299-B54C-C7606B1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DA8EB-E6E2-4239-A3C7-FF22BEE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363AD-6FF5-4254-AE42-09F1121D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9A4-64BD-4F7A-B0A8-49B4A70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EA83-B955-4CB9-8D46-E1F8A7FF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3172-4FD7-4F06-876B-5E958546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6651C-35BD-4C56-8CFA-9B74E5A8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1560-7ABF-4740-8CDF-D223BA52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3C33-07CF-44E4-9D22-B26E2830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32AA8-B667-4B56-9400-9E1B5D4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60DE5-9F7D-4226-B7D4-CFECC09D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8A11-48C6-4AE8-819B-63E62DCB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00A3-84F3-4327-8F2C-E1C01B8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F177-146B-48A8-9B2B-CC62063E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D92-F538-4713-849F-25D2B15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31BF8-0B79-4BF4-BC2A-0F7F663A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CB9E-6662-4ABD-B945-7621FF4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5D25-43F2-4E11-A062-C54C4589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01397-9780-481F-B529-182BA5D9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61D4-A8A7-4403-9CDA-F01B7E1C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3758-8DA2-4A6B-B00D-D4C55A96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4C546-A20C-41B5-81B4-7E9B941E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D7DD-BF84-468E-AD76-1FF1C95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B5727-04F1-418A-AD07-FEBB4618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4797-2F7D-4784-8FF8-BFD482EF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FDB-B220-4F81-B724-91BFC67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7751-20AF-4904-A736-7E3041CD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7F221-565F-4DB2-949D-BC9B7FA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CF00-FEA6-4EF6-88F3-B0D17DF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C5B1-0A8C-457B-99DE-46368A2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0219-CBBD-4817-A281-B05CDC9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D89F-0B49-4244-894C-28477DDD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C04D-AB5C-4C74-8DDE-A4058132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E8A1-9B9B-4334-829D-1418C2BE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2D4E0-4193-4F83-8B85-B2097072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53059-5C49-49D6-AFD7-D140EE7B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C8B5-4E5C-484E-977E-D3A556342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9722-9BD7-4075-8585-20FE6D9010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AB5-2B94-4F1A-B8E2-EA80187E5D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54AF-487A-49B7-BDBE-845BB77225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3690-2896-4A86-AE7D-52DB180CA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C18-8FE1-43BB-BA69-9CCCAE7AF5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572C-72D6-46F8-A794-6545A0513E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76BA-A72B-42FB-AB4D-DD703B60DB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67C-487A-44DE-93EF-A59327BB8D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5C95-3186-495A-A1DA-6BDB1CB277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5920-19EF-4B31-B5AB-B580A63A10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8B0-10A3-46D6-B576-5696402111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AF96-7BC7-4151-98F9-B339572788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4C93-1BCE-415C-81D7-1B571B2E24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9D0E-C243-4520-A032-9EB51AA1E9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C14B-B346-4BFC-B022-08FF846C7D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54A-51CE-4E12-AA50-017AC0C794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50B7-EF0B-45E4-88D9-F1BABD6EC3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FB19-73E4-4671-AC26-A1A2B5098F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DE8-C88E-4684-BF99-AF6AFE7197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824-5BAF-40FE-A08B-429BA23423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0FCC-817E-408A-B100-1AA94FD652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71B-3C85-4498-B2F3-1E519D16DB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5C7-6A1C-4EAA-B8E0-B9E7002E3C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3D1A-6F20-481E-B3A5-82D9BA513F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2.gif"/><Relationship Id="rId39" Type="http://schemas.openxmlformats.org/officeDocument/2006/relationships/image" Target="../media/image2.gif"/><Relationship Id="rId40" Type="http://schemas.openxmlformats.org/officeDocument/2006/relationships/image" Target="../media/image2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7.gif"/><Relationship Id="rId50" Type="http://schemas.openxmlformats.org/officeDocument/2006/relationships/image" Target="../media/image8.png"/><Relationship Id="rId5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星星的思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star3"/>
          <p:cNvPicPr/>
          <p:nvPr/>
        </p:nvPicPr>
        <p:blipFill>
          <a:blip r:embed="rId2"/>
          <a:stretch/>
        </p:blipFill>
        <p:spPr>
          <a:xfrm>
            <a:off x="67057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star3"/>
          <p:cNvPicPr/>
          <p:nvPr/>
        </p:nvPicPr>
        <p:blipFill>
          <a:blip r:embed="rId3"/>
          <a:stretch/>
        </p:blipFill>
        <p:spPr>
          <a:xfrm>
            <a:off x="27432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star3"/>
          <p:cNvPicPr/>
          <p:nvPr/>
        </p:nvPicPr>
        <p:blipFill>
          <a:blip r:embed="rId4"/>
          <a:stretch/>
        </p:blipFill>
        <p:spPr>
          <a:xfrm>
            <a:off x="4876920" y="533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star3"/>
          <p:cNvPicPr/>
          <p:nvPr/>
        </p:nvPicPr>
        <p:blipFill>
          <a:blip r:embed="rId5"/>
          <a:stretch/>
        </p:blipFill>
        <p:spPr>
          <a:xfrm>
            <a:off x="30481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ar3"/>
          <p:cNvPicPr/>
          <p:nvPr/>
        </p:nvPicPr>
        <p:blipFill>
          <a:blip r:embed="rId6"/>
          <a:stretch/>
        </p:blipFill>
        <p:spPr>
          <a:xfrm>
            <a:off x="5257800" y="2743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star3"/>
          <p:cNvPicPr/>
          <p:nvPr/>
        </p:nvPicPr>
        <p:blipFill>
          <a:blip r:embed="rId7"/>
          <a:stretch/>
        </p:blipFill>
        <p:spPr>
          <a:xfrm>
            <a:off x="6172200" y="609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star3"/>
          <p:cNvPicPr/>
          <p:nvPr/>
        </p:nvPicPr>
        <p:blipFill>
          <a:blip r:embed="rId8"/>
          <a:stretch/>
        </p:blipFill>
        <p:spPr>
          <a:xfrm>
            <a:off x="41911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star3"/>
          <p:cNvPicPr/>
          <p:nvPr/>
        </p:nvPicPr>
        <p:blipFill>
          <a:blip r:embed="rId9"/>
          <a:stretch/>
        </p:blipFill>
        <p:spPr>
          <a:xfrm>
            <a:off x="68580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star3"/>
          <p:cNvPicPr/>
          <p:nvPr/>
        </p:nvPicPr>
        <p:blipFill>
          <a:blip r:embed="rId10"/>
          <a:stretch/>
        </p:blipFill>
        <p:spPr>
          <a:xfrm>
            <a:off x="64771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star3"/>
          <p:cNvPicPr/>
          <p:nvPr/>
        </p:nvPicPr>
        <p:blipFill>
          <a:blip r:embed="rId11"/>
          <a:stretch/>
        </p:blipFill>
        <p:spPr>
          <a:xfrm>
            <a:off x="6324480" y="1523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star3"/>
          <p:cNvPicPr/>
          <p:nvPr/>
        </p:nvPicPr>
        <p:blipFill>
          <a:blip r:embed="rId12"/>
          <a:stretch/>
        </p:blipFill>
        <p:spPr>
          <a:xfrm>
            <a:off x="61722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star3"/>
          <p:cNvPicPr/>
          <p:nvPr/>
        </p:nvPicPr>
        <p:blipFill>
          <a:blip r:embed="rId13"/>
          <a:stretch/>
        </p:blipFill>
        <p:spPr>
          <a:xfrm>
            <a:off x="5791320" y="1523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star3"/>
          <p:cNvPicPr/>
          <p:nvPr/>
        </p:nvPicPr>
        <p:blipFill>
          <a:blip r:embed="rId14"/>
          <a:stretch/>
        </p:blipFill>
        <p:spPr>
          <a:xfrm>
            <a:off x="701028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star3"/>
          <p:cNvPicPr/>
          <p:nvPr/>
        </p:nvPicPr>
        <p:blipFill>
          <a:blip r:embed="rId15"/>
          <a:stretch/>
        </p:blipFill>
        <p:spPr>
          <a:xfrm>
            <a:off x="563868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star3"/>
          <p:cNvPicPr/>
          <p:nvPr/>
        </p:nvPicPr>
        <p:blipFill>
          <a:blip r:embed="rId16"/>
          <a:stretch/>
        </p:blipFill>
        <p:spPr>
          <a:xfrm>
            <a:off x="50292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8" descr="star3"/>
          <p:cNvPicPr/>
          <p:nvPr/>
        </p:nvPicPr>
        <p:blipFill>
          <a:blip r:embed="rId17"/>
          <a:stretch/>
        </p:blipFill>
        <p:spPr>
          <a:xfrm>
            <a:off x="2590920" y="23623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9" descr="star3"/>
          <p:cNvPicPr/>
          <p:nvPr/>
        </p:nvPicPr>
        <p:blipFill>
          <a:blip r:embed="rId18"/>
          <a:stretch/>
        </p:blipFill>
        <p:spPr>
          <a:xfrm>
            <a:off x="3429000" y="2743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star3"/>
          <p:cNvPicPr/>
          <p:nvPr/>
        </p:nvPicPr>
        <p:blipFill>
          <a:blip r:embed="rId19"/>
          <a:stretch/>
        </p:blipFill>
        <p:spPr>
          <a:xfrm>
            <a:off x="4267080" y="2209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2" name="WordArt 21"/>
          <p:cNvSpPr txBox="1"/>
          <p:nvPr/>
        </p:nvSpPr>
        <p:spPr>
          <a:xfrm>
            <a:off x="971640" y="2492280"/>
            <a:ext cx="6705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宋体"/>
              </a:rPr>
              <a:t>七颗钻石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繁星8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457200" y="457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读一读，讲一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14480" y="1708200"/>
            <a:ext cx="8915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用自己喜欢的方式阅读全文，复述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尽量用简洁的语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五次变化的过程叙述清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219320" y="1616040"/>
            <a:ext cx="152388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生病的母亲找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1752480" y="25909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219320" y="419724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水省给母亲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886200" y="419112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倒水给小狗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8954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6553080" y="4197240"/>
            <a:ext cx="18288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母亲让水给小姑娘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6095880" y="1600200"/>
            <a:ext cx="22860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小姑娘把水让给过路人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WordArt 9"/>
          <p:cNvSpPr txBox="1"/>
          <p:nvPr/>
        </p:nvSpPr>
        <p:spPr>
          <a:xfrm>
            <a:off x="609480" y="609480"/>
            <a:ext cx="3733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五次爱心行动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2520" y="1828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出了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37960" y="3611520"/>
            <a:ext cx="5493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-57960" y="365760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得端端正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35053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木的变成银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54864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64008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银的变成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6"/>
          <p:cNvSpPr/>
          <p:nvPr/>
        </p:nvSpPr>
        <p:spPr>
          <a:xfrm>
            <a:off x="6934320" y="2743200"/>
            <a:ext cx="457200" cy="1219320"/>
          </a:xfrm>
          <a:prstGeom prst="upArrow">
            <a:avLst>
              <a:gd name="adj1" fmla="val 50000"/>
              <a:gd name="adj2" fmla="val 6667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7638480" y="2590920"/>
            <a:ext cx="91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成了星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繁星8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这个童话故事，你有什么疑问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0" y="16765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于这些问题，你能解答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0" y="24382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小姑娘的水罐为什么会发生这么多的变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她的水罐为什么会越变越好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最后作者为什么让水罐变成星座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295280" y="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想一想，议一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5" descr="船上看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2286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请根据文章内容将下列排比句补充完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52280" y="243828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爱心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爱心是珍爱身边的动物，尽我们的所能爱护它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爱心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爱心是毫不犹豫地向需要帮助的陌生人伸出援助之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"/>
          <p:cNvSpPr/>
          <p:nvPr/>
        </p:nvSpPr>
        <p:spPr>
          <a:xfrm>
            <a:off x="457200" y="38088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3" descr="daisy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503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star3"/>
          <p:cNvPicPr/>
          <p:nvPr/>
        </p:nvPicPr>
        <p:blipFill>
          <a:blip r:embed="rId2"/>
          <a:stretch/>
        </p:blipFill>
        <p:spPr>
          <a:xfrm>
            <a:off x="2895480" y="1219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star3"/>
          <p:cNvPicPr/>
          <p:nvPr/>
        </p:nvPicPr>
        <p:blipFill>
          <a:blip r:embed="rId3"/>
          <a:stretch/>
        </p:blipFill>
        <p:spPr>
          <a:xfrm>
            <a:off x="175248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star3"/>
          <p:cNvPicPr/>
          <p:nvPr/>
        </p:nvPicPr>
        <p:blipFill>
          <a:blip r:embed="rId4"/>
          <a:stretch/>
        </p:blipFill>
        <p:spPr>
          <a:xfrm>
            <a:off x="6553080" y="914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star3"/>
          <p:cNvPicPr/>
          <p:nvPr/>
        </p:nvPicPr>
        <p:blipFill>
          <a:blip r:embed="rId5"/>
          <a:stretch/>
        </p:blipFill>
        <p:spPr>
          <a:xfrm>
            <a:off x="4419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star3"/>
          <p:cNvPicPr/>
          <p:nvPr/>
        </p:nvPicPr>
        <p:blipFill>
          <a:blip r:embed="rId6"/>
          <a:stretch/>
        </p:blipFill>
        <p:spPr>
          <a:xfrm>
            <a:off x="388620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star3"/>
          <p:cNvPicPr/>
          <p:nvPr/>
        </p:nvPicPr>
        <p:blipFill>
          <a:blip r:embed="rId7"/>
          <a:stretch/>
        </p:blipFill>
        <p:spPr>
          <a:xfrm>
            <a:off x="914400" y="12952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star3"/>
          <p:cNvPicPr/>
          <p:nvPr/>
        </p:nvPicPr>
        <p:blipFill>
          <a:blip r:embed="rId8"/>
          <a:stretch/>
        </p:blipFill>
        <p:spPr>
          <a:xfrm>
            <a:off x="1066680" y="457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star3"/>
          <p:cNvPicPr/>
          <p:nvPr/>
        </p:nvPicPr>
        <p:blipFill>
          <a:blip r:embed="rId9"/>
          <a:stretch/>
        </p:blipFill>
        <p:spPr>
          <a:xfrm>
            <a:off x="2057400" y="304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star3"/>
          <p:cNvPicPr/>
          <p:nvPr/>
        </p:nvPicPr>
        <p:blipFill>
          <a:blip r:embed="rId10"/>
          <a:stretch/>
        </p:blipFill>
        <p:spPr>
          <a:xfrm>
            <a:off x="28954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3" descr="star3"/>
          <p:cNvPicPr/>
          <p:nvPr/>
        </p:nvPicPr>
        <p:blipFill>
          <a:blip r:embed="rId11"/>
          <a:stretch/>
        </p:blipFill>
        <p:spPr>
          <a:xfrm>
            <a:off x="5257800" y="1295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star3"/>
          <p:cNvPicPr/>
          <p:nvPr/>
        </p:nvPicPr>
        <p:blipFill>
          <a:blip r:embed="rId12"/>
          <a:stretch/>
        </p:blipFill>
        <p:spPr>
          <a:xfrm>
            <a:off x="4267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5" descr="star3"/>
          <p:cNvPicPr/>
          <p:nvPr/>
        </p:nvPicPr>
        <p:blipFill>
          <a:blip r:embed="rId13"/>
          <a:stretch/>
        </p:blipFill>
        <p:spPr>
          <a:xfrm>
            <a:off x="5334120" y="457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6" descr="star3"/>
          <p:cNvPicPr/>
          <p:nvPr/>
        </p:nvPicPr>
        <p:blipFill>
          <a:blip r:embed="rId14"/>
          <a:stretch/>
        </p:blipFill>
        <p:spPr>
          <a:xfrm>
            <a:off x="66294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7" descr="star3"/>
          <p:cNvPicPr/>
          <p:nvPr/>
        </p:nvPicPr>
        <p:blipFill>
          <a:blip r:embed="rId15"/>
          <a:stretch/>
        </p:blipFill>
        <p:spPr>
          <a:xfrm>
            <a:off x="609588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star3"/>
          <p:cNvPicPr/>
          <p:nvPr/>
        </p:nvPicPr>
        <p:blipFill>
          <a:blip r:embed="rId16"/>
          <a:stretch/>
        </p:blipFill>
        <p:spPr>
          <a:xfrm>
            <a:off x="365760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9" descr="star3"/>
          <p:cNvPicPr/>
          <p:nvPr/>
        </p:nvPicPr>
        <p:blipFill>
          <a:blip r:embed="rId17"/>
          <a:stretch/>
        </p:blipFill>
        <p:spPr>
          <a:xfrm>
            <a:off x="21337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0" descr="star3"/>
          <p:cNvPicPr/>
          <p:nvPr/>
        </p:nvPicPr>
        <p:blipFill>
          <a:blip r:embed="rId18"/>
          <a:stretch/>
        </p:blipFill>
        <p:spPr>
          <a:xfrm>
            <a:off x="5486400" y="1828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1" descr="star3"/>
          <p:cNvPicPr/>
          <p:nvPr/>
        </p:nvPicPr>
        <p:blipFill>
          <a:blip r:embed="rId19"/>
          <a:stretch/>
        </p:blipFill>
        <p:spPr>
          <a:xfrm>
            <a:off x="7010280" y="1447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2" descr="star3"/>
          <p:cNvPicPr/>
          <p:nvPr/>
        </p:nvPicPr>
        <p:blipFill>
          <a:blip r:embed="rId20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3" descr="star3"/>
          <p:cNvPicPr/>
          <p:nvPr/>
        </p:nvPicPr>
        <p:blipFill>
          <a:blip r:embed="rId21"/>
          <a:stretch/>
        </p:blipFill>
        <p:spPr>
          <a:xfrm>
            <a:off x="30492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4" descr="star3"/>
          <p:cNvPicPr/>
          <p:nvPr/>
        </p:nvPicPr>
        <p:blipFill>
          <a:blip r:embed="rId22"/>
          <a:stretch/>
        </p:blipFill>
        <p:spPr>
          <a:xfrm>
            <a:off x="4419720" y="53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5" descr="star3"/>
          <p:cNvPicPr/>
          <p:nvPr/>
        </p:nvPicPr>
        <p:blipFill>
          <a:blip r:embed="rId23"/>
          <a:stretch/>
        </p:blipFill>
        <p:spPr>
          <a:xfrm>
            <a:off x="548640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6" descr="star3"/>
          <p:cNvPicPr/>
          <p:nvPr/>
        </p:nvPicPr>
        <p:blipFill>
          <a:blip r:embed="rId24"/>
          <a:stretch/>
        </p:blipFill>
        <p:spPr>
          <a:xfrm>
            <a:off x="7238880" y="25146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7" descr="star3"/>
          <p:cNvPicPr/>
          <p:nvPr/>
        </p:nvPicPr>
        <p:blipFill>
          <a:blip r:embed="rId25"/>
          <a:stretch/>
        </p:blipFill>
        <p:spPr>
          <a:xfrm>
            <a:off x="35053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8" descr="star3"/>
          <p:cNvPicPr/>
          <p:nvPr/>
        </p:nvPicPr>
        <p:blipFill>
          <a:blip r:embed="rId26"/>
          <a:stretch/>
        </p:blipFill>
        <p:spPr>
          <a:xfrm>
            <a:off x="4800600" y="2057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9" descr="star3"/>
          <p:cNvPicPr/>
          <p:nvPr/>
        </p:nvPicPr>
        <p:blipFill>
          <a:blip r:embed="rId27"/>
          <a:stretch/>
        </p:blipFill>
        <p:spPr>
          <a:xfrm>
            <a:off x="2895480" y="2133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0" descr="star3"/>
          <p:cNvPicPr/>
          <p:nvPr/>
        </p:nvPicPr>
        <p:blipFill>
          <a:blip r:embed="rId28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1" descr="star3"/>
          <p:cNvPicPr/>
          <p:nvPr/>
        </p:nvPicPr>
        <p:blipFill>
          <a:blip r:embed="rId29"/>
          <a:stretch/>
        </p:blipFill>
        <p:spPr>
          <a:xfrm>
            <a:off x="3200400" y="457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2" descr="star3"/>
          <p:cNvPicPr/>
          <p:nvPr/>
        </p:nvPicPr>
        <p:blipFill>
          <a:blip r:embed="rId30"/>
          <a:stretch/>
        </p:blipFill>
        <p:spPr>
          <a:xfrm>
            <a:off x="22860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3" descr="star3"/>
          <p:cNvPicPr/>
          <p:nvPr/>
        </p:nvPicPr>
        <p:blipFill>
          <a:blip r:embed="rId31"/>
          <a:stretch/>
        </p:blipFill>
        <p:spPr>
          <a:xfrm>
            <a:off x="464832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4" descr="star3"/>
          <p:cNvPicPr/>
          <p:nvPr/>
        </p:nvPicPr>
        <p:blipFill>
          <a:blip r:embed="rId32"/>
          <a:stretch/>
        </p:blipFill>
        <p:spPr>
          <a:xfrm>
            <a:off x="6248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5" descr="star3"/>
          <p:cNvPicPr/>
          <p:nvPr/>
        </p:nvPicPr>
        <p:blipFill>
          <a:blip r:embed="rId33"/>
          <a:stretch/>
        </p:blipFill>
        <p:spPr>
          <a:xfrm>
            <a:off x="784872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6" descr="star3"/>
          <p:cNvPicPr/>
          <p:nvPr/>
        </p:nvPicPr>
        <p:blipFill>
          <a:blip r:embed="rId34"/>
          <a:stretch/>
        </p:blipFill>
        <p:spPr>
          <a:xfrm>
            <a:off x="9907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7" descr="star3"/>
          <p:cNvPicPr/>
          <p:nvPr/>
        </p:nvPicPr>
        <p:blipFill>
          <a:blip r:embed="rId35"/>
          <a:stretch/>
        </p:blipFill>
        <p:spPr>
          <a:xfrm>
            <a:off x="114300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8" descr="star3"/>
          <p:cNvPicPr/>
          <p:nvPr/>
        </p:nvPicPr>
        <p:blipFill>
          <a:blip r:embed="rId36"/>
          <a:stretch/>
        </p:blipFill>
        <p:spPr>
          <a:xfrm>
            <a:off x="266688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9" descr="star3"/>
          <p:cNvPicPr/>
          <p:nvPr/>
        </p:nvPicPr>
        <p:blipFill>
          <a:blip r:embed="rId37"/>
          <a:stretch/>
        </p:blipFill>
        <p:spPr>
          <a:xfrm>
            <a:off x="2819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0" descr="star3"/>
          <p:cNvPicPr/>
          <p:nvPr/>
        </p:nvPicPr>
        <p:blipFill>
          <a:blip r:embed="rId38"/>
          <a:stretch/>
        </p:blipFill>
        <p:spPr>
          <a:xfrm>
            <a:off x="29718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1" descr="star3"/>
          <p:cNvPicPr/>
          <p:nvPr/>
        </p:nvPicPr>
        <p:blipFill>
          <a:blip r:embed="rId39"/>
          <a:stretch/>
        </p:blipFill>
        <p:spPr>
          <a:xfrm>
            <a:off x="71629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2" descr="star3"/>
          <p:cNvPicPr/>
          <p:nvPr/>
        </p:nvPicPr>
        <p:blipFill>
          <a:blip r:embed="rId40"/>
          <a:stretch/>
        </p:blipFill>
        <p:spPr>
          <a:xfrm>
            <a:off x="39625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3" descr="star3"/>
          <p:cNvPicPr/>
          <p:nvPr/>
        </p:nvPicPr>
        <p:blipFill>
          <a:blip r:embed="rId41"/>
          <a:stretch/>
        </p:blipFill>
        <p:spPr>
          <a:xfrm>
            <a:off x="26668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4" descr="star3"/>
          <p:cNvPicPr/>
          <p:nvPr/>
        </p:nvPicPr>
        <p:blipFill>
          <a:blip r:embed="rId42"/>
          <a:stretch/>
        </p:blipFill>
        <p:spPr>
          <a:xfrm>
            <a:off x="1600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5" descr="star3"/>
          <p:cNvPicPr/>
          <p:nvPr/>
        </p:nvPicPr>
        <p:blipFill>
          <a:blip r:embed="rId43"/>
          <a:stretch/>
        </p:blipFill>
        <p:spPr>
          <a:xfrm>
            <a:off x="6553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6" descr="star3"/>
          <p:cNvPicPr/>
          <p:nvPr/>
        </p:nvPicPr>
        <p:blipFill>
          <a:blip r:embed="rId44"/>
          <a:stretch/>
        </p:blipFill>
        <p:spPr>
          <a:xfrm>
            <a:off x="6781680" y="53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7" descr="star3"/>
          <p:cNvPicPr/>
          <p:nvPr/>
        </p:nvPicPr>
        <p:blipFill>
          <a:blip r:embed="rId45"/>
          <a:stretch/>
        </p:blipFill>
        <p:spPr>
          <a:xfrm>
            <a:off x="8305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8" descr="star3"/>
          <p:cNvPicPr/>
          <p:nvPr/>
        </p:nvPicPr>
        <p:blipFill>
          <a:blip r:embed="rId46"/>
          <a:stretch/>
        </p:blipFill>
        <p:spPr>
          <a:xfrm>
            <a:off x="73915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9" descr="star3"/>
          <p:cNvPicPr/>
          <p:nvPr/>
        </p:nvPicPr>
        <p:blipFill>
          <a:blip r:embed="rId47"/>
          <a:stretch/>
        </p:blipFill>
        <p:spPr>
          <a:xfrm>
            <a:off x="822960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0" descr="star3"/>
          <p:cNvPicPr/>
          <p:nvPr/>
        </p:nvPicPr>
        <p:blipFill>
          <a:blip r:embed="rId48"/>
          <a:stretch/>
        </p:blipFill>
        <p:spPr>
          <a:xfrm>
            <a:off x="853452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4419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幼圆"/>
              </a:rPr>
              <a:t>爱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的</a:t>
            </a:r>
            <a:r>
              <a:rPr b="1" i="1" lang="zh-CN" sz="5400" spc="-1" strike="noStrike">
                <a:solidFill>
                  <a:srgbClr val="3399ff"/>
                </a:solidFill>
                <a:latin typeface="Times New Roman"/>
                <a:ea typeface="幼圆"/>
              </a:rPr>
              <a:t>奉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06080" y="1371240"/>
            <a:ext cx="5170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心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呼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奉献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这是人间的春风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幸福之花处处开遍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这是生命的源泉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在没有心的沙漠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在没有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荒原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死神也望而却步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幸福之花处处开遍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</a:t>
            </a: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幼圆"/>
              </a:rPr>
              <a:t>只要人人都献出一点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br>
              <a:rPr sz="2000"/>
            </a:b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幼圆"/>
              </a:rPr>
              <a:t>                     世界将变成美好的人间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53" descr="023"/>
          <p:cNvPicPr/>
          <p:nvPr/>
        </p:nvPicPr>
        <p:blipFill>
          <a:blip r:embed="rId49"/>
          <a:stretch/>
        </p:blipFill>
        <p:spPr>
          <a:xfrm>
            <a:off x="7451640" y="105264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632" name="埃的奉献.mp3" descr=""/>
          <p:cNvPicPr/>
          <p:nvPr/>
        </p:nvPicPr>
        <p:blipFill>
          <a:blip r:embed="rId50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船上看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457200" y="3049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95360" y="1447920"/>
            <a:ext cx="842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于七颗钻石里涌出的水，地球上的旱灾解除了，那么小姑娘和她的母亲后来怎样了呢？人们知道了这件事后又是怎样的态度呢？以后是否又发生了什么故事呢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带着这一连串的问题，请同学们发挥自己的想象，为这篇童话故事补写一段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6:40:1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46:1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