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jpeg" ContentType="image/jpeg"/>
  <Override PartName="/ppt/media/image11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821-86C7-4221-B64D-0262FC98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A13-979F-46B6-A95B-FA5746F8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342-401D-4F7E-B5F3-C64DFE8B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51E-7159-4AB9-80FD-008C5D3D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E891-FB93-4753-BAF0-313BD043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B7D3-5E85-4DE0-9782-E0C86C3B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B63A-A40F-42E3-A2D2-806F2AB1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36C8-CABA-49DD-9F3C-95B47773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747E-AE48-44B7-84E8-CE50C7A1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7289-094F-4BBA-B151-4D7D94B1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50E-B585-4014-887B-6DCF107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736-3235-4A00-8814-465A0586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39F5-67A0-45E3-894D-E6660916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2C0C-D91F-4B1D-A43D-8A9561E8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DD1-296D-446B-854A-98A84CEF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98BE-234F-4D5C-B9B4-91F43A5A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05BD-F7A7-4C6E-A272-60165887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215B-72C7-4A14-95E8-B03A6D67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5884-E71B-4AB8-B9FD-F936FD31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53A4-72EE-4624-B25D-5DA49B6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A2E1-BE69-44D7-AAB7-EF8597E3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3DF9-C6B3-4515-9202-F4720111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C83-94AE-4EEB-8410-F9E62422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7DC3-8372-4FE4-8B9D-143900AD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EFF2-3BAB-4CE1-8826-E0691CB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F2AF-F67B-4007-A5D1-6746AF84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20BE-86BD-4379-A420-5B82C57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5959-61B7-441E-85C3-41D1609E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284F-8B47-4EBD-A5CA-5A8A9F13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AC69-2C4E-4C22-AC2C-12690803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5D162-6423-4ECF-B5B2-3D9ECE74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61DE5-4183-43FC-A2E3-E430A7AE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AD0D-AD18-4A13-BE3D-0449C254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607-62D6-43D9-906E-8304AD2B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67AF-F6A7-47DA-8297-CA104D1E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8021-6804-4979-9266-FB20763A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B11D7-11E9-485E-BA48-6F99B108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C06E5-5CE5-42C3-BCC5-A8900F25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20710-092F-4854-B8E3-94078129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BC83-E8D9-4F22-BDF4-0B576AAD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F4D35-E830-45C6-BBF7-8ACB8E4B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57E0D-9D4C-418D-A0E2-4843B827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2BC2B-B39B-47FE-8E7D-2A686011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266-08AF-4D07-8697-CBF68D29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988-829E-448B-B35D-2E13296C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418-9E3D-4427-86CE-E53A3238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45A-54E3-413A-BBBC-FF3CBBB4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B98-C6B3-4A0C-8F8C-F50C4861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855F-721D-4245-BCA4-40BF95950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BAE-FEEA-4B03-8693-D993D2A9CE5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1028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Line 1029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6830-3CD5-4EC8-AA16-EB1A46E9DA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050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26" name="AutoShape 2051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333399"/>
                </a:solidFill>
                <a:latin typeface="Verdana"/>
              </a:endParaRPr>
            </a:p>
          </p:txBody>
        </p:sp>
        <p:sp>
          <p:nvSpPr>
            <p:cNvPr id="127" name="AutoShape 2052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333399"/>
                </a:solidFill>
                <a:latin typeface="Verdana"/>
              </a:endParaRPr>
            </a:p>
          </p:txBody>
        </p:sp>
        <p:sp>
          <p:nvSpPr>
            <p:cNvPr id="128" name="Line 2053"/>
            <p:cNvSpPr/>
            <p:nvPr/>
          </p:nvSpPr>
          <p:spPr>
            <a:xfrm>
              <a:off x="0" y="12189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333399"/>
                </a:solidFill>
                <a:latin typeface="Verdana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171B-ACAF-46AE-9A83-0BCAF08BE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86,6,&#24187;&#28783;&#29255; 6" TargetMode="External"/><Relationship Id="rId3" Type="http://schemas.openxmlformats.org/officeDocument/2006/relationships/image" Target="../media/image8.gif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288,7,&#24187;&#28783;&#29255; 7" TargetMode="External"/><Relationship Id="rId3" Type="http://schemas.openxmlformats.org/officeDocument/2006/relationships/image" Target="../media/image8.gif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9.gif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291,7,&#24187;&#28783;&#29255; 7" TargetMode="External"/><Relationship Id="rId3" Type="http://schemas.openxmlformats.org/officeDocument/2006/relationships/image" Target="../media/image8.gif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&#38271;&#24449;&#27468;&#26354;.mp3" TargetMode="External"/><Relationship Id="rId3" Type="http://schemas.openxmlformats.org/officeDocument/2006/relationships/hyperlink" Target="&#38271;&#24449;&#27468;&#26354;.mp3" TargetMode="External"/><Relationship Id="rId4" Type="http://schemas.openxmlformats.org/officeDocument/2006/relationships/hyperlink" Target="&#38271;&#24449;&#27468;&#26354;.mp3" TargetMode="External"/><Relationship Id="rId5" Type="http://schemas.openxmlformats.org/officeDocument/2006/relationships/hyperlink" Target="&#38271;&#24449;&#27468;&#26354;.mp3" TargetMode="External"/><Relationship Id="rId6" Type="http://schemas.openxmlformats.org/officeDocument/2006/relationships/hyperlink" Target="&#38271;&#24449;&#27468;&#26354;.mp3" TargetMode="External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1" descr="毛泽东">
            <a:hlinkClick r:id="" action="ppaction://hlinkshowjump?jump=nextslide"/>
            <a:hlinkClick r:id="rId1"/>
          </p:cNvPr>
          <p:cNvPicPr/>
          <p:nvPr/>
        </p:nvPicPr>
        <p:blipFill>
          <a:blip r:embed="rId2">
            <a:lum bright="12000"/>
          </a:blip>
          <a:srcRect l="0" t="5571" r="0" b="0"/>
          <a:stretch/>
        </p:blipFill>
        <p:spPr>
          <a:xfrm>
            <a:off x="0" y="0"/>
            <a:ext cx="9540720" cy="7812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524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9a00"/>
                </a:solidFill>
                <a:latin typeface="隶书"/>
                <a:ea typeface="隶书"/>
              </a:rPr>
              <a:t>七 律  长 征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igitalMaste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676520" y="762120"/>
            <a:ext cx="447012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我读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《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长征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  <a:ea typeface="隶书"/>
              </a:rPr>
              <a:t>》</a:t>
            </a:r>
            <a:endParaRPr b="1" lang="en-US" sz="5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03280" y="2133720"/>
            <a:ext cx="65534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自由朗读，读准字音，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把握节奏，读出感情，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读出气势。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75" name="Picture 11" descr="E:\朱元玲\长征课件\2004822211608.gif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ffff"/>
                </a:solidFill>
                <a:latin typeface="Arial"/>
                <a:ea typeface="华文行楷"/>
              </a:rPr>
              <a:t>看 图 配 诗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SzPct val="8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996666"/>
                </a:solidFill>
                <a:uFillTx/>
                <a:latin typeface="Arial"/>
                <a:ea typeface="楷体_GB2312"/>
              </a:rPr>
              <a:t>根据你的理解，给下面的图片配上与课文内容相关的诗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方正舒体"/>
              </a:rPr>
              <a:t>赛一赛，看谁反应快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夹金山"/>
          <p:cNvPicPr/>
          <p:nvPr/>
        </p:nvPicPr>
        <p:blipFill>
          <a:blip r:embed="rId1"/>
          <a:stretch/>
        </p:blipFill>
        <p:spPr>
          <a:xfrm>
            <a:off x="609480" y="762120"/>
            <a:ext cx="5181840" cy="43434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6229800" y="838080"/>
            <a:ext cx="1010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五岭逶迤腾细浪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664680" y="914400"/>
            <a:ext cx="1642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9893e"/>
                </a:solidFill>
                <a:latin typeface="Verdana"/>
              </a:rPr>
              <a:t>乌蒙磅礴走泥丸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35960" y="2286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600"/>
                </a:solidFill>
                <a:latin typeface="Verdana"/>
              </a:rPr>
              <a:t>？</a:t>
            </a:r>
            <a:endParaRPr b="1" lang="en-US" sz="80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82" name="Picture 10" descr="E:\朱元玲\长征课件\136.gif"/>
          <p:cNvPicPr/>
          <p:nvPr/>
        </p:nvPicPr>
        <p:blipFill>
          <a:blip r:embed="rId3"/>
          <a:stretch/>
        </p:blipFill>
        <p:spPr>
          <a:xfrm>
            <a:off x="0" y="0"/>
            <a:ext cx="536400" cy="536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E:\朱元玲\长征课件\20048215523489.gif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533520"/>
            <a:ext cx="5333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4191120" y="1828800"/>
            <a:ext cx="915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85" name="Picture 6" descr="金沙江"/>
          <p:cNvPicPr/>
          <p:nvPr/>
        </p:nvPicPr>
        <p:blipFill>
          <a:blip r:embed="rId1"/>
          <a:stretch/>
        </p:blipFill>
        <p:spPr>
          <a:xfrm>
            <a:off x="762120" y="990720"/>
            <a:ext cx="4814640" cy="4419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5598000" y="1219320"/>
            <a:ext cx="1642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042e4"/>
                </a:solidFill>
                <a:latin typeface="Verdana"/>
              </a:rPr>
              <a:t>金沙水拍云崖暖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7525080" y="1219320"/>
            <a:ext cx="10108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万水千山只等闲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304920"/>
            <a:ext cx="120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600"/>
                </a:solidFill>
                <a:latin typeface="Verdana"/>
              </a:rPr>
              <a:t>？</a:t>
            </a:r>
            <a:endParaRPr b="1" lang="en-US" sz="80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89" name="Picture 12" descr="E:\朱元玲\长征课件\136.gif"/>
          <p:cNvPicPr/>
          <p:nvPr/>
        </p:nvPicPr>
        <p:blipFill>
          <a:blip r:embed="rId3"/>
          <a:stretch/>
        </p:blipFill>
        <p:spPr>
          <a:xfrm>
            <a:off x="0" y="0"/>
            <a:ext cx="536400" cy="536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E:\朱元玲\长征课件\20048215523489.gif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" y="762120"/>
            <a:ext cx="5029200" cy="4952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360" y="5661000"/>
            <a:ext cx="7594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ppt</a:t>
            </a:r>
            <a:r>
              <a:rPr b="1" lang="zh-CN" sz="2000" spc="-1" strike="noStrike">
                <a:solidFill>
                  <a:srgbClr val="333399"/>
                </a:solidFill>
                <a:latin typeface="Verdana"/>
              </a:rPr>
              <a:t>课件下载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http://www.eeppt.com/moban/kejian/</a:t>
            </a:r>
            <a:endParaRPr b="1" lang="en-US" sz="20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卢定桥"/>
          <p:cNvPicPr/>
          <p:nvPr/>
        </p:nvPicPr>
        <p:blipFill>
          <a:blip r:embed="rId1"/>
          <a:stretch/>
        </p:blipFill>
        <p:spPr>
          <a:xfrm>
            <a:off x="3962520" y="1143000"/>
            <a:ext cx="4572000" cy="4267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2189520" y="838080"/>
            <a:ext cx="10108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更喜岷山千里雪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066680" y="838080"/>
            <a:ext cx="489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5280" y="914400"/>
            <a:ext cx="1642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cb41e"/>
                </a:solidFill>
                <a:latin typeface="Verdana"/>
              </a:rPr>
              <a:t>大渡桥横铁索寒</a:t>
            </a:r>
            <a:endParaRPr b="1" lang="en-US" sz="4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8496360" y="6424560"/>
            <a:ext cx="647640" cy="433440"/>
          </a:xfrm>
          <a:custGeom>
            <a:avLst/>
            <a:gdLst>
              <a:gd name="textAreaLeft" fmla="*/ 27000 w 647640"/>
              <a:gd name="textAreaRight" fmla="*/ 620640 w 647640"/>
              <a:gd name="textAreaTop" fmla="*/ 27000 h 433440"/>
              <a:gd name="textAreaBottom" fmla="*/ 40644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916" y="1350"/>
                </a:lnTo>
                <a:lnTo>
                  <a:pt x="1350" y="135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916" y="20250"/>
                </a:lnTo>
                <a:lnTo>
                  <a:pt x="30916" y="135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916" y="2025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266" h="21600">
                <a:moveTo>
                  <a:pt x="16133" y="3800"/>
                </a:moveTo>
                <a:lnTo>
                  <a:pt x="18723" y="6425"/>
                </a:lnTo>
                <a:lnTo>
                  <a:pt x="18723" y="4675"/>
                </a:lnTo>
                <a:lnTo>
                  <a:pt x="20508" y="4675"/>
                </a:lnTo>
                <a:lnTo>
                  <a:pt x="20508" y="8210"/>
                </a:lnTo>
                <a:lnTo>
                  <a:pt x="23133" y="10800"/>
                </a:lnTo>
                <a:lnTo>
                  <a:pt x="21470" y="10800"/>
                </a:lnTo>
                <a:lnTo>
                  <a:pt x="21470" y="18028"/>
                </a:lnTo>
                <a:lnTo>
                  <a:pt x="10795" y="18028"/>
                </a:lnTo>
                <a:lnTo>
                  <a:pt x="10795" y="10800"/>
                </a:lnTo>
                <a:lnTo>
                  <a:pt x="9133" y="10800"/>
                </a:lnTo>
                <a:close/>
              </a:path>
              <a:path fill="darkenLess" w="32266" h="21600">
                <a:moveTo>
                  <a:pt x="18723" y="6425"/>
                </a:moveTo>
                <a:lnTo>
                  <a:pt x="18723" y="4675"/>
                </a:lnTo>
                <a:lnTo>
                  <a:pt x="20508" y="4675"/>
                </a:lnTo>
                <a:lnTo>
                  <a:pt x="20508" y="8210"/>
                </a:lnTo>
                <a:close/>
              </a:path>
              <a:path fill="darkenLess" w="32266" h="21600">
                <a:moveTo>
                  <a:pt x="15205" y="14318"/>
                </a:moveTo>
                <a:lnTo>
                  <a:pt x="17060" y="14318"/>
                </a:lnTo>
                <a:lnTo>
                  <a:pt x="17060" y="18028"/>
                </a:lnTo>
                <a:lnTo>
                  <a:pt x="21470" y="18028"/>
                </a:lnTo>
                <a:lnTo>
                  <a:pt x="21470" y="10800"/>
                </a:lnTo>
                <a:lnTo>
                  <a:pt x="10795" y="10800"/>
                </a:lnTo>
                <a:lnTo>
                  <a:pt x="10795" y="18028"/>
                </a:lnTo>
                <a:lnTo>
                  <a:pt x="15205" y="1802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429000" y="380880"/>
            <a:ext cx="121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600"/>
                </a:solidFill>
                <a:latin typeface="Verdana"/>
              </a:rPr>
              <a:t>？</a:t>
            </a:r>
            <a:endParaRPr b="1" lang="en-US" sz="80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198" name="Picture 8" descr="E:\朱元玲\长征课件\136.gif"/>
          <p:cNvPicPr/>
          <p:nvPr/>
        </p:nvPicPr>
        <p:blipFill>
          <a:blip r:embed="rId3"/>
          <a:stretch/>
        </p:blipFill>
        <p:spPr>
          <a:xfrm>
            <a:off x="152280" y="0"/>
            <a:ext cx="536760" cy="536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E:\朱元玲\长征课件\20048215523489.gif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86200" y="83808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cc0000"/>
                </a:solidFill>
                <a:latin typeface="Verdana"/>
                <a:ea typeface="华文中宋"/>
              </a:rPr>
              <a:t>课后探究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362320"/>
            <a:ext cx="791244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欣赏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《</a:t>
            </a:r>
            <a:r>
              <a:rPr b="0" lang="zh-CN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七律 长征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》</a:t>
            </a:r>
            <a:r>
              <a:rPr b="0" lang="zh-CN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歌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000"/>
                </a:solidFill>
                <a:latin typeface="Verdana"/>
              </a:rPr>
              <a:t>魏巍的</a:t>
            </a:r>
            <a:r>
              <a:rPr b="1" lang="en-US" sz="2600" spc="-1" strike="noStrike">
                <a:solidFill>
                  <a:srgbClr val="006000"/>
                </a:solidFill>
                <a:latin typeface="Verdana"/>
              </a:rPr>
              <a:t>《</a:t>
            </a:r>
            <a:r>
              <a:rPr b="1" lang="zh-CN" sz="2600" spc="-1" strike="noStrike">
                <a:solidFill>
                  <a:srgbClr val="006000"/>
                </a:solidFill>
                <a:latin typeface="Verdana"/>
              </a:rPr>
              <a:t>地球的红飘带</a:t>
            </a:r>
            <a:r>
              <a:rPr b="1" lang="en-US" sz="2600" spc="-1" strike="noStrike">
                <a:solidFill>
                  <a:srgbClr val="006000"/>
                </a:solidFill>
                <a:latin typeface="Verdana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5200"/>
                </a:solidFill>
                <a:latin typeface="宋体"/>
              </a:rPr>
              <a:t>埃德加</a:t>
            </a:r>
            <a:r>
              <a:rPr b="1" lang="en-US" sz="2600" spc="-1" strike="noStrike">
                <a:solidFill>
                  <a:srgbClr val="005200"/>
                </a:solidFill>
                <a:latin typeface="宋体"/>
              </a:rPr>
              <a:t>·</a:t>
            </a:r>
            <a:r>
              <a:rPr b="1" lang="zh-CN" sz="2600" spc="-1" strike="noStrike">
                <a:solidFill>
                  <a:srgbClr val="006000"/>
                </a:solidFill>
                <a:latin typeface="Verdana"/>
              </a:rPr>
              <a:t>斯诺的</a:t>
            </a:r>
            <a:r>
              <a:rPr b="1" lang="en-US" sz="2600" spc="-1" strike="noStrike">
                <a:solidFill>
                  <a:srgbClr val="006000"/>
                </a:solidFill>
                <a:latin typeface="Verdana"/>
              </a:rPr>
              <a:t>《</a:t>
            </a:r>
            <a:r>
              <a:rPr b="1" lang="zh-CN" sz="2600" spc="-1" strike="noStrike">
                <a:solidFill>
                  <a:srgbClr val="006000"/>
                </a:solidFill>
                <a:latin typeface="Verdana"/>
              </a:rPr>
              <a:t>西行漫记</a:t>
            </a:r>
            <a:r>
              <a:rPr b="1" lang="en-US" sz="2600" spc="-1" strike="noStrike">
                <a:solidFill>
                  <a:srgbClr val="006000"/>
                </a:solidFill>
                <a:latin typeface="Verdana"/>
              </a:rPr>
              <a:t>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5" descr="E:\朱元玲\长征课件\2004822428164.gif"/>
          <p:cNvPicPr/>
          <p:nvPr/>
        </p:nvPicPr>
        <p:blipFill>
          <a:blip r:embed="rId7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02:19:3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35:08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