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7A7-09C1-493D-806F-67AD67C6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255-CB62-4636-9C1C-B342CE4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947-8313-4FEF-829A-0B34479B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E71-2C0A-4731-A5D5-40EA965B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D5F-1A04-4ABB-A08B-E44013CE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DE8C-5EC8-4BE5-A32D-FA40858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F9E-A0F8-452E-83B2-E4D1419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D00A-8F4D-438C-9BBF-1C13526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A09-3FB7-4721-B12D-D3D7995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7A5-93DD-424E-A41C-53B13D8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47C8-5DA4-480D-968D-153837A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0D5-8B65-460B-B14E-AC83823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B55-CD15-4869-9622-9EE62E8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866-0DD6-4294-A2F5-DD8E124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E26-1764-4DF6-B04E-C6F326C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F9CF-2E3A-4408-B330-21B0A252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664-2F35-495C-9BC0-AECB4CBE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3D8-3704-4516-BE7D-8463BE3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C88-8E56-46D6-A1E7-E97BB8F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070-C187-40E6-BD98-2FC9803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7AB-15EC-45B2-A4AA-3B6B9EA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B4C-1E22-4D51-90C5-7FE6B1F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016-EAB3-4D98-BDFB-AEFF657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A4D-5B45-416C-A5DF-778E5E8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538-327A-4CD9-96CE-529A12A4C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C1C-8589-47CB-89DA-D4EF46FC76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F3AB-9743-4E85-B959-D6AC98264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km.exe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3059280" y="2349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3" name="Picture 4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aa"/>
          <p:cNvPicPr/>
          <p:nvPr/>
        </p:nvPicPr>
        <p:blipFill>
          <a:blip r:embed="rId3"/>
          <a:stretch/>
        </p:blipFill>
        <p:spPr>
          <a:xfrm>
            <a:off x="2043000" y="1928880"/>
            <a:ext cx="5043600" cy="355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"/>
          <p:cNvSpPr/>
          <p:nvPr/>
        </p:nvSpPr>
        <p:spPr>
          <a:xfrm>
            <a:off x="3000240" y="57294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千米（公里）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7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523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47800" y="153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单位的换算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295280" y="2863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  <a:ea typeface="楷体_GB2312"/>
              </a:rPr>
              <a:t>想：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就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371600" y="22543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1" name="Picture 20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1"/>
          <p:cNvSpPr/>
          <p:nvPr/>
        </p:nvSpPr>
        <p:spPr>
          <a:xfrm>
            <a:off x="1295280" y="46926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  <a:ea typeface="楷体_GB2312"/>
              </a:rPr>
              <a:t>想：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，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里面有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就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371600" y="41590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3283200" y="222408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3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3763440" y="4129200"/>
            <a:ext cx="69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1474560" y="1773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做一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143000" y="2817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千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8" name="Picture 13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2521440" y="274320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8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479280" y="27432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521440" y="350532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2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479280" y="35053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9" descr="ds知识拓展"/>
          <p:cNvPicPr/>
          <p:nvPr/>
        </p:nvPicPr>
        <p:blipFill>
          <a:blip r:embed="rId2"/>
          <a:stretch/>
        </p:blipFill>
        <p:spPr>
          <a:xfrm>
            <a:off x="914400" y="1047600"/>
            <a:ext cx="1622520" cy="400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0"/>
          <p:cNvSpPr/>
          <p:nvPr/>
        </p:nvSpPr>
        <p:spPr>
          <a:xfrm>
            <a:off x="3794040" y="1468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巧记进率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81"/>
          <p:cNvSpPr/>
          <p:nvPr/>
        </p:nvSpPr>
        <p:spPr>
          <a:xfrm>
            <a:off x="990720" y="1962000"/>
            <a:ext cx="73911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我们可以这样来记忆长度单位之间的进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率：举起左手，叉开５个手指，小拇指表示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毫米、无名指表示厘米、中指表示分米、食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表示米、大拇指表示千米，从食指到小拇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间的叉开的大小是一样的，表示每相邻的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两个长度单位之间的进率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大拇指与食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间的距离较大，表示进率比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，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4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38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