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9BD-C78A-4FC6-ACCF-68072B41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DF7-CBC4-4DFA-A8C3-365822A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0585D-C7EC-4C8C-B271-A7B506DC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CC101-9A8F-4646-A91C-C924B616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8FCA8-99C0-4509-936B-0441D4C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FA455-1200-47EC-BA75-D34B7FC8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F349E-B697-4EFE-BD3A-085E3F9C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9CDC1-5BE1-4E39-98BF-CC3E12D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7FE22-B8AD-4E0C-ABA9-76F0C659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FD8A8-BB8B-496D-9E67-62D6C0D4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79D65-557D-4226-A06D-B526E7FB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A172F-C020-4FE2-B865-A6C76454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7CD-07D7-4FC1-9600-CD7879E3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AACF8-9632-4E66-A92E-2E9DB93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F69D1-52AE-4A98-9C44-3FB1920B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D37A8-EB45-44FD-826E-C6FC412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2017E-08CB-4B80-8EC3-14A630F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62DCC-4BC1-45BB-ADCB-74CD3DA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DE94C-9CD5-4AB7-A854-3AD6C6E5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65C2B-CC6A-4A4C-9117-B4ED9B92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B985E-969C-4B38-BCC9-E24EAAF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0D5B3-246C-4D1D-B92F-267C536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BB1C0-0ADB-4802-89BC-00697178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173-4BAE-4967-861B-E67BCC45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D1D99-FE29-4799-8295-1DB1B108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63E9-D84C-4CD1-B631-DBA36EA2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51190-434D-48E8-959F-066DE84B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E1B8F-F448-4B41-BDE3-EDCC133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E8A7D-0EFC-43BF-831A-8375A28B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D299-E17F-4230-B3B0-2601E780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058A0-8F1C-40F2-8E35-3ED12210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B3F2A-0B08-4407-BE89-DE22516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CC855-54EA-4990-8987-67CA48C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2C1EB-2F7C-4096-AFDF-BC02F57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C35-A187-407B-BCC0-5042DED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D13A4-8151-4A48-AEA9-80292FA4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A1D9E-7066-4EDA-AAAD-8087522F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43825-261F-4908-872B-EF59A438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84B35-08E6-46F2-8697-50E8E506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5BD9D-1427-4118-BBAD-85319ABA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39A6A-0313-4B22-9E22-D97FFD5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F31D6-6AC8-4E87-9776-ECF6CA3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19683-82E9-4E10-BBEF-5230E4BB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A6A03-1DE1-4CD1-911B-54C801C2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074EB-4711-4F32-808C-6F648DC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4911-73CC-4E82-885D-33D1F905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127F9-CE79-4BF8-9CA1-B5E0F3C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51EF8-7CBA-47EF-8C6D-377AAFAD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ABD8E-139A-4CCD-A73E-62FFDDA0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4694C-B902-49CA-808A-BAE109FE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E72D5-86B4-4538-A457-45025228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D6306-69EC-4AE5-B100-5A22B815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2EB18-805E-4F9B-B990-6981EA21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9EED2-5944-4EAA-84F5-8A79A1A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41605-9AEE-41A6-9372-0906AB42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ACE2A-3D0F-4A0E-9621-9AF1A54A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FE9-AD21-43A7-9C8C-CA4E06D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3FA66-290C-481D-972E-B7E56EFD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7C2A7-DE3F-402E-8ECA-EBF8E31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F178B-F59B-439B-8A42-14FF1D61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DA419-9997-49FB-A89B-61683A8B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C8CA1-1D2A-45CB-A4B4-16CCFD5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3F0A6-748E-4AD2-A757-A8D63834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2C1A4-827B-4AA7-9285-6E1B08C6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1DC-F9F8-4D20-BBC0-207BCD37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1DF-F298-4324-A60A-49D0043F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FFB4-E1FA-4F41-937B-4DFBFC29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5942-383A-4BC6-9623-A0CD2EA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4FB-3370-4835-B0DB-8190FE89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9092-F43E-4229-A993-5CFE0CC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CD8-3D4A-4E13-B04C-F0A1C1B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D13D-0444-4F75-969A-39C656DB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FE49-A515-4B4D-9961-7A59A529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F56F-4457-49BD-BD2F-000B96DD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CE78-0C4E-400A-82E3-6EB59DA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996A0-B317-426E-92D5-A52B563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D248B-AB60-4F93-8906-089E9805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23BF-788A-4E25-8CF5-69C8C15D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54C95-F591-4EA6-A434-67948900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0BA-88E4-4EB9-BA1E-FC601952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5A36-FB2B-4C4D-86F5-B49D0C9E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22C7-9167-4664-9AA8-E953EB3B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46983-3C4C-440E-B8E2-66870E3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AB6F-3D54-4A15-BA23-5FE1DCB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2C3BC-6E29-417D-8958-83F7FCF3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5D62-0E47-43D1-A40A-B9796134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AD99-FDBC-411D-93B2-37ABFC2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E478-37E4-4DBF-BD9C-569212E4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BC402-5CCD-4707-9BF0-E2321DB5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68122-F018-47D2-9072-BDB91E3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E9A-F7E5-4DDC-ACDE-16C6BDF0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A2F0-06ED-4D90-AFDF-3785A140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1080-1072-4BD9-8392-7AC523DD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F280-0A84-4488-8EE4-60A8959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61AB-851E-4DD2-9D47-97F2D63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AD20-01DE-4E61-9033-DD148A6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7D30-884A-4932-942C-CED8C67C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B3B5-F599-43EB-9ADF-AA69BC57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5845-96BA-45AB-BDE3-A580C421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B271-55FA-41E2-89DC-696995A1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930D-1943-473A-854B-E167B711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E29-D86A-400A-94CC-724EB3D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82E8-FDD8-4DC8-AE73-77A92111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9F9D-7CFA-4197-9D63-37AB289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52C8B-75C6-4772-81F7-EAD85715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63A3D-4798-4DC6-B0C6-EA6666D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2530-0017-43E4-ACC0-DE9B69EF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ED3C-FA58-430C-844B-7D4B75C6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9D84-87A4-45DF-9B96-3429AAC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9943-5A7D-4F27-84CD-D809712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BAA63-BDD5-456E-8E0A-8C0AC1C2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B240-B91A-45D9-9EE7-8D461C85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24C-221E-461C-B2E0-C6C6638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F460-8DC5-44E6-94A1-A22D085B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31D1-CC34-4FE2-A4B8-41D3209A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F39D5-4600-4819-A382-20AD396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D9319-5A82-4E87-A66F-BED0644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F005-522C-403D-9270-611ECDB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C245-2BBE-424C-A179-1CFA570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7A72-43BE-45CA-B21F-A61E2DF0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4C1E-17C5-4E47-A950-A343CCCB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4C94-F2D4-494B-AD9D-7B66770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E40BE-0FF5-47A7-BE0F-49D738D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3DC-0911-4F58-A965-066FEAD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C80E-F828-4B65-82AB-209D9FC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1BC1-8370-45B8-A3B4-C4EDB210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C1FCA-12EF-471A-AE81-D5BE9BBE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8E177-FF98-4EAC-AA1B-D63F0D1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0E08C-07E8-4FA7-9E83-5C1A1780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AAED-C180-46B9-B8BB-5633C169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961BA-1B47-43D5-82D3-A94F2134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9CE9-B94E-4656-8C91-628CA606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A9DBC-A0EE-411A-8689-62EC305E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5C4B-ED23-4027-9DA7-24259137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FBD-9606-48A3-B099-2B45EF8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AEB87-19AB-40D5-ACC1-70508C44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50D9-2581-495B-9D24-B3BCDC0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81632-9C01-4CF4-9FE3-FA0DE5C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ADF0-E531-4915-A06A-E9598E9A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61D77-E8F5-4900-9D46-EEC862B2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F4D53-3580-4731-BB4F-09FD7E34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8F641-285E-4B47-AED9-23338E38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BE33-8BF7-46E8-8674-1ED3A1A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E6535-47DA-410C-8F4C-09D36AB7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D6468-3E54-4A95-9FDA-E4E598F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DF2-7F89-4107-9F3B-A219D9C2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80FC-A689-4A68-B3E0-825829C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0A78-AAAA-4FB5-8D4E-FA4EE297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432C-CA2A-41A5-9C97-2A5C3EAE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3FD83-7E7F-404C-85B7-32A4845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87DE-63CA-4298-8EAD-2003E643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1AB04-7A8B-4714-B476-03F7A1D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215D-5102-4B49-8BAD-25212A29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6A9A3-8C54-4564-9BBB-76114D0D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CF1FD-5BE3-41FC-B1E3-C4B1B36F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BDDF4-299F-4FDD-B611-1D120765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200-30EE-4324-960B-A550B9A733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74FB-E0AD-4228-8AD5-13AB35D730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DA2-2DEA-4FBA-ACAC-73B329703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EEE-908C-4855-B54F-74425C0BE7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E43-0A78-4FA5-A404-ED4277D66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558A-7369-4DD3-AF98-450377CAD6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72C-FC4D-4A5B-BAF5-09A8C2165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D116-A415-4F9F-9C32-88982A832A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314-3225-41E8-B1D4-A38A37387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ABB9-57A7-4B3C-8CE3-7F9860A902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2A87-6303-40A0-91B9-C26ABC175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6B5B-1C48-4252-A4AD-4D89AFC0C8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7AB-DE49-4549-8275-0AA2023D6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CA2-D03A-4D82-9698-61F79C756F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F376-2801-42F3-898B-A053D22A03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3AA1-4C67-4275-A9EA-5C33020AB7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42BD-42B2-4D82-9794-51030EB269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A9E-8DA3-4721-B8AF-2257C96294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3AA-D151-4FD3-8930-8A859F30D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9E6-9066-4E03-9BD5-32BC63E88D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656-D8C4-4810-BB3D-5F96AA83A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F353-E408-4630-A4BC-013FA46398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9DA-6FEC-4A9F-B6ED-62DC64050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D511-F4D9-4336-9D15-65E53DB2CF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AEBF-5052-445B-BD1E-37CEC9AAF4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1"/>
          <p:cNvSpPr/>
          <p:nvPr/>
        </p:nvSpPr>
        <p:spPr>
          <a:xfrm>
            <a:off x="5000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"/>
          <p:cNvSpPr/>
          <p:nvPr/>
        </p:nvSpPr>
        <p:spPr>
          <a:xfrm>
            <a:off x="4276080" y="200016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4345920" y="307008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5"/>
          <p:cNvSpPr/>
          <p:nvPr/>
        </p:nvSpPr>
        <p:spPr>
          <a:xfrm>
            <a:off x="4417200" y="4221000"/>
            <a:ext cx="12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7"/>
          <p:cNvSpPr/>
          <p:nvPr/>
        </p:nvSpPr>
        <p:spPr>
          <a:xfrm>
            <a:off x="27860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"/>
          <p:cNvSpPr/>
          <p:nvPr/>
        </p:nvSpPr>
        <p:spPr>
          <a:xfrm>
            <a:off x="21405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"/>
          <p:cNvSpPr/>
          <p:nvPr/>
        </p:nvSpPr>
        <p:spPr>
          <a:xfrm>
            <a:off x="6140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/>
          <p:cNvSpPr/>
          <p:nvPr/>
        </p:nvSpPr>
        <p:spPr>
          <a:xfrm>
            <a:off x="649800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8"/>
          <p:cNvSpPr/>
          <p:nvPr/>
        </p:nvSpPr>
        <p:spPr>
          <a:xfrm>
            <a:off x="6627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6"/>
          <p:cNvSpPr/>
          <p:nvPr/>
        </p:nvSpPr>
        <p:spPr>
          <a:xfrm>
            <a:off x="3854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"/>
          <p:cNvSpPr/>
          <p:nvPr/>
        </p:nvSpPr>
        <p:spPr>
          <a:xfrm>
            <a:off x="6426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8"/>
          <p:cNvSpPr/>
          <p:nvPr/>
        </p:nvSpPr>
        <p:spPr>
          <a:xfrm>
            <a:off x="7340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7"/>
          <p:cNvSpPr/>
          <p:nvPr/>
        </p:nvSpPr>
        <p:spPr>
          <a:xfrm>
            <a:off x="1283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"/>
          <p:cNvSpPr/>
          <p:nvPr/>
        </p:nvSpPr>
        <p:spPr>
          <a:xfrm>
            <a:off x="542664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6069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8"/>
          <p:cNvSpPr/>
          <p:nvPr/>
        </p:nvSpPr>
        <p:spPr>
          <a:xfrm>
            <a:off x="77364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7"/>
          <p:cNvSpPr/>
          <p:nvPr/>
        </p:nvSpPr>
        <p:spPr>
          <a:xfrm>
            <a:off x="1428840" y="3000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7"/>
          <p:cNvSpPr/>
          <p:nvPr/>
        </p:nvSpPr>
        <p:spPr>
          <a:xfrm>
            <a:off x="1593000" y="4643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"/>
          <p:cNvSpPr/>
          <p:nvPr/>
        </p:nvSpPr>
        <p:spPr>
          <a:xfrm>
            <a:off x="6283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8"/>
          <p:cNvSpPr/>
          <p:nvPr/>
        </p:nvSpPr>
        <p:spPr>
          <a:xfrm>
            <a:off x="7023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6783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1926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47:45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