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1.gif" ContentType="image/gif"/>
  <Override PartName="/ppt/media/image10.jpeg" ContentType="image/jpeg"/>
  <Override PartName="/ppt/media/image5.jpeg" ContentType="image/jpeg"/>
  <Override PartName="/ppt/media/image26.jpeg" ContentType="image/jpeg"/>
  <Override PartName="/ppt/media/image2.gif" ContentType="image/gif"/>
  <Override PartName="/ppt/media/image29.jpeg" ContentType="image/jpeg"/>
  <Override PartName="/ppt/media/image16.jpeg" ContentType="image/jpeg"/>
  <Override PartName="/ppt/media/chimes.wav" ContentType="audio/x-wav"/>
  <Override PartName="/ppt/media/image22.jpeg" ContentType="image/jpeg"/>
  <Override PartName="/ppt/media/image1.jpeg" ContentType="image/jpeg"/>
  <Override PartName="/ppt/media/image7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gif" ContentType="image/gif"/>
  <Override PartName="/ppt/media/image3.png" ContentType="image/png"/>
  <Override PartName="/ppt/media/image23.gif" ContentType="image/gif"/>
  <Override PartName="/ppt/media/image12.jpeg" ContentType="image/jpeg"/>
  <Override PartName="/ppt/media/image13.jpeg" ContentType="image/jpeg"/>
  <Override PartName="/ppt/media/image18.gif" ContentType="image/gif"/>
  <Override PartName="/ppt/media/image14.jpeg" ContentType="image/jpeg"/>
  <Override PartName="/ppt/media/image15.jpeg" ContentType="image/jpeg"/>
  <Override PartName="/ppt/media/image27.jpeg" ContentType="image/jpeg"/>
  <Override PartName="/ppt/media/image17.gif" ContentType="image/gif"/>
  <Override PartName="/ppt/media/image19.png" ContentType="image/png"/>
  <Override PartName="/ppt/media/image20.png" ContentType="image/png"/>
  <Override PartName="/ppt/media/image28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880-AFCF-4134-94D1-F3F3BDA5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4DD-1736-4A97-9DC2-37D7B32D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833D-C94D-4CF5-8DB8-506EA68DD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D87-800D-45BC-9520-B55EE541E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A975B-F9D9-46AC-B6BC-8722D20A4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9E18-5175-411E-8C80-2964521C2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42FB-15D2-4A54-A1FB-085EA5A0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92E8-8007-41A6-8DF1-D0856947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DC65-C081-42F9-9201-315BAE19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958F-3DD6-4FDF-BF04-79963226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26B3-A97A-497E-89C4-07628CC6B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DB0-0A99-4070-9336-A034936AB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C601-5773-4158-AB73-229C4704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2FB3-A730-49C5-A279-AA1030E76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841DE-40AD-4B7A-80EC-AD24D6E3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800D-FB44-46D8-945D-BC06D19A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A0DB-BAF7-4DC1-8F52-0C3BBC05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42D29-AD54-40DE-89B4-F44742E0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2CE0F-A96D-453C-849E-E09ECAA5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DCABD-A785-45D3-9E9E-CDFD4B80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4608D-25D2-4E89-A2E3-C3F8FA0DD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A9F4-9BD8-402E-9F7B-DB4F1E20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4961-57FD-4758-A04D-8FFD5DB40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A51DA-CA6F-4FD6-B612-3BFB9230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C7E2-C848-4F42-BF0B-26C46B23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A4381-2E89-4DC0-91D3-C1BD0E05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D2B54-925F-46D0-82B5-F76ED350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7DB15-3BD6-407F-A06C-347BE9EE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53D48-FDDB-4C4C-9F49-A2EBBF11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A466-454E-4585-89A3-67EBDC5C0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5E7B9-6B4E-422E-A719-6F8C0382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5BBA4-3CF9-4337-A163-6E9E11C9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B5D3EF-A2E5-401A-8007-5F7E15C3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BD3-61C5-45F4-94E8-1049A7AA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28048-AA60-48B4-B81D-477FAC24F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AE49E-C849-4E3D-95A0-C368BED04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D22C0-5DE4-4B1A-AE6D-3BEE8951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71C5E-6092-474C-88B3-5E3EF0C4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0C37-FFB7-43C8-89ED-AFCC4873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7A3A8-F0DA-4B90-8897-CD12C61E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A19A9-9DD2-440B-994F-ADB56E75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8239A-F3F7-44C7-8637-B742ED975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24921-3B42-406F-AF65-8485E688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8D46A-1E44-463C-B493-9455B22E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219-15D6-4F4F-B7A6-7400072D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F7BC1A-AB63-4713-A910-B5B0AB1F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DB06E-BDAB-474F-81D4-95132C9F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81839-1377-42FD-9E7F-01E65E93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5C425-DED6-4088-922C-89BEC3C0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167A3-0A0C-47F4-8D19-B6A0BEA7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BAD2D-1389-4B61-9AE2-5523BEE6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65F5-C1B8-4B8B-993B-C5527499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A7708-8D46-4C5F-A4B7-2FC28712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42EB-A4B3-44CB-AFE1-16D7E429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57827-1817-4E66-AB8C-5B190E52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5504-42D2-4E1F-8A46-B3986F26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14694-DDC5-4D0D-BF5B-575EA9AD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20663-B7D0-4092-BAB7-0765EE7D4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010C6-7151-4648-9FDF-C7BEFE54F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201D8-27A8-4AFF-ADDA-3E6F18ABC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900D0-C6D7-4A4F-81E6-39BE47E9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9C43E-9CCB-4E66-B382-9396DBDF5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4381A-3EF2-411E-8202-61A72342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D9D37-9F4E-499F-93C0-3A80D300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3ED2BA-AC83-4F1D-9AFA-39D9D18C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1C578-A03D-4F0B-82EC-8D215265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B9AC-F29C-4D5D-8CEF-FAD6B82A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3805C-622D-46E9-A7D7-CD1704DC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42DE7-8627-40C1-B217-93BE59430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E748E-E1B5-42C3-B34D-0F83F5ED8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C161C5-6641-4C15-AC0C-8C5D821B3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A8D03-ABF3-409F-A881-11712DDFF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CA978-BF23-4917-9940-C17F91C17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6C2F3-6D61-4F9A-9C47-99370407A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F992F-63A0-4E82-9B99-B9EE0845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873D77-A320-4283-A47A-4CACC59C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FD284-54FE-4E4D-BE43-D4F65F620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B22-9E86-4E73-983C-2A975D06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CAE55-4A90-4360-8FE6-869AAC25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28A3C-0EAF-4F68-9E00-C3EB795C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D39AC-DFC7-4D25-8FAF-ECCD1336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5CA62-F584-4F49-9DA2-4B8CBFF3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E4661-5A07-4681-AAE0-ADB2A178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348-E435-48A6-B498-10C83B99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DB17-A106-4FF6-A44C-EBF2288FF5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A91B-C855-48D2-9ED9-2EA8E54B79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3" name="Rectangle 3"/>
            <p:cNvSpPr/>
            <p:nvPr/>
          </p:nvSpPr>
          <p:spPr>
            <a:xfrm>
              <a:off x="6715080" y="2167200"/>
              <a:ext cx="312840" cy="1616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"/>
            <p:cNvSpPr/>
            <p:nvPr/>
          </p:nvSpPr>
          <p:spPr>
            <a:xfrm>
              <a:off x="6824880" y="1881360"/>
              <a:ext cx="7452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7732800" y="5569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"/>
            <p:cNvSpPr/>
            <p:nvPr/>
          </p:nvSpPr>
          <p:spPr>
            <a:xfrm rot="1114200">
              <a:off x="4376880" y="2890440"/>
              <a:ext cx="9360" cy="33642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未知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未知"/>
            <p:cNvSpPr/>
            <p:nvPr/>
          </p:nvSpPr>
          <p:spPr>
            <a:xfrm>
              <a:off x="7559640" y="5700960"/>
              <a:ext cx="1581120" cy="19980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未知"/>
            <p:cNvSpPr/>
            <p:nvPr/>
          </p:nvSpPr>
          <p:spPr>
            <a:xfrm>
              <a:off x="7597800" y="5786640"/>
              <a:ext cx="1542960" cy="38880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未知"/>
            <p:cNvSpPr/>
            <p:nvPr/>
          </p:nvSpPr>
          <p:spPr>
            <a:xfrm>
              <a:off x="7626240" y="5700960"/>
              <a:ext cx="1514520" cy="14256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未知"/>
            <p:cNvSpPr/>
            <p:nvPr/>
          </p:nvSpPr>
          <p:spPr>
            <a:xfrm>
              <a:off x="4856040" y="2446560"/>
              <a:ext cx="162000" cy="24588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未知"/>
            <p:cNvSpPr/>
            <p:nvPr/>
          </p:nvSpPr>
          <p:spPr>
            <a:xfrm>
              <a:off x="4856040" y="2683080"/>
              <a:ext cx="14292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未知"/>
            <p:cNvSpPr/>
            <p:nvPr/>
          </p:nvSpPr>
          <p:spPr>
            <a:xfrm>
              <a:off x="4856040" y="280692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未知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未知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未知"/>
            <p:cNvSpPr/>
            <p:nvPr/>
          </p:nvSpPr>
          <p:spPr>
            <a:xfrm>
              <a:off x="8683560" y="22748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未知"/>
            <p:cNvSpPr/>
            <p:nvPr/>
          </p:nvSpPr>
          <p:spPr>
            <a:xfrm>
              <a:off x="8616960" y="5596200"/>
              <a:ext cx="104760" cy="15228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未知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未知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5999040" y="614700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未知"/>
            <p:cNvSpPr/>
            <p:nvPr/>
          </p:nvSpPr>
          <p:spPr>
            <a:xfrm>
              <a:off x="3809880" y="614700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>
              <a:off x="5942160" y="601344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8607600" y="5719680"/>
              <a:ext cx="114120" cy="17172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2"/>
            <p:cNvSpPr/>
            <p:nvPr/>
          </p:nvSpPr>
          <p:spPr>
            <a:xfrm>
              <a:off x="6728040" y="2814840"/>
              <a:ext cx="274320" cy="40305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3"/>
            <p:cNvSpPr/>
            <p:nvPr/>
          </p:nvSpPr>
          <p:spPr>
            <a:xfrm>
              <a:off x="6807240" y="2452680"/>
              <a:ext cx="120600" cy="3812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AutoShape 34"/>
            <p:cNvSpPr/>
            <p:nvPr/>
          </p:nvSpPr>
          <p:spPr>
            <a:xfrm>
              <a:off x="6699240" y="2766960"/>
              <a:ext cx="325440" cy="82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6835680" y="2427480"/>
              <a:ext cx="400320" cy="250164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未知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6B29-B88D-4B68-98E1-E2CAC146F5C4}" type="slidenum">
              <a:rPr b="0" lang="zh-CN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7526-DD57-41E8-854B-F84E82565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91B6D-5080-4BD8-8E46-0A7B1C899F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40A9-8C30-420C-963E-6627E81114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18CC-937A-4322-A548-FBF528287B4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CB38-3791-4CCE-9D06-1BE899EA68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332,24,&#22312;&#25105;&#20204;&#21608;&#22260;&#65292;&#26377;&#30528;&#35768;&#35768;&#22810;&#22810;&#36825;&#26679;&#30340;&#20154;&#8230;&#8230;" TargetMode="External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62,7,&#24187;&#28783;&#29255; 7" TargetMode="External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287,18,&#24187;&#28783;&#29255; 18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329,23,&#24187;&#28783;&#29255; 23" TargetMode="Externa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u=2257225180,1102011845&amp;fm=0&amp;gp=0"/>
          <p:cNvPicPr/>
          <p:nvPr/>
        </p:nvPicPr>
        <p:blipFill>
          <a:blip r:embed="rId2"/>
          <a:stretch/>
        </p:blipFill>
        <p:spPr>
          <a:xfrm>
            <a:off x="1332000" y="0"/>
            <a:ext cx="6491160" cy="684864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1116000" y="1989000"/>
            <a:ext cx="6764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人，最宝贵的东西是生命。生命属于人只有一次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              ——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奥斯特洛夫斯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纯音乐 - 回家 精品萨克斯 纯音乐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396720" y="587844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57160" fill="hold"/>
                                        <p:tgtEl>
                                          <p:spTgt spid="3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u=533777470,3005350835&amp;fm=15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3"/>
          <p:cNvSpPr/>
          <p:nvPr/>
        </p:nvSpPr>
        <p:spPr>
          <a:xfrm>
            <a:off x="684360" y="256536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每个人的生命都是有价值的。实现人生的意义，追求生命的价值，要脚踏实地，从现在做起，从一点一滴的小事做起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多为社会做贡献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多为别人带来快乐和幸福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4"/>
          <p:cNvSpPr/>
          <p:nvPr/>
        </p:nvSpPr>
        <p:spPr>
          <a:xfrm>
            <a:off x="324000" y="69372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肯定自己的生命，实现人生价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36360" y="1125360"/>
            <a:ext cx="91090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     </a:t>
            </a: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如果没有这些人为我们的付出，我们的生活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父母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工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医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3"/>
          <p:cNvSpPr/>
          <p:nvPr/>
        </p:nvSpPr>
        <p:spPr>
          <a:xfrm>
            <a:off x="324000" y="26028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2261160" y="477720"/>
            <a:ext cx="147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"/>
              </a:rPr>
              <a:t>说一说：</a:t>
            </a:r>
            <a:r>
              <a:rPr b="1" lang="zh-CN" sz="4400" spc="-1" strike="noStrike">
                <a:solidFill>
                  <a:srgbClr val="cc0000"/>
                </a:solidFill>
                <a:latin typeface="楷体"/>
                <a:ea typeface="楷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2" descr="u=533777470,3005350835&amp;fm=15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3"/>
          <p:cNvSpPr/>
          <p:nvPr/>
        </p:nvSpPr>
        <p:spPr>
          <a:xfrm>
            <a:off x="684360" y="2060640"/>
            <a:ext cx="722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每个人对国家、社会和他人都有价值。在肯定自己的价值、珍爱自己生命的同时，我们应该肯定他人的价值、尊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他人的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2426040" y="69372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肯定他人价值，尊重他人生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-20520" y="1486080"/>
            <a:ext cx="9202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      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比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一次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意外事故中眼睛受了伤，视力不断下降，几个月后将完全失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妻子为了给他能见到光明的日子里留下点什么，决定把家具和墙壁粉刷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 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油漆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作很认真。他虽是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断了半只胳膊的残疾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但他很快乐，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一边干活一边吹着口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一个星期后他完成了粉刷工作，其间也知道了比尔的情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尔对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油漆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：“你天天那么开心，也让我感到高兴。”算工钱时，油漆匠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少算了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美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比尔不解：“你少算了工钱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油漆匠说：“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我已经多拿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一个即将失明的人还这么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平静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你让我知道了什么叫勇气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Arial"/>
              </a:rPr>
              <a:t>比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却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坚持要再给油漆匠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100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美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他说：“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我知道了残疾人也可以自食其力，活得很快乐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2556000" y="47772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尔和油漆匠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4"/>
          <p:cNvSpPr/>
          <p:nvPr/>
        </p:nvSpPr>
        <p:spPr>
          <a:xfrm>
            <a:off x="324000" y="26028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u=533777470,3005350835&amp;fm=15&amp;gp=0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3"/>
          <p:cNvSpPr/>
          <p:nvPr/>
        </p:nvSpPr>
        <p:spPr>
          <a:xfrm>
            <a:off x="36360" y="1270080"/>
            <a:ext cx="921708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幸福快乐的生活从悦纳生命开始。世界上没有十全十美的生命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肯定、尊重、悦纳、珍爱自己生命的同时，也应同样善待他人的生命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自己的生命受到威胁时不轻言放弃，不丧失生的希望；当他人的生命遭遇困境需要帮助时，尽自己的努力援助他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2770200" y="260280"/>
            <a:ext cx="319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</a:rPr>
              <a:t>悦纳自己，善待别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2"/>
          <p:cNvSpPr/>
          <p:nvPr/>
        </p:nvSpPr>
        <p:spPr>
          <a:xfrm>
            <a:off x="0" y="0"/>
            <a:ext cx="939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悦纳自己，善待他人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Picture 3" descr="生命强者－半截人"/>
          <p:cNvPicPr/>
          <p:nvPr/>
        </p:nvPicPr>
        <p:blipFill>
          <a:blip r:embed="rId2"/>
          <a:stretch/>
        </p:blipFill>
        <p:spPr>
          <a:xfrm>
            <a:off x="250920" y="1268280"/>
            <a:ext cx="2050920" cy="23767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残疾运2"/>
          <p:cNvPicPr/>
          <p:nvPr/>
        </p:nvPicPr>
        <p:blipFill>
          <a:blip r:embed="rId3"/>
          <a:stretch/>
        </p:blipFill>
        <p:spPr>
          <a:xfrm>
            <a:off x="2627280" y="1268280"/>
            <a:ext cx="1625760" cy="23767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捐款者"/>
          <p:cNvPicPr/>
          <p:nvPr/>
        </p:nvPicPr>
        <p:blipFill>
          <a:blip r:embed="rId4"/>
          <a:stretch/>
        </p:blipFill>
        <p:spPr>
          <a:xfrm>
            <a:off x="4427640" y="1268280"/>
            <a:ext cx="1942920" cy="2303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6" descr="残疾修车"/>
          <p:cNvPicPr/>
          <p:nvPr/>
        </p:nvPicPr>
        <p:blipFill>
          <a:blip r:embed="rId5"/>
          <a:stretch/>
        </p:blipFill>
        <p:spPr>
          <a:xfrm>
            <a:off x="6588000" y="1197000"/>
            <a:ext cx="2340000" cy="25192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千手"/>
          <p:cNvPicPr/>
          <p:nvPr/>
        </p:nvPicPr>
        <p:blipFill>
          <a:blip r:embed="rId6"/>
          <a:stretch/>
        </p:blipFill>
        <p:spPr>
          <a:xfrm>
            <a:off x="395280" y="4076640"/>
            <a:ext cx="1944720" cy="2521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舞蹈1"/>
          <p:cNvPicPr/>
          <p:nvPr/>
        </p:nvPicPr>
        <p:blipFill>
          <a:blip r:embed="rId7"/>
          <a:stretch/>
        </p:blipFill>
        <p:spPr>
          <a:xfrm>
            <a:off x="2843280" y="4148280"/>
            <a:ext cx="2448000" cy="2376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9" descr="震中女孩"/>
          <p:cNvPicPr/>
          <p:nvPr/>
        </p:nvPicPr>
        <p:blipFill>
          <a:blip r:embed="rId8"/>
          <a:stretch/>
        </p:blipFill>
        <p:spPr>
          <a:xfrm>
            <a:off x="5867280" y="4076640"/>
            <a:ext cx="2522520" cy="2448000"/>
          </a:xfrm>
          <a:prstGeom prst="rect">
            <a:avLst/>
          </a:prstGeom>
          <a:ln w="0">
            <a:noFill/>
          </a:ln>
        </p:spPr>
      </p:pic>
      <p:sp>
        <p:nvSpPr>
          <p:cNvPr id="378" name="Text Box 10"/>
          <p:cNvSpPr/>
          <p:nvPr/>
        </p:nvSpPr>
        <p:spPr>
          <a:xfrm>
            <a:off x="324000" y="3645000"/>
            <a:ext cx="24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生命强者－半截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2556000" y="3716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生命的运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4067280" y="371628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残疾捐款者－令世人动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"/>
          <p:cNvSpPr/>
          <p:nvPr/>
        </p:nvSpPr>
        <p:spPr>
          <a:xfrm>
            <a:off x="7093080" y="3716280"/>
            <a:ext cx="20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残疾人用脚修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4"/>
          <p:cNvSpPr/>
          <p:nvPr/>
        </p:nvSpPr>
        <p:spPr>
          <a:xfrm>
            <a:off x="2008440" y="4365720"/>
            <a:ext cx="7902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残疾人舞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5"/>
          <p:cNvSpPr/>
          <p:nvPr/>
        </p:nvSpPr>
        <p:spPr>
          <a:xfrm>
            <a:off x="8102880" y="4437000"/>
            <a:ext cx="7902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废墟上的微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3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3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77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770" fill="hold"/>
                                        <p:tgtEl>
                                          <p:spTgt spid="3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7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9" dur="77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77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5" dur="770" fill="hold"/>
                                        <p:tgtEl>
                                          <p:spTgt spid="3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9" dur="77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37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7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770" fill="hold"/>
                                        <p:tgtEl>
                                          <p:spTgt spid="3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7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9" dur="77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77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5" dur="770" fill="hold"/>
                                        <p:tgtEl>
                                          <p:spTgt spid="3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7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9" dur="77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4001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4501"/>
                            </p:stCondLst>
                            <p:childTnLst>
                              <p:par>
                                <p:cTn id="2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1"/>
                            </p:stCondLst>
                            <p:childTnLst>
                              <p:par>
                                <p:cTn id="2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2"/>
                            </p:stCondLst>
                            <p:childTnLst>
                              <p:par>
                                <p:cTn id="27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5502"/>
                            </p:stCondLst>
                            <p:childTnLst>
                              <p:par>
                                <p:cTn id="2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丛飞放歌廉江首届红橙旅游文化节"/>
          <p:cNvPicPr/>
          <p:nvPr/>
        </p:nvPicPr>
        <p:blipFill>
          <a:blip r:embed="rId2"/>
          <a:stretch/>
        </p:blipFill>
        <p:spPr>
          <a:xfrm>
            <a:off x="826920" y="0"/>
            <a:ext cx="7345440" cy="4892760"/>
          </a:xfrm>
          <a:prstGeom prst="rect">
            <a:avLst/>
          </a:prstGeom>
          <a:ln w="0">
            <a:noFill/>
          </a:ln>
        </p:spPr>
      </p:pic>
      <p:sp>
        <p:nvSpPr>
          <p:cNvPr id="385" name="Text Box 3"/>
          <p:cNvSpPr/>
          <p:nvPr/>
        </p:nvSpPr>
        <p:spPr>
          <a:xfrm>
            <a:off x="1979640" y="5084640"/>
            <a:ext cx="51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感动中国的“丛飞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900000" y="5877000"/>
            <a:ext cx="68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让我们一起走进“丛飞”的故事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2" descr="u=533777470,3005350835&amp;fm=15&amp;gp=0"/>
          <p:cNvPicPr/>
          <p:nvPr/>
        </p:nvPicPr>
        <p:blipFill>
          <a:blip r:embed="rId2"/>
          <a:stretch/>
        </p:blipFill>
        <p:spPr>
          <a:xfrm>
            <a:off x="34920" y="4428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88" name="WordArt 3"/>
          <p:cNvSpPr txBox="1"/>
          <p:nvPr/>
        </p:nvSpPr>
        <p:spPr>
          <a:xfrm>
            <a:off x="684360" y="0"/>
            <a:ext cx="1584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华文新魏"/>
              </a:rPr>
              <a:t>感想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389" name="Text Box 4"/>
          <p:cNvSpPr/>
          <p:nvPr/>
        </p:nvSpPr>
        <p:spPr>
          <a:xfrm>
            <a:off x="1187280" y="198900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命的意义不在于长短，而在于它的内涵（它对社会作出的贡献）。丛飞的生命虽然短暂，却迸发出最灿烂的光彩。因为他心中有爱。生命的价值通过爱的奉献在不断地延伸着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2843280" y="1700280"/>
            <a:ext cx="57592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你说说：还有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哪些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通过奉献他人或社会让自己的生命价值得到最大的体现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916360" y="4653000"/>
            <a:ext cx="576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8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1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88644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3"/>
          <p:cNvSpPr/>
          <p:nvPr/>
        </p:nvSpPr>
        <p:spPr>
          <a:xfrm>
            <a:off x="900000" y="2638440"/>
            <a:ext cx="628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最想说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u=2257225180,1102011845&amp;fm=0&amp;gp=0"/>
          <p:cNvPicPr/>
          <p:nvPr/>
        </p:nvPicPr>
        <p:blipFill>
          <a:blip r:embed="rId2"/>
          <a:stretch/>
        </p:blipFill>
        <p:spPr>
          <a:xfrm>
            <a:off x="1332000" y="0"/>
            <a:ext cx="6491160" cy="68486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"/>
          <p:cNvSpPr/>
          <p:nvPr/>
        </p:nvSpPr>
        <p:spPr>
          <a:xfrm>
            <a:off x="1116000" y="1989000"/>
            <a:ext cx="6764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人，最宝贵的东西是生命。生命属于人只有一次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              —— 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奥斯特洛夫斯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1260360" y="1701720"/>
            <a:ext cx="6405840" cy="9907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的生命箴言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3" descr="u=4157128554,1532326257&amp;fm=0&amp;gp=0"/>
          <p:cNvPicPr/>
          <p:nvPr/>
        </p:nvPicPr>
        <p:blipFill>
          <a:blip r:embed="rId2"/>
          <a:stretch/>
        </p:blipFill>
        <p:spPr>
          <a:xfrm>
            <a:off x="36360" y="44280"/>
            <a:ext cx="9072720" cy="66265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4"/>
          <p:cNvSpPr/>
          <p:nvPr/>
        </p:nvSpPr>
        <p:spPr>
          <a:xfrm>
            <a:off x="1189080" y="69372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的生命箴言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5"/>
          <p:cNvSpPr/>
          <p:nvPr/>
        </p:nvSpPr>
        <p:spPr>
          <a:xfrm>
            <a:off x="1044720" y="1773360"/>
            <a:ext cx="64069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绝不只是绿叶簇拥红花的荣耀，更多的是在荆棘杂草中远征的苦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的内涵在于进取，生命的意义在于拼搏！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珍惜生命不在于苟且偷安、饱食终日而碌碌无为，这无异于慢性自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有的人死了，他还活着；有的人活着，他已经死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命的意义在于对社会的贡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[]星空-理查德. 克莱德曼.mp3" descr="[]星空-理查德"/>
          <p:cNvPicPr/>
          <p:nvPr/>
        </p:nvPicPr>
        <p:blipFill>
          <a:blip r:embed="rId9"/>
          <a:stretch/>
        </p:blipFill>
        <p:spPr>
          <a:xfrm>
            <a:off x="6518160" y="639720"/>
            <a:ext cx="57492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16" presetSubtype="37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5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30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6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27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0" dur="132345" fill="hold"/>
                                        <p:tgtEl>
                                          <p:spTgt spid="3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10121223221750"/>
          <p:cNvPicPr/>
          <p:nvPr/>
        </p:nvPicPr>
        <p:blipFill>
          <a:blip r:embed="rId2"/>
          <a:srcRect l="0" t="0" r="0" b="117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"/>
          <p:cNvSpPr/>
          <p:nvPr/>
        </p:nvSpPr>
        <p:spPr>
          <a:xfrm>
            <a:off x="0" y="49320"/>
            <a:ext cx="9144000" cy="110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6600"/>
                </a:solidFill>
                <a:latin typeface="Arial"/>
                <a:ea typeface="楷体_GB2312"/>
              </a:rPr>
              <a:t>生命赞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无论你          是幼小还是老迈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无论你          是健康还是病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生命              对你都是一首歌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无论你          家住平原还是山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无论你          务工务农还是兵哥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生命              对你都是一首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因为有生命      小溪才有欢波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因为有生命      山野才有绿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因为有生命      天空才有气象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因为有生命      大地才有蓬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倘若有一天     你遭遇天塌或是地陷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倘若有一天     你遭遇冰雪或是洪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倘若有一天     你深陷危机或是病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倘若有一天     你深陷疲劳或是困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千万千万         不要放弃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请伸出一只奋争的手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用力指向苍天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将生命的旋律顽强弹拨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只要你相信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阳光总在风雨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生 命      对你就是最美的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怒放的生命.mp3" descr="怒放的生命"/>
          <p:cNvPicPr/>
          <p:nvPr/>
        </p:nvPicPr>
        <p:blipFill>
          <a:blip r:embed="rId3"/>
          <a:stretch/>
        </p:blipFill>
        <p:spPr>
          <a:xfrm>
            <a:off x="395280" y="5661000"/>
            <a:ext cx="593640" cy="5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40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40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400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40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400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40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40000" fill="hold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0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0000" fill="hold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40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40000" fill="hold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40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40000" fill="hold"/>
                                        <p:tgtEl>
                                          <p:spTgt spid="4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40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00" fill="hold"/>
                                        <p:tgtEl>
                                          <p:spTgt spid="4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40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40000" fill="hold"/>
                                        <p:tgtEl>
                                          <p:spTgt spid="4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40000" fill="hold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40000" fill="hold"/>
                                        <p:tgtEl>
                                          <p:spTgt spid="4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40000" fill="hold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40000" fill="hold"/>
                                        <p:tgtEl>
                                          <p:spTgt spid="4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40000" fill="hold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40000" fill="hold"/>
                                        <p:tgtEl>
                                          <p:spTgt spid="4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40000" fill="hold"/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40000" fill="hold"/>
                                        <p:tgtEl>
                                          <p:spTgt spid="40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40000" fill="hold"/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0000" fill="hold"/>
                                        <p:tgtEl>
                                          <p:spTgt spid="40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40000" fill="hold"/>
                                        <p:tgtEl>
                                          <p:spTgt spid="4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00" fill="hold"/>
                                        <p:tgtEl>
                                          <p:spTgt spid="40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40000" fill="hold"/>
                                        <p:tgtEl>
                                          <p:spTgt spid="4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40000" fill="hold"/>
                                        <p:tgtEl>
                                          <p:spTgt spid="40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40000" fill="hold"/>
                                        <p:tgtEl>
                                          <p:spTgt spid="4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0000" fill="hold"/>
                                        <p:tgtEl>
                                          <p:spTgt spid="40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40000" fill="hold"/>
                                        <p:tgtEl>
                                          <p:spTgt spid="4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40000" fill="hold"/>
                                        <p:tgtEl>
                                          <p:spTgt spid="40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40000" fill="hold"/>
                                        <p:tgtEl>
                                          <p:spTgt spid="4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40000" fill="hold"/>
                                        <p:tgtEl>
                                          <p:spTgt spid="400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40000" fill="hold"/>
                                        <p:tgtEl>
                                          <p:spTgt spid="4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40000" fill="hold"/>
                                        <p:tgtEl>
                                          <p:spTgt spid="40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40000" fill="hold"/>
                                        <p:tgtEl>
                                          <p:spTgt spid="40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40000" fill="hold"/>
                                        <p:tgtEl>
                                          <p:spTgt spid="400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40000" fill="hold"/>
                                        <p:tgtEl>
                                          <p:spTgt spid="40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40000" fill="hold"/>
                                        <p:tgtEl>
                                          <p:spTgt spid="400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40000" fill="hold"/>
                                        <p:tgtEl>
                                          <p:spTgt spid="40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40000" fill="hold"/>
                                        <p:tgtEl>
                                          <p:spTgt spid="400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7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428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1" dur="275486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7" descr="13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5" descr="xinsrc_08050102144864022685"/>
          <p:cNvPicPr/>
          <p:nvPr/>
        </p:nvPicPr>
        <p:blipFill>
          <a:blip r:embed="rId3"/>
          <a:stretch/>
        </p:blipFill>
        <p:spPr>
          <a:xfrm>
            <a:off x="3276720" y="2997360"/>
            <a:ext cx="2743200" cy="3047760"/>
          </a:xfrm>
          <a:prstGeom prst="rect">
            <a:avLst/>
          </a:prstGeom>
          <a:ln w="0">
            <a:noFill/>
          </a:ln>
        </p:spPr>
      </p:pic>
      <p:sp>
        <p:nvSpPr>
          <p:cNvPr id="404" name="WordArt 9"/>
          <p:cNvSpPr txBox="1"/>
          <p:nvPr/>
        </p:nvSpPr>
        <p:spPr>
          <a:xfrm>
            <a:off x="3708360" y="1125360"/>
            <a:ext cx="396072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谢谢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-34920" y="189000"/>
            <a:ext cx="9142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※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.O.S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是国际莫尔斯电码救难信号，并非任何单字的缩写。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国际无线电报公约组织于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90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年正式将它确定为国际通用海难求救信号。这三个字母组合没有任何实际意义，只是因为它的电码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...---...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（三个圆点，三个破折号，然后再加三个圆点）在电报中是发报方最容易发出，接报方最容易辨识的电码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送方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（一）通用远程表达方式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求救方式一：发出声响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，三短三长三短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(. . . _ _ _ . . .)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莫尔斯电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求救方式二：灯光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，如手电，三短三长三短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开关灯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)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二）其他方法：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火（生三堆火，使之围成三角形（国际通用的受困信号），或者排成直线，每堆火之间相距大约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25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码（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23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米）。  烟  （白天可以用烟来吸引注意力。国际通用的受困信号是三柱烟。）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1.  M18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信号枪     星状伞投信号弹    反光镜或闪光物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MK-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型信号镜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VS-17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信号布板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手电筒或闪光灯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（晚上你可以使用手电筒或闪光灯向飞机发出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SO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信号。使用频闪闪光灯时，小心不要让飞行员误认为是袭来的枪弹。频闪闪光灯一分钟闪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次。有些频闪闪光灯有红外线外罩和镜头。 ）   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衣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将衣服放在地上或者放在树顶上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也是一种发信号的方法。选择那些和周围颜色对比明显的物品，将它们排成大大的几何图案，这样它们更容易吸引注意力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然材料：如，你可以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堆一些可以投射阴影的土堆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或者可以利用任何类型的灌木、树叶、岩石或者雪块等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3 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海水染色剂：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如果你处在水上求生的困境中，可以在白天使用海水染色剂来标识自己的位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在我们周围，有着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Times New Roman"/>
                <a:ea typeface="黑体"/>
                <a:hlinkClick r:id="rId2"/>
              </a:rPr>
              <a:t>许许多多这样的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3"/>
          <a:stretch/>
        </p:blipFill>
        <p:spPr>
          <a:xfrm>
            <a:off x="828720" y="1270080"/>
            <a:ext cx="2093760" cy="2149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4"/>
          <a:stretch/>
        </p:blipFill>
        <p:spPr>
          <a:xfrm>
            <a:off x="3708360" y="1270080"/>
            <a:ext cx="2087640" cy="2303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5" descr=""/>
          <p:cNvPicPr/>
          <p:nvPr/>
        </p:nvPicPr>
        <p:blipFill>
          <a:blip r:embed="rId5"/>
          <a:stretch/>
        </p:blipFill>
        <p:spPr>
          <a:xfrm>
            <a:off x="828720" y="4006800"/>
            <a:ext cx="2016000" cy="23050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6" descr=""/>
          <p:cNvPicPr/>
          <p:nvPr/>
        </p:nvPicPr>
        <p:blipFill>
          <a:blip r:embed="rId6"/>
          <a:stretch/>
        </p:blipFill>
        <p:spPr>
          <a:xfrm>
            <a:off x="6734160" y="1270080"/>
            <a:ext cx="2160720" cy="23749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"/>
          <p:cNvPicPr/>
          <p:nvPr/>
        </p:nvPicPr>
        <p:blipFill>
          <a:blip r:embed="rId7"/>
          <a:stretch/>
        </p:blipFill>
        <p:spPr>
          <a:xfrm>
            <a:off x="6734160" y="4079880"/>
            <a:ext cx="2160720" cy="2232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8" descr=""/>
          <p:cNvPicPr/>
          <p:nvPr/>
        </p:nvPicPr>
        <p:blipFill>
          <a:blip r:embed="rId8"/>
          <a:stretch/>
        </p:blipFill>
        <p:spPr>
          <a:xfrm>
            <a:off x="3708360" y="4006800"/>
            <a:ext cx="2232000" cy="230364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9"/>
          <p:cNvSpPr/>
          <p:nvPr/>
        </p:nvSpPr>
        <p:spPr>
          <a:xfrm>
            <a:off x="900000" y="3357720"/>
            <a:ext cx="199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面无私”的现代包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长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3564000" y="3573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爱千秋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谭千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1"/>
          <p:cNvSpPr/>
          <p:nvPr/>
        </p:nvSpPr>
        <p:spPr>
          <a:xfrm>
            <a:off x="6661080" y="37180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香港“义工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黄福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468360" y="638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乡村最美女校长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李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3852720" y="6381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神兵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何祥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7165800" y="631044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姐姐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----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刘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8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3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2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forum13_f_140_1079699143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1219320" y="457200"/>
            <a:ext cx="4354560" cy="5586480"/>
          </a:xfrm>
          <a:prstGeom prst="rect">
            <a:avLst/>
          </a:prstGeom>
          <a:ln w="57240">
            <a:solidFill>
              <a:srgbClr val="99ccff"/>
            </a:solidFill>
            <a:miter/>
          </a:ln>
        </p:spPr>
      </p:pic>
      <p:sp>
        <p:nvSpPr>
          <p:cNvPr id="328" name="Text Box 3"/>
          <p:cNvSpPr/>
          <p:nvPr/>
        </p:nvSpPr>
        <p:spPr>
          <a:xfrm>
            <a:off x="5718960" y="457200"/>
            <a:ext cx="200916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让生命之花绽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天</a:t>
            </a: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ff9900"/>
                </a:solidFill>
                <a:latin typeface="Arial"/>
              </a:rPr>
              <a:t>夜绝地求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6000" y="2133720"/>
            <a:ext cx="9145800" cy="48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两名矿工王仁兴和张继发井下突遇矿井塌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困井下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但身陷绝境的他们并没有因此放弃生的希望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在井下互相打气还说：“我们有信心活着坚持下去，我们就一定能活着出去。没有吃没有喝的我们都不怕，怕的是我们自己没有信心。只要坚持就一定有希望．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夜后，他们终于获救了，创造了生命的奇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思考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这则故事最感动你的地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" descr="图片3"/>
          <p:cNvPicPr/>
          <p:nvPr/>
        </p:nvPicPr>
        <p:blipFill>
          <a:blip r:embed="rId2"/>
          <a:stretch/>
        </p:blipFill>
        <p:spPr>
          <a:xfrm>
            <a:off x="0" y="0"/>
            <a:ext cx="2771640" cy="2075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5" descr="图片4"/>
          <p:cNvPicPr/>
          <p:nvPr/>
        </p:nvPicPr>
        <p:blipFill>
          <a:blip r:embed="rId3"/>
          <a:stretch/>
        </p:blipFill>
        <p:spPr>
          <a:xfrm>
            <a:off x="6372360" y="0"/>
            <a:ext cx="2771640" cy="1995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76360" y="6933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00"/>
                </a:solidFill>
                <a:latin typeface="Arial"/>
              </a:rPr>
              <a:t>永不放弃生的希望</a:t>
            </a:r>
            <a:endParaRPr b="0" lang="en-US" sz="6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34" name="Picture 3" descr="00"/>
          <p:cNvPicPr/>
          <p:nvPr/>
        </p:nvPicPr>
        <p:blipFill>
          <a:blip r:embed="rId2"/>
          <a:stretch/>
        </p:blipFill>
        <p:spPr>
          <a:xfrm>
            <a:off x="0" y="0"/>
            <a:ext cx="4653000" cy="1165320"/>
          </a:xfrm>
          <a:prstGeom prst="rect">
            <a:avLst/>
          </a:prstGeom>
          <a:ln w="0">
            <a:noFill/>
          </a:ln>
        </p:spPr>
      </p:pic>
      <p:sp>
        <p:nvSpPr>
          <p:cNvPr id="335" name="Text Box 4"/>
          <p:cNvSpPr/>
          <p:nvPr/>
        </p:nvSpPr>
        <p:spPr>
          <a:xfrm>
            <a:off x="1260360" y="2638440"/>
            <a:ext cx="407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世界因生命而精彩。珍爱生命的人，无论何时何地，无论遇到多大的挫折，都不会轻易放弃生的希望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himes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36360" y="765000"/>
            <a:ext cx="914400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Arial"/>
              </a:rPr>
              <a:t>生命考场－求生小知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请快速说出下列电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报警电话             急救电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火警电话             交通事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"/>
          <p:cNvSpPr/>
          <p:nvPr/>
        </p:nvSpPr>
        <p:spPr>
          <a:xfrm>
            <a:off x="5005440" y="1486080"/>
            <a:ext cx="4105080" cy="2670120"/>
          </a:xfrm>
          <a:prstGeom prst="cloudCallout">
            <a:avLst>
              <a:gd name="adj1" fmla="val 26578"/>
              <a:gd name="adj2" fmla="val 7373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66"/>
                </a:solidFill>
                <a:latin typeface="Arial"/>
              </a:rPr>
              <a:t>     </a:t>
            </a:r>
            <a:r>
              <a:rPr b="1" lang="zh-CN" sz="2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Arial"/>
              </a:rPr>
              <a:t>报警常识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5364000" y="2205000"/>
            <a:ext cx="3818160" cy="16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确认对方的身份，以防打错电话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说清事情发生的详细地址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说清需急救者目前的具体情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403280" y="299736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403280" y="256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3708360" y="256536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3708000" y="2925720"/>
            <a:ext cx="7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1169280" y="4726080"/>
            <a:ext cx="42886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知道在紧急情况下怎样呼救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468360" y="5661000"/>
            <a:ext cx="69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高声呼救、电话求救、发出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O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求救信号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…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知道突遇下列情况时该怎样自救或互救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如果你单身在家，遇到陌生人来敲门，你的正确做法是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(          )</a:t>
            </a:r>
            <a:br>
              <a:rPr sz="3600"/>
            </a:b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 A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不开门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打电话给父母</a:t>
            </a:r>
            <a:br>
              <a:rPr sz="3200"/>
            </a:b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有礼貌地请他进门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D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告诉他父母马上就回家</a:t>
            </a:r>
            <a:br>
              <a:rPr sz="3200"/>
            </a:b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电闪雷鸣之际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应采取怎样的措施免遭雷击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(          )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立即去掉身上带的钥匙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小刀等金属物品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如在高山上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应快速跑向低洼的地方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避免高大的树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建筑物等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.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回家立刻换掉身上的湿衣服</a:t>
            </a: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4068720" y="1413000"/>
            <a:ext cx="8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116000" y="3860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AB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3.</a:t>
            </a:r>
            <a:r>
              <a:rPr b="1" lang="zh-CN" sz="3600" spc="-1" strike="noStrike">
                <a:solidFill>
                  <a:srgbClr val="9933ff"/>
                </a:solidFill>
                <a:latin typeface="Arial"/>
              </a:rPr>
              <a:t>遇到溺水者你能做到的是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（  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A .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跳入水中救助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B .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大声呼救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C .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协助做人工呼吸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D . 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拨打求助电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如果你打开家门时，发现家中煤气轻微泄漏，你的正确做法是立即（ 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A 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开窗通风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B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.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开灯检查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C 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点燃煤气灶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 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D</a:t>
            </a: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.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关闭煤气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9933ff"/>
                </a:solidFill>
                <a:latin typeface="Times New Roman"/>
              </a:rPr>
              <a:t>楼房着大火了，你该怎么办（ 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A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.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拿上贵重物品逃生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9933ff"/>
                </a:solidFill>
                <a:latin typeface="Times New Roman"/>
              </a:rPr>
              <a:t>从高层阳台跳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C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披上浸湿的衣物、被褥等向安全出口方向冲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9933ff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9933ff"/>
                </a:solidFill>
                <a:latin typeface="Arial"/>
              </a:rPr>
              <a:t>尽量使身体贴近地面，并用湿毛巾捂住口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5940360" y="3333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B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6013440" y="2421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6516720" y="4149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396720" y="1197000"/>
            <a:ext cx="84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cc0000"/>
                </a:solidFill>
                <a:latin typeface="Arial"/>
              </a:rPr>
              <a:t>我能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父母很辛苦，我能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同桌学习不如我，我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老师的嗓子嘶哑，我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公共场合，看见有人起哄，我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灾区的小朋友遇到困难，我可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奥运来临，我可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1403280" y="404640"/>
            <a:ext cx="25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  <a:ea typeface="楷体"/>
              </a:rPr>
              <a:t>做一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4"/>
          <p:cNvSpPr/>
          <p:nvPr/>
        </p:nvSpPr>
        <p:spPr>
          <a:xfrm>
            <a:off x="324000" y="26028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21:19:2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2:07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TAG2">
    <vt:lpwstr>0008009211000000000001024120</vt:lpwstr>
  </property>
</Properties>
</file>