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0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115-1B9A-4D90-B127-B2B5C7E5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89E-9651-4F86-9AA4-264C28FD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72E-0A75-4165-A625-69C7FDDA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365-6E46-46B5-A396-AA1E0611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3A4-1E79-4989-B43C-E85CFAE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727-293B-4950-BD9B-FF7E7646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336-6768-4DCA-9888-58237A5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76E-B205-4FF2-922C-A888F06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34C-D16E-444F-923F-A3DF501A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610-205B-4C77-BE2A-49348EAF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335-6F65-4223-86C0-B540572B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3C3-2429-4CCF-B703-542D513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3009-654F-40D9-AC48-30C748F63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file:///tmp/home/.config/libreoffice/4/user/gallery/OK02.wav" TargetMode="External"/><Relationship Id="rId4" Type="http://schemas.microsoft.com/office/2007/relationships/media" Target="file:///tmp/home/.config/libreoffice/4/user/gallery/OK02.wav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2438280" y="434340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004779"/>
          <p:cNvPicPr/>
          <p:nvPr/>
        </p:nvPicPr>
        <p:blipFill>
          <a:blip r:embed="rId1"/>
          <a:stretch/>
        </p:blipFill>
        <p:spPr>
          <a:xfrm>
            <a:off x="7308720" y="5157720"/>
            <a:ext cx="1170000" cy="11080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9"/>
          <p:cNvSpPr/>
          <p:nvPr/>
        </p:nvSpPr>
        <p:spPr>
          <a:xfrm rot="16200000">
            <a:off x="4176000" y="872280"/>
            <a:ext cx="503280" cy="561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2"/>
          <a:stretch/>
        </p:blipFill>
        <p:spPr>
          <a:xfrm>
            <a:off x="6112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592720" y="4419720"/>
            <a:ext cx="80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573800" y="4419720"/>
            <a:ext cx="6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5fen"/>
          <p:cNvPicPr/>
          <p:nvPr/>
        </p:nvPicPr>
        <p:blipFill>
          <a:blip r:embed="rId3"/>
          <a:stretch/>
        </p:blipFill>
        <p:spPr>
          <a:xfrm>
            <a:off x="1295280" y="1905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5fen"/>
          <p:cNvPicPr/>
          <p:nvPr/>
        </p:nvPicPr>
        <p:blipFill>
          <a:blip r:embed="rId4"/>
          <a:stretch/>
        </p:blipFill>
        <p:spPr>
          <a:xfrm>
            <a:off x="3800520" y="1981080"/>
            <a:ext cx="1542960" cy="14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5fen"/>
          <p:cNvPicPr/>
          <p:nvPr/>
        </p:nvPicPr>
        <p:blipFill>
          <a:blip r:embed="rId5"/>
          <a:stretch/>
        </p:blipFill>
        <p:spPr>
          <a:xfrm>
            <a:off x="6095880" y="1981080"/>
            <a:ext cx="1543320" cy="1447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W020060330525583432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962520" y="2833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售货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 rot="20880000">
            <a:off x="4568760" y="13712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可乐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bang1"/>
          <p:cNvPicPr/>
          <p:nvPr/>
        </p:nvPicPr>
        <p:blipFill>
          <a:blip r:embed="rId2"/>
          <a:stretch/>
        </p:blipFill>
        <p:spPr>
          <a:xfrm>
            <a:off x="4572000" y="3429000"/>
            <a:ext cx="2038320" cy="2133720"/>
          </a:xfrm>
          <a:prstGeom prst="rect">
            <a:avLst/>
          </a:prstGeom>
          <a:ln w="0">
            <a:noFill/>
          </a:ln>
        </p:spPr>
      </p:pic>
      <p:sp>
        <p:nvSpPr>
          <p:cNvPr id="96" name="Oval 8"/>
          <p:cNvSpPr/>
          <p:nvPr/>
        </p:nvSpPr>
        <p:spPr>
          <a:xfrm>
            <a:off x="5867280" y="274320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791320" y="2909880"/>
            <a:ext cx="25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麦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487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中餐厅"/>
          <p:cNvPicPr/>
          <p:nvPr/>
        </p:nvPicPr>
        <p:blipFill>
          <a:blip r:embed="rId2"/>
          <a:stretch/>
        </p:blipFill>
        <p:spPr>
          <a:xfrm>
            <a:off x="3527280" y="3429000"/>
            <a:ext cx="561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4572000" y="0"/>
            <a:ext cx="4267080" cy="3048120"/>
            <a:chOff x="4572000" y="0"/>
            <a:chExt cx="4267080" cy="3048120"/>
          </a:xfrm>
        </p:grpSpPr>
        <p:pic>
          <p:nvPicPr>
            <p:cNvPr id="101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0" y="0"/>
              <a:ext cx="4267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4572000" y="0"/>
              <a:ext cx="426708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"/>
          <p:cNvSpPr/>
          <p:nvPr/>
        </p:nvSpPr>
        <p:spPr>
          <a:xfrm>
            <a:off x="3389760" y="68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03808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餐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627640" y="5867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餐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2514600" y="304920"/>
            <a:ext cx="3886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隶书"/>
              </a:rPr>
              <a:t>咪咪餐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310440"/>
            <a:ext cx="6181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781680"/>
          </a:xfrm>
          <a:prstGeom prst="rect">
            <a:avLst/>
          </a:prstGeom>
          <a:ln w="0">
            <a:noFill/>
          </a:ln>
        </p:spPr>
      </p:pic>
      <p:pic>
        <p:nvPicPr>
          <p:cNvPr id="112" name="一分钱新.mp3" descr=""/>
          <p:cNvPicPr/>
          <p:nvPr/>
        </p:nvPicPr>
        <p:blipFill>
          <a:blip r:embed="rId2"/>
          <a:stretch/>
        </p:blipFill>
        <p:spPr>
          <a:xfrm>
            <a:off x="7543800" y="52578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希望"/>
          <p:cNvPicPr/>
          <p:nvPr/>
        </p:nvPicPr>
        <p:blipFill>
          <a:blip r:embed="rId1"/>
          <a:stretch/>
        </p:blipFill>
        <p:spPr>
          <a:xfrm>
            <a:off x="380880" y="4572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u=2689252070,3406071341&amp;gp=3"/>
          <p:cNvPicPr/>
          <p:nvPr/>
        </p:nvPicPr>
        <p:blipFill>
          <a:blip r:embed="rId2"/>
          <a:stretch/>
        </p:blipFill>
        <p:spPr>
          <a:xfrm>
            <a:off x="4572000" y="5335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u=4013819253,4216301889&amp;gp=0"/>
          <p:cNvPicPr/>
          <p:nvPr/>
        </p:nvPicPr>
        <p:blipFill>
          <a:blip r:embed="rId3"/>
          <a:stretch/>
        </p:blipFill>
        <p:spPr>
          <a:xfrm>
            <a:off x="685800" y="35812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=1163745362,2089166196&amp;gp=3"/>
          <p:cNvPicPr/>
          <p:nvPr/>
        </p:nvPicPr>
        <p:blipFill>
          <a:blip r:embed="rId4"/>
          <a:stretch/>
        </p:blipFill>
        <p:spPr>
          <a:xfrm>
            <a:off x="4572000" y="342900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95280" y="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419720" y="297180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爱心商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hine03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hine03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Oval 6"/>
          <p:cNvSpPr/>
          <p:nvPr/>
        </p:nvSpPr>
        <p:spPr>
          <a:xfrm>
            <a:off x="1905120" y="3086280"/>
            <a:ext cx="4572000" cy="1104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主题：爱心义卖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Oval 10"/>
          <p:cNvSpPr/>
          <p:nvPr/>
        </p:nvSpPr>
        <p:spPr>
          <a:xfrm>
            <a:off x="3886200" y="152280"/>
            <a:ext cx="4572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267080" y="27936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温馨提示：购物时要遵守公共秩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不损坏商品，不盲目购物，要养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勤俭节约的好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 rot="19800000">
            <a:off x="2438280" y="396216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bang1"/>
          <p:cNvPicPr/>
          <p:nvPr/>
        </p:nvPicPr>
        <p:blipFill>
          <a:blip r:embed="rId2"/>
          <a:stretch/>
        </p:blipFill>
        <p:spPr>
          <a:xfrm>
            <a:off x="6705720" y="3886200"/>
            <a:ext cx="2038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50292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0988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362320" y="25146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6248520" y="25146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514600" y="6858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"/>
          <p:cNvSpPr/>
          <p:nvPr/>
        </p:nvSpPr>
        <p:spPr>
          <a:xfrm>
            <a:off x="1523880" y="4952880"/>
            <a:ext cx="5791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752480" y="4648320"/>
            <a:ext cx="5639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物时要遵守公共秩序，不损坏商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盲目购物，养成勤俭节约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边框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29"/>
          <p:cNvSpPr/>
          <p:nvPr/>
        </p:nvSpPr>
        <p:spPr>
          <a:xfrm>
            <a:off x="2408760" y="785880"/>
            <a:ext cx="432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同学们的压岁钱一定很多吧，怎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合理有计划的使用呢？可以利用周末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时间，有家长陪同到超市选购自己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文具、书籍等，并以日记的形式写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自己购物的见闻和感受，待回学校时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同学一起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30" descr="bang1"/>
          <p:cNvPicPr/>
          <p:nvPr/>
        </p:nvPicPr>
        <p:blipFill>
          <a:blip r:embed="rId2"/>
          <a:stretch/>
        </p:blipFill>
        <p:spPr>
          <a:xfrm>
            <a:off x="6705720" y="457200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95280" y="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后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571680"/>
            <a:ext cx="889308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95280" y="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法与学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95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重点与难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075" descr="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114800" y="6095880"/>
            <a:ext cx="495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按单位元角分来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886200" y="3124080"/>
            <a:ext cx="129528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017960" y="3048120"/>
            <a:ext cx="110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公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 rot="180000">
            <a:off x="7345800" y="20574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票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300000">
            <a:off x="3276360" y="4572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Arial"/>
                <a:ea typeface="隶书"/>
              </a:rPr>
              <a:t>新世纪学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 rot="2580000">
            <a:off x="2689560" y="350496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2580000">
            <a:off x="2676960" y="351288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fen"/>
          <p:cNvPicPr/>
          <p:nvPr/>
        </p:nvPicPr>
        <p:blipFill>
          <a:blip r:embed="rId1"/>
          <a:stretch/>
        </p:blipFill>
        <p:spPr>
          <a:xfrm>
            <a:off x="6172200" y="2133720"/>
            <a:ext cx="947880" cy="1012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438280" y="434340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04779"/>
          <p:cNvPicPr/>
          <p:nvPr/>
        </p:nvPicPr>
        <p:blipFill>
          <a:blip r:embed="rId2"/>
          <a:stretch/>
        </p:blipFill>
        <p:spPr>
          <a:xfrm>
            <a:off x="7308720" y="5157720"/>
            <a:ext cx="1170000" cy="11080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 rot="16200000">
            <a:off x="4176000" y="872280"/>
            <a:ext cx="503280" cy="561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112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2592720" y="4419720"/>
            <a:ext cx="80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573800" y="4419720"/>
            <a:ext cx="6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5fen"/>
          <p:cNvPicPr/>
          <p:nvPr/>
        </p:nvPicPr>
        <p:blipFill>
          <a:blip r:embed="rId6"/>
          <a:stretch/>
        </p:blipFill>
        <p:spPr>
          <a:xfrm>
            <a:off x="1295280" y="1905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5fen"/>
          <p:cNvPicPr/>
          <p:nvPr/>
        </p:nvPicPr>
        <p:blipFill>
          <a:blip r:embed="rId7"/>
          <a:stretch/>
        </p:blipFill>
        <p:spPr>
          <a:xfrm>
            <a:off x="3800520" y="1981080"/>
            <a:ext cx="15429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4:03:1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6:52Z</dcterms:modified>
  <cp:revision>1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