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D4A-D771-45BC-B917-859A9874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052-A4DA-4E20-BC63-5E6EDED2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7C2-FE4A-4E4D-A948-3FF35C2E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6E7-DD4B-4BB9-87EC-5C734B6D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3E2-31DD-4E5C-A0AD-DD00C35A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D212-1BD8-4ECC-9051-82BB70B3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E4F-AB40-433A-86C5-4485E82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1646-B20A-4B74-9402-FE93B677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2991-AD8A-48C6-AF0B-E382AC5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5C6-C705-4E5F-B6DB-A03264A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65B-6FEB-4694-8DF3-05ACD55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78E-99A8-48E9-9A96-7335904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4CC2-866C-4E62-B370-9C76E35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E985-8500-477A-A227-6CD432F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4E61-D472-4529-831B-12F55D5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D3C-ED54-463E-A1F3-6E4D401E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D6B9-10A5-453E-90F1-3715D1B3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529-6629-422C-A27E-511A9374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50B-31DD-4AA9-8A18-B0987B1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47C-6463-40A1-9B32-46A6E98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257-25AA-4251-8B47-9C63038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908-F08A-4CF1-964E-8B49A95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720-E9F1-47F4-A838-6A58737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868-E6A8-4DBA-A086-2F9C425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9B19-BAA2-4E84-B3BF-C45941698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DAE0-3838-48E4-BF67-C8C2B8F076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3B9-9451-48D9-A444-F3F1AEF0C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aike.baidu.com/view/61891.htm" TargetMode="External"/><Relationship Id="rId2" Type="http://schemas.openxmlformats.org/officeDocument/2006/relationships/hyperlink" Target="http://baike.baidu.com/view/41419.htm" TargetMode="External"/><Relationship Id="rId3" Type="http://schemas.openxmlformats.org/officeDocument/2006/relationships/hyperlink" Target="http://baike.baidu.com/view/102974.htm" TargetMode="External"/><Relationship Id="rId4" Type="http://schemas.openxmlformats.org/officeDocument/2006/relationships/hyperlink" Target="http://baike.baidu.com/view/18934.htm" TargetMode="External"/><Relationship Id="rId5" Type="http://schemas.openxmlformats.org/officeDocument/2006/relationships/hyperlink" Target="http://baike.baidu.com/view/1705424.htm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220-C14B-4051-A312-3C3E2CEB9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新宋体"/>
                <a:ea typeface="新宋体"/>
              </a:rPr>
              <a:t>9</a:t>
            </a:r>
            <a:r>
              <a:rPr b="1" lang="zh-CN" sz="5400" spc="-1" strike="noStrike">
                <a:solidFill>
                  <a:srgbClr val="ffffff"/>
                </a:solidFill>
                <a:latin typeface="新宋体"/>
                <a:ea typeface="新宋体"/>
              </a:rPr>
              <a:t>、日月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SML04"/>
          <p:cNvPicPr/>
          <p:nvPr/>
        </p:nvPicPr>
        <p:blipFill>
          <a:blip r:embed="rId1"/>
          <a:stretch/>
        </p:blipFill>
        <p:spPr>
          <a:xfrm>
            <a:off x="1828800" y="1371600"/>
            <a:ext cx="5776920" cy="431964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438280" y="60199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276720" y="5697360"/>
            <a:ext cx="472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师范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级语文教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李枝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809880" y="6491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362320" y="16002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2716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47920" y="1219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QQ截图未命名"/>
          <p:cNvPicPr/>
          <p:nvPr/>
        </p:nvPicPr>
        <p:blipFill>
          <a:blip r:embed="rId1"/>
          <a:stretch/>
        </p:blipFill>
        <p:spPr>
          <a:xfrm>
            <a:off x="990720" y="990720"/>
            <a:ext cx="7097760" cy="4276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124080" y="6477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54"/>
          <p:cNvPicPr/>
          <p:nvPr/>
        </p:nvPicPr>
        <p:blipFill>
          <a:blip r:embed="rId1"/>
          <a:stretch/>
        </p:blipFill>
        <p:spPr>
          <a:xfrm>
            <a:off x="1143000" y="0"/>
            <a:ext cx="7097760" cy="435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6848"/>
          <p:cNvPicPr/>
          <p:nvPr/>
        </p:nvPicPr>
        <p:blipFill>
          <a:blip r:embed="rId2"/>
          <a:stretch/>
        </p:blipFill>
        <p:spPr>
          <a:xfrm>
            <a:off x="1143000" y="4114800"/>
            <a:ext cx="7086600" cy="2176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65760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生字练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3429000" y="6553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3208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295280" y="5335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zh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24080" y="4572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886200" y="457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mé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32448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315200" y="533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5720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295280" y="2057400"/>
            <a:ext cx="1524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ó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12408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0384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jì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324480" y="21337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162920" y="2133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ǐn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457200" y="40384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295280" y="4038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3124080" y="3886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038480" y="3809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uá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324480" y="39625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7162920" y="39625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à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57200" y="56386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219320" y="5715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à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200400" y="65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380988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90720" y="9144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17524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日月潭的名字是怎么得来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读读有关段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3048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ff"/>
                </a:solidFill>
                <a:latin typeface="Arial"/>
              </a:rPr>
              <a:t>小岛把湖水分成两半，北边像圆圆的太阳，叫日潭；南边像弯弯的月亮，叫月潭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733920" y="6324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1066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一自然段中“群山环绕，树木茂盛”和“名胜古迹”让我们知道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43000" y="2971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ccff"/>
                </a:solidFill>
                <a:latin typeface="Arial"/>
              </a:rPr>
              <a:t>群山环绕，树木茂盛”让我们仿佛看到了一幅依山傍水的自然美景， “名胜古迹”更让我们感受到了日月潭的悠久历史</a:t>
            </a: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733920" y="6324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66680" y="9907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全文从哪些方面来描写日月潭的？仔细阅读课文回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29528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位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74320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台中附近的高山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09680" y="4191120"/>
            <a:ext cx="45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295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124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北边像远远的太阳，南边像弯弯的月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2952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名称由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52680" y="4724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形状得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1371600" y="5715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美丽景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73392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38080" y="8380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你喜欢日月潭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课文中用哪些词句写出了它的美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隐隐约约  群山环绕  树木茂盛  名胜古迹蒙蒙细雨  风光秀丽  点点灯光  湖水碧绿  太阳高照  许许多多  展现  周围  轻纱  附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晨星  倒映  清晰  朦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5800" y="3962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岛把湖水分成两半，北边像圆圆的太阳，叫日潭；南边像弯弯的月亮，叫月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是下起蒙蒙细雨，日月潭好像披上轻纱，周围的景物一片朦胧，就像童话中的仙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81280" y="6477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后总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70" name="Text Box 4"/>
          <p:cNvSpPr/>
          <p:nvPr/>
        </p:nvSpPr>
        <p:spPr>
          <a:xfrm>
            <a:off x="403848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971800" y="304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图片赏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90920" y="32004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1"/>
          <p:cNvPicPr/>
          <p:nvPr/>
        </p:nvPicPr>
        <p:blipFill>
          <a:blip r:embed="rId1"/>
          <a:stretch/>
        </p:blipFill>
        <p:spPr>
          <a:xfrm>
            <a:off x="1143000" y="1219320"/>
            <a:ext cx="6737400" cy="50529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1" name="Text Box 5"/>
          <p:cNvSpPr/>
          <p:nvPr/>
        </p:nvSpPr>
        <p:spPr>
          <a:xfrm>
            <a:off x="3809880" y="6553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066680" y="914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会认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2362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正确、流利、有感情地朗读课文，感受日月潭的秀丽风光。背诵自己喜欢的部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4800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有热爱宝岛台湾和盼望祖国统一的情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625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77" name="Text Box 4"/>
          <p:cNvSpPr/>
          <p:nvPr/>
        </p:nvSpPr>
        <p:spPr>
          <a:xfrm>
            <a:off x="388620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19320" y="1752480"/>
            <a:ext cx="655308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阿里山，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中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名，是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台湾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著名旅游风景区，阿里山位于台湾省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嘉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市东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里，地处海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公尺以上，坐标为北纬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，东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，东面靠近台湾最高峰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玉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由于山区气候温和，盛夏时依然清爽宜人，加上林木葱翠，是全台湾最理想的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避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胜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73392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云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2007516173426545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1530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3" name="Text Box 5"/>
          <p:cNvSpPr/>
          <p:nvPr/>
        </p:nvSpPr>
        <p:spPr>
          <a:xfrm>
            <a:off x="42670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日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15697_1247282864CADw"/>
          <p:cNvPicPr/>
          <p:nvPr/>
        </p:nvPicPr>
        <p:blipFill>
          <a:blip r:embed="rId1"/>
          <a:stretch/>
        </p:blipFill>
        <p:spPr>
          <a:xfrm>
            <a:off x="1752480" y="2286000"/>
            <a:ext cx="5905800" cy="3932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6" name="Text Box 5"/>
          <p:cNvSpPr/>
          <p:nvPr/>
        </p:nvSpPr>
        <p:spPr>
          <a:xfrm>
            <a:off x="4114800" y="6553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阿里山黄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1215137242991_1215137242991_r"/>
          <p:cNvPicPr/>
          <p:nvPr/>
        </p:nvPicPr>
        <p:blipFill>
          <a:blip r:embed="rId1"/>
          <a:stretch/>
        </p:blipFill>
        <p:spPr>
          <a:xfrm>
            <a:off x="1600200" y="2057400"/>
            <a:ext cx="5967360" cy="39276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189" name="Text Box 4"/>
          <p:cNvSpPr/>
          <p:nvPr/>
        </p:nvSpPr>
        <p:spPr>
          <a:xfrm>
            <a:off x="42670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51520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92" name="Text Box 4"/>
          <p:cNvSpPr/>
          <p:nvPr/>
        </p:nvSpPr>
        <p:spPr>
          <a:xfrm>
            <a:off x="41148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06668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每个生字抄五遍并组词，再用自己组的词造一个句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2666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有感情的朗读课文，背诵自己喜欢的段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66680" y="4343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搜集有光描写台湾美丽景色的文章急图片，展示给同学看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625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98" name="WordArt 4"/>
          <p:cNvSpPr txBox="1"/>
          <p:nvPr/>
        </p:nvSpPr>
        <p:spPr>
          <a:xfrm>
            <a:off x="1523880" y="45720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感谢给为领导光临指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6324480" y="5829480"/>
            <a:ext cx="2057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96252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0" y="15238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3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4" name="Text Box 4"/>
          <p:cNvSpPr/>
          <p:nvPr/>
        </p:nvSpPr>
        <p:spPr>
          <a:xfrm>
            <a:off x="327672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05320" y="18288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2"/>
          <p:cNvPicPr/>
          <p:nvPr/>
        </p:nvPicPr>
        <p:blipFill>
          <a:blip r:embed="rId1"/>
          <a:stretch/>
        </p:blipFill>
        <p:spPr>
          <a:xfrm>
            <a:off x="1219320" y="762120"/>
            <a:ext cx="6737400" cy="50529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97" name="Text Box 4"/>
          <p:cNvSpPr/>
          <p:nvPr/>
        </p:nvSpPr>
        <p:spPr>
          <a:xfrm>
            <a:off x="342900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666880" y="1828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4"/>
          <p:cNvPicPr/>
          <p:nvPr/>
        </p:nvPicPr>
        <p:blipFill>
          <a:blip r:embed="rId1"/>
          <a:stretch/>
        </p:blipFill>
        <p:spPr>
          <a:xfrm>
            <a:off x="1371600" y="990720"/>
            <a:ext cx="6734160" cy="505116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100" name="Text Box 4"/>
          <p:cNvSpPr/>
          <p:nvPr/>
        </p:nvSpPr>
        <p:spPr>
          <a:xfrm>
            <a:off x="3581280" y="6400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导语设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03" name="Text Box 4"/>
          <p:cNvSpPr/>
          <p:nvPr/>
        </p:nvSpPr>
        <p:spPr>
          <a:xfrm>
            <a:off x="3429000" y="6491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380880" y="533520"/>
            <a:ext cx="86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月潭是我国台湾省的代表性风景名胜，每当我们看到“日月潭”这三个字，心中总会荡起一圈圈涟漪，因为那里山清水秀，有我们日夜思念的台湾同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月潭令人神往，是因为它在祖国的宝岛台湾，是因为它“那里群山环绕，树木茂盛，周围有许多名胜古迹”，然而更吸引人的还是那被光华岛分成两半的日潭月潭的碧水。作者以清晨与中午两个特写镜头来展示日月潭的迷人风姿，令人陶醉其间，流连忘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8120" y="6400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57200" y="533520"/>
            <a:ext cx="7924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看吧，清晨，在薄雾的笼罩下，晨星、灯光“隐隐约约地倒映在湖水中”，湖光山色，浑然一体，好一幅天然浑成的画卷。再看中午，要是太阳高照，就是一幅明丽的山水画；“要是下起蒙蒙细雨”，那日月潭就成了“童话中的仙境”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9880" y="6491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步阅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514840" cy="39243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110" name="Text Box 4"/>
          <p:cNvSpPr/>
          <p:nvPr/>
        </p:nvSpPr>
        <p:spPr>
          <a:xfrm>
            <a:off x="3809880" y="6477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2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7:4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