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B77-34CF-4578-A0CE-2436D38F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884-6EED-4128-B345-B80B175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2BD-B67F-4D2D-A66D-C593824D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989-3EF0-40EA-A700-17F507BD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E80-8DF4-4598-A579-51C5837A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004-107B-485A-9D3A-86B7058C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ED0-C7F1-4654-A4EE-E2698CF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DE4-7830-4754-8BF3-0A4170A0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85-4115-442F-AA63-6A26496B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41E-5F0A-4313-829F-740DD6B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932-D39E-4AA4-B46F-99487C3F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305-3F7E-49EB-B0C1-1D27780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7B5-677D-49BA-9567-348610741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orum.zaojiao.com.cn/viewthread.php?tid=58679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shop.201202.com/u/o/List_2.html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51ps.tech.topzj.com/viewthread.php?tid=27895&amp;extra=page%3D1%26amp%3Bfilter%3Dtype%26amp%3Btypeid%3D10103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i.baidu.com/valiantnice/album/item/983887006eb3a3c3277fb517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20071130_8199827196b7d49368c2SGsfN1FWxAFH">
            <a:hlinkClick r:id="rId1"/>
          </p:cNvPr>
          <p:cNvPicPr/>
          <p:nvPr/>
        </p:nvPicPr>
        <p:blipFill>
          <a:blip r:embed="rId2"/>
          <a:srcRect l="499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Arial"/>
                <a:ea typeface="黑体"/>
              </a:rPr>
              <a:t>⒐ </a:t>
            </a:r>
            <a:r>
              <a:rPr b="0" lang="zh-CN" sz="9600" spc="-1" strike="noStrike">
                <a:solidFill>
                  <a:srgbClr val="ff6600"/>
                </a:solidFill>
                <a:latin typeface="Arial"/>
                <a:ea typeface="黑体"/>
              </a:rPr>
              <a:t>日 月 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喜欢日月潭什么时候的景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说说为什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能把你喜欢的景色大声地读出来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声读第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自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341000"/>
            <a:ext cx="9144000" cy="4103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清晨湖面上飘着薄薄的雾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天边的晨星和山上的点点灯光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黑体"/>
              </a:rPr>
              <a:t>隐隐约约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地倒映在湖水中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中午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太阳高照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整个日月潭的美景和周围的建筑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都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清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地展现在眼前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要是下起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蒙蒙细雨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日月潭好像披上轻纱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周围的景物一片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朦胧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就像童话中的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仙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20071020163736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971640" y="2276640"/>
            <a:ext cx="6624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欣赏日月潭美景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631044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8_10_aba603d7d3f6b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d0ea8074a935a7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0" lang="zh-CN" sz="9600" spc="-1" strike="noStrike">
                <a:solidFill>
                  <a:srgbClr val="333399"/>
                </a:solidFill>
                <a:latin typeface="Arial"/>
                <a:ea typeface="楷体_GB2312"/>
              </a:rPr>
              <a:t>总   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今天我们学习了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日月潭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这篇课文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此时你想对台湾的小朋友说点什么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11280" y="242100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黑体"/>
              </a:rPr>
              <a:t>谢谢合作再见</a:t>
            </a:r>
            <a:r>
              <a:rPr b="0" lang="en-US" sz="8800" spc="-1" strike="noStrike">
                <a:solidFill>
                  <a:srgbClr val="ff3300"/>
                </a:solidFill>
                <a:latin typeface="Arial"/>
                <a:ea typeface="黑体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5796000" y="4653000"/>
            <a:ext cx="2592360" cy="22050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9C8-18A5-4FFF-B5CC-06BD7FA282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23_yvNKKM4fdDB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6600"/>
                </a:solidFill>
                <a:latin typeface="Arial"/>
                <a:ea typeface="楷体_GB2312"/>
              </a:rPr>
              <a:t>一</a:t>
            </a:r>
            <a:r>
              <a:rPr b="0" lang="en-US" sz="8000" spc="-1" strike="noStrike">
                <a:solidFill>
                  <a:srgbClr val="ff6600"/>
                </a:solidFill>
                <a:latin typeface="Arial"/>
                <a:ea typeface="楷体_GB2312"/>
              </a:rPr>
              <a:t>.</a:t>
            </a:r>
            <a:r>
              <a:rPr b="0" lang="zh-CN" sz="8000" spc="-1" strike="noStrike">
                <a:solidFill>
                  <a:srgbClr val="ff6600"/>
                </a:solidFill>
                <a:latin typeface="Arial"/>
                <a:ea typeface="楷体_GB2312"/>
              </a:rPr>
              <a:t>复习生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7"/>
          <p:cNvSpPr/>
          <p:nvPr/>
        </p:nvSpPr>
        <p:spPr>
          <a:xfrm>
            <a:off x="3708360" y="5589720"/>
            <a:ext cx="1295280" cy="1268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ree"/>
          <p:cNvSpPr/>
          <p:nvPr/>
        </p:nvSpPr>
        <p:spPr>
          <a:xfrm>
            <a:off x="684360" y="692280"/>
            <a:ext cx="7345080" cy="4752720"/>
          </a:xfrm>
          <a:custGeom>
            <a:avLst/>
            <a:gdLst>
              <a:gd name="textAreaLeft" fmla="*/ 258480 w 7345080"/>
              <a:gd name="textAreaRight" fmla="*/ 7164720 w 7345080"/>
              <a:gd name="textAreaTop" fmla="*/ 4941000 h 4752720"/>
              <a:gd name="textAreaBottom" fmla="*/ 6223320 h 4752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3"/>
          <p:cNvSpPr/>
          <p:nvPr/>
        </p:nvSpPr>
        <p:spPr>
          <a:xfrm>
            <a:off x="6732720" y="3429000"/>
            <a:ext cx="1439640" cy="136836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0"/>
          <p:cNvSpPr/>
          <p:nvPr/>
        </p:nvSpPr>
        <p:spPr>
          <a:xfrm>
            <a:off x="611280" y="3500280"/>
            <a:ext cx="1366920" cy="1295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8"/>
          <p:cNvSpPr/>
          <p:nvPr/>
        </p:nvSpPr>
        <p:spPr>
          <a:xfrm>
            <a:off x="5940360" y="1628640"/>
            <a:ext cx="1295640" cy="1224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5"/>
          <p:cNvSpPr/>
          <p:nvPr/>
        </p:nvSpPr>
        <p:spPr>
          <a:xfrm>
            <a:off x="1619280" y="1628640"/>
            <a:ext cx="1150920" cy="1295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认一认下面的生字宝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谁读的最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47640" y="14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/>
          <p:cNvSpPr/>
          <p:nvPr/>
        </p:nvSpPr>
        <p:spPr>
          <a:xfrm>
            <a:off x="4067280" y="1197000"/>
            <a:ext cx="647640" cy="1008000"/>
          </a:xfrm>
          <a:custGeom>
            <a:avLst/>
            <a:gdLst/>
            <a:ahLst/>
            <a:rect l="l" t="t" r="r" b="b"/>
            <a:pathLst>
              <a:path w="647700" h="1008063">
                <a:moveTo>
                  <a:pt x="1" y="385045"/>
                </a:moveTo>
                <a:lnTo>
                  <a:pt x="247401" y="385048"/>
                </a:lnTo>
                <a:lnTo>
                  <a:pt x="323850" y="0"/>
                </a:lnTo>
                <a:lnTo>
                  <a:pt x="400299" y="385048"/>
                </a:lnTo>
                <a:lnTo>
                  <a:pt x="647699" y="385045"/>
                </a:lnTo>
                <a:lnTo>
                  <a:pt x="447547" y="623015"/>
                </a:lnTo>
                <a:lnTo>
                  <a:pt x="524000" y="1008060"/>
                </a:lnTo>
                <a:lnTo>
                  <a:pt x="323850" y="770086"/>
                </a:lnTo>
                <a:lnTo>
                  <a:pt x="123700" y="1008060"/>
                </a:lnTo>
                <a:lnTo>
                  <a:pt x="200153" y="623015"/>
                </a:lnTo>
                <a:lnTo>
                  <a:pt x="1" y="38504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5940360" y="14842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684360" y="335772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804000" y="3357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3708360" y="542448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黑体"/>
              </a:rPr>
              <a:t>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8"/>
          <p:cNvSpPr/>
          <p:nvPr/>
        </p:nvSpPr>
        <p:spPr>
          <a:xfrm>
            <a:off x="1476360" y="549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黑体"/>
              </a:rPr>
              <a:t>zh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9"/>
          <p:cNvSpPr/>
          <p:nvPr/>
        </p:nvSpPr>
        <p:spPr>
          <a:xfrm>
            <a:off x="6012000" y="620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x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0"/>
          <p:cNvSpPr/>
          <p:nvPr/>
        </p:nvSpPr>
        <p:spPr>
          <a:xfrm>
            <a:off x="0" y="2565360"/>
            <a:ext cx="29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黑体"/>
              </a:rPr>
              <a:t>mé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6767640" y="249228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黑体"/>
              </a:rPr>
              <a:t>ló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2"/>
          <p:cNvSpPr/>
          <p:nvPr/>
        </p:nvSpPr>
        <p:spPr>
          <a:xfrm>
            <a:off x="3708360" y="465300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jì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3"/>
          <p:cNvSpPr/>
          <p:nvPr/>
        </p:nvSpPr>
        <p:spPr>
          <a:xfrm>
            <a:off x="7846920" y="6067440"/>
            <a:ext cx="1297080" cy="790560"/>
          </a:xfrm>
          <a:custGeom>
            <a:avLst/>
            <a:gdLst>
              <a:gd name="textAreaLeft" fmla="*/ 49320 w 1297080"/>
              <a:gd name="textAreaRight" fmla="*/ 1247760 w 1297080"/>
              <a:gd name="textAreaTop" fmla="*/ 49320 h 790560"/>
              <a:gd name="textAreaBottom" fmla="*/ 741240 h 790560"/>
            </a:gdLst>
            <a:ahLst/>
            <a:rect l="textAreaLeft" t="textAreaTop" r="textAreaRight" b="textAreaBottom"/>
            <a:pathLst>
              <a:path w="35433" h="21600">
                <a:moveTo>
                  <a:pt x="0" y="0"/>
                </a:moveTo>
                <a:lnTo>
                  <a:pt x="35433" y="0"/>
                </a:lnTo>
                <a:lnTo>
                  <a:pt x="35433" y="21600"/>
                </a:lnTo>
                <a:lnTo>
                  <a:pt x="0" y="21600"/>
                </a:lnTo>
                <a:close/>
              </a:path>
              <a:path fill="lightenLess" w="35433" h="21600">
                <a:moveTo>
                  <a:pt x="0" y="0"/>
                </a:moveTo>
                <a:lnTo>
                  <a:pt x="35433" y="0"/>
                </a:lnTo>
                <a:lnTo>
                  <a:pt x="34083" y="1350"/>
                </a:lnTo>
                <a:lnTo>
                  <a:pt x="1350" y="1350"/>
                </a:lnTo>
                <a:close/>
              </a:path>
              <a:path fill="darken" w="35433" h="21600">
                <a:moveTo>
                  <a:pt x="35433" y="0"/>
                </a:moveTo>
                <a:lnTo>
                  <a:pt x="35433" y="21600"/>
                </a:lnTo>
                <a:lnTo>
                  <a:pt x="34083" y="20250"/>
                </a:lnTo>
                <a:lnTo>
                  <a:pt x="34083" y="1350"/>
                </a:lnTo>
                <a:close/>
              </a:path>
              <a:path fill="darkenLess" w="35433" h="21600">
                <a:moveTo>
                  <a:pt x="3543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083" y="20250"/>
                </a:lnTo>
                <a:close/>
              </a:path>
              <a:path fill="lighten" w="3543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4"/>
          <p:cNvSpPr/>
          <p:nvPr/>
        </p:nvSpPr>
        <p:spPr>
          <a:xfrm>
            <a:off x="7596360" y="6093000"/>
            <a:ext cx="1368360" cy="765000"/>
          </a:xfrm>
          <a:custGeom>
            <a:avLst/>
            <a:gdLst>
              <a:gd name="textAreaLeft" fmla="*/ 47520 w 1368360"/>
              <a:gd name="textAreaRight" fmla="*/ 1320840 w 136836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78" y="1350"/>
                </a:lnTo>
                <a:lnTo>
                  <a:pt x="1350" y="135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78" y="20250"/>
                </a:lnTo>
                <a:lnTo>
                  <a:pt x="37278" y="135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278" y="2025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读一读下面的词语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黑体"/>
              </a:rPr>
              <a:t>,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看谁读的最准确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84360" y="198900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群山环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55640" y="314172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树木茂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55640" y="43657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名胜古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55640" y="544500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湖水碧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796000" y="206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点点灯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796000" y="3213000"/>
            <a:ext cx="43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隐隐约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796000" y="4365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太阳高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867280" y="5445000"/>
            <a:ext cx="302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光秀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983887006eb3a3c3277fb5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6600"/>
                </a:solidFill>
                <a:latin typeface="Arial"/>
                <a:ea typeface="楷体_GB2312"/>
              </a:rPr>
              <a:t>二</a:t>
            </a:r>
            <a:r>
              <a:rPr b="0" lang="en-US" sz="8800" spc="-1" strike="noStrike">
                <a:solidFill>
                  <a:srgbClr val="ff6600"/>
                </a:solidFill>
                <a:latin typeface="Arial"/>
                <a:ea typeface="楷体_GB2312"/>
              </a:rPr>
              <a:t>.</a:t>
            </a:r>
            <a:r>
              <a:rPr b="0" lang="zh-CN" sz="8800" spc="-1" strike="noStrike">
                <a:solidFill>
                  <a:srgbClr val="ff6600"/>
                </a:solidFill>
                <a:latin typeface="Arial"/>
                <a:ea typeface="楷体_GB2312"/>
              </a:rPr>
              <a:t>学习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pic_254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459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月潭是我国台湾省最大的一个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它在台中附近的高山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那里群山环绕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树木茂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周围有许多名胜古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pic_254223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141720"/>
            <a:ext cx="86868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40840" indent="-46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面的文字共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句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0840" indent="-46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台湾省最大的湖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位置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0840" indent="-46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山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树多的词分别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408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思考下面的问题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777564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日月潭很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湖水碧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湖中央有个美丽的小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光华岛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岛把湖水分成两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北边像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圆圆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太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日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南边像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弯弯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月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叫月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pic_254223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14:03:5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4:27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