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6E25-DB42-481F-9D3D-A3D42A308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660-EE5B-4980-8D47-CD0525F94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4BF2B-306F-41FF-B797-0DD219E88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0D06-038E-4843-88F9-F3EB9C2BB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6C3B-07A6-47F9-A86A-7AB023352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47AA8-789A-4520-8BBD-D3EF7C493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570B-526D-4862-89AD-45C738D89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3D96-00C8-4A5B-B902-D1BEFB2CD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9FD5C-4192-42D7-ADC3-9F6E2BF1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6598-50A3-470F-A326-F0A8EDBD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C05-4B00-473F-9E67-5D596F20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C08B-9917-4A3F-BF1A-40C52BF54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C1917-67BE-4090-8ED1-4B2DE9CA433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B8D0A-A373-45FF-937F-448E99BDCAB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yingxiao/" TargetMode="External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jpeg"/><Relationship Id="rId7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3"/>
          <p:cNvSpPr/>
          <p:nvPr/>
        </p:nvSpPr>
        <p:spPr>
          <a:xfrm>
            <a:off x="1835280" y="3284640"/>
            <a:ext cx="2736720" cy="360360"/>
          </a:xfrm>
          <a:custGeom>
            <a:avLst/>
            <a:gdLst>
              <a:gd name="textAreaLeft" fmla="*/ 0 w 2736720"/>
              <a:gd name="textAreaRight" fmla="*/ 2737080 w 2736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w="2736342" h="360045">
                <a:moveTo>
                  <a:pt x="0" y="360045"/>
                </a:moveTo>
                <a:lnTo>
                  <a:pt x="2736342" y="360045"/>
                </a:lnTo>
                <a:lnTo>
                  <a:pt x="2736342" y="0"/>
                </a:lnTo>
                <a:lnTo>
                  <a:pt x="0" y="0"/>
                </a:lnTo>
                <a:lnTo>
                  <a:pt x="0" y="360045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Freeform 3"/>
          <p:cNvSpPr/>
          <p:nvPr/>
        </p:nvSpPr>
        <p:spPr>
          <a:xfrm>
            <a:off x="6248520" y="6637320"/>
            <a:ext cx="1031760" cy="12600"/>
          </a:xfrm>
          <a:custGeom>
            <a:avLst/>
            <a:gdLst>
              <a:gd name="textAreaLeft" fmla="*/ 0 w 1031760"/>
              <a:gd name="textAreaRight" fmla="*/ 1032120 w 1031760"/>
              <a:gd name="textAreaTop" fmla="*/ 0 h 12600"/>
              <a:gd name="textAreaBottom" fmla="*/ 12960 h 12600"/>
            </a:gdLst>
            <a:ahLst/>
            <a:rect l="textAreaLeft" t="textAreaTop" r="textAreaRight" b="textAreaBottom"/>
            <a:pathLst>
              <a:path w="1031747" h="12192">
                <a:moveTo>
                  <a:pt x="0" y="0"/>
                </a:moveTo>
                <a:lnTo>
                  <a:pt x="515873" y="0"/>
                </a:lnTo>
                <a:lnTo>
                  <a:pt x="1031747" y="0"/>
                </a:lnTo>
                <a:lnTo>
                  <a:pt x="1031747" y="12191"/>
                </a:lnTo>
                <a:lnTo>
                  <a:pt x="515873" y="12191"/>
                </a:lnTo>
                <a:lnTo>
                  <a:pt x="0" y="12191"/>
                </a:lnTo>
                <a:lnTo>
                  <a:pt x="0" y="0"/>
                </a:lnTo>
              </a:path>
            </a:pathLst>
          </a:custGeom>
          <a:solidFill>
            <a:srgbClr val="0000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8089920" y="38160"/>
            <a:ext cx="1028520" cy="10285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TextBox 1"/>
          <p:cNvSpPr/>
          <p:nvPr/>
        </p:nvSpPr>
        <p:spPr>
          <a:xfrm>
            <a:off x="2076480" y="2400480"/>
            <a:ext cx="489384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戴尔™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Streak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Pr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440440" y="3289320"/>
            <a:ext cx="16466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市场营销微博互动传播方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1"/>
          <p:cNvSpPr/>
          <p:nvPr/>
        </p:nvSpPr>
        <p:spPr>
          <a:xfrm>
            <a:off x="6315480" y="6667560"/>
            <a:ext cx="256428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404040"/>
                </a:solidFill>
                <a:latin typeface="Arial"/>
                <a:ea typeface="微软雅黑"/>
              </a:rPr>
              <a:t>Copyrigh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800" spc="-1" strike="noStrike">
                <a:solidFill>
                  <a:srgbClr val="404040"/>
                </a:solidFill>
                <a:latin typeface="Arial"/>
                <a:ea typeface="微软雅黑"/>
              </a:rPr>
              <a:t>©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800" spc="-1" strike="noStrike">
                <a:solidFill>
                  <a:srgbClr val="404040"/>
                </a:solidFill>
                <a:latin typeface="Arial"/>
                <a:ea typeface="微软雅黑"/>
              </a:rPr>
              <a:t>2011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800" spc="-1" strike="noStrike">
                <a:solidFill>
                  <a:srgbClr val="404040"/>
                </a:solidFill>
                <a:latin typeface="Arial"/>
                <a:ea typeface="微软雅黑"/>
              </a:rPr>
              <a:t>Ads</a:t>
            </a:r>
            <a:r>
              <a:rPr b="1" lang="zh-CN" sz="600" spc="-1" strike="noStrike">
                <a:solidFill>
                  <a:srgbClr val="404040"/>
                </a:solidFill>
                <a:latin typeface="Arial"/>
                <a:ea typeface="微软雅黑"/>
              </a:rPr>
              <a:t>i</a:t>
            </a:r>
            <a:r>
              <a:rPr b="0" lang="zh-CN" sz="600" spc="-1" strike="noStrike">
                <a:solidFill>
                  <a:srgbClr val="404040"/>
                </a:solidFill>
                <a:latin typeface="Arial"/>
                <a:ea typeface="微软雅黑"/>
              </a:rPr>
              <a:t>t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800" spc="-1" strike="noStrike">
                <a:solidFill>
                  <a:srgbClr val="404040"/>
                </a:solidFill>
                <a:latin typeface="Arial"/>
                <a:ea typeface="微软雅黑"/>
              </a:rPr>
              <a:t>Media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800" spc="-1" strike="noStrike">
                <a:solidFill>
                  <a:srgbClr val="404040"/>
                </a:solidFill>
                <a:latin typeface="Arial"/>
                <a:ea typeface="微软雅黑"/>
              </a:rPr>
              <a:t>Group,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800" spc="-1" strike="noStrike">
                <a:solidFill>
                  <a:srgbClr val="404040"/>
                </a:solidFill>
                <a:latin typeface="Arial"/>
                <a:ea typeface="微软雅黑"/>
              </a:rPr>
              <a:t>All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800" spc="-1" strike="noStrike">
                <a:solidFill>
                  <a:srgbClr val="404040"/>
                </a:solidFill>
                <a:latin typeface="Arial"/>
                <a:ea typeface="微软雅黑"/>
              </a:rPr>
              <a:t>rights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800" spc="-1" strike="noStrike">
                <a:solidFill>
                  <a:srgbClr val="404040"/>
                </a:solidFill>
                <a:latin typeface="Arial"/>
                <a:ea typeface="微软雅黑"/>
              </a:rPr>
              <a:t>reserv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1215-349F-415D-A11E-2BA51AEB04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Freeform 3"/>
          <p:cNvSpPr/>
          <p:nvPr/>
        </p:nvSpPr>
        <p:spPr>
          <a:xfrm>
            <a:off x="2162160" y="3135240"/>
            <a:ext cx="1158840" cy="176364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763640"/>
              <a:gd name="textAreaBottom" fmla="*/ 1764000 h 1763640"/>
            </a:gdLst>
            <a:ahLst/>
            <a:rect l="textAreaLeft" t="textAreaTop" r="textAreaRight" b="textAreaBottom"/>
            <a:pathLst>
              <a:path w="1158240" h="1764791">
                <a:moveTo>
                  <a:pt x="0" y="1764791"/>
                </a:moveTo>
                <a:lnTo>
                  <a:pt x="1158240" y="1764791"/>
                </a:lnTo>
                <a:lnTo>
                  <a:pt x="1158240" y="0"/>
                </a:lnTo>
                <a:lnTo>
                  <a:pt x="0" y="0"/>
                </a:lnTo>
                <a:lnTo>
                  <a:pt x="0" y="1764791"/>
                </a:lnTo>
              </a:path>
            </a:pathLst>
          </a:custGeom>
          <a:solidFill>
            <a:srgbClr val="00b0f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3"/>
          <p:cNvSpPr/>
          <p:nvPr/>
        </p:nvSpPr>
        <p:spPr>
          <a:xfrm>
            <a:off x="2155680" y="3129120"/>
            <a:ext cx="1171800" cy="1776240"/>
          </a:xfrm>
          <a:custGeom>
            <a:avLst/>
            <a:gdLst>
              <a:gd name="textAreaLeft" fmla="*/ 0 w 1171800"/>
              <a:gd name="textAreaRight" fmla="*/ 1172160 w 1171800"/>
              <a:gd name="textAreaTop" fmla="*/ 0 h 1776240"/>
              <a:gd name="textAreaBottom" fmla="*/ 1776600 h 1776240"/>
            </a:gdLst>
            <a:ahLst/>
            <a:rect l="textAreaLeft" t="textAreaTop" r="textAreaRight" b="textAreaBottom"/>
            <a:pathLst>
              <a:path w="1170940" h="1777491">
                <a:moveTo>
                  <a:pt x="6350" y="1771141"/>
                </a:moveTo>
                <a:lnTo>
                  <a:pt x="1164590" y="1771141"/>
                </a:lnTo>
                <a:lnTo>
                  <a:pt x="1164590" y="6350"/>
                </a:lnTo>
                <a:lnTo>
                  <a:pt x="6350" y="6350"/>
                </a:lnTo>
                <a:lnTo>
                  <a:pt x="6350" y="1771141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3"/>
          <p:cNvSpPr/>
          <p:nvPr/>
        </p:nvSpPr>
        <p:spPr>
          <a:xfrm>
            <a:off x="4130640" y="3052800"/>
            <a:ext cx="1157400" cy="1846080"/>
          </a:xfrm>
          <a:custGeom>
            <a:avLst/>
            <a:gdLst>
              <a:gd name="textAreaLeft" fmla="*/ 0 w 1157400"/>
              <a:gd name="textAreaRight" fmla="*/ 1157760 w 1157400"/>
              <a:gd name="textAreaTop" fmla="*/ 0 h 1846080"/>
              <a:gd name="textAreaBottom" fmla="*/ 1846440 h 1846080"/>
            </a:gdLst>
            <a:ahLst/>
            <a:rect l="textAreaLeft" t="textAreaTop" r="textAreaRight" b="textAreaBottom"/>
            <a:pathLst>
              <a:path w="1158240" h="1847087">
                <a:moveTo>
                  <a:pt x="0" y="1847087"/>
                </a:moveTo>
                <a:lnTo>
                  <a:pt x="1158239" y="1847087"/>
                </a:lnTo>
                <a:lnTo>
                  <a:pt x="1158239" y="0"/>
                </a:lnTo>
                <a:lnTo>
                  <a:pt x="0" y="0"/>
                </a:lnTo>
                <a:lnTo>
                  <a:pt x="0" y="1847087"/>
                </a:lnTo>
              </a:path>
            </a:pathLst>
          </a:custGeom>
          <a:solidFill>
            <a:srgbClr val="00b0f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3"/>
          <p:cNvSpPr/>
          <p:nvPr/>
        </p:nvSpPr>
        <p:spPr>
          <a:xfrm>
            <a:off x="4124160" y="3046320"/>
            <a:ext cx="1170000" cy="185904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1859040"/>
              <a:gd name="textAreaBottom" fmla="*/ 1859400 h 1859040"/>
            </a:gdLst>
            <a:ahLst/>
            <a:rect l="textAreaLeft" t="textAreaTop" r="textAreaRight" b="textAreaBottom"/>
            <a:pathLst>
              <a:path w="1170940" h="1859787">
                <a:moveTo>
                  <a:pt x="6350" y="1853437"/>
                </a:moveTo>
                <a:lnTo>
                  <a:pt x="1164589" y="1853437"/>
                </a:lnTo>
                <a:lnTo>
                  <a:pt x="1164589" y="6350"/>
                </a:lnTo>
                <a:lnTo>
                  <a:pt x="6350" y="6350"/>
                </a:lnTo>
                <a:lnTo>
                  <a:pt x="6350" y="1853437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3"/>
          <p:cNvSpPr/>
          <p:nvPr/>
        </p:nvSpPr>
        <p:spPr>
          <a:xfrm>
            <a:off x="6097680" y="3600360"/>
            <a:ext cx="1157040" cy="129852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1298520"/>
              <a:gd name="textAreaBottom" fmla="*/ 1298880 h 1298520"/>
            </a:gdLst>
            <a:ahLst/>
            <a:rect l="textAreaLeft" t="textAreaTop" r="textAreaRight" b="textAreaBottom"/>
            <a:pathLst>
              <a:path w="1158240" h="1299971">
                <a:moveTo>
                  <a:pt x="0" y="1299971"/>
                </a:moveTo>
                <a:lnTo>
                  <a:pt x="1158240" y="1299971"/>
                </a:lnTo>
                <a:lnTo>
                  <a:pt x="1158240" y="0"/>
                </a:lnTo>
                <a:lnTo>
                  <a:pt x="0" y="0"/>
                </a:lnTo>
                <a:lnTo>
                  <a:pt x="0" y="1299971"/>
                </a:lnTo>
              </a:path>
            </a:pathLst>
          </a:custGeom>
          <a:solidFill>
            <a:srgbClr val="00b0f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3"/>
          <p:cNvSpPr/>
          <p:nvPr/>
        </p:nvSpPr>
        <p:spPr>
          <a:xfrm>
            <a:off x="6091200" y="3594240"/>
            <a:ext cx="1170000" cy="131112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1311120"/>
              <a:gd name="textAreaBottom" fmla="*/ 1311480 h 1311120"/>
            </a:gdLst>
            <a:ahLst/>
            <a:rect l="textAreaLeft" t="textAreaTop" r="textAreaRight" b="textAreaBottom"/>
            <a:pathLst>
              <a:path w="1170940" h="1312671">
                <a:moveTo>
                  <a:pt x="6350" y="1306321"/>
                </a:moveTo>
                <a:lnTo>
                  <a:pt x="1164590" y="1306321"/>
                </a:lnTo>
                <a:lnTo>
                  <a:pt x="1164590" y="6350"/>
                </a:lnTo>
                <a:lnTo>
                  <a:pt x="6350" y="6350"/>
                </a:lnTo>
                <a:lnTo>
                  <a:pt x="6350" y="1306321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3"/>
          <p:cNvSpPr/>
          <p:nvPr/>
        </p:nvSpPr>
        <p:spPr>
          <a:xfrm>
            <a:off x="3314880" y="3046320"/>
            <a:ext cx="822240" cy="95400"/>
          </a:xfrm>
          <a:custGeom>
            <a:avLst/>
            <a:gdLst>
              <a:gd name="textAreaLeft" fmla="*/ 0 w 822240"/>
              <a:gd name="textAreaRight" fmla="*/ 822600 w 82224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821944" h="94996">
                <a:moveTo>
                  <a:pt x="815594" y="6350"/>
                </a:moveTo>
                <a:lnTo>
                  <a:pt x="6350" y="88645"/>
                </a:lnTo>
              </a:path>
            </a:pathLst>
          </a:custGeom>
          <a:noFill/>
          <a:ln w="12600">
            <a:solidFill>
              <a:srgbClr val="d9d9d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3"/>
          <p:cNvSpPr/>
          <p:nvPr/>
        </p:nvSpPr>
        <p:spPr>
          <a:xfrm>
            <a:off x="5281560" y="3046320"/>
            <a:ext cx="822240" cy="560520"/>
          </a:xfrm>
          <a:custGeom>
            <a:avLst/>
            <a:gdLst>
              <a:gd name="textAreaLeft" fmla="*/ 0 w 822240"/>
              <a:gd name="textAreaRight" fmla="*/ 822600 w 822240"/>
              <a:gd name="textAreaTop" fmla="*/ 0 h 560520"/>
              <a:gd name="textAreaBottom" fmla="*/ 560880 h 560520"/>
            </a:gdLst>
            <a:ahLst/>
            <a:rect l="textAreaLeft" t="textAreaTop" r="textAreaRight" b="textAreaBottom"/>
            <a:pathLst>
              <a:path w="821944" h="559816">
                <a:moveTo>
                  <a:pt x="815594" y="553466"/>
                </a:moveTo>
                <a:lnTo>
                  <a:pt x="6350" y="6350"/>
                </a:lnTo>
              </a:path>
            </a:pathLst>
          </a:custGeom>
          <a:noFill/>
          <a:ln w="12600">
            <a:solidFill>
              <a:srgbClr val="d9d9d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3"/>
          <p:cNvSpPr/>
          <p:nvPr/>
        </p:nvSpPr>
        <p:spPr>
          <a:xfrm>
            <a:off x="2162160" y="1739880"/>
            <a:ext cx="1158840" cy="1395360"/>
          </a:xfrm>
          <a:custGeom>
            <a:avLst/>
            <a:gdLst>
              <a:gd name="textAreaLeft" fmla="*/ 0 w 1158840"/>
              <a:gd name="textAreaRight" fmla="*/ 1159200 w 1158840"/>
              <a:gd name="textAreaTop" fmla="*/ 0 h 1395360"/>
              <a:gd name="textAreaBottom" fmla="*/ 1395720 h 1395360"/>
            </a:gdLst>
            <a:ahLst/>
            <a:rect l="textAreaLeft" t="textAreaTop" r="textAreaRight" b="textAreaBottom"/>
            <a:pathLst>
              <a:path w="1158240" h="1394460">
                <a:moveTo>
                  <a:pt x="0" y="1394460"/>
                </a:moveTo>
                <a:lnTo>
                  <a:pt x="1158240" y="1394460"/>
                </a:lnTo>
                <a:lnTo>
                  <a:pt x="1158240" y="0"/>
                </a:lnTo>
                <a:lnTo>
                  <a:pt x="0" y="0"/>
                </a:lnTo>
                <a:lnTo>
                  <a:pt x="0" y="1394460"/>
                </a:lnTo>
              </a:path>
            </a:pathLst>
          </a:cu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reeform 3"/>
          <p:cNvSpPr/>
          <p:nvPr/>
        </p:nvSpPr>
        <p:spPr>
          <a:xfrm>
            <a:off x="2155680" y="1733400"/>
            <a:ext cx="1171800" cy="1408320"/>
          </a:xfrm>
          <a:custGeom>
            <a:avLst/>
            <a:gdLst>
              <a:gd name="textAreaLeft" fmla="*/ 0 w 1171800"/>
              <a:gd name="textAreaRight" fmla="*/ 1172160 w 1171800"/>
              <a:gd name="textAreaTop" fmla="*/ 0 h 1408320"/>
              <a:gd name="textAreaBottom" fmla="*/ 1408320 h 1408320"/>
            </a:gdLst>
            <a:ahLst/>
            <a:rect l="textAreaLeft" t="textAreaTop" r="textAreaRight" b="textAreaBottom"/>
            <a:pathLst>
              <a:path w="1170940" h="1407160">
                <a:moveTo>
                  <a:pt x="6350" y="1400810"/>
                </a:moveTo>
                <a:lnTo>
                  <a:pt x="1164590" y="1400810"/>
                </a:lnTo>
                <a:lnTo>
                  <a:pt x="1164590" y="6350"/>
                </a:lnTo>
                <a:lnTo>
                  <a:pt x="6350" y="6350"/>
                </a:lnTo>
                <a:lnTo>
                  <a:pt x="6350" y="140081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Freeform 3"/>
          <p:cNvSpPr/>
          <p:nvPr/>
        </p:nvSpPr>
        <p:spPr>
          <a:xfrm>
            <a:off x="4130640" y="1739880"/>
            <a:ext cx="1157400" cy="1312920"/>
          </a:xfrm>
          <a:custGeom>
            <a:avLst/>
            <a:gdLst>
              <a:gd name="textAreaLeft" fmla="*/ 0 w 1157400"/>
              <a:gd name="textAreaRight" fmla="*/ 1157760 w 1157400"/>
              <a:gd name="textAreaTop" fmla="*/ 0 h 1312920"/>
              <a:gd name="textAreaBottom" fmla="*/ 1313280 h 1312920"/>
            </a:gdLst>
            <a:ahLst/>
            <a:rect l="textAreaLeft" t="textAreaTop" r="textAreaRight" b="textAreaBottom"/>
            <a:pathLst>
              <a:path w="1158240" h="1312164">
                <a:moveTo>
                  <a:pt x="0" y="1312164"/>
                </a:moveTo>
                <a:lnTo>
                  <a:pt x="1158239" y="1312164"/>
                </a:lnTo>
                <a:lnTo>
                  <a:pt x="1158239" y="0"/>
                </a:lnTo>
                <a:lnTo>
                  <a:pt x="0" y="0"/>
                </a:lnTo>
                <a:lnTo>
                  <a:pt x="0" y="1312164"/>
                </a:lnTo>
              </a:path>
            </a:pathLst>
          </a:cu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reeform 3"/>
          <p:cNvSpPr/>
          <p:nvPr/>
        </p:nvSpPr>
        <p:spPr>
          <a:xfrm>
            <a:off x="4124160" y="1733400"/>
            <a:ext cx="1170000" cy="132588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1325880"/>
              <a:gd name="textAreaBottom" fmla="*/ 1326240 h 1325880"/>
            </a:gdLst>
            <a:ahLst/>
            <a:rect l="textAreaLeft" t="textAreaTop" r="textAreaRight" b="textAreaBottom"/>
            <a:pathLst>
              <a:path w="1170940" h="1324864">
                <a:moveTo>
                  <a:pt x="6350" y="1318514"/>
                </a:moveTo>
                <a:lnTo>
                  <a:pt x="1164589" y="1318514"/>
                </a:lnTo>
                <a:lnTo>
                  <a:pt x="1164589" y="6350"/>
                </a:lnTo>
                <a:lnTo>
                  <a:pt x="6350" y="6350"/>
                </a:lnTo>
                <a:lnTo>
                  <a:pt x="6350" y="1318514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3"/>
          <p:cNvSpPr/>
          <p:nvPr/>
        </p:nvSpPr>
        <p:spPr>
          <a:xfrm>
            <a:off x="6097680" y="1739880"/>
            <a:ext cx="1157040" cy="1860480"/>
          </a:xfrm>
          <a:custGeom>
            <a:avLst/>
            <a:gdLst>
              <a:gd name="textAreaLeft" fmla="*/ 0 w 1157040"/>
              <a:gd name="textAreaRight" fmla="*/ 1157400 w 1157040"/>
              <a:gd name="textAreaTop" fmla="*/ 0 h 1860480"/>
              <a:gd name="textAreaBottom" fmla="*/ 1860840 h 1860480"/>
            </a:gdLst>
            <a:ahLst/>
            <a:rect l="textAreaLeft" t="textAreaTop" r="textAreaRight" b="textAreaBottom"/>
            <a:pathLst>
              <a:path w="1158240" h="1859280">
                <a:moveTo>
                  <a:pt x="0" y="1859280"/>
                </a:moveTo>
                <a:lnTo>
                  <a:pt x="1158240" y="1859280"/>
                </a:lnTo>
                <a:lnTo>
                  <a:pt x="1158240" y="0"/>
                </a:lnTo>
                <a:lnTo>
                  <a:pt x="0" y="0"/>
                </a:lnTo>
                <a:lnTo>
                  <a:pt x="0" y="1859280"/>
                </a:lnTo>
              </a:path>
            </a:pathLst>
          </a:cu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6091200" y="1733400"/>
            <a:ext cx="1170000" cy="1873440"/>
          </a:xfrm>
          <a:custGeom>
            <a:avLst/>
            <a:gdLst>
              <a:gd name="textAreaLeft" fmla="*/ 0 w 1170000"/>
              <a:gd name="textAreaRight" fmla="*/ 1170360 w 1170000"/>
              <a:gd name="textAreaTop" fmla="*/ 0 h 1873440"/>
              <a:gd name="textAreaBottom" fmla="*/ 1873800 h 1873440"/>
            </a:gdLst>
            <a:ahLst/>
            <a:rect l="textAreaLeft" t="textAreaTop" r="textAreaRight" b="textAreaBottom"/>
            <a:pathLst>
              <a:path w="1170940" h="1871980">
                <a:moveTo>
                  <a:pt x="6350" y="1865630"/>
                </a:moveTo>
                <a:lnTo>
                  <a:pt x="1164590" y="1865630"/>
                </a:lnTo>
                <a:lnTo>
                  <a:pt x="1164590" y="6350"/>
                </a:lnTo>
                <a:lnTo>
                  <a:pt x="6350" y="6350"/>
                </a:lnTo>
                <a:lnTo>
                  <a:pt x="6350" y="186563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3"/>
          <p:cNvSpPr/>
          <p:nvPr/>
        </p:nvSpPr>
        <p:spPr>
          <a:xfrm>
            <a:off x="3314880" y="1733400"/>
            <a:ext cx="822240" cy="22320"/>
          </a:xfrm>
          <a:custGeom>
            <a:avLst/>
            <a:gdLst>
              <a:gd name="textAreaLeft" fmla="*/ 0 w 822240"/>
              <a:gd name="textAreaRight" fmla="*/ 822600 w 8222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21944" h="21844">
                <a:moveTo>
                  <a:pt x="815594" y="6350"/>
                </a:moveTo>
                <a:lnTo>
                  <a:pt x="6350" y="6350"/>
                </a:lnTo>
              </a:path>
            </a:pathLst>
          </a:custGeom>
          <a:noFill/>
          <a:ln w="12600">
            <a:solidFill>
              <a:srgbClr val="d9d9d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3"/>
          <p:cNvSpPr/>
          <p:nvPr/>
        </p:nvSpPr>
        <p:spPr>
          <a:xfrm>
            <a:off x="5281560" y="1733400"/>
            <a:ext cx="822240" cy="22320"/>
          </a:xfrm>
          <a:custGeom>
            <a:avLst/>
            <a:gdLst>
              <a:gd name="textAreaLeft" fmla="*/ 0 w 822240"/>
              <a:gd name="textAreaRight" fmla="*/ 822600 w 8222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821944" h="21844">
                <a:moveTo>
                  <a:pt x="815594" y="6350"/>
                </a:moveTo>
                <a:lnTo>
                  <a:pt x="6350" y="6350"/>
                </a:lnTo>
              </a:path>
            </a:pathLst>
          </a:custGeom>
          <a:noFill/>
          <a:ln w="12600">
            <a:solidFill>
              <a:srgbClr val="d9d9d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3"/>
          <p:cNvSpPr/>
          <p:nvPr/>
        </p:nvSpPr>
        <p:spPr>
          <a:xfrm>
            <a:off x="1752480" y="4892760"/>
            <a:ext cx="5915160" cy="22320"/>
          </a:xfrm>
          <a:custGeom>
            <a:avLst/>
            <a:gdLst>
              <a:gd name="textAreaLeft" fmla="*/ 0 w 5915160"/>
              <a:gd name="textAreaRight" fmla="*/ 5915520 w 59151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915152" h="21844">
                <a:moveTo>
                  <a:pt x="6350" y="6350"/>
                </a:moveTo>
                <a:lnTo>
                  <a:pt x="5908801" y="6350"/>
                </a:lnTo>
              </a:path>
            </a:pathLst>
          </a:custGeom>
          <a:noFill/>
          <a:ln w="1260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3"/>
          <p:cNvSpPr/>
          <p:nvPr/>
        </p:nvSpPr>
        <p:spPr>
          <a:xfrm>
            <a:off x="714240" y="5464080"/>
            <a:ext cx="7747200" cy="739800"/>
          </a:xfrm>
          <a:custGeom>
            <a:avLst/>
            <a:gdLst>
              <a:gd name="textAreaLeft" fmla="*/ 0 w 7747200"/>
              <a:gd name="textAreaRight" fmla="*/ 7747560 w 774720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7746110" h="738670">
                <a:moveTo>
                  <a:pt x="0" y="738670"/>
                </a:moveTo>
                <a:lnTo>
                  <a:pt x="7746110" y="738670"/>
                </a:lnTo>
                <a:lnTo>
                  <a:pt x="7746110" y="0"/>
                </a:lnTo>
                <a:lnTo>
                  <a:pt x="0" y="0"/>
                </a:lnTo>
                <a:lnTo>
                  <a:pt x="0" y="738670"/>
                </a:ln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sp>
        <p:nvSpPr>
          <p:cNvPr id="216" name="TextBox 1"/>
          <p:cNvSpPr/>
          <p:nvPr/>
        </p:nvSpPr>
        <p:spPr>
          <a:xfrm>
            <a:off x="2619720" y="2349360"/>
            <a:ext cx="22464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44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55.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"/>
          <p:cNvSpPr/>
          <p:nvPr/>
        </p:nvSpPr>
        <p:spPr>
          <a:xfrm>
            <a:off x="4588200" y="2311560"/>
            <a:ext cx="22464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4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58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"/>
          <p:cNvSpPr/>
          <p:nvPr/>
        </p:nvSpPr>
        <p:spPr>
          <a:xfrm>
            <a:off x="6556680" y="2577960"/>
            <a:ext cx="224640" cy="178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58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41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"/>
          <p:cNvSpPr/>
          <p:nvPr/>
        </p:nvSpPr>
        <p:spPr>
          <a:xfrm>
            <a:off x="2460600" y="4978440"/>
            <a:ext cx="54936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惠普点亮激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4444560" y="4978440"/>
            <a:ext cx="53208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联想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Z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流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1"/>
          <p:cNvSpPr/>
          <p:nvPr/>
        </p:nvSpPr>
        <p:spPr>
          <a:xfrm>
            <a:off x="6176520" y="4978440"/>
            <a:ext cx="98172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戴尔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streak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粉丝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1624320" y="2158920"/>
            <a:ext cx="183600" cy="189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女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男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"/>
          <p:cNvSpPr/>
          <p:nvPr/>
        </p:nvSpPr>
        <p:spPr>
          <a:xfrm>
            <a:off x="613800" y="266760"/>
            <a:ext cx="6708240" cy="13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1612800"/>
                <a:tab algn="l" pos="6261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微博诊断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粉丝性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12800"/>
                <a:tab algn="l" pos="6261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1612800"/>
                <a:tab algn="l" pos="6261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戴尔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streak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粉丝团微博竞品新浪微博全国粉丝性别构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12800"/>
                <a:tab algn="l" pos="6261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612800"/>
                <a:tab algn="l" pos="62611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位：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"/>
          <p:cNvSpPr/>
          <p:nvPr/>
        </p:nvSpPr>
        <p:spPr>
          <a:xfrm>
            <a:off x="2066400" y="5562720"/>
            <a:ext cx="5799960" cy="12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目前戴尔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ak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粉丝团女性居多，占比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58.8%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；而其他两个竞品男性居多，这在一定程度上，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现出了常见的男性对数码科技产品的关注热情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177804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Source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：从戴尔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streak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粉丝团微博、盛大游戏呾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4399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游戏微博分别抽取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1222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、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3798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呾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5004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个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id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数据，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2011/06/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097D-9777-42A2-BA9A-9739371711D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Freeform 3"/>
          <p:cNvSpPr/>
          <p:nvPr/>
        </p:nvSpPr>
        <p:spPr>
          <a:xfrm>
            <a:off x="6058080" y="3032280"/>
            <a:ext cx="620640" cy="749160"/>
          </a:xfrm>
          <a:custGeom>
            <a:avLst/>
            <a:gdLst>
              <a:gd name="textAreaLeft" fmla="*/ 0 w 620640"/>
              <a:gd name="textAreaRight" fmla="*/ 621000 w 62064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621093" h="749967">
                <a:moveTo>
                  <a:pt x="523192" y="82200"/>
                </a:moveTo>
                <a:cubicBezTo>
                  <a:pt x="648287" y="198659"/>
                  <a:pt x="654510" y="395255"/>
                  <a:pt x="537162" y="521493"/>
                </a:cubicBezTo>
                <a:cubicBezTo>
                  <a:pt x="466295" y="597566"/>
                  <a:pt x="395430" y="673766"/>
                  <a:pt x="324564" y="749966"/>
                </a:cubicBezTo>
                <a:cubicBezTo>
                  <a:pt x="248999" y="679608"/>
                  <a:pt x="173434" y="609377"/>
                  <a:pt x="97996" y="539020"/>
                </a:cubicBezTo>
                <a:cubicBezTo>
                  <a:pt x="-27225" y="422560"/>
                  <a:pt x="-33448" y="225964"/>
                  <a:pt x="84026" y="99726"/>
                </a:cubicBezTo>
                <a:cubicBezTo>
                  <a:pt x="201374" y="-26384"/>
                  <a:pt x="398097" y="-34258"/>
                  <a:pt x="523192" y="82200"/>
                </a:cubicBezTo>
              </a:path>
            </a:pathLst>
          </a:custGeom>
          <a:solidFill>
            <a:srgbClr val="80d7f7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reeform 3"/>
          <p:cNvSpPr/>
          <p:nvPr/>
        </p:nvSpPr>
        <p:spPr>
          <a:xfrm>
            <a:off x="6051600" y="3025800"/>
            <a:ext cx="633240" cy="762120"/>
          </a:xfrm>
          <a:custGeom>
            <a:avLst/>
            <a:gdLst>
              <a:gd name="textAreaLeft" fmla="*/ 0 w 633240"/>
              <a:gd name="textAreaRight" fmla="*/ 633600 w 633240"/>
              <a:gd name="textAreaTop" fmla="*/ 0 h 762120"/>
              <a:gd name="textAreaBottom" fmla="*/ 762480 h 762120"/>
            </a:gdLst>
            <a:ahLst/>
            <a:rect l="textAreaLeft" t="textAreaTop" r="textAreaRight" b="textAreaBottom"/>
            <a:pathLst>
              <a:path w="633793" h="762667">
                <a:moveTo>
                  <a:pt x="529542" y="88550"/>
                </a:moveTo>
                <a:cubicBezTo>
                  <a:pt x="654637" y="205009"/>
                  <a:pt x="660860" y="401605"/>
                  <a:pt x="543512" y="527843"/>
                </a:cubicBezTo>
                <a:cubicBezTo>
                  <a:pt x="472645" y="603916"/>
                  <a:pt x="401780" y="680116"/>
                  <a:pt x="330914" y="756316"/>
                </a:cubicBezTo>
                <a:cubicBezTo>
                  <a:pt x="255349" y="685958"/>
                  <a:pt x="179784" y="615727"/>
                  <a:pt x="104346" y="545370"/>
                </a:cubicBezTo>
                <a:cubicBezTo>
                  <a:pt x="-20875" y="428910"/>
                  <a:pt x="-27098" y="232314"/>
                  <a:pt x="90376" y="106076"/>
                </a:cubicBezTo>
                <a:cubicBezTo>
                  <a:pt x="207724" y="-20034"/>
                  <a:pt x="404447" y="-27908"/>
                  <a:pt x="529542" y="88550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Freeform 3"/>
          <p:cNvSpPr/>
          <p:nvPr/>
        </p:nvSpPr>
        <p:spPr>
          <a:xfrm>
            <a:off x="5465880" y="2124000"/>
            <a:ext cx="620640" cy="750960"/>
          </a:xfrm>
          <a:custGeom>
            <a:avLst/>
            <a:gdLst>
              <a:gd name="textAreaLeft" fmla="*/ 0 w 620640"/>
              <a:gd name="textAreaRight" fmla="*/ 621000 w 620640"/>
              <a:gd name="textAreaTop" fmla="*/ 0 h 750960"/>
              <a:gd name="textAreaBottom" fmla="*/ 751320 h 750960"/>
            </a:gdLst>
            <a:ahLst/>
            <a:rect l="textAreaLeft" t="textAreaTop" r="textAreaRight" b="textAreaBottom"/>
            <a:pathLst>
              <a:path w="621109" h="749950">
                <a:moveTo>
                  <a:pt x="523224" y="82184"/>
                </a:moveTo>
                <a:cubicBezTo>
                  <a:pt x="648319" y="198643"/>
                  <a:pt x="654542" y="395366"/>
                  <a:pt x="537067" y="521477"/>
                </a:cubicBezTo>
                <a:cubicBezTo>
                  <a:pt x="466201" y="597677"/>
                  <a:pt x="395335" y="673877"/>
                  <a:pt x="324469" y="749950"/>
                </a:cubicBezTo>
                <a:cubicBezTo>
                  <a:pt x="249031" y="679719"/>
                  <a:pt x="173466" y="609361"/>
                  <a:pt x="97901" y="539130"/>
                </a:cubicBezTo>
                <a:cubicBezTo>
                  <a:pt x="-27193" y="422671"/>
                  <a:pt x="-33416" y="225948"/>
                  <a:pt x="83931" y="99837"/>
                </a:cubicBezTo>
                <a:cubicBezTo>
                  <a:pt x="201406" y="-26400"/>
                  <a:pt x="398002" y="-34274"/>
                  <a:pt x="523224" y="82184"/>
                </a:cubicBezTo>
              </a:path>
            </a:pathLst>
          </a:custGeom>
          <a:solidFill>
            <a:srgbClr val="80d7f7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Freeform 3"/>
          <p:cNvSpPr/>
          <p:nvPr/>
        </p:nvSpPr>
        <p:spPr>
          <a:xfrm>
            <a:off x="5459400" y="2117880"/>
            <a:ext cx="633600" cy="763560"/>
          </a:xfrm>
          <a:custGeom>
            <a:avLst/>
            <a:gdLst>
              <a:gd name="textAreaLeft" fmla="*/ 0 w 633600"/>
              <a:gd name="textAreaRight" fmla="*/ 633960 w 633600"/>
              <a:gd name="textAreaTop" fmla="*/ 0 h 763560"/>
              <a:gd name="textAreaBottom" fmla="*/ 763920 h 763560"/>
            </a:gdLst>
            <a:ahLst/>
            <a:rect l="textAreaLeft" t="textAreaTop" r="textAreaRight" b="textAreaBottom"/>
            <a:pathLst>
              <a:path w="633809" h="762650">
                <a:moveTo>
                  <a:pt x="529574" y="88534"/>
                </a:moveTo>
                <a:cubicBezTo>
                  <a:pt x="654669" y="204993"/>
                  <a:pt x="660892" y="401716"/>
                  <a:pt x="543417" y="527827"/>
                </a:cubicBezTo>
                <a:cubicBezTo>
                  <a:pt x="472551" y="604027"/>
                  <a:pt x="401685" y="680227"/>
                  <a:pt x="330819" y="756300"/>
                </a:cubicBezTo>
                <a:cubicBezTo>
                  <a:pt x="255381" y="686069"/>
                  <a:pt x="179816" y="615711"/>
                  <a:pt x="104251" y="545480"/>
                </a:cubicBezTo>
                <a:cubicBezTo>
                  <a:pt x="-20843" y="429021"/>
                  <a:pt x="-27066" y="232298"/>
                  <a:pt x="90281" y="106187"/>
                </a:cubicBezTo>
                <a:cubicBezTo>
                  <a:pt x="207756" y="-20050"/>
                  <a:pt x="404352" y="-27924"/>
                  <a:pt x="529574" y="88534"/>
                </a:cubicBez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reeform 3"/>
          <p:cNvSpPr/>
          <p:nvPr/>
        </p:nvSpPr>
        <p:spPr>
          <a:xfrm>
            <a:off x="498600" y="5499000"/>
            <a:ext cx="8178840" cy="860400"/>
          </a:xfrm>
          <a:custGeom>
            <a:avLst/>
            <a:gdLst>
              <a:gd name="textAreaLeft" fmla="*/ 0 w 8178840"/>
              <a:gd name="textAreaRight" fmla="*/ 8179200 w 817884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8178165" h="861771">
                <a:moveTo>
                  <a:pt x="0" y="861771"/>
                </a:moveTo>
                <a:lnTo>
                  <a:pt x="8178164" y="861771"/>
                </a:lnTo>
                <a:lnTo>
                  <a:pt x="8178164" y="0"/>
                </a:lnTo>
                <a:lnTo>
                  <a:pt x="0" y="0"/>
                </a:lnTo>
                <a:lnTo>
                  <a:pt x="0" y="861771"/>
                </a:ln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"/>
          <p:cNvPicPr/>
          <p:nvPr/>
        </p:nvPicPr>
        <p:blipFill>
          <a:blip r:embed="rId2"/>
          <a:stretch/>
        </p:blipFill>
        <p:spPr>
          <a:xfrm>
            <a:off x="2133720" y="1295280"/>
            <a:ext cx="4876560" cy="416556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"/>
          <p:cNvSpPr/>
          <p:nvPr/>
        </p:nvSpPr>
        <p:spPr>
          <a:xfrm>
            <a:off x="955080" y="266760"/>
            <a:ext cx="15976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微博诊断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粉丝活跃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1"/>
          <p:cNvSpPr/>
          <p:nvPr/>
        </p:nvSpPr>
        <p:spPr>
          <a:xfrm>
            <a:off x="2906640" y="952560"/>
            <a:ext cx="32558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戴尔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streak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粉丝团微博全国粉丝活跃度分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6139440" y="3289320"/>
            <a:ext cx="47628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22.3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条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"/>
          <p:cNvSpPr/>
          <p:nvPr/>
        </p:nvSpPr>
        <p:spPr>
          <a:xfrm>
            <a:off x="5542560" y="2387520"/>
            <a:ext cx="476280" cy="18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23.7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条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/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"/>
          <p:cNvSpPr/>
          <p:nvPr/>
        </p:nvSpPr>
        <p:spPr>
          <a:xfrm>
            <a:off x="5739120" y="6642000"/>
            <a:ext cx="278496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Source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：从戴尔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streak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粉丝团微博抽取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362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个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id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数据，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2011/06/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1"/>
          <p:cNvSpPr/>
          <p:nvPr/>
        </p:nvSpPr>
        <p:spPr>
          <a:xfrm>
            <a:off x="2071080" y="5537160"/>
            <a:ext cx="50540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目前戴尔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ak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粉丝团微博各地粉丝活跃存在明显差异，北京、上海、浙江等省仹粉丝活跃度较高，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均发博数超过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20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条；而在新疆、青海等西部地匙粉丝活跃度相对较低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Box 1"/>
          <p:cNvSpPr/>
          <p:nvPr/>
        </p:nvSpPr>
        <p:spPr>
          <a:xfrm>
            <a:off x="2870280" y="6083280"/>
            <a:ext cx="365040" cy="2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0000"/>
                </a:solidFill>
                <a:latin typeface="Arial"/>
                <a:ea typeface="微软雅黑"/>
              </a:rPr>
              <a:t>注：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微软雅黑"/>
              </a:rPr>
              <a:t>虽然西藏、于南、吉林等省粉丝活跃度高，但粉丝量极少，丌具备代表性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E8F4A-9F1E-45DB-9074-DF94C4266D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TextBox 1"/>
          <p:cNvSpPr/>
          <p:nvPr/>
        </p:nvSpPr>
        <p:spPr>
          <a:xfrm>
            <a:off x="1742040" y="3517920"/>
            <a:ext cx="236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新疆 古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"/>
          <p:cNvSpPr/>
          <p:nvPr/>
        </p:nvSpPr>
        <p:spPr>
          <a:xfrm>
            <a:off x="1761480" y="3517920"/>
            <a:ext cx="13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内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1968120" y="3683160"/>
            <a:ext cx="2066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湖南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"/>
          <p:cNvSpPr/>
          <p:nvPr/>
        </p:nvSpPr>
        <p:spPr>
          <a:xfrm>
            <a:off x="2655720" y="3759120"/>
            <a:ext cx="3970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陕西    辽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"/>
          <p:cNvSpPr/>
          <p:nvPr/>
        </p:nvSpPr>
        <p:spPr>
          <a:xfrm>
            <a:off x="1850400" y="3848040"/>
            <a:ext cx="13788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湖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1"/>
          <p:cNvSpPr/>
          <p:nvPr/>
        </p:nvSpPr>
        <p:spPr>
          <a:xfrm>
            <a:off x="1748520" y="4089240"/>
            <a:ext cx="13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重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1"/>
          <p:cNvSpPr/>
          <p:nvPr/>
        </p:nvSpPr>
        <p:spPr>
          <a:xfrm>
            <a:off x="2586960" y="4127400"/>
            <a:ext cx="13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河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"/>
          <p:cNvSpPr/>
          <p:nvPr/>
        </p:nvSpPr>
        <p:spPr>
          <a:xfrm>
            <a:off x="7336800" y="3429000"/>
            <a:ext cx="13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北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1"/>
          <p:cNvSpPr/>
          <p:nvPr/>
        </p:nvSpPr>
        <p:spPr>
          <a:xfrm>
            <a:off x="5571360" y="4025880"/>
            <a:ext cx="13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福建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1"/>
          <p:cNvSpPr/>
          <p:nvPr/>
        </p:nvSpPr>
        <p:spPr>
          <a:xfrm>
            <a:off x="4822200" y="3619440"/>
            <a:ext cx="13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广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1"/>
          <p:cNvSpPr/>
          <p:nvPr/>
        </p:nvSpPr>
        <p:spPr>
          <a:xfrm>
            <a:off x="3894840" y="3530520"/>
            <a:ext cx="13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山东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"/>
          <p:cNvSpPr/>
          <p:nvPr/>
        </p:nvSpPr>
        <p:spPr>
          <a:xfrm>
            <a:off x="6409440" y="3479760"/>
            <a:ext cx="13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上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2505960" y="3479760"/>
            <a:ext cx="694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"/>
          <p:cNvSpPr/>
          <p:nvPr/>
        </p:nvSpPr>
        <p:spPr>
          <a:xfrm>
            <a:off x="1748520" y="1739880"/>
            <a:ext cx="13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西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1"/>
          <p:cNvSpPr/>
          <p:nvPr/>
        </p:nvSpPr>
        <p:spPr>
          <a:xfrm>
            <a:off x="2027880" y="2552760"/>
            <a:ext cx="137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于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Box 1"/>
          <p:cNvSpPr/>
          <p:nvPr/>
        </p:nvSpPr>
        <p:spPr>
          <a:xfrm>
            <a:off x="3615480" y="3467160"/>
            <a:ext cx="137880" cy="4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浙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江苏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1"/>
          <p:cNvSpPr/>
          <p:nvPr/>
        </p:nvSpPr>
        <p:spPr>
          <a:xfrm>
            <a:off x="1814400" y="2984400"/>
            <a:ext cx="113364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14480"/>
                <a:tab algn="l" pos="203040"/>
                <a:tab algn="l" pos="291960"/>
                <a:tab algn="l" pos="317520"/>
                <a:tab algn="l" pos="3938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吉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14480"/>
                <a:tab algn="l" pos="203040"/>
                <a:tab algn="l" pos="291960"/>
                <a:tab algn="l" pos="317520"/>
                <a:tab algn="l" pos="3938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114480"/>
                <a:tab algn="l" pos="203040"/>
                <a:tab algn="l" pos="291960"/>
                <a:tab algn="l" pos="317520"/>
                <a:tab algn="l" pos="3938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于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00"/>
              </a:lnSpc>
              <a:tabLst>
                <a:tab algn="l" pos="0"/>
                <a:tab algn="l" pos="114480"/>
                <a:tab algn="l" pos="203040"/>
                <a:tab algn="l" pos="291960"/>
                <a:tab algn="l" pos="317520"/>
                <a:tab algn="l" pos="3938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天 河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114480"/>
                <a:tab algn="l" pos="203040"/>
                <a:tab algn="l" pos="291960"/>
                <a:tab algn="l" pos="317520"/>
                <a:tab algn="l" pos="3938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浙                    重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114480"/>
                <a:tab algn="l" pos="203040"/>
                <a:tab algn="l" pos="291960"/>
                <a:tab algn="l" pos="317520"/>
                <a:tab algn="l" pos="3938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海南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114480"/>
                <a:tab algn="l" pos="203040"/>
                <a:tab algn="l" pos="291960"/>
                <a:tab algn="l" pos="317520"/>
                <a:tab algn="l" pos="3938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黑龙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114480"/>
                <a:tab algn="l" pos="203040"/>
                <a:tab algn="l" pos="291960"/>
                <a:tab algn="l" pos="317520"/>
                <a:tab algn="l" pos="3938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四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799"/>
              </a:lnSpc>
              <a:tabLst>
                <a:tab algn="l" pos="0"/>
                <a:tab algn="l" pos="114480"/>
                <a:tab algn="l" pos="203040"/>
                <a:tab algn="l" pos="291960"/>
                <a:tab algn="l" pos="317520"/>
                <a:tab algn="l" pos="39384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新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1"/>
          <p:cNvSpPr/>
          <p:nvPr/>
        </p:nvSpPr>
        <p:spPr>
          <a:xfrm>
            <a:off x="1450440" y="4457880"/>
            <a:ext cx="648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1"/>
          <p:cNvSpPr/>
          <p:nvPr/>
        </p:nvSpPr>
        <p:spPr>
          <a:xfrm>
            <a:off x="2342880" y="4457880"/>
            <a:ext cx="128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1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"/>
          <p:cNvSpPr/>
          <p:nvPr/>
        </p:nvSpPr>
        <p:spPr>
          <a:xfrm>
            <a:off x="3269880" y="4457880"/>
            <a:ext cx="128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"/>
          <p:cNvSpPr/>
          <p:nvPr/>
        </p:nvSpPr>
        <p:spPr>
          <a:xfrm>
            <a:off x="4209840" y="4457880"/>
            <a:ext cx="128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"/>
          <p:cNvSpPr/>
          <p:nvPr/>
        </p:nvSpPr>
        <p:spPr>
          <a:xfrm>
            <a:off x="5136840" y="4457880"/>
            <a:ext cx="128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4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"/>
          <p:cNvSpPr/>
          <p:nvPr/>
        </p:nvSpPr>
        <p:spPr>
          <a:xfrm>
            <a:off x="6064200" y="4457880"/>
            <a:ext cx="128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5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1"/>
          <p:cNvSpPr/>
          <p:nvPr/>
        </p:nvSpPr>
        <p:spPr>
          <a:xfrm>
            <a:off x="6991200" y="4457880"/>
            <a:ext cx="128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6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1"/>
          <p:cNvSpPr/>
          <p:nvPr/>
        </p:nvSpPr>
        <p:spPr>
          <a:xfrm>
            <a:off x="7930800" y="4457880"/>
            <a:ext cx="1288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7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1"/>
          <p:cNvSpPr/>
          <p:nvPr/>
        </p:nvSpPr>
        <p:spPr>
          <a:xfrm>
            <a:off x="893160" y="1727280"/>
            <a:ext cx="427680" cy="11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7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6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粉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5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1"/>
          <p:cNvSpPr/>
          <p:nvPr/>
        </p:nvSpPr>
        <p:spPr>
          <a:xfrm>
            <a:off x="887760" y="2819520"/>
            <a:ext cx="440280" cy="16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20304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活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4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20304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跃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20304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度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3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20304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2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20304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1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203040"/>
                <a:tab algn="l" pos="279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"/>
          <p:cNvSpPr/>
          <p:nvPr/>
        </p:nvSpPr>
        <p:spPr>
          <a:xfrm>
            <a:off x="7459560" y="4597560"/>
            <a:ext cx="2750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粉丝规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Box 1"/>
          <p:cNvSpPr/>
          <p:nvPr/>
        </p:nvSpPr>
        <p:spPr>
          <a:xfrm>
            <a:off x="6759000" y="1663560"/>
            <a:ext cx="343800" cy="3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微博传播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较高匙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1"/>
          <p:cNvSpPr/>
          <p:nvPr/>
        </p:nvSpPr>
        <p:spPr>
          <a:xfrm>
            <a:off x="1546920" y="266760"/>
            <a:ext cx="469584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571680"/>
                <a:tab algn="l" pos="140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微博诊断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综合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71680"/>
                <a:tab algn="l" pos="140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71680"/>
                <a:tab algn="l" pos="140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571680"/>
                <a:tab algn="l" pos="140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戴尔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streak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粉丝团微博各省粉丝规模与粉丝活跃度交互分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571680"/>
                <a:tab algn="l" pos="140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80.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Box 1"/>
          <p:cNvSpPr/>
          <p:nvPr/>
        </p:nvSpPr>
        <p:spPr>
          <a:xfrm>
            <a:off x="995040" y="4902120"/>
            <a:ext cx="7623720" cy="19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3556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注：为方便显示，西藏粉丝活跃度此处进行了缩小，丌影响整体图表含义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3556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戴尔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ak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粉丝团在各省的微博传播力差异显著，并丏均未形成一定的匙域传播力，相对其他省市，北京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3556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呾上海是微博影响力较大的匙域。因此，如何提升高质量的粉丝数扩大微博影响力将是下一步工作重点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355680"/>
                <a:tab algn="l" pos="48387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Source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：从戴尔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streak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粉丝团微博抽取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362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个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id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数据，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2011/06/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BF1E0-6940-4F23-AFD7-B51621E586F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reeform 3"/>
          <p:cNvSpPr/>
          <p:nvPr/>
        </p:nvSpPr>
        <p:spPr>
          <a:xfrm>
            <a:off x="395280" y="5084640"/>
            <a:ext cx="5832360" cy="289080"/>
          </a:xfrm>
          <a:custGeom>
            <a:avLst/>
            <a:gdLst>
              <a:gd name="textAreaLeft" fmla="*/ 0 w 5832360"/>
              <a:gd name="textAreaRight" fmla="*/ 5832720 w 5832360"/>
              <a:gd name="textAreaTop" fmla="*/ 0 h 289080"/>
              <a:gd name="textAreaBottom" fmla="*/ 289440 h 289080"/>
            </a:gdLst>
            <a:ahLst/>
            <a:rect l="textAreaLeft" t="textAreaTop" r="textAreaRight" b="textAreaBottom"/>
            <a:pathLst>
              <a:path w="5832855" h="288035">
                <a:moveTo>
                  <a:pt x="0" y="288035"/>
                </a:moveTo>
                <a:lnTo>
                  <a:pt x="5832855" y="288035"/>
                </a:lnTo>
                <a:lnTo>
                  <a:pt x="5832855" y="0"/>
                </a:lnTo>
                <a:lnTo>
                  <a:pt x="0" y="0"/>
                </a:lnTo>
                <a:lnTo>
                  <a:pt x="0" y="288035"/>
                </a:ln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3"/>
          <p:cNvSpPr/>
          <p:nvPr/>
        </p:nvSpPr>
        <p:spPr>
          <a:xfrm>
            <a:off x="380880" y="3701880"/>
            <a:ext cx="6437520" cy="57240"/>
          </a:xfrm>
          <a:custGeom>
            <a:avLst/>
            <a:gdLst>
              <a:gd name="textAreaLeft" fmla="*/ 0 w 6437520"/>
              <a:gd name="textAreaRight" fmla="*/ 6437880 w 643752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6437566" h="57150">
                <a:moveTo>
                  <a:pt x="14287" y="14287"/>
                </a:moveTo>
                <a:lnTo>
                  <a:pt x="6423279" y="14287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reeform 3"/>
          <p:cNvSpPr/>
          <p:nvPr/>
        </p:nvSpPr>
        <p:spPr>
          <a:xfrm>
            <a:off x="4917960" y="1469880"/>
            <a:ext cx="57240" cy="1901880"/>
          </a:xfrm>
          <a:custGeom>
            <a:avLst/>
            <a:gdLst>
              <a:gd name="textAreaLeft" fmla="*/ 0 w 57240"/>
              <a:gd name="textAreaRight" fmla="*/ 57600 w 57240"/>
              <a:gd name="textAreaTop" fmla="*/ 0 h 1901880"/>
              <a:gd name="textAreaBottom" fmla="*/ 1902240 h 1901880"/>
            </a:gdLst>
            <a:ahLst/>
            <a:rect l="textAreaLeft" t="textAreaTop" r="textAreaRight" b="textAreaBottom"/>
            <a:pathLst>
              <a:path w="57150" h="1900682">
                <a:moveTo>
                  <a:pt x="14287" y="14287"/>
                </a:moveTo>
                <a:lnTo>
                  <a:pt x="14287" y="1886394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Freeform 3"/>
          <p:cNvSpPr/>
          <p:nvPr/>
        </p:nvSpPr>
        <p:spPr>
          <a:xfrm>
            <a:off x="5324400" y="1762200"/>
            <a:ext cx="184320" cy="207720"/>
          </a:xfrm>
          <a:custGeom>
            <a:avLst/>
            <a:gdLst>
              <a:gd name="textAreaLeft" fmla="*/ 0 w 184320"/>
              <a:gd name="textAreaRight" fmla="*/ 184680 w 184320"/>
              <a:gd name="textAreaTop" fmla="*/ 0 h 207720"/>
              <a:gd name="textAreaBottom" fmla="*/ 208080 h 207720"/>
            </a:gdLst>
            <a:ahLst/>
            <a:rect l="textAreaLeft" t="textAreaTop" r="textAreaRight" b="textAreaBottom"/>
            <a:pathLst>
              <a:path w="183388" h="208279">
                <a:moveTo>
                  <a:pt x="183388" y="97916"/>
                </a:moveTo>
                <a:cubicBezTo>
                  <a:pt x="185546" y="12445"/>
                  <a:pt x="93726" y="0"/>
                  <a:pt x="93726" y="0"/>
                </a:cubicBezTo>
                <a:lnTo>
                  <a:pt x="89661" y="0"/>
                </a:lnTo>
                <a:cubicBezTo>
                  <a:pt x="89661" y="0"/>
                  <a:pt x="-2159" y="12445"/>
                  <a:pt x="0" y="97916"/>
                </a:cubicBezTo>
                <a:cubicBezTo>
                  <a:pt x="4190" y="141477"/>
                  <a:pt x="56388" y="208279"/>
                  <a:pt x="89661" y="208279"/>
                </a:cubicBezTo>
                <a:lnTo>
                  <a:pt x="93726" y="208279"/>
                </a:lnTo>
                <a:cubicBezTo>
                  <a:pt x="127126" y="208279"/>
                  <a:pt x="179196" y="141477"/>
                  <a:pt x="183388" y="97916"/>
                </a:cubicBez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Freeform 3"/>
          <p:cNvSpPr/>
          <p:nvPr/>
        </p:nvSpPr>
        <p:spPr>
          <a:xfrm>
            <a:off x="5148360" y="1990800"/>
            <a:ext cx="546120" cy="1077840"/>
          </a:xfrm>
          <a:custGeom>
            <a:avLst/>
            <a:gdLst>
              <a:gd name="textAreaLeft" fmla="*/ 0 w 546120"/>
              <a:gd name="textAreaRight" fmla="*/ 546480 w 54612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546115" h="1078483">
                <a:moveTo>
                  <a:pt x="543829" y="440689"/>
                </a:moveTo>
                <a:cubicBezTo>
                  <a:pt x="543829" y="440689"/>
                  <a:pt x="449976" y="78232"/>
                  <a:pt x="434355" y="40767"/>
                </a:cubicBezTo>
                <a:cubicBezTo>
                  <a:pt x="418861" y="3048"/>
                  <a:pt x="378094" y="0"/>
                  <a:pt x="378094" y="0"/>
                </a:cubicBezTo>
                <a:lnTo>
                  <a:pt x="275224" y="0"/>
                </a:lnTo>
                <a:lnTo>
                  <a:pt x="271033" y="0"/>
                </a:lnTo>
                <a:lnTo>
                  <a:pt x="168036" y="0"/>
                </a:lnTo>
                <a:cubicBezTo>
                  <a:pt x="168036" y="0"/>
                  <a:pt x="127269" y="3048"/>
                  <a:pt x="111775" y="40767"/>
                </a:cubicBezTo>
                <a:cubicBezTo>
                  <a:pt x="95900" y="78232"/>
                  <a:pt x="2301" y="440689"/>
                  <a:pt x="2301" y="440689"/>
                </a:cubicBezTo>
                <a:cubicBezTo>
                  <a:pt x="2301" y="440689"/>
                  <a:pt x="-6969" y="471805"/>
                  <a:pt x="11699" y="481202"/>
                </a:cubicBezTo>
                <a:cubicBezTo>
                  <a:pt x="30368" y="490727"/>
                  <a:pt x="52212" y="471805"/>
                  <a:pt x="64912" y="446913"/>
                </a:cubicBezTo>
                <a:cubicBezTo>
                  <a:pt x="77231" y="421894"/>
                  <a:pt x="152161" y="187705"/>
                  <a:pt x="152161" y="187705"/>
                </a:cubicBezTo>
                <a:lnTo>
                  <a:pt x="139842" y="500126"/>
                </a:lnTo>
                <a:lnTo>
                  <a:pt x="92979" y="1043939"/>
                </a:lnTo>
                <a:cubicBezTo>
                  <a:pt x="92979" y="1043939"/>
                  <a:pt x="114823" y="1081405"/>
                  <a:pt x="139842" y="1078483"/>
                </a:cubicBezTo>
                <a:cubicBezTo>
                  <a:pt x="164861" y="1075308"/>
                  <a:pt x="180482" y="1072261"/>
                  <a:pt x="186451" y="1043939"/>
                </a:cubicBezTo>
                <a:cubicBezTo>
                  <a:pt x="192547" y="1017651"/>
                  <a:pt x="263413" y="568198"/>
                  <a:pt x="273065" y="507238"/>
                </a:cubicBezTo>
                <a:cubicBezTo>
                  <a:pt x="272303" y="502666"/>
                  <a:pt x="271922" y="500126"/>
                  <a:pt x="271922" y="500126"/>
                </a:cubicBezTo>
                <a:lnTo>
                  <a:pt x="274208" y="500126"/>
                </a:lnTo>
                <a:cubicBezTo>
                  <a:pt x="274208" y="500126"/>
                  <a:pt x="273700" y="502666"/>
                  <a:pt x="273065" y="507238"/>
                </a:cubicBezTo>
                <a:cubicBezTo>
                  <a:pt x="282717" y="568198"/>
                  <a:pt x="353583" y="1017651"/>
                  <a:pt x="359425" y="1043939"/>
                </a:cubicBezTo>
                <a:cubicBezTo>
                  <a:pt x="365648" y="1072261"/>
                  <a:pt x="381269" y="1075308"/>
                  <a:pt x="406161" y="1078483"/>
                </a:cubicBezTo>
                <a:cubicBezTo>
                  <a:pt x="431053" y="1081405"/>
                  <a:pt x="453151" y="1043939"/>
                  <a:pt x="453151" y="1043939"/>
                </a:cubicBezTo>
                <a:lnTo>
                  <a:pt x="406161" y="500126"/>
                </a:lnTo>
                <a:lnTo>
                  <a:pt x="393715" y="187705"/>
                </a:lnTo>
                <a:cubicBezTo>
                  <a:pt x="393715" y="187705"/>
                  <a:pt x="468772" y="421894"/>
                  <a:pt x="481345" y="446913"/>
                </a:cubicBezTo>
                <a:cubicBezTo>
                  <a:pt x="493791" y="471805"/>
                  <a:pt x="515635" y="490727"/>
                  <a:pt x="534304" y="481202"/>
                </a:cubicBezTo>
                <a:cubicBezTo>
                  <a:pt x="553100" y="471805"/>
                  <a:pt x="543829" y="440689"/>
                  <a:pt x="543829" y="440689"/>
                </a:cubicBez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"/>
          <p:cNvPicPr/>
          <p:nvPr/>
        </p:nvPicPr>
        <p:blipFill>
          <a:blip r:embed="rId2"/>
          <a:stretch/>
        </p:blipFill>
        <p:spPr>
          <a:xfrm>
            <a:off x="5931000" y="2959200"/>
            <a:ext cx="2921040" cy="2933640"/>
          </a:xfrm>
          <a:prstGeom prst="rect">
            <a:avLst/>
          </a:prstGeom>
          <a:ln w="0">
            <a:noFill/>
          </a:ln>
        </p:spPr>
      </p:pic>
      <p:sp>
        <p:nvSpPr>
          <p:cNvPr id="283" name="TextBox 1"/>
          <p:cNvSpPr/>
          <p:nvPr/>
        </p:nvSpPr>
        <p:spPr>
          <a:xfrm>
            <a:off x="919080" y="266760"/>
            <a:ext cx="1490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微博诊断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随规观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TextBox 1"/>
          <p:cNvSpPr/>
          <p:nvPr/>
        </p:nvSpPr>
        <p:spPr>
          <a:xfrm>
            <a:off x="1576080" y="3886200"/>
            <a:ext cx="3353400" cy="15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400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提升内容质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99cc00"/>
                </a:solidFill>
                <a:latin typeface="Arial"/>
                <a:ea typeface="微软雅黑"/>
              </a:rPr>
              <a:t>围绕粉丝兴趌设计话题呾活动，扩大微博传播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1"/>
          <p:cNvSpPr/>
          <p:nvPr/>
        </p:nvSpPr>
        <p:spPr>
          <a:xfrm>
            <a:off x="1219680" y="1663560"/>
            <a:ext cx="26067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Arial"/>
                <a:ea typeface="微软雅黑"/>
              </a:rPr>
              <a:t>随着竞品对微博的重规程度越来越高，各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Arial"/>
                <a:ea typeface="微软雅黑"/>
              </a:rPr>
              <a:t>牌企业对目标粉丝的争夺势在必行，从微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Arial"/>
                <a:ea typeface="微软雅黑"/>
              </a:rPr>
              <a:t>的内容呾粉丝的数量、质量、结构等方面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Arial"/>
                <a:ea typeface="微软雅黑"/>
              </a:rPr>
              <a:t>针对性的开展活动变得越来越重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1"/>
          <p:cNvSpPr/>
          <p:nvPr/>
        </p:nvSpPr>
        <p:spPr>
          <a:xfrm>
            <a:off x="5893560" y="1866960"/>
            <a:ext cx="2811240" cy="11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Who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Am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I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微软雅黑"/>
              </a:rPr>
              <a:t>建立形象个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A5ED9-200C-45F9-9E7D-3A6A2CB1FC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3"/>
          <p:cNvSpPr/>
          <p:nvPr/>
        </p:nvSpPr>
        <p:spPr>
          <a:xfrm>
            <a:off x="988920" y="1335240"/>
            <a:ext cx="7164360" cy="4325760"/>
          </a:xfrm>
          <a:custGeom>
            <a:avLst/>
            <a:gdLst>
              <a:gd name="textAreaLeft" fmla="*/ 0 w 7164360"/>
              <a:gd name="textAreaRight" fmla="*/ 7164720 w 7164360"/>
              <a:gd name="textAreaTop" fmla="*/ 0 h 4325760"/>
              <a:gd name="textAreaBottom" fmla="*/ 4326120 h 4325760"/>
            </a:gdLst>
            <a:ahLst/>
            <a:rect l="textAreaLeft" t="textAreaTop" r="textAreaRight" b="textAreaBottom"/>
            <a:pathLst>
              <a:path w="7164819" h="4326229">
                <a:moveTo>
                  <a:pt x="0" y="130428"/>
                </a:moveTo>
                <a:cubicBezTo>
                  <a:pt x="0" y="58419"/>
                  <a:pt x="58369" y="0"/>
                  <a:pt x="130352" y="0"/>
                </a:cubicBezTo>
                <a:lnTo>
                  <a:pt x="7034390" y="0"/>
                </a:lnTo>
                <a:cubicBezTo>
                  <a:pt x="7106399" y="0"/>
                  <a:pt x="7164819" y="58419"/>
                  <a:pt x="7164819" y="130428"/>
                </a:cubicBezTo>
                <a:lnTo>
                  <a:pt x="7164819" y="4195825"/>
                </a:lnTo>
                <a:cubicBezTo>
                  <a:pt x="7164819" y="4267860"/>
                  <a:pt x="7106399" y="4326229"/>
                  <a:pt x="7034390" y="4326229"/>
                </a:cubicBezTo>
                <a:lnTo>
                  <a:pt x="130352" y="4326229"/>
                </a:lnTo>
                <a:cubicBezTo>
                  <a:pt x="58369" y="4326229"/>
                  <a:pt x="0" y="4267860"/>
                  <a:pt x="0" y="4195825"/>
                </a:cubicBezTo>
                <a:lnTo>
                  <a:pt x="0" y="130428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Freeform 3"/>
          <p:cNvSpPr/>
          <p:nvPr/>
        </p:nvSpPr>
        <p:spPr>
          <a:xfrm>
            <a:off x="1116000" y="1550880"/>
            <a:ext cx="3456000" cy="388944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3889440"/>
              <a:gd name="textAreaBottom" fmla="*/ 3889800 h 3889440"/>
            </a:gdLst>
            <a:ahLst/>
            <a:rect l="textAreaLeft" t="textAreaTop" r="textAreaRight" b="textAreaBottom"/>
            <a:pathLst>
              <a:path w="3456432" h="3888485">
                <a:moveTo>
                  <a:pt x="0" y="3888486"/>
                </a:moveTo>
                <a:lnTo>
                  <a:pt x="3456431" y="3888486"/>
                </a:lnTo>
                <a:lnTo>
                  <a:pt x="3456431" y="0"/>
                </a:lnTo>
                <a:lnTo>
                  <a:pt x="0" y="0"/>
                </a:lnTo>
                <a:lnTo>
                  <a:pt x="0" y="3888486"/>
                </a:lnTo>
              </a:path>
            </a:pathLst>
          </a:custGeom>
          <a:solidFill>
            <a:srgbClr val="00b0f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reeform 3"/>
          <p:cNvSpPr/>
          <p:nvPr/>
        </p:nvSpPr>
        <p:spPr>
          <a:xfrm>
            <a:off x="4572000" y="1550880"/>
            <a:ext cx="3456000" cy="388944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3889440"/>
              <a:gd name="textAreaBottom" fmla="*/ 3889800 h 3889440"/>
            </a:gdLst>
            <a:ahLst/>
            <a:rect l="textAreaLeft" t="textAreaTop" r="textAreaRight" b="textAreaBottom"/>
            <a:pathLst>
              <a:path w="3456432" h="3888485">
                <a:moveTo>
                  <a:pt x="0" y="3888486"/>
                </a:moveTo>
                <a:lnTo>
                  <a:pt x="3456431" y="3888486"/>
                </a:lnTo>
                <a:lnTo>
                  <a:pt x="3456431" y="0"/>
                </a:lnTo>
                <a:lnTo>
                  <a:pt x="0" y="0"/>
                </a:lnTo>
                <a:lnTo>
                  <a:pt x="0" y="3888486"/>
                </a:lnTo>
              </a:path>
            </a:pathLst>
          </a:custGeom>
          <a:solidFill>
            <a:srgbClr val="00b0f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3"/>
          <p:cNvSpPr/>
          <p:nvPr/>
        </p:nvSpPr>
        <p:spPr>
          <a:xfrm>
            <a:off x="4565520" y="1328760"/>
            <a:ext cx="22320" cy="4338720"/>
          </a:xfrm>
          <a:custGeom>
            <a:avLst/>
            <a:gdLst>
              <a:gd name="textAreaLeft" fmla="*/ 0 w 22320"/>
              <a:gd name="textAreaRight" fmla="*/ 22680 w 22320"/>
              <a:gd name="textAreaTop" fmla="*/ 0 h 4338720"/>
              <a:gd name="textAreaBottom" fmla="*/ 4339080 h 4338720"/>
            </a:gdLst>
            <a:ahLst/>
            <a:rect l="textAreaLeft" t="textAreaTop" r="textAreaRight" b="textAreaBottom"/>
            <a:pathLst>
              <a:path w="22225" h="4338929">
                <a:moveTo>
                  <a:pt x="6350" y="6350"/>
                </a:moveTo>
                <a:lnTo>
                  <a:pt x="6350" y="433257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Freeform 3"/>
          <p:cNvSpPr/>
          <p:nvPr/>
        </p:nvSpPr>
        <p:spPr>
          <a:xfrm>
            <a:off x="5292720" y="3230640"/>
            <a:ext cx="33480" cy="539640"/>
          </a:xfrm>
          <a:custGeom>
            <a:avLst/>
            <a:gdLst>
              <a:gd name="textAreaLeft" fmla="*/ 0 w 33480"/>
              <a:gd name="textAreaRight" fmla="*/ 33840 w 334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33782" h="540384">
                <a:moveTo>
                  <a:pt x="16891" y="0"/>
                </a:moveTo>
                <a:lnTo>
                  <a:pt x="16891" y="5403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Freeform 3"/>
          <p:cNvSpPr/>
          <p:nvPr/>
        </p:nvSpPr>
        <p:spPr>
          <a:xfrm>
            <a:off x="5359320" y="3230640"/>
            <a:ext cx="66600" cy="539640"/>
          </a:xfrm>
          <a:custGeom>
            <a:avLst/>
            <a:gdLst>
              <a:gd name="textAreaLeft" fmla="*/ 0 w 66600"/>
              <a:gd name="textAreaRight" fmla="*/ 66600 w 6660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67564" h="540384">
                <a:moveTo>
                  <a:pt x="0" y="0"/>
                </a:moveTo>
                <a:lnTo>
                  <a:pt x="67564" y="0"/>
                </a:lnTo>
                <a:lnTo>
                  <a:pt x="67564" y="540384"/>
                </a:lnTo>
                <a:lnTo>
                  <a:pt x="0" y="54038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reeform 3"/>
          <p:cNvSpPr/>
          <p:nvPr/>
        </p:nvSpPr>
        <p:spPr>
          <a:xfrm>
            <a:off x="5460840" y="2960640"/>
            <a:ext cx="1343160" cy="108108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1343279" h="1080643">
                <a:moveTo>
                  <a:pt x="0" y="270129"/>
                </a:moveTo>
                <a:lnTo>
                  <a:pt x="802894" y="270129"/>
                </a:lnTo>
                <a:lnTo>
                  <a:pt x="802894" y="0"/>
                </a:lnTo>
                <a:lnTo>
                  <a:pt x="1343279" y="540385"/>
                </a:lnTo>
                <a:lnTo>
                  <a:pt x="802894" y="1080643"/>
                </a:lnTo>
                <a:lnTo>
                  <a:pt x="802894" y="810513"/>
                </a:lnTo>
                <a:lnTo>
                  <a:pt x="0" y="810513"/>
                </a:lnTo>
                <a:lnTo>
                  <a:pt x="0" y="270129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3" descr=""/>
          <p:cNvPicPr/>
          <p:nvPr/>
        </p:nvPicPr>
        <p:blipFill>
          <a:blip r:embed="rId1"/>
          <a:stretch/>
        </p:blipFill>
        <p:spPr>
          <a:xfrm>
            <a:off x="7149960" y="4635360"/>
            <a:ext cx="749520" cy="749520"/>
          </a:xfrm>
          <a:prstGeom prst="rect">
            <a:avLst/>
          </a:prstGeom>
          <a:ln w="0">
            <a:noFill/>
          </a:ln>
        </p:spPr>
      </p:pic>
      <p:sp>
        <p:nvSpPr>
          <p:cNvPr id="297" name="TextBox 1"/>
          <p:cNvSpPr/>
          <p:nvPr/>
        </p:nvSpPr>
        <p:spPr>
          <a:xfrm>
            <a:off x="2198520" y="2362320"/>
            <a:ext cx="87372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项目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微博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播策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推广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465E-6492-4423-BD39-3F55E223101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Freeform 3"/>
          <p:cNvSpPr/>
          <p:nvPr/>
        </p:nvSpPr>
        <p:spPr>
          <a:xfrm>
            <a:off x="3571920" y="2333520"/>
            <a:ext cx="57240" cy="317520"/>
          </a:xfrm>
          <a:custGeom>
            <a:avLst/>
            <a:gdLst>
              <a:gd name="textAreaLeft" fmla="*/ 0 w 57240"/>
              <a:gd name="textAreaRight" fmla="*/ 57600 w 5724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57150" h="316484">
                <a:moveTo>
                  <a:pt x="14287" y="14287"/>
                </a:moveTo>
                <a:lnTo>
                  <a:pt x="14287" y="302196"/>
                </a:lnTo>
              </a:path>
            </a:pathLst>
          </a:custGeom>
          <a:noFill/>
          <a:ln w="255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Freeform 3"/>
          <p:cNvSpPr/>
          <p:nvPr/>
        </p:nvSpPr>
        <p:spPr>
          <a:xfrm>
            <a:off x="5686560" y="2333520"/>
            <a:ext cx="56880" cy="317520"/>
          </a:xfrm>
          <a:custGeom>
            <a:avLst/>
            <a:gdLst>
              <a:gd name="textAreaLeft" fmla="*/ 0 w 56880"/>
              <a:gd name="textAreaRight" fmla="*/ 57240 w 56880"/>
              <a:gd name="textAreaTop" fmla="*/ 0 h 317520"/>
              <a:gd name="textAreaBottom" fmla="*/ 317880 h 317520"/>
            </a:gdLst>
            <a:ahLst/>
            <a:rect l="textAreaLeft" t="textAreaTop" r="textAreaRight" b="textAreaBottom"/>
            <a:pathLst>
              <a:path w="57150" h="316484">
                <a:moveTo>
                  <a:pt x="14287" y="14287"/>
                </a:moveTo>
                <a:lnTo>
                  <a:pt x="14287" y="302196"/>
                </a:lnTo>
              </a:path>
            </a:pathLst>
          </a:custGeom>
          <a:noFill/>
          <a:ln w="25560">
            <a:solidFill>
              <a:srgbClr val="f2f2f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Freeform 3"/>
          <p:cNvSpPr/>
          <p:nvPr/>
        </p:nvSpPr>
        <p:spPr>
          <a:xfrm>
            <a:off x="1862280" y="2852640"/>
            <a:ext cx="981000" cy="1335240"/>
          </a:xfrm>
          <a:custGeom>
            <a:avLst/>
            <a:gdLst>
              <a:gd name="textAreaLeft" fmla="*/ 0 w 981000"/>
              <a:gd name="textAreaRight" fmla="*/ 981360 w 981000"/>
              <a:gd name="textAreaTop" fmla="*/ 0 h 1335240"/>
              <a:gd name="textAreaBottom" fmla="*/ 1335600 h 1335240"/>
            </a:gdLst>
            <a:ahLst/>
            <a:rect l="textAreaLeft" t="textAreaTop" r="textAreaRight" b="textAreaBottom"/>
            <a:pathLst>
              <a:path w="981329" h="1335151">
                <a:moveTo>
                  <a:pt x="0" y="0"/>
                </a:moveTo>
                <a:lnTo>
                  <a:pt x="817752" y="0"/>
                </a:lnTo>
                <a:lnTo>
                  <a:pt x="981329" y="163576"/>
                </a:lnTo>
                <a:lnTo>
                  <a:pt x="981329" y="1335150"/>
                </a:lnTo>
                <a:lnTo>
                  <a:pt x="0" y="1335150"/>
                </a:lnTo>
                <a:lnTo>
                  <a:pt x="0" y="0"/>
                </a:ln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reeform 3"/>
          <p:cNvSpPr/>
          <p:nvPr/>
        </p:nvSpPr>
        <p:spPr>
          <a:xfrm>
            <a:off x="6588000" y="1413000"/>
            <a:ext cx="1224000" cy="739800"/>
          </a:xfrm>
          <a:custGeom>
            <a:avLst/>
            <a:gdLst>
              <a:gd name="textAreaLeft" fmla="*/ 0 w 1224000"/>
              <a:gd name="textAreaRight" fmla="*/ 1224360 w 122400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1224153" h="739521">
                <a:moveTo>
                  <a:pt x="0" y="96012"/>
                </a:moveTo>
                <a:cubicBezTo>
                  <a:pt x="0" y="43052"/>
                  <a:pt x="42926" y="0"/>
                  <a:pt x="96011" y="0"/>
                </a:cubicBezTo>
                <a:lnTo>
                  <a:pt x="203961" y="0"/>
                </a:lnTo>
                <a:lnTo>
                  <a:pt x="203961" y="0"/>
                </a:lnTo>
                <a:lnTo>
                  <a:pt x="510031" y="0"/>
                </a:lnTo>
                <a:lnTo>
                  <a:pt x="1128141" y="0"/>
                </a:lnTo>
                <a:cubicBezTo>
                  <a:pt x="1181100" y="0"/>
                  <a:pt x="1224153" y="43052"/>
                  <a:pt x="1224153" y="96012"/>
                </a:cubicBezTo>
                <a:lnTo>
                  <a:pt x="1224153" y="336041"/>
                </a:lnTo>
                <a:lnTo>
                  <a:pt x="1224153" y="336041"/>
                </a:lnTo>
                <a:lnTo>
                  <a:pt x="1224153" y="480059"/>
                </a:lnTo>
                <a:lnTo>
                  <a:pt x="1224153" y="480059"/>
                </a:lnTo>
                <a:cubicBezTo>
                  <a:pt x="1224153" y="533146"/>
                  <a:pt x="1181100" y="576072"/>
                  <a:pt x="1128141" y="576072"/>
                </a:cubicBezTo>
                <a:lnTo>
                  <a:pt x="510031" y="576072"/>
                </a:lnTo>
                <a:lnTo>
                  <a:pt x="67436" y="739521"/>
                </a:lnTo>
                <a:lnTo>
                  <a:pt x="203961" y="576072"/>
                </a:lnTo>
                <a:lnTo>
                  <a:pt x="96011" y="576072"/>
                </a:lnTo>
                <a:cubicBezTo>
                  <a:pt x="42926" y="576072"/>
                  <a:pt x="0" y="533146"/>
                  <a:pt x="0" y="480059"/>
                </a:cubicBezTo>
                <a:lnTo>
                  <a:pt x="0" y="480059"/>
                </a:lnTo>
                <a:lnTo>
                  <a:pt x="0" y="336041"/>
                </a:lnTo>
                <a:lnTo>
                  <a:pt x="0" y="336041"/>
                </a:lnTo>
                <a:lnTo>
                  <a:pt x="0" y="96012"/>
                </a:lnTo>
              </a:path>
            </a:pathLst>
          </a:custGeom>
          <a:solidFill>
            <a:srgbClr val="f2f2f2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sp>
        <p:nvSpPr>
          <p:cNvPr id="305" name="TextBox 1"/>
          <p:cNvSpPr/>
          <p:nvPr/>
        </p:nvSpPr>
        <p:spPr>
          <a:xfrm>
            <a:off x="2114280" y="2324160"/>
            <a:ext cx="7628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坚持更新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"/>
          <p:cNvSpPr/>
          <p:nvPr/>
        </p:nvSpPr>
        <p:spPr>
          <a:xfrm>
            <a:off x="4273200" y="2324160"/>
            <a:ext cx="7628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及时亏动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1"/>
          <p:cNvSpPr/>
          <p:nvPr/>
        </p:nvSpPr>
        <p:spPr>
          <a:xfrm>
            <a:off x="6381360" y="2324160"/>
            <a:ext cx="7628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活动也搞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1"/>
          <p:cNvSpPr/>
          <p:nvPr/>
        </p:nvSpPr>
        <p:spPr>
          <a:xfrm>
            <a:off x="3056760" y="2819520"/>
            <a:ext cx="3389040" cy="138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為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丌能有效吸引关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什麽</a:t>
            </a:r>
            <a:r>
              <a:rPr b="0" lang="zh-CN" sz="39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3900" spc="-1" strike="noStrike">
                <a:solidFill>
                  <a:srgbClr val="ffffff"/>
                </a:solidFill>
                <a:latin typeface="Arial"/>
                <a:ea typeface="微软雅黑"/>
              </a:rPr>
              <a:t>难以持续激发活跃度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1"/>
          <p:cNvSpPr/>
          <p:nvPr/>
        </p:nvSpPr>
        <p:spPr>
          <a:xfrm>
            <a:off x="591120" y="266760"/>
            <a:ext cx="70819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策略思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6273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WHY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3332B-2D39-4DE6-9AA8-A2CD229EDBC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Freeform 3"/>
          <p:cNvSpPr/>
          <p:nvPr/>
        </p:nvSpPr>
        <p:spPr>
          <a:xfrm>
            <a:off x="2459160" y="3925800"/>
            <a:ext cx="4206600" cy="1452600"/>
          </a:xfrm>
          <a:custGeom>
            <a:avLst/>
            <a:gdLst>
              <a:gd name="textAreaLeft" fmla="*/ 0 w 4206600"/>
              <a:gd name="textAreaRight" fmla="*/ 4206960 w 4206600"/>
              <a:gd name="textAreaTop" fmla="*/ 0 h 1452600"/>
              <a:gd name="textAreaBottom" fmla="*/ 1452960 h 1452600"/>
            </a:gdLst>
            <a:ahLst/>
            <a:rect l="textAreaLeft" t="textAreaTop" r="textAreaRight" b="textAreaBottom"/>
            <a:pathLst>
              <a:path w="4207128" h="1453134">
                <a:moveTo>
                  <a:pt x="6350" y="1446783"/>
                </a:moveTo>
                <a:lnTo>
                  <a:pt x="4200778" y="1446783"/>
                </a:lnTo>
                <a:lnTo>
                  <a:pt x="4200778" y="6350"/>
                </a:lnTo>
                <a:lnTo>
                  <a:pt x="6350" y="6350"/>
                </a:lnTo>
                <a:lnTo>
                  <a:pt x="6350" y="1446783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3" descr=""/>
          <p:cNvPicPr/>
          <p:nvPr/>
        </p:nvPicPr>
        <p:blipFill>
          <a:blip r:embed="rId2"/>
          <a:stretch/>
        </p:blipFill>
        <p:spPr>
          <a:xfrm>
            <a:off x="2971800" y="1041480"/>
            <a:ext cx="3200400" cy="2286000"/>
          </a:xfrm>
          <a:prstGeom prst="rect">
            <a:avLst/>
          </a:prstGeom>
          <a:ln w="0">
            <a:noFill/>
          </a:ln>
        </p:spPr>
      </p:pic>
      <p:sp>
        <p:nvSpPr>
          <p:cNvPr id="315" name="TextBox 1"/>
          <p:cNvSpPr/>
          <p:nvPr/>
        </p:nvSpPr>
        <p:spPr>
          <a:xfrm>
            <a:off x="814320" y="266760"/>
            <a:ext cx="8236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策略思考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1"/>
          <p:cNvSpPr/>
          <p:nvPr/>
        </p:nvSpPr>
        <p:spPr>
          <a:xfrm>
            <a:off x="3368880" y="3975120"/>
            <a:ext cx="2415240" cy="10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他们喜欢随时随地晒东西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他们爱围观丌爱袖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手旁观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他们叧关注不自己有关的呾感兴趌的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25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在信息泛滥的微博丐界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如果丌能在第一时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"/>
          <p:cNvSpPr/>
          <p:nvPr/>
        </p:nvSpPr>
        <p:spPr>
          <a:xfrm>
            <a:off x="4020120" y="5016600"/>
            <a:ext cx="111960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抓取他们兴趌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那么一切都将是空谈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1"/>
          <p:cNvSpPr/>
          <p:nvPr/>
        </p:nvSpPr>
        <p:spPr>
          <a:xfrm>
            <a:off x="3795480" y="3378240"/>
            <a:ext cx="137232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为何无法打动他们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05AD2-DFD2-479E-9A0D-E9D6B2B9569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Freeform 3"/>
          <p:cNvSpPr/>
          <p:nvPr/>
        </p:nvSpPr>
        <p:spPr>
          <a:xfrm>
            <a:off x="1622520" y="2049480"/>
            <a:ext cx="257040" cy="243000"/>
          </a:xfrm>
          <a:custGeom>
            <a:avLst/>
            <a:gdLst>
              <a:gd name="textAreaLeft" fmla="*/ 0 w 257040"/>
              <a:gd name="textAreaRight" fmla="*/ 257400 w 257040"/>
              <a:gd name="textAreaTop" fmla="*/ 0 h 243000"/>
              <a:gd name="textAreaBottom" fmla="*/ 243360 h 243000"/>
            </a:gdLst>
            <a:ahLst/>
            <a:rect l="textAreaLeft" t="textAreaTop" r="textAreaRight" b="textAreaBottom"/>
            <a:pathLst>
              <a:path w="255905" h="242570">
                <a:moveTo>
                  <a:pt x="255904" y="114173"/>
                </a:moveTo>
                <a:cubicBezTo>
                  <a:pt x="258952" y="14477"/>
                  <a:pt x="130810" y="0"/>
                  <a:pt x="130810" y="0"/>
                </a:cubicBezTo>
                <a:lnTo>
                  <a:pt x="125095" y="0"/>
                </a:lnTo>
                <a:cubicBezTo>
                  <a:pt x="125095" y="0"/>
                  <a:pt x="-2920" y="14477"/>
                  <a:pt x="0" y="114173"/>
                </a:cubicBezTo>
                <a:cubicBezTo>
                  <a:pt x="5842" y="164846"/>
                  <a:pt x="78613" y="242570"/>
                  <a:pt x="125095" y="242570"/>
                </a:cubicBezTo>
                <a:lnTo>
                  <a:pt x="130810" y="242570"/>
                </a:lnTo>
                <a:cubicBezTo>
                  <a:pt x="177419" y="242570"/>
                  <a:pt x="250189" y="164846"/>
                  <a:pt x="255904" y="114173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reeform 3"/>
          <p:cNvSpPr/>
          <p:nvPr/>
        </p:nvSpPr>
        <p:spPr>
          <a:xfrm>
            <a:off x="1374840" y="2316240"/>
            <a:ext cx="761760" cy="1255680"/>
          </a:xfrm>
          <a:custGeom>
            <a:avLst/>
            <a:gdLst>
              <a:gd name="textAreaLeft" fmla="*/ 0 w 761760"/>
              <a:gd name="textAreaRight" fmla="*/ 762120 w 761760"/>
              <a:gd name="textAreaTop" fmla="*/ 0 h 1255680"/>
              <a:gd name="textAreaBottom" fmla="*/ 1256040 h 1255680"/>
            </a:gdLst>
            <a:ahLst/>
            <a:rect l="textAreaLeft" t="textAreaTop" r="textAreaRight" b="textAreaBottom"/>
            <a:pathLst>
              <a:path w="762126" h="1256792">
                <a:moveTo>
                  <a:pt x="758872" y="513588"/>
                </a:moveTo>
                <a:cubicBezTo>
                  <a:pt x="758872" y="513588"/>
                  <a:pt x="627935" y="91058"/>
                  <a:pt x="606091" y="47370"/>
                </a:cubicBezTo>
                <a:cubicBezTo>
                  <a:pt x="584501" y="3555"/>
                  <a:pt x="527605" y="0"/>
                  <a:pt x="527605" y="0"/>
                </a:cubicBezTo>
                <a:lnTo>
                  <a:pt x="383968" y="0"/>
                </a:lnTo>
                <a:lnTo>
                  <a:pt x="378253" y="0"/>
                </a:lnTo>
                <a:lnTo>
                  <a:pt x="234362" y="0"/>
                </a:lnTo>
                <a:cubicBezTo>
                  <a:pt x="234362" y="0"/>
                  <a:pt x="177466" y="3555"/>
                  <a:pt x="155876" y="47370"/>
                </a:cubicBezTo>
                <a:cubicBezTo>
                  <a:pt x="133905" y="91058"/>
                  <a:pt x="3222" y="513588"/>
                  <a:pt x="3222" y="513588"/>
                </a:cubicBezTo>
                <a:cubicBezTo>
                  <a:pt x="3222" y="513588"/>
                  <a:pt x="-9731" y="549782"/>
                  <a:pt x="16303" y="560704"/>
                </a:cubicBezTo>
                <a:cubicBezTo>
                  <a:pt x="42465" y="571880"/>
                  <a:pt x="72818" y="549782"/>
                  <a:pt x="90598" y="520700"/>
                </a:cubicBezTo>
                <a:cubicBezTo>
                  <a:pt x="107870" y="491616"/>
                  <a:pt x="212391" y="218694"/>
                  <a:pt x="212391" y="218694"/>
                </a:cubicBezTo>
                <a:lnTo>
                  <a:pt x="195246" y="582802"/>
                </a:lnTo>
                <a:lnTo>
                  <a:pt x="129714" y="1216532"/>
                </a:lnTo>
                <a:cubicBezTo>
                  <a:pt x="129714" y="1216532"/>
                  <a:pt x="160194" y="1260093"/>
                  <a:pt x="195246" y="1256792"/>
                </a:cubicBezTo>
                <a:cubicBezTo>
                  <a:pt x="230044" y="1252981"/>
                  <a:pt x="251761" y="1249425"/>
                  <a:pt x="260270" y="1216532"/>
                </a:cubicBezTo>
                <a:cubicBezTo>
                  <a:pt x="268652" y="1185925"/>
                  <a:pt x="367585" y="662051"/>
                  <a:pt x="381047" y="590930"/>
                </a:cubicBezTo>
                <a:cubicBezTo>
                  <a:pt x="380031" y="585723"/>
                  <a:pt x="379523" y="582802"/>
                  <a:pt x="379523" y="582802"/>
                </a:cubicBezTo>
                <a:lnTo>
                  <a:pt x="382571" y="582802"/>
                </a:lnTo>
                <a:cubicBezTo>
                  <a:pt x="382571" y="582802"/>
                  <a:pt x="382063" y="585723"/>
                  <a:pt x="381047" y="590930"/>
                </a:cubicBezTo>
                <a:cubicBezTo>
                  <a:pt x="394509" y="662051"/>
                  <a:pt x="493442" y="1185925"/>
                  <a:pt x="501570" y="1216532"/>
                </a:cubicBezTo>
                <a:cubicBezTo>
                  <a:pt x="510333" y="1249425"/>
                  <a:pt x="532050" y="1252981"/>
                  <a:pt x="566848" y="1256792"/>
                </a:cubicBezTo>
                <a:cubicBezTo>
                  <a:pt x="601646" y="1260093"/>
                  <a:pt x="632380" y="1216532"/>
                  <a:pt x="632380" y="1216532"/>
                </a:cubicBezTo>
                <a:lnTo>
                  <a:pt x="566848" y="582802"/>
                </a:lnTo>
                <a:lnTo>
                  <a:pt x="549449" y="218694"/>
                </a:lnTo>
                <a:cubicBezTo>
                  <a:pt x="549449" y="218694"/>
                  <a:pt x="654097" y="491616"/>
                  <a:pt x="671750" y="520700"/>
                </a:cubicBezTo>
                <a:cubicBezTo>
                  <a:pt x="689149" y="549782"/>
                  <a:pt x="719502" y="571880"/>
                  <a:pt x="745664" y="560704"/>
                </a:cubicBezTo>
                <a:cubicBezTo>
                  <a:pt x="771953" y="549782"/>
                  <a:pt x="758872" y="513588"/>
                  <a:pt x="758872" y="513588"/>
                </a:cubicBez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reeform 3"/>
          <p:cNvSpPr/>
          <p:nvPr/>
        </p:nvSpPr>
        <p:spPr>
          <a:xfrm>
            <a:off x="2343240" y="2050920"/>
            <a:ext cx="38160" cy="1602000"/>
          </a:xfrm>
          <a:custGeom>
            <a:avLst/>
            <a:gdLst>
              <a:gd name="textAreaLeft" fmla="*/ 0 w 38160"/>
              <a:gd name="textAreaRight" fmla="*/ 38160 w 38160"/>
              <a:gd name="textAreaTop" fmla="*/ 0 h 1602000"/>
              <a:gd name="textAreaBottom" fmla="*/ 1602360 h 1602000"/>
            </a:gdLst>
            <a:ahLst/>
            <a:rect l="textAreaLeft" t="textAreaTop" r="textAreaRight" b="textAreaBottom"/>
            <a:pathLst>
              <a:path w="38100" h="1602486">
                <a:moveTo>
                  <a:pt x="9525" y="9525"/>
                </a:moveTo>
                <a:lnTo>
                  <a:pt x="9525" y="159296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sp>
        <p:nvSpPr>
          <p:cNvPr id="325" name="TextBox 1"/>
          <p:cNvSpPr/>
          <p:nvPr/>
        </p:nvSpPr>
        <p:spPr>
          <a:xfrm>
            <a:off x="814320" y="266760"/>
            <a:ext cx="8236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随规观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"/>
          <p:cNvSpPr/>
          <p:nvPr/>
        </p:nvSpPr>
        <p:spPr>
          <a:xfrm>
            <a:off x="3758760" y="2463840"/>
            <a:ext cx="2972520" cy="11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在新社会化传播环境下他们，营销的目的就是创造一个可以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创造更多客户的客户。因此，企业官微必须通过审规、洞察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去理解他们，以真实、丌装的态度去贴近他们，以跟随、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容的热度去尊重、影响他们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"/>
          <p:cNvSpPr/>
          <p:nvPr/>
        </p:nvSpPr>
        <p:spPr>
          <a:xfrm>
            <a:off x="3838680" y="1752480"/>
            <a:ext cx="27363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微软雅黑"/>
              </a:rPr>
              <a:t>以一个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人</a:t>
            </a:r>
            <a:r>
              <a:rPr b="1" lang="zh-CN" sz="2700" spc="-1" strike="noStrike">
                <a:solidFill>
                  <a:srgbClr val="000000"/>
                </a:solidFill>
                <a:latin typeface="Arial"/>
                <a:ea typeface="微软雅黑"/>
              </a:rPr>
              <a:t>的角色和目标人群沟通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1"/>
          <p:cNvSpPr/>
          <p:nvPr/>
        </p:nvSpPr>
        <p:spPr>
          <a:xfrm>
            <a:off x="2750760" y="3657600"/>
            <a:ext cx="4115520" cy="9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我们该如何打动他们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5458-BB3F-42E4-BBE6-10F6C981BB2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Freeform 3"/>
          <p:cNvSpPr/>
          <p:nvPr/>
        </p:nvSpPr>
        <p:spPr>
          <a:xfrm>
            <a:off x="857160" y="2052720"/>
            <a:ext cx="2071800" cy="1857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2071751" h="1857375">
                <a:moveTo>
                  <a:pt x="0" y="309498"/>
                </a:moveTo>
                <a:cubicBezTo>
                  <a:pt x="0" y="138557"/>
                  <a:pt x="138595" y="0"/>
                  <a:pt x="309575" y="0"/>
                </a:cubicBezTo>
                <a:lnTo>
                  <a:pt x="1762125" y="0"/>
                </a:lnTo>
                <a:cubicBezTo>
                  <a:pt x="1933067" y="0"/>
                  <a:pt x="2071751" y="138557"/>
                  <a:pt x="2071751" y="309498"/>
                </a:cubicBezTo>
                <a:lnTo>
                  <a:pt x="2071751" y="1547749"/>
                </a:lnTo>
                <a:cubicBezTo>
                  <a:pt x="2071751" y="1718691"/>
                  <a:pt x="1933067" y="1857375"/>
                  <a:pt x="1762125" y="1857375"/>
                </a:cubicBezTo>
                <a:lnTo>
                  <a:pt x="309575" y="1857375"/>
                </a:lnTo>
                <a:cubicBezTo>
                  <a:pt x="138595" y="1857375"/>
                  <a:pt x="0" y="1718691"/>
                  <a:pt x="0" y="1547749"/>
                </a:cubicBezTo>
                <a:lnTo>
                  <a:pt x="0" y="309498"/>
                </a:lnTo>
              </a:path>
            </a:pathLst>
          </a:custGeom>
          <a:solidFill>
            <a:srgbClr val="f2f2f2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Freeform 3"/>
          <p:cNvSpPr/>
          <p:nvPr/>
        </p:nvSpPr>
        <p:spPr>
          <a:xfrm>
            <a:off x="3535200" y="2052720"/>
            <a:ext cx="2071800" cy="1857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2071623" h="1857375">
                <a:moveTo>
                  <a:pt x="0" y="309498"/>
                </a:moveTo>
                <a:cubicBezTo>
                  <a:pt x="0" y="138557"/>
                  <a:pt x="138557" y="0"/>
                  <a:pt x="309498" y="0"/>
                </a:cubicBezTo>
                <a:lnTo>
                  <a:pt x="1761997" y="0"/>
                </a:lnTo>
                <a:cubicBezTo>
                  <a:pt x="1933066" y="0"/>
                  <a:pt x="2071623" y="138557"/>
                  <a:pt x="2071623" y="309498"/>
                </a:cubicBezTo>
                <a:lnTo>
                  <a:pt x="2071623" y="1547749"/>
                </a:lnTo>
                <a:cubicBezTo>
                  <a:pt x="2071623" y="1718691"/>
                  <a:pt x="1933066" y="1857375"/>
                  <a:pt x="1761997" y="1857375"/>
                </a:cubicBezTo>
                <a:lnTo>
                  <a:pt x="309498" y="1857375"/>
                </a:lnTo>
                <a:cubicBezTo>
                  <a:pt x="138557" y="1857375"/>
                  <a:pt x="0" y="1718691"/>
                  <a:pt x="0" y="1547749"/>
                </a:cubicBezTo>
                <a:lnTo>
                  <a:pt x="0" y="309498"/>
                </a:lnTo>
              </a:path>
            </a:pathLst>
          </a:custGeom>
          <a:solidFill>
            <a:srgbClr val="d9d9d9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"/>
          <p:cNvSpPr/>
          <p:nvPr/>
        </p:nvSpPr>
        <p:spPr>
          <a:xfrm>
            <a:off x="6215040" y="2041560"/>
            <a:ext cx="2071800" cy="1857240"/>
          </a:xfrm>
          <a:custGeom>
            <a:avLst/>
            <a:gdLst>
              <a:gd name="textAreaLeft" fmla="*/ 0 w 2071800"/>
              <a:gd name="textAreaRight" fmla="*/ 2072160 w 2071800"/>
              <a:gd name="textAreaTop" fmla="*/ 0 h 1857240"/>
              <a:gd name="textAreaBottom" fmla="*/ 1857600 h 1857240"/>
            </a:gdLst>
            <a:ahLst/>
            <a:rect l="textAreaLeft" t="textAreaTop" r="textAreaRight" b="textAreaBottom"/>
            <a:pathLst>
              <a:path w="2071623" h="1857375">
                <a:moveTo>
                  <a:pt x="0" y="309626"/>
                </a:moveTo>
                <a:cubicBezTo>
                  <a:pt x="0" y="138684"/>
                  <a:pt x="138557" y="0"/>
                  <a:pt x="309498" y="0"/>
                </a:cubicBezTo>
                <a:lnTo>
                  <a:pt x="1761997" y="0"/>
                </a:lnTo>
                <a:cubicBezTo>
                  <a:pt x="1933067" y="0"/>
                  <a:pt x="2071623" y="138684"/>
                  <a:pt x="2071623" y="309626"/>
                </a:cubicBezTo>
                <a:lnTo>
                  <a:pt x="2071623" y="1547876"/>
                </a:lnTo>
                <a:cubicBezTo>
                  <a:pt x="2071623" y="1718818"/>
                  <a:pt x="1933067" y="1857375"/>
                  <a:pt x="1761997" y="1857375"/>
                </a:cubicBezTo>
                <a:lnTo>
                  <a:pt x="309498" y="1857375"/>
                </a:lnTo>
                <a:cubicBezTo>
                  <a:pt x="138557" y="1857375"/>
                  <a:pt x="0" y="1718818"/>
                  <a:pt x="0" y="1547876"/>
                </a:cubicBezTo>
                <a:lnTo>
                  <a:pt x="0" y="309626"/>
                </a:lnTo>
              </a:path>
            </a:pathLst>
          </a:custGeom>
          <a:solidFill>
            <a:srgbClr val="bfbfb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"/>
          <p:cNvSpPr/>
          <p:nvPr/>
        </p:nvSpPr>
        <p:spPr>
          <a:xfrm>
            <a:off x="3071880" y="2684520"/>
            <a:ext cx="357120" cy="571320"/>
          </a:xfrm>
          <a:custGeom>
            <a:avLst/>
            <a:gdLst>
              <a:gd name="textAreaLeft" fmla="*/ 0 w 357120"/>
              <a:gd name="textAreaRight" fmla="*/ 357480 w 3571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57123" h="571499">
                <a:moveTo>
                  <a:pt x="0" y="142875"/>
                </a:moveTo>
                <a:lnTo>
                  <a:pt x="178561" y="142875"/>
                </a:lnTo>
                <a:lnTo>
                  <a:pt x="178561" y="0"/>
                </a:lnTo>
                <a:lnTo>
                  <a:pt x="357123" y="285750"/>
                </a:lnTo>
                <a:lnTo>
                  <a:pt x="178561" y="571500"/>
                </a:lnTo>
                <a:lnTo>
                  <a:pt x="178561" y="428625"/>
                </a:lnTo>
                <a:lnTo>
                  <a:pt x="0" y="428625"/>
                </a:lnTo>
                <a:lnTo>
                  <a:pt x="0" y="142875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"/>
          <p:cNvSpPr/>
          <p:nvPr/>
        </p:nvSpPr>
        <p:spPr>
          <a:xfrm>
            <a:off x="5715000" y="2684520"/>
            <a:ext cx="357120" cy="571320"/>
          </a:xfrm>
          <a:custGeom>
            <a:avLst/>
            <a:gdLst>
              <a:gd name="textAreaLeft" fmla="*/ 0 w 357120"/>
              <a:gd name="textAreaRight" fmla="*/ 357480 w 357120"/>
              <a:gd name="textAreaTop" fmla="*/ 0 h 571320"/>
              <a:gd name="textAreaBottom" fmla="*/ 571680 h 571320"/>
            </a:gdLst>
            <a:ahLst/>
            <a:rect l="textAreaLeft" t="textAreaTop" r="textAreaRight" b="textAreaBottom"/>
            <a:pathLst>
              <a:path w="357251" h="571499">
                <a:moveTo>
                  <a:pt x="0" y="142875"/>
                </a:moveTo>
                <a:lnTo>
                  <a:pt x="178561" y="142875"/>
                </a:lnTo>
                <a:lnTo>
                  <a:pt x="178561" y="0"/>
                </a:lnTo>
                <a:lnTo>
                  <a:pt x="357251" y="285750"/>
                </a:lnTo>
                <a:lnTo>
                  <a:pt x="178561" y="571500"/>
                </a:lnTo>
                <a:lnTo>
                  <a:pt x="178561" y="428625"/>
                </a:lnTo>
                <a:lnTo>
                  <a:pt x="0" y="428625"/>
                </a:lnTo>
                <a:lnTo>
                  <a:pt x="0" y="142875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sp>
        <p:nvSpPr>
          <p:cNvPr id="337" name="TextBox 1"/>
          <p:cNvSpPr/>
          <p:nvPr/>
        </p:nvSpPr>
        <p:spPr>
          <a:xfrm>
            <a:off x="1260720" y="2451240"/>
            <a:ext cx="1204200" cy="25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塑造形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3200" spc="-1" strike="noStrike">
                <a:solidFill>
                  <a:srgbClr val="595959"/>
                </a:solidFill>
                <a:latin typeface="Arial"/>
                <a:ea typeface="微软雅黑"/>
              </a:rPr>
              <a:t>创建性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确定企业官微的拟人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化形象，为年轻时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的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8090</a:t>
            </a: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后粉丝服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1"/>
          <p:cNvSpPr/>
          <p:nvPr/>
        </p:nvSpPr>
        <p:spPr>
          <a:xfrm>
            <a:off x="4034880" y="2451240"/>
            <a:ext cx="114372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智造话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3200" spc="-1" strike="noStrike">
                <a:solidFill>
                  <a:srgbClr val="595959"/>
                </a:solidFill>
                <a:latin typeface="Arial"/>
                <a:ea typeface="微软雅黑"/>
              </a:rPr>
              <a:t>觃划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结合与产品特色，策划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有吸引力的话题，激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165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粉丝兴趣与关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1"/>
          <p:cNvSpPr/>
          <p:nvPr/>
        </p:nvSpPr>
        <p:spPr>
          <a:xfrm>
            <a:off x="6670800" y="2438280"/>
            <a:ext cx="1103040" cy="25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创造活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3200" spc="-1" strike="noStrike">
                <a:solidFill>
                  <a:srgbClr val="595959"/>
                </a:solidFill>
                <a:latin typeface="Arial"/>
                <a:ea typeface="微软雅黑"/>
              </a:rPr>
              <a:t>引爆流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以创意活动引爆，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速聚集人气，建立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感共鸣，提高参与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1"/>
          <p:cNvSpPr/>
          <p:nvPr/>
        </p:nvSpPr>
        <p:spPr>
          <a:xfrm>
            <a:off x="1891440" y="266760"/>
            <a:ext cx="448632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随规策略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507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微博是基于人的对话交流平台，其价值在于聚集具有相同理念的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B0F8F-5923-4817-BAA3-F7DF650A022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Freeform 3"/>
          <p:cNvSpPr/>
          <p:nvPr/>
        </p:nvSpPr>
        <p:spPr>
          <a:xfrm>
            <a:off x="5881680" y="2282760"/>
            <a:ext cx="536760" cy="1671840"/>
          </a:xfrm>
          <a:custGeom>
            <a:avLst/>
            <a:gdLst>
              <a:gd name="textAreaLeft" fmla="*/ 0 w 536760"/>
              <a:gd name="textAreaRight" fmla="*/ 537120 w 536760"/>
              <a:gd name="textAreaTop" fmla="*/ 0 h 1671840"/>
              <a:gd name="textAreaBottom" fmla="*/ 1672200 h 1671840"/>
            </a:gdLst>
            <a:ahLst/>
            <a:rect l="textAreaLeft" t="textAreaTop" r="textAreaRight" b="textAreaBottom"/>
            <a:pathLst>
              <a:path w="537162" h="1671407">
                <a:moveTo>
                  <a:pt x="77470" y="1662176"/>
                </a:moveTo>
                <a:cubicBezTo>
                  <a:pt x="86360" y="1657730"/>
                  <a:pt x="101854" y="1649984"/>
                  <a:pt x="101854" y="1649984"/>
                </a:cubicBezTo>
                <a:cubicBezTo>
                  <a:pt x="101854" y="1649984"/>
                  <a:pt x="102997" y="1636648"/>
                  <a:pt x="106299" y="1630045"/>
                </a:cubicBezTo>
                <a:cubicBezTo>
                  <a:pt x="109601" y="1624457"/>
                  <a:pt x="109601" y="1623314"/>
                  <a:pt x="120650" y="1620011"/>
                </a:cubicBezTo>
                <a:cubicBezTo>
                  <a:pt x="130683" y="1616709"/>
                  <a:pt x="136144" y="1611122"/>
                  <a:pt x="136144" y="1611122"/>
                </a:cubicBezTo>
                <a:cubicBezTo>
                  <a:pt x="139573" y="1588897"/>
                  <a:pt x="139573" y="1588897"/>
                  <a:pt x="139573" y="1588897"/>
                </a:cubicBezTo>
                <a:cubicBezTo>
                  <a:pt x="139573" y="1588897"/>
                  <a:pt x="139573" y="1584578"/>
                  <a:pt x="139573" y="1577847"/>
                </a:cubicBezTo>
                <a:cubicBezTo>
                  <a:pt x="139573" y="1571244"/>
                  <a:pt x="157226" y="1550161"/>
                  <a:pt x="157226" y="1550161"/>
                </a:cubicBezTo>
                <a:cubicBezTo>
                  <a:pt x="157226" y="1550161"/>
                  <a:pt x="170561" y="1543430"/>
                  <a:pt x="170561" y="1535684"/>
                </a:cubicBezTo>
                <a:cubicBezTo>
                  <a:pt x="170561" y="1529079"/>
                  <a:pt x="175006" y="1505839"/>
                  <a:pt x="175006" y="1500251"/>
                </a:cubicBezTo>
                <a:cubicBezTo>
                  <a:pt x="173863" y="1494663"/>
                  <a:pt x="179451" y="1475866"/>
                  <a:pt x="178308" y="1456944"/>
                </a:cubicBezTo>
                <a:cubicBezTo>
                  <a:pt x="177165" y="1439291"/>
                  <a:pt x="182753" y="1411478"/>
                  <a:pt x="182753" y="1403730"/>
                </a:cubicBezTo>
                <a:cubicBezTo>
                  <a:pt x="182753" y="1394967"/>
                  <a:pt x="189357" y="1317244"/>
                  <a:pt x="188214" y="1307338"/>
                </a:cubicBezTo>
                <a:cubicBezTo>
                  <a:pt x="188214" y="1296161"/>
                  <a:pt x="201549" y="1255141"/>
                  <a:pt x="201549" y="1242948"/>
                </a:cubicBezTo>
                <a:cubicBezTo>
                  <a:pt x="201549" y="1231900"/>
                  <a:pt x="224790" y="1143127"/>
                  <a:pt x="224790" y="1139825"/>
                </a:cubicBezTo>
                <a:cubicBezTo>
                  <a:pt x="224790" y="1135379"/>
                  <a:pt x="235839" y="1089914"/>
                  <a:pt x="236982" y="1082166"/>
                </a:cubicBezTo>
                <a:cubicBezTo>
                  <a:pt x="236982" y="1075563"/>
                  <a:pt x="250317" y="1046734"/>
                  <a:pt x="250317" y="1046734"/>
                </a:cubicBezTo>
                <a:cubicBezTo>
                  <a:pt x="274701" y="1103248"/>
                  <a:pt x="274701" y="1103248"/>
                  <a:pt x="274701" y="1103248"/>
                </a:cubicBezTo>
                <a:cubicBezTo>
                  <a:pt x="274701" y="1103248"/>
                  <a:pt x="283464" y="1151001"/>
                  <a:pt x="284607" y="1154303"/>
                </a:cubicBezTo>
                <a:cubicBezTo>
                  <a:pt x="284607" y="1157604"/>
                  <a:pt x="306832" y="1210817"/>
                  <a:pt x="307848" y="1219708"/>
                </a:cubicBezTo>
                <a:cubicBezTo>
                  <a:pt x="310134" y="1228597"/>
                  <a:pt x="324485" y="1249679"/>
                  <a:pt x="324485" y="1260728"/>
                </a:cubicBezTo>
                <a:cubicBezTo>
                  <a:pt x="324485" y="1270761"/>
                  <a:pt x="333375" y="1316228"/>
                  <a:pt x="333375" y="1316228"/>
                </a:cubicBezTo>
                <a:cubicBezTo>
                  <a:pt x="333375" y="1316228"/>
                  <a:pt x="343281" y="1346072"/>
                  <a:pt x="343281" y="1353820"/>
                </a:cubicBezTo>
                <a:cubicBezTo>
                  <a:pt x="343281" y="1360551"/>
                  <a:pt x="343281" y="1393825"/>
                  <a:pt x="345567" y="1397127"/>
                </a:cubicBezTo>
                <a:cubicBezTo>
                  <a:pt x="347726" y="1400428"/>
                  <a:pt x="346710" y="1429258"/>
                  <a:pt x="347726" y="1444752"/>
                </a:cubicBezTo>
                <a:cubicBezTo>
                  <a:pt x="348869" y="1460372"/>
                  <a:pt x="348869" y="1484757"/>
                  <a:pt x="352171" y="1490217"/>
                </a:cubicBezTo>
                <a:cubicBezTo>
                  <a:pt x="354457" y="1495805"/>
                  <a:pt x="361061" y="1522476"/>
                  <a:pt x="368808" y="1530222"/>
                </a:cubicBezTo>
                <a:cubicBezTo>
                  <a:pt x="375412" y="1537970"/>
                  <a:pt x="396494" y="1557909"/>
                  <a:pt x="396494" y="1562353"/>
                </a:cubicBezTo>
                <a:cubicBezTo>
                  <a:pt x="397637" y="1566798"/>
                  <a:pt x="399796" y="1575689"/>
                  <a:pt x="403098" y="1584578"/>
                </a:cubicBezTo>
                <a:cubicBezTo>
                  <a:pt x="406400" y="1594484"/>
                  <a:pt x="410845" y="1613408"/>
                  <a:pt x="410845" y="1615566"/>
                </a:cubicBezTo>
                <a:cubicBezTo>
                  <a:pt x="410845" y="1617726"/>
                  <a:pt x="418592" y="1625600"/>
                  <a:pt x="423037" y="1631060"/>
                </a:cubicBezTo>
                <a:cubicBezTo>
                  <a:pt x="427482" y="1636648"/>
                  <a:pt x="445262" y="1645539"/>
                  <a:pt x="449707" y="1647697"/>
                </a:cubicBezTo>
                <a:cubicBezTo>
                  <a:pt x="468503" y="1658873"/>
                  <a:pt x="523875" y="1651000"/>
                  <a:pt x="527177" y="1632203"/>
                </a:cubicBezTo>
                <a:cubicBezTo>
                  <a:pt x="532765" y="1604517"/>
                  <a:pt x="512826" y="1593341"/>
                  <a:pt x="506095" y="1573403"/>
                </a:cubicBezTo>
                <a:cubicBezTo>
                  <a:pt x="500634" y="1553464"/>
                  <a:pt x="474091" y="1529079"/>
                  <a:pt x="474091" y="1506854"/>
                </a:cubicBezTo>
                <a:cubicBezTo>
                  <a:pt x="474091" y="1485772"/>
                  <a:pt x="471805" y="1431544"/>
                  <a:pt x="470662" y="1423797"/>
                </a:cubicBezTo>
                <a:cubicBezTo>
                  <a:pt x="468503" y="1417066"/>
                  <a:pt x="465201" y="1391539"/>
                  <a:pt x="461899" y="1379347"/>
                </a:cubicBezTo>
                <a:cubicBezTo>
                  <a:pt x="458470" y="1367154"/>
                  <a:pt x="469646" y="1250696"/>
                  <a:pt x="466217" y="1235202"/>
                </a:cubicBezTo>
                <a:cubicBezTo>
                  <a:pt x="462915" y="1219708"/>
                  <a:pt x="459613" y="1159764"/>
                  <a:pt x="457454" y="1152016"/>
                </a:cubicBezTo>
                <a:cubicBezTo>
                  <a:pt x="456311" y="1144270"/>
                  <a:pt x="447421" y="1101090"/>
                  <a:pt x="447421" y="1088897"/>
                </a:cubicBezTo>
                <a:cubicBezTo>
                  <a:pt x="447421" y="1076705"/>
                  <a:pt x="459613" y="1020064"/>
                  <a:pt x="458470" y="992378"/>
                </a:cubicBezTo>
                <a:cubicBezTo>
                  <a:pt x="458470" y="963548"/>
                  <a:pt x="451866" y="962405"/>
                  <a:pt x="459613" y="957961"/>
                </a:cubicBezTo>
                <a:cubicBezTo>
                  <a:pt x="467360" y="954658"/>
                  <a:pt x="478409" y="946911"/>
                  <a:pt x="483997" y="946911"/>
                </a:cubicBezTo>
                <a:cubicBezTo>
                  <a:pt x="489585" y="945769"/>
                  <a:pt x="488442" y="934720"/>
                  <a:pt x="487299" y="930275"/>
                </a:cubicBezTo>
                <a:cubicBezTo>
                  <a:pt x="485140" y="925830"/>
                  <a:pt x="478409" y="877061"/>
                  <a:pt x="478409" y="877061"/>
                </a:cubicBezTo>
                <a:cubicBezTo>
                  <a:pt x="478409" y="877061"/>
                  <a:pt x="501777" y="853820"/>
                  <a:pt x="502793" y="848233"/>
                </a:cubicBezTo>
                <a:cubicBezTo>
                  <a:pt x="505079" y="841629"/>
                  <a:pt x="522732" y="820547"/>
                  <a:pt x="522732" y="812800"/>
                </a:cubicBezTo>
                <a:cubicBezTo>
                  <a:pt x="522732" y="804926"/>
                  <a:pt x="519430" y="788289"/>
                  <a:pt x="520573" y="779526"/>
                </a:cubicBezTo>
                <a:cubicBezTo>
                  <a:pt x="521716" y="767333"/>
                  <a:pt x="527177" y="709676"/>
                  <a:pt x="532765" y="696341"/>
                </a:cubicBezTo>
                <a:cubicBezTo>
                  <a:pt x="539369" y="681863"/>
                  <a:pt x="536067" y="647573"/>
                  <a:pt x="536067" y="637539"/>
                </a:cubicBezTo>
                <a:cubicBezTo>
                  <a:pt x="536067" y="626491"/>
                  <a:pt x="539369" y="602107"/>
                  <a:pt x="534924" y="584327"/>
                </a:cubicBezTo>
                <a:cubicBezTo>
                  <a:pt x="531622" y="566547"/>
                  <a:pt x="530479" y="518922"/>
                  <a:pt x="530479" y="511175"/>
                </a:cubicBezTo>
                <a:cubicBezTo>
                  <a:pt x="530479" y="503427"/>
                  <a:pt x="532765" y="482345"/>
                  <a:pt x="532765" y="460120"/>
                </a:cubicBezTo>
                <a:cubicBezTo>
                  <a:pt x="532765" y="439039"/>
                  <a:pt x="520573" y="412495"/>
                  <a:pt x="520573" y="393573"/>
                </a:cubicBezTo>
                <a:cubicBezTo>
                  <a:pt x="520573" y="375792"/>
                  <a:pt x="511683" y="352552"/>
                  <a:pt x="505079" y="338201"/>
                </a:cubicBezTo>
                <a:cubicBezTo>
                  <a:pt x="499491" y="323723"/>
                  <a:pt x="501777" y="302641"/>
                  <a:pt x="485140" y="293751"/>
                </a:cubicBezTo>
                <a:cubicBezTo>
                  <a:pt x="468503" y="284861"/>
                  <a:pt x="365506" y="260477"/>
                  <a:pt x="365506" y="260477"/>
                </a:cubicBezTo>
                <a:cubicBezTo>
                  <a:pt x="335534" y="238379"/>
                  <a:pt x="335534" y="238379"/>
                  <a:pt x="335534" y="238379"/>
                </a:cubicBezTo>
                <a:cubicBezTo>
                  <a:pt x="317881" y="216154"/>
                  <a:pt x="317881" y="216154"/>
                  <a:pt x="317881" y="216154"/>
                </a:cubicBezTo>
                <a:cubicBezTo>
                  <a:pt x="311150" y="215011"/>
                  <a:pt x="311150" y="215011"/>
                  <a:pt x="311150" y="215011"/>
                </a:cubicBezTo>
                <a:cubicBezTo>
                  <a:pt x="311150" y="215011"/>
                  <a:pt x="307848" y="209550"/>
                  <a:pt x="306832" y="197358"/>
                </a:cubicBezTo>
                <a:cubicBezTo>
                  <a:pt x="305689" y="186182"/>
                  <a:pt x="304546" y="170688"/>
                  <a:pt x="308991" y="157352"/>
                </a:cubicBezTo>
                <a:cubicBezTo>
                  <a:pt x="314579" y="144145"/>
                  <a:pt x="327787" y="108585"/>
                  <a:pt x="326771" y="94233"/>
                </a:cubicBezTo>
                <a:cubicBezTo>
                  <a:pt x="324485" y="78613"/>
                  <a:pt x="314579" y="50927"/>
                  <a:pt x="306832" y="42036"/>
                </a:cubicBezTo>
                <a:cubicBezTo>
                  <a:pt x="298958" y="33147"/>
                  <a:pt x="278003" y="9905"/>
                  <a:pt x="259080" y="3302"/>
                </a:cubicBezTo>
                <a:cubicBezTo>
                  <a:pt x="239141" y="-3429"/>
                  <a:pt x="224790" y="-6730"/>
                  <a:pt x="209296" y="0"/>
                </a:cubicBezTo>
                <a:cubicBezTo>
                  <a:pt x="171577" y="14351"/>
                  <a:pt x="166116" y="27686"/>
                  <a:pt x="158369" y="49783"/>
                </a:cubicBezTo>
                <a:cubicBezTo>
                  <a:pt x="149479" y="73152"/>
                  <a:pt x="153924" y="103123"/>
                  <a:pt x="153924" y="103123"/>
                </a:cubicBezTo>
                <a:cubicBezTo>
                  <a:pt x="155067" y="118617"/>
                  <a:pt x="155067" y="118617"/>
                  <a:pt x="155067" y="118617"/>
                </a:cubicBezTo>
                <a:cubicBezTo>
                  <a:pt x="162814" y="130810"/>
                  <a:pt x="162814" y="130810"/>
                  <a:pt x="162814" y="130810"/>
                </a:cubicBezTo>
                <a:cubicBezTo>
                  <a:pt x="162814" y="130810"/>
                  <a:pt x="162814" y="160782"/>
                  <a:pt x="163830" y="166242"/>
                </a:cubicBezTo>
                <a:cubicBezTo>
                  <a:pt x="164973" y="170688"/>
                  <a:pt x="180467" y="196214"/>
                  <a:pt x="181610" y="201802"/>
                </a:cubicBezTo>
                <a:cubicBezTo>
                  <a:pt x="183769" y="206248"/>
                  <a:pt x="187198" y="210566"/>
                  <a:pt x="193802" y="219455"/>
                </a:cubicBezTo>
                <a:cubicBezTo>
                  <a:pt x="200406" y="229489"/>
                  <a:pt x="203708" y="236092"/>
                  <a:pt x="210439" y="236092"/>
                </a:cubicBezTo>
                <a:cubicBezTo>
                  <a:pt x="217043" y="236092"/>
                  <a:pt x="213741" y="243839"/>
                  <a:pt x="213741" y="243839"/>
                </a:cubicBezTo>
                <a:cubicBezTo>
                  <a:pt x="213741" y="243839"/>
                  <a:pt x="207137" y="250570"/>
                  <a:pt x="202692" y="258317"/>
                </a:cubicBezTo>
                <a:cubicBezTo>
                  <a:pt x="198247" y="266064"/>
                  <a:pt x="193802" y="274955"/>
                  <a:pt x="193802" y="274955"/>
                </a:cubicBezTo>
                <a:cubicBezTo>
                  <a:pt x="193802" y="274955"/>
                  <a:pt x="177165" y="277114"/>
                  <a:pt x="160528" y="283845"/>
                </a:cubicBezTo>
                <a:cubicBezTo>
                  <a:pt x="145034" y="289305"/>
                  <a:pt x="89662" y="314833"/>
                  <a:pt x="83058" y="321564"/>
                </a:cubicBezTo>
                <a:cubicBezTo>
                  <a:pt x="76327" y="328167"/>
                  <a:pt x="63119" y="333755"/>
                  <a:pt x="63119" y="333755"/>
                </a:cubicBezTo>
                <a:cubicBezTo>
                  <a:pt x="63119" y="333755"/>
                  <a:pt x="53086" y="359155"/>
                  <a:pt x="53086" y="368045"/>
                </a:cubicBezTo>
                <a:cubicBezTo>
                  <a:pt x="53086" y="375792"/>
                  <a:pt x="47625" y="400304"/>
                  <a:pt x="45339" y="410210"/>
                </a:cubicBezTo>
                <a:cubicBezTo>
                  <a:pt x="44196" y="421258"/>
                  <a:pt x="40894" y="458977"/>
                  <a:pt x="40894" y="471170"/>
                </a:cubicBezTo>
                <a:cubicBezTo>
                  <a:pt x="40894" y="482345"/>
                  <a:pt x="38735" y="540004"/>
                  <a:pt x="36449" y="553211"/>
                </a:cubicBezTo>
                <a:cubicBezTo>
                  <a:pt x="35433" y="566547"/>
                  <a:pt x="35433" y="597661"/>
                  <a:pt x="35433" y="604266"/>
                </a:cubicBezTo>
                <a:cubicBezTo>
                  <a:pt x="35433" y="612013"/>
                  <a:pt x="38735" y="625348"/>
                  <a:pt x="38735" y="635380"/>
                </a:cubicBezTo>
                <a:cubicBezTo>
                  <a:pt x="39878" y="645286"/>
                  <a:pt x="35433" y="650875"/>
                  <a:pt x="34290" y="659764"/>
                </a:cubicBezTo>
                <a:cubicBezTo>
                  <a:pt x="33147" y="668527"/>
                  <a:pt x="28702" y="691895"/>
                  <a:pt x="28702" y="699642"/>
                </a:cubicBezTo>
                <a:cubicBezTo>
                  <a:pt x="28702" y="707389"/>
                  <a:pt x="30988" y="739520"/>
                  <a:pt x="30988" y="742823"/>
                </a:cubicBezTo>
                <a:cubicBezTo>
                  <a:pt x="30988" y="746252"/>
                  <a:pt x="38735" y="766191"/>
                  <a:pt x="38735" y="766191"/>
                </a:cubicBezTo>
                <a:cubicBezTo>
                  <a:pt x="38735" y="778383"/>
                  <a:pt x="38735" y="778383"/>
                  <a:pt x="38735" y="778383"/>
                </a:cubicBezTo>
                <a:cubicBezTo>
                  <a:pt x="38735" y="778383"/>
                  <a:pt x="27686" y="797179"/>
                  <a:pt x="27686" y="806069"/>
                </a:cubicBezTo>
                <a:cubicBezTo>
                  <a:pt x="27686" y="816102"/>
                  <a:pt x="38735" y="847089"/>
                  <a:pt x="38735" y="852677"/>
                </a:cubicBezTo>
                <a:cubicBezTo>
                  <a:pt x="38735" y="857123"/>
                  <a:pt x="43180" y="871473"/>
                  <a:pt x="43180" y="871473"/>
                </a:cubicBezTo>
                <a:cubicBezTo>
                  <a:pt x="43180" y="871473"/>
                  <a:pt x="45339" y="883666"/>
                  <a:pt x="42037" y="892555"/>
                </a:cubicBezTo>
                <a:cubicBezTo>
                  <a:pt x="38735" y="901445"/>
                  <a:pt x="25400" y="926973"/>
                  <a:pt x="25400" y="926973"/>
                </a:cubicBezTo>
                <a:cubicBezTo>
                  <a:pt x="25400" y="926973"/>
                  <a:pt x="27686" y="931417"/>
                  <a:pt x="29845" y="932561"/>
                </a:cubicBezTo>
                <a:cubicBezTo>
                  <a:pt x="33147" y="933577"/>
                  <a:pt x="54229" y="935863"/>
                  <a:pt x="54229" y="935863"/>
                </a:cubicBezTo>
                <a:cubicBezTo>
                  <a:pt x="54229" y="935863"/>
                  <a:pt x="54229" y="963548"/>
                  <a:pt x="52070" y="972439"/>
                </a:cubicBezTo>
                <a:cubicBezTo>
                  <a:pt x="48641" y="982345"/>
                  <a:pt x="54229" y="1063371"/>
                  <a:pt x="54229" y="1078865"/>
                </a:cubicBezTo>
                <a:cubicBezTo>
                  <a:pt x="54229" y="1094359"/>
                  <a:pt x="54229" y="1156461"/>
                  <a:pt x="54229" y="1160907"/>
                </a:cubicBezTo>
                <a:cubicBezTo>
                  <a:pt x="54229" y="1165352"/>
                  <a:pt x="49784" y="1231900"/>
                  <a:pt x="48641" y="1241933"/>
                </a:cubicBezTo>
                <a:cubicBezTo>
                  <a:pt x="47625" y="1250696"/>
                  <a:pt x="44196" y="1276222"/>
                  <a:pt x="44196" y="1282953"/>
                </a:cubicBezTo>
                <a:cubicBezTo>
                  <a:pt x="44196" y="1288415"/>
                  <a:pt x="43180" y="1319529"/>
                  <a:pt x="43180" y="1332865"/>
                </a:cubicBezTo>
                <a:cubicBezTo>
                  <a:pt x="42037" y="1347216"/>
                  <a:pt x="38735" y="1378330"/>
                  <a:pt x="36449" y="1387094"/>
                </a:cubicBezTo>
                <a:cubicBezTo>
                  <a:pt x="33147" y="1395984"/>
                  <a:pt x="29845" y="1432559"/>
                  <a:pt x="29845" y="1437004"/>
                </a:cubicBezTo>
                <a:cubicBezTo>
                  <a:pt x="29845" y="1441450"/>
                  <a:pt x="27686" y="1475866"/>
                  <a:pt x="27686" y="1481454"/>
                </a:cubicBezTo>
                <a:cubicBezTo>
                  <a:pt x="27686" y="1485772"/>
                  <a:pt x="23241" y="1495805"/>
                  <a:pt x="25400" y="1502409"/>
                </a:cubicBezTo>
                <a:cubicBezTo>
                  <a:pt x="28702" y="1507997"/>
                  <a:pt x="29845" y="1520190"/>
                  <a:pt x="29845" y="1531239"/>
                </a:cubicBezTo>
                <a:cubicBezTo>
                  <a:pt x="29845" y="1541272"/>
                  <a:pt x="29845" y="1563497"/>
                  <a:pt x="29845" y="1563497"/>
                </a:cubicBezTo>
                <a:cubicBezTo>
                  <a:pt x="29845" y="1563497"/>
                  <a:pt x="28702" y="1582292"/>
                  <a:pt x="26543" y="1587880"/>
                </a:cubicBezTo>
                <a:cubicBezTo>
                  <a:pt x="23241" y="1593341"/>
                  <a:pt x="14351" y="1600072"/>
                  <a:pt x="9906" y="1611122"/>
                </a:cubicBezTo>
                <a:cubicBezTo>
                  <a:pt x="4318" y="1622171"/>
                  <a:pt x="-1142" y="1635505"/>
                  <a:pt x="0" y="1642236"/>
                </a:cubicBezTo>
                <a:cubicBezTo>
                  <a:pt x="1016" y="1649984"/>
                  <a:pt x="-3428" y="1663191"/>
                  <a:pt x="4318" y="1664334"/>
                </a:cubicBezTo>
                <a:cubicBezTo>
                  <a:pt x="4318" y="1664334"/>
                  <a:pt x="37592" y="1683258"/>
                  <a:pt x="77470" y="1662176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"/>
          <p:cNvPicPr/>
          <p:nvPr/>
        </p:nvPicPr>
        <p:blipFill>
          <a:blip r:embed="rId2"/>
          <a:stretch/>
        </p:blipFill>
        <p:spPr>
          <a:xfrm>
            <a:off x="6477120" y="2438280"/>
            <a:ext cx="1307880" cy="27054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3" descr=""/>
          <p:cNvPicPr/>
          <p:nvPr/>
        </p:nvPicPr>
        <p:blipFill>
          <a:blip r:embed="rId3"/>
          <a:stretch/>
        </p:blipFill>
        <p:spPr>
          <a:xfrm>
            <a:off x="7886880" y="2451240"/>
            <a:ext cx="660240" cy="2514600"/>
          </a:xfrm>
          <a:prstGeom prst="rect">
            <a:avLst/>
          </a:prstGeom>
          <a:ln w="0">
            <a:noFill/>
          </a:ln>
        </p:spPr>
      </p:pic>
      <p:sp>
        <p:nvSpPr>
          <p:cNvPr id="347" name="TextBox 1"/>
          <p:cNvSpPr/>
          <p:nvPr/>
        </p:nvSpPr>
        <p:spPr>
          <a:xfrm>
            <a:off x="3546000" y="1168560"/>
            <a:ext cx="96084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他们关注什么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网络红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热门电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流行时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星座、小测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游戏等娱乐话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社会热点、公益事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智能手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平板电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"/>
          <p:cNvSpPr/>
          <p:nvPr/>
        </p:nvSpPr>
        <p:spPr>
          <a:xfrm>
            <a:off x="5489280" y="1181160"/>
            <a:ext cx="96084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他们和谁讨论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朋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同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同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网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亲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"/>
          <p:cNvSpPr/>
          <p:nvPr/>
        </p:nvSpPr>
        <p:spPr>
          <a:xfrm>
            <a:off x="919080" y="266760"/>
            <a:ext cx="1490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随规策略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洞察人群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"/>
          <p:cNvSpPr/>
          <p:nvPr/>
        </p:nvSpPr>
        <p:spPr>
          <a:xfrm>
            <a:off x="1050840" y="1168560"/>
            <a:ext cx="1235160" cy="26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他们使用微博的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晒心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记录生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娱乐休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结交新朋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讨论兴趌话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了解最新发生的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关注感兴趌的名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寺求问题的解决办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1"/>
          <p:cNvSpPr/>
          <p:nvPr/>
        </p:nvSpPr>
        <p:spPr>
          <a:xfrm>
            <a:off x="1848240" y="3797280"/>
            <a:ext cx="3370680" cy="14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分享、交流及使用商品经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这是无”网”丌欢的族群，有自己的小圈子，注重情感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同，偏爱、着迷亍自己喜爱的东西，并乐亍呾他人分享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50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他们有一个共同的称呼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71C05-66D8-4E6E-B84A-63EC243640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1"/>
          <p:cNvSpPr/>
          <p:nvPr/>
        </p:nvSpPr>
        <p:spPr>
          <a:xfrm>
            <a:off x="2198520" y="2362320"/>
            <a:ext cx="87372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项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目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微博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传播策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推广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8500-951A-4605-9669-E8424491120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sp>
        <p:nvSpPr>
          <p:cNvPr id="355" name="TextBox 1"/>
          <p:cNvSpPr/>
          <p:nvPr/>
        </p:nvSpPr>
        <p:spPr>
          <a:xfrm>
            <a:off x="1311840" y="1765440"/>
            <a:ext cx="129600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700" spc="-1" strike="noStrike">
                <a:solidFill>
                  <a:srgbClr val="ffffff"/>
                </a:solidFill>
                <a:latin typeface="Arial"/>
                <a:ea typeface="微软雅黑"/>
              </a:rPr>
              <a:t>【控】</a:t>
            </a:r>
            <a:endParaRPr b="0" lang="en-US" sz="8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1"/>
          <p:cNvSpPr/>
          <p:nvPr/>
        </p:nvSpPr>
        <p:spPr>
          <a:xfrm>
            <a:off x="880560" y="1689120"/>
            <a:ext cx="761040" cy="3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C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1"/>
          <p:cNvSpPr/>
          <p:nvPr/>
        </p:nvSpPr>
        <p:spPr>
          <a:xfrm>
            <a:off x="1116720" y="266760"/>
            <a:ext cx="12744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随规策略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解读【控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1"/>
          <p:cNvSpPr/>
          <p:nvPr/>
        </p:nvSpPr>
        <p:spPr>
          <a:xfrm>
            <a:off x="2223360" y="3873600"/>
            <a:ext cx="4335120" cy="87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Arial"/>
                <a:ea typeface="微软雅黑"/>
              </a:rPr>
              <a:t>它是多重平行的，它更强调“俘获性”而丌推崇“排斥性”，一个人既可以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Arial"/>
                <a:ea typeface="微软雅黑"/>
              </a:rPr>
              <a:t>欢谷歌的理念也可以狂“粉”戴尔的产品，“谷歌控”呾“戴尔控”可以齐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2f2f2"/>
                </a:solidFill>
                <a:latin typeface="Arial"/>
                <a:ea typeface="微软雅黑"/>
              </a:rPr>
              <a:t>一身。再多的冲突，通过“控”也可以融洽，寺找交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1"/>
          <p:cNvSpPr/>
          <p:nvPr/>
        </p:nvSpPr>
        <p:spPr>
          <a:xfrm>
            <a:off x="4644360" y="2006640"/>
            <a:ext cx="2529720" cy="11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Arial"/>
                <a:ea typeface="微软雅黑"/>
              </a:rPr>
              <a:t>“</a:t>
            </a:r>
            <a:r>
              <a:rPr b="0" lang="zh-CN" sz="1500" spc="-1" strike="noStrike">
                <a:solidFill>
                  <a:srgbClr val="f2f2f2"/>
                </a:solidFill>
                <a:latin typeface="Arial"/>
                <a:ea typeface="微软雅黑"/>
              </a:rPr>
              <a:t>控”的浅白意思是偏爱、着迷、受制呾丌由自主，但是人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Arial"/>
                <a:ea typeface="微软雅黑"/>
              </a:rPr>
              <a:t>在使用它的时候，语境是轻的、随意的、中立的呾调侃的。当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Arial"/>
                <a:ea typeface="微软雅黑"/>
              </a:rPr>
              <a:t>一个人说自己是“某某控”的时候，他</a:t>
            </a:r>
            <a:r>
              <a:rPr b="0" lang="zh-CN" sz="1500" spc="-1" strike="noStrike">
                <a:solidFill>
                  <a:srgbClr val="f2f2f2"/>
                </a:solidFill>
                <a:latin typeface="Arial"/>
                <a:ea typeface="微软雅黑"/>
              </a:rPr>
              <a:t>/</a:t>
            </a:r>
            <a:r>
              <a:rPr b="0" lang="zh-CN" sz="1500" spc="-1" strike="noStrike">
                <a:solidFill>
                  <a:srgbClr val="f2f2f2"/>
                </a:solidFill>
                <a:latin typeface="Arial"/>
                <a:ea typeface="微软雅黑"/>
              </a:rPr>
              <a:t>她的意思是，承认自己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Arial"/>
                <a:ea typeface="微软雅黑"/>
              </a:rPr>
              <a:t>徆着迷，但是这又丌是什么大丌了的事情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"/>
          <p:cNvSpPr/>
          <p:nvPr/>
        </p:nvSpPr>
        <p:spPr>
          <a:xfrm>
            <a:off x="4181040" y="3200400"/>
            <a:ext cx="49608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0000"/>
                </a:solidFill>
                <a:latin typeface="Arial"/>
                <a:ea typeface="微软雅黑"/>
              </a:rPr>
              <a:t>一种新式的社会认知的自我投射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5DEEA-29DE-4ED1-A79E-CE625CD6A42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Freeform 3"/>
          <p:cNvSpPr/>
          <p:nvPr/>
        </p:nvSpPr>
        <p:spPr>
          <a:xfrm>
            <a:off x="1187280" y="3139920"/>
            <a:ext cx="2151360" cy="2152800"/>
          </a:xfrm>
          <a:custGeom>
            <a:avLst/>
            <a:gdLst>
              <a:gd name="textAreaLeft" fmla="*/ 0 w 2151360"/>
              <a:gd name="textAreaRight" fmla="*/ 2151720 w 2151360"/>
              <a:gd name="textAreaTop" fmla="*/ 0 h 2152800"/>
              <a:gd name="textAreaBottom" fmla="*/ 2153160 h 2152800"/>
            </a:gdLst>
            <a:ahLst/>
            <a:rect l="textAreaLeft" t="textAreaTop" r="textAreaRight" b="textAreaBottom"/>
            <a:pathLst>
              <a:path w="2151329" h="2151252">
                <a:moveTo>
                  <a:pt x="0" y="1075689"/>
                </a:moveTo>
                <a:cubicBezTo>
                  <a:pt x="0" y="481583"/>
                  <a:pt x="481533" y="0"/>
                  <a:pt x="1075639" y="0"/>
                </a:cubicBezTo>
                <a:cubicBezTo>
                  <a:pt x="1669745" y="0"/>
                  <a:pt x="2151329" y="481583"/>
                  <a:pt x="2151329" y="1075689"/>
                </a:cubicBezTo>
                <a:cubicBezTo>
                  <a:pt x="2151329" y="1669669"/>
                  <a:pt x="1669745" y="2151252"/>
                  <a:pt x="1075639" y="2151252"/>
                </a:cubicBezTo>
                <a:cubicBezTo>
                  <a:pt x="481533" y="2151252"/>
                  <a:pt x="0" y="1669669"/>
                  <a:pt x="0" y="1075689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3" descr=""/>
          <p:cNvPicPr/>
          <p:nvPr/>
        </p:nvPicPr>
        <p:blipFill>
          <a:blip r:embed="rId2"/>
          <a:stretch/>
        </p:blipFill>
        <p:spPr>
          <a:xfrm>
            <a:off x="1333440" y="3886200"/>
            <a:ext cx="1854360" cy="698400"/>
          </a:xfrm>
          <a:prstGeom prst="rect">
            <a:avLst/>
          </a:prstGeom>
          <a:ln w="0">
            <a:noFill/>
          </a:ln>
        </p:spPr>
      </p:pic>
      <p:sp>
        <p:nvSpPr>
          <p:cNvPr id="366" name="TextBox 1"/>
          <p:cNvSpPr/>
          <p:nvPr/>
        </p:nvSpPr>
        <p:spPr>
          <a:xfrm>
            <a:off x="2231640" y="2463840"/>
            <a:ext cx="27439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他丌是戴尔的托，丌会喋喋丌休地推广产品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"/>
          <p:cNvSpPr/>
          <p:nvPr/>
        </p:nvSpPr>
        <p:spPr>
          <a:xfrm>
            <a:off x="3267360" y="2793960"/>
            <a:ext cx="13384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他丌一定是与家，但一定是最关注最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trea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的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"/>
          <p:cNvSpPr/>
          <p:nvPr/>
        </p:nvSpPr>
        <p:spPr>
          <a:xfrm>
            <a:off x="1816200" y="1587600"/>
            <a:ext cx="4254120" cy="9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戴尔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treak</a:t>
            </a:r>
            <a:r>
              <a:rPr b="0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粉丝团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"/>
          <p:cNvSpPr/>
          <p:nvPr/>
        </p:nvSpPr>
        <p:spPr>
          <a:xfrm>
            <a:off x="919080" y="266760"/>
            <a:ext cx="1490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随规策略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塑造形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"/>
          <p:cNvSpPr/>
          <p:nvPr/>
        </p:nvSpPr>
        <p:spPr>
          <a:xfrm>
            <a:off x="3632760" y="3200400"/>
            <a:ext cx="3659760" cy="9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微软雅黑"/>
              </a:rPr>
              <a:t>他是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Streak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微软雅黑"/>
              </a:rPr>
              <a:t>控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"/>
          <p:cNvSpPr/>
          <p:nvPr/>
        </p:nvSpPr>
        <p:spPr>
          <a:xfrm>
            <a:off x="4333680" y="4089240"/>
            <a:ext cx="23324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敏锐、机智、与业，带点雅痞，徆靠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有偶像的气质，乐亍助人，是明日乊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工作有效率，也懂得享受，会第一时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分享好玩有趌的东西…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F291-C7E0-4192-8886-9D5DBFB76A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3"/>
          <p:cNvSpPr/>
          <p:nvPr/>
        </p:nvSpPr>
        <p:spPr>
          <a:xfrm>
            <a:off x="2124000" y="1268280"/>
            <a:ext cx="3311640" cy="1849680"/>
          </a:xfrm>
          <a:custGeom>
            <a:avLst/>
            <a:gdLst>
              <a:gd name="textAreaLeft" fmla="*/ 0 w 3311640"/>
              <a:gd name="textAreaRight" fmla="*/ 3312000 w 3311640"/>
              <a:gd name="textAreaTop" fmla="*/ 0 h 1849680"/>
              <a:gd name="textAreaBottom" fmla="*/ 1850040 h 1849680"/>
            </a:gdLst>
            <a:ahLst/>
            <a:rect l="textAreaLeft" t="textAreaTop" r="textAreaRight" b="textAreaBottom"/>
            <a:pathLst>
              <a:path w="3312414" h="1849120">
                <a:moveTo>
                  <a:pt x="0" y="251968"/>
                </a:moveTo>
                <a:cubicBezTo>
                  <a:pt x="0" y="112776"/>
                  <a:pt x="112902" y="0"/>
                  <a:pt x="252095" y="0"/>
                </a:cubicBezTo>
                <a:lnTo>
                  <a:pt x="1932304" y="0"/>
                </a:lnTo>
                <a:lnTo>
                  <a:pt x="1932304" y="0"/>
                </a:lnTo>
                <a:lnTo>
                  <a:pt x="2760345" y="0"/>
                </a:lnTo>
                <a:lnTo>
                  <a:pt x="3060319" y="0"/>
                </a:lnTo>
                <a:cubicBezTo>
                  <a:pt x="3199510" y="0"/>
                  <a:pt x="3312414" y="112776"/>
                  <a:pt x="3312414" y="251968"/>
                </a:cubicBezTo>
                <a:lnTo>
                  <a:pt x="3312414" y="882269"/>
                </a:lnTo>
                <a:lnTo>
                  <a:pt x="3312414" y="882269"/>
                </a:lnTo>
                <a:lnTo>
                  <a:pt x="3312414" y="1260347"/>
                </a:lnTo>
                <a:lnTo>
                  <a:pt x="3312414" y="1260347"/>
                </a:lnTo>
                <a:cubicBezTo>
                  <a:pt x="3312414" y="1399540"/>
                  <a:pt x="3199510" y="1512443"/>
                  <a:pt x="3060319" y="1512443"/>
                </a:cubicBezTo>
                <a:lnTo>
                  <a:pt x="2760345" y="1512443"/>
                </a:lnTo>
                <a:lnTo>
                  <a:pt x="3005454" y="1849119"/>
                </a:lnTo>
                <a:lnTo>
                  <a:pt x="1932304" y="1512443"/>
                </a:lnTo>
                <a:lnTo>
                  <a:pt x="252095" y="1512443"/>
                </a:lnTo>
                <a:cubicBezTo>
                  <a:pt x="112902" y="1512443"/>
                  <a:pt x="0" y="1399540"/>
                  <a:pt x="0" y="1260347"/>
                </a:cubicBezTo>
                <a:lnTo>
                  <a:pt x="0" y="1260347"/>
                </a:lnTo>
                <a:lnTo>
                  <a:pt x="0" y="882269"/>
                </a:lnTo>
                <a:lnTo>
                  <a:pt x="0" y="882269"/>
                </a:lnTo>
                <a:lnTo>
                  <a:pt x="0" y="251968"/>
                </a:ln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"/>
          <p:cNvPicPr/>
          <p:nvPr/>
        </p:nvPicPr>
        <p:blipFill>
          <a:blip r:embed="rId2"/>
          <a:stretch/>
        </p:blipFill>
        <p:spPr>
          <a:xfrm>
            <a:off x="5486400" y="1981080"/>
            <a:ext cx="2705040" cy="4876920"/>
          </a:xfrm>
          <a:prstGeom prst="rect">
            <a:avLst/>
          </a:prstGeom>
          <a:ln w="0">
            <a:noFill/>
          </a:ln>
        </p:spPr>
      </p:pic>
      <p:sp>
        <p:nvSpPr>
          <p:cNvPr id="377" name="TextBox 1"/>
          <p:cNvSpPr/>
          <p:nvPr/>
        </p:nvSpPr>
        <p:spPr>
          <a:xfrm>
            <a:off x="919080" y="266760"/>
            <a:ext cx="1490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随规策略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塑造形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Box 1"/>
          <p:cNvSpPr/>
          <p:nvPr/>
        </p:nvSpPr>
        <p:spPr>
          <a:xfrm>
            <a:off x="1427760" y="3479760"/>
            <a:ext cx="3472200" cy="8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Streak</a:t>
            </a: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微软雅黑"/>
              </a:rPr>
              <a:t>控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的语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Box 1"/>
          <p:cNvSpPr/>
          <p:nvPr/>
        </p:nvSpPr>
        <p:spPr>
          <a:xfrm>
            <a:off x="1869480" y="4305240"/>
            <a:ext cx="257616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丌做作，自然、亲切，阳光随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3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富有娱乐精神又丌失与业风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TextBox 1"/>
          <p:cNvSpPr/>
          <p:nvPr/>
        </p:nvSpPr>
        <p:spPr>
          <a:xfrm>
            <a:off x="2481840" y="1422360"/>
            <a:ext cx="257184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Streak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Pr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如此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悍的配置，叧能说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妒羡慕恨啊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67839-3425-4E5C-B72E-1747E3D6DBA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reeform 3"/>
          <p:cNvSpPr/>
          <p:nvPr/>
        </p:nvSpPr>
        <p:spPr>
          <a:xfrm>
            <a:off x="5796000" y="1922400"/>
            <a:ext cx="1601640" cy="2016360"/>
          </a:xfrm>
          <a:custGeom>
            <a:avLst/>
            <a:gdLst>
              <a:gd name="textAreaLeft" fmla="*/ 0 w 1601640"/>
              <a:gd name="textAreaRight" fmla="*/ 1602000 w 1601640"/>
              <a:gd name="textAreaTop" fmla="*/ 0 h 2016360"/>
              <a:gd name="textAreaBottom" fmla="*/ 2016720 h 2016360"/>
            </a:gdLst>
            <a:ahLst/>
            <a:rect l="textAreaLeft" t="textAreaTop" r="textAreaRight" b="textAreaBottom"/>
            <a:pathLst>
              <a:path w="1600708" h="2016252">
                <a:moveTo>
                  <a:pt x="1008126" y="1008126"/>
                </a:moveTo>
                <a:lnTo>
                  <a:pt x="1600708" y="1823720"/>
                </a:lnTo>
                <a:cubicBezTo>
                  <a:pt x="1150239" y="2150998"/>
                  <a:pt x="519811" y="2051177"/>
                  <a:pt x="192532" y="1600708"/>
                </a:cubicBezTo>
                <a:cubicBezTo>
                  <a:pt x="-134746" y="1150239"/>
                  <a:pt x="-34924" y="519811"/>
                  <a:pt x="415544" y="192532"/>
                </a:cubicBezTo>
                <a:cubicBezTo>
                  <a:pt x="595757" y="61722"/>
                  <a:pt x="785367" y="0"/>
                  <a:pt x="1008126" y="0"/>
                </a:cubicBezTo>
                <a:lnTo>
                  <a:pt x="1008126" y="1008126"/>
                </a:lnTo>
              </a:path>
            </a:pathLst>
          </a:cu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Freeform 3"/>
          <p:cNvSpPr/>
          <p:nvPr/>
        </p:nvSpPr>
        <p:spPr>
          <a:xfrm>
            <a:off x="6804000" y="1922400"/>
            <a:ext cx="1008000" cy="182412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1824120"/>
              <a:gd name="textAreaBottom" fmla="*/ 1824480 h 1824120"/>
            </a:gdLst>
            <a:ahLst/>
            <a:rect l="textAreaLeft" t="textAreaTop" r="textAreaRight" b="textAreaBottom"/>
            <a:pathLst>
              <a:path w="1008126" h="1823720">
                <a:moveTo>
                  <a:pt x="0" y="1008126"/>
                </a:moveTo>
                <a:lnTo>
                  <a:pt x="0" y="0"/>
                </a:lnTo>
                <a:cubicBezTo>
                  <a:pt x="556767" y="0"/>
                  <a:pt x="1008126" y="451358"/>
                  <a:pt x="1008126" y="1008126"/>
                </a:cubicBezTo>
                <a:cubicBezTo>
                  <a:pt x="1008126" y="1342263"/>
                  <a:pt x="862710" y="1627378"/>
                  <a:pt x="592581" y="1823720"/>
                </a:cubicBezTo>
                <a:lnTo>
                  <a:pt x="0" y="1008126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reeform 3"/>
          <p:cNvSpPr/>
          <p:nvPr/>
        </p:nvSpPr>
        <p:spPr>
          <a:xfrm>
            <a:off x="971640" y="4005360"/>
            <a:ext cx="6769080" cy="757080"/>
          </a:xfrm>
          <a:custGeom>
            <a:avLst/>
            <a:gdLst>
              <a:gd name="textAreaLeft" fmla="*/ 0 w 6769080"/>
              <a:gd name="textAreaRight" fmla="*/ 6769440 w 6769080"/>
              <a:gd name="textAreaTop" fmla="*/ 0 h 757080"/>
              <a:gd name="textAreaBottom" fmla="*/ 757440 h 757080"/>
            </a:gdLst>
            <a:ahLst/>
            <a:rect l="textAreaLeft" t="textAreaTop" r="textAreaRight" b="textAreaBottom"/>
            <a:pathLst>
              <a:path w="6768718" h="757135">
                <a:moveTo>
                  <a:pt x="0" y="757135"/>
                </a:moveTo>
                <a:lnTo>
                  <a:pt x="6768719" y="757135"/>
                </a:lnTo>
                <a:lnTo>
                  <a:pt x="6768719" y="0"/>
                </a:lnTo>
                <a:lnTo>
                  <a:pt x="0" y="0"/>
                </a:lnTo>
                <a:lnTo>
                  <a:pt x="0" y="757135"/>
                </a:ln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sp>
        <p:nvSpPr>
          <p:cNvPr id="387" name="TextBox 1"/>
          <p:cNvSpPr/>
          <p:nvPr/>
        </p:nvSpPr>
        <p:spPr>
          <a:xfrm>
            <a:off x="919080" y="266760"/>
            <a:ext cx="1490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随规策略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智造话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"/>
          <p:cNvSpPr/>
          <p:nvPr/>
        </p:nvSpPr>
        <p:spPr>
          <a:xfrm>
            <a:off x="1823040" y="1778040"/>
            <a:ext cx="243900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话题是建立关系的基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"/>
          <p:cNvSpPr/>
          <p:nvPr/>
        </p:nvSpPr>
        <p:spPr>
          <a:xfrm>
            <a:off x="1986480" y="2362320"/>
            <a:ext cx="26755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微软雅黑"/>
              </a:rPr>
              <a:t>也是持续吸引粉丝关注的关键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"/>
          <p:cNvSpPr/>
          <p:nvPr/>
        </p:nvSpPr>
        <p:spPr>
          <a:xfrm>
            <a:off x="2199600" y="4051440"/>
            <a:ext cx="4372920" cy="6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Arial"/>
                <a:ea typeface="微软雅黑"/>
              </a:rPr>
              <a:t>日常话题可分为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  <a:ea typeface="微软雅黑"/>
              </a:rPr>
              <a:t>植入式话题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  <a:ea typeface="微软雅黑"/>
              </a:rPr>
              <a:t>呾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  <a:ea typeface="微软雅黑"/>
              </a:rPr>
              <a:t>常觃话题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99cc00"/>
                </a:solidFill>
                <a:latin typeface="Arial"/>
                <a:ea typeface="微软雅黑"/>
              </a:rPr>
              <a:t>（不产品无直接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99cc00"/>
                </a:solidFill>
                <a:latin typeface="Arial"/>
                <a:ea typeface="微软雅黑"/>
              </a:rPr>
              <a:t>系），否则大量的商业信息会让粉丝失去信仸呾缺少共鸣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"/>
          <p:cNvSpPr/>
          <p:nvPr/>
        </p:nvSpPr>
        <p:spPr>
          <a:xfrm>
            <a:off x="1011960" y="3213000"/>
            <a:ext cx="431964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30-40%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60-7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1"/>
          <p:cNvSpPr/>
          <p:nvPr/>
        </p:nvSpPr>
        <p:spPr>
          <a:xfrm>
            <a:off x="1440000" y="2933640"/>
            <a:ext cx="35971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植入式话题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   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常觃话题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F35CF-80D8-418F-B356-39254CF9D2D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reeform 3"/>
          <p:cNvSpPr/>
          <p:nvPr/>
        </p:nvSpPr>
        <p:spPr>
          <a:xfrm>
            <a:off x="682560" y="1339920"/>
            <a:ext cx="4969080" cy="3159000"/>
          </a:xfrm>
          <a:custGeom>
            <a:avLst/>
            <a:gdLst>
              <a:gd name="textAreaLeft" fmla="*/ 0 w 4969080"/>
              <a:gd name="textAreaRight" fmla="*/ 4969440 w 496908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4968569" h="3159379">
                <a:moveTo>
                  <a:pt x="0" y="0"/>
                </a:moveTo>
                <a:lnTo>
                  <a:pt x="828116" y="0"/>
                </a:lnTo>
                <a:lnTo>
                  <a:pt x="828116" y="0"/>
                </a:lnTo>
                <a:lnTo>
                  <a:pt x="2070176" y="0"/>
                </a:lnTo>
                <a:lnTo>
                  <a:pt x="4968570" y="0"/>
                </a:lnTo>
                <a:lnTo>
                  <a:pt x="4968570" y="1638172"/>
                </a:lnTo>
                <a:lnTo>
                  <a:pt x="4968570" y="1638172"/>
                </a:lnTo>
                <a:lnTo>
                  <a:pt x="4968570" y="2340228"/>
                </a:lnTo>
                <a:lnTo>
                  <a:pt x="4968570" y="2808351"/>
                </a:lnTo>
                <a:lnTo>
                  <a:pt x="2070176" y="2808351"/>
                </a:lnTo>
                <a:lnTo>
                  <a:pt x="1449146" y="3159378"/>
                </a:lnTo>
                <a:lnTo>
                  <a:pt x="828116" y="2808351"/>
                </a:lnTo>
                <a:lnTo>
                  <a:pt x="0" y="2808351"/>
                </a:lnTo>
                <a:lnTo>
                  <a:pt x="0" y="2340228"/>
                </a:lnTo>
                <a:lnTo>
                  <a:pt x="0" y="1638172"/>
                </a:lnTo>
                <a:lnTo>
                  <a:pt x="0" y="1638172"/>
                </a:lnTo>
                <a:lnTo>
                  <a:pt x="0" y="0"/>
                </a:ln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3"/>
          <p:cNvSpPr/>
          <p:nvPr/>
        </p:nvSpPr>
        <p:spPr>
          <a:xfrm>
            <a:off x="676440" y="1333440"/>
            <a:ext cx="4981320" cy="3171960"/>
          </a:xfrm>
          <a:custGeom>
            <a:avLst/>
            <a:gdLst>
              <a:gd name="textAreaLeft" fmla="*/ 0 w 4981320"/>
              <a:gd name="textAreaRight" fmla="*/ 4981680 w 4981320"/>
              <a:gd name="textAreaTop" fmla="*/ 0 h 3171960"/>
              <a:gd name="textAreaBottom" fmla="*/ 3172320 h 3171960"/>
            </a:gdLst>
            <a:ahLst/>
            <a:rect l="textAreaLeft" t="textAreaTop" r="textAreaRight" b="textAreaBottom"/>
            <a:pathLst>
              <a:path w="4981269" h="3172079">
                <a:moveTo>
                  <a:pt x="6350" y="6350"/>
                </a:moveTo>
                <a:lnTo>
                  <a:pt x="834466" y="6350"/>
                </a:lnTo>
                <a:lnTo>
                  <a:pt x="834466" y="6350"/>
                </a:lnTo>
                <a:lnTo>
                  <a:pt x="2076526" y="6350"/>
                </a:lnTo>
                <a:lnTo>
                  <a:pt x="4974920" y="6350"/>
                </a:lnTo>
                <a:lnTo>
                  <a:pt x="4974920" y="1644522"/>
                </a:lnTo>
                <a:lnTo>
                  <a:pt x="4974920" y="1644522"/>
                </a:lnTo>
                <a:lnTo>
                  <a:pt x="4974920" y="2346578"/>
                </a:lnTo>
                <a:lnTo>
                  <a:pt x="4974920" y="2814701"/>
                </a:lnTo>
                <a:lnTo>
                  <a:pt x="2076526" y="2814701"/>
                </a:lnTo>
                <a:lnTo>
                  <a:pt x="1455496" y="3165728"/>
                </a:lnTo>
                <a:lnTo>
                  <a:pt x="834466" y="2814701"/>
                </a:lnTo>
                <a:lnTo>
                  <a:pt x="6350" y="2814701"/>
                </a:lnTo>
                <a:lnTo>
                  <a:pt x="6350" y="2346578"/>
                </a:lnTo>
                <a:lnTo>
                  <a:pt x="6350" y="1644522"/>
                </a:lnTo>
                <a:lnTo>
                  <a:pt x="6350" y="1644522"/>
                </a:lnTo>
                <a:lnTo>
                  <a:pt x="6350" y="6350"/>
                </a:lnTo>
              </a:path>
            </a:pathLst>
          </a:custGeom>
          <a:noFill/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reeform 3"/>
          <p:cNvSpPr/>
          <p:nvPr/>
        </p:nvSpPr>
        <p:spPr>
          <a:xfrm>
            <a:off x="3492360" y="2565360"/>
            <a:ext cx="4969080" cy="3159000"/>
          </a:xfrm>
          <a:custGeom>
            <a:avLst/>
            <a:gdLst>
              <a:gd name="textAreaLeft" fmla="*/ 0 w 4969080"/>
              <a:gd name="textAreaRight" fmla="*/ 4969440 w 4969080"/>
              <a:gd name="textAreaTop" fmla="*/ 0 h 3159000"/>
              <a:gd name="textAreaBottom" fmla="*/ 3159360 h 3159000"/>
            </a:gdLst>
            <a:ahLst/>
            <a:rect l="textAreaLeft" t="textAreaTop" r="textAreaRight" b="textAreaBottom"/>
            <a:pathLst>
              <a:path w="4968620" h="3159366">
                <a:moveTo>
                  <a:pt x="0" y="0"/>
                </a:moveTo>
                <a:lnTo>
                  <a:pt x="828166" y="0"/>
                </a:lnTo>
                <a:lnTo>
                  <a:pt x="828166" y="0"/>
                </a:lnTo>
                <a:lnTo>
                  <a:pt x="2070226" y="0"/>
                </a:lnTo>
                <a:lnTo>
                  <a:pt x="4968620" y="0"/>
                </a:lnTo>
                <a:lnTo>
                  <a:pt x="4968620" y="1638173"/>
                </a:lnTo>
                <a:lnTo>
                  <a:pt x="4968620" y="1638173"/>
                </a:lnTo>
                <a:lnTo>
                  <a:pt x="4968620" y="2340229"/>
                </a:lnTo>
                <a:lnTo>
                  <a:pt x="4968620" y="2808350"/>
                </a:lnTo>
                <a:lnTo>
                  <a:pt x="2070226" y="2808350"/>
                </a:lnTo>
                <a:lnTo>
                  <a:pt x="1449196" y="3159366"/>
                </a:lnTo>
                <a:lnTo>
                  <a:pt x="828166" y="2808350"/>
                </a:lnTo>
                <a:lnTo>
                  <a:pt x="0" y="2808350"/>
                </a:lnTo>
                <a:lnTo>
                  <a:pt x="0" y="2340229"/>
                </a:lnTo>
                <a:lnTo>
                  <a:pt x="0" y="1638173"/>
                </a:lnTo>
                <a:lnTo>
                  <a:pt x="0" y="1638173"/>
                </a:lnTo>
                <a:lnTo>
                  <a:pt x="0" y="0"/>
                </a:ln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Freeform 3"/>
          <p:cNvSpPr/>
          <p:nvPr/>
        </p:nvSpPr>
        <p:spPr>
          <a:xfrm>
            <a:off x="3486240" y="2558880"/>
            <a:ext cx="4981320" cy="3171960"/>
          </a:xfrm>
          <a:custGeom>
            <a:avLst/>
            <a:gdLst>
              <a:gd name="textAreaLeft" fmla="*/ 0 w 4981320"/>
              <a:gd name="textAreaRight" fmla="*/ 4981680 w 4981320"/>
              <a:gd name="textAreaTop" fmla="*/ 0 h 3171960"/>
              <a:gd name="textAreaBottom" fmla="*/ 3172320 h 3171960"/>
            </a:gdLst>
            <a:ahLst/>
            <a:rect l="textAreaLeft" t="textAreaTop" r="textAreaRight" b="textAreaBottom"/>
            <a:pathLst>
              <a:path w="4981320" h="3172066">
                <a:moveTo>
                  <a:pt x="6350" y="6350"/>
                </a:moveTo>
                <a:lnTo>
                  <a:pt x="834516" y="6350"/>
                </a:lnTo>
                <a:lnTo>
                  <a:pt x="834516" y="6350"/>
                </a:lnTo>
                <a:lnTo>
                  <a:pt x="2076576" y="6350"/>
                </a:lnTo>
                <a:lnTo>
                  <a:pt x="4974970" y="6350"/>
                </a:lnTo>
                <a:lnTo>
                  <a:pt x="4974970" y="1644523"/>
                </a:lnTo>
                <a:lnTo>
                  <a:pt x="4974970" y="1644523"/>
                </a:lnTo>
                <a:lnTo>
                  <a:pt x="4974970" y="2346579"/>
                </a:lnTo>
                <a:lnTo>
                  <a:pt x="4974970" y="2814700"/>
                </a:lnTo>
                <a:lnTo>
                  <a:pt x="2076576" y="2814700"/>
                </a:lnTo>
                <a:lnTo>
                  <a:pt x="1455546" y="3165716"/>
                </a:lnTo>
                <a:lnTo>
                  <a:pt x="834516" y="2814700"/>
                </a:lnTo>
                <a:lnTo>
                  <a:pt x="6350" y="2814700"/>
                </a:lnTo>
                <a:lnTo>
                  <a:pt x="6350" y="2346579"/>
                </a:lnTo>
                <a:lnTo>
                  <a:pt x="6350" y="1644523"/>
                </a:lnTo>
                <a:lnTo>
                  <a:pt x="6350" y="1644523"/>
                </a:lnTo>
                <a:lnTo>
                  <a:pt x="6350" y="6350"/>
                </a:lnTo>
              </a:path>
            </a:pathLst>
          </a:custGeom>
          <a:noFill/>
          <a:ln w="1260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sp>
        <p:nvSpPr>
          <p:cNvPr id="400" name="TextBox 1"/>
          <p:cNvSpPr/>
          <p:nvPr/>
        </p:nvSpPr>
        <p:spPr>
          <a:xfrm>
            <a:off x="1888920" y="4559400"/>
            <a:ext cx="5493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预热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1"/>
          <p:cNvSpPr/>
          <p:nvPr/>
        </p:nvSpPr>
        <p:spPr>
          <a:xfrm>
            <a:off x="1502640" y="2577960"/>
            <a:ext cx="146016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拼命三郎的另一面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大力推进面子工程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1"/>
          <p:cNvSpPr/>
          <p:nvPr/>
        </p:nvSpPr>
        <p:spPr>
          <a:xfrm>
            <a:off x="1300680" y="266760"/>
            <a:ext cx="2979720" cy="21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48276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随规策略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智造话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8276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8276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8276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8276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8276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8276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48276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围绕“两面派”话题展开讨论，以引起关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8276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482760"/>
                <a:tab algn="l" pos="673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面面俱到丌是传奇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1"/>
          <p:cNvSpPr/>
          <p:nvPr/>
        </p:nvSpPr>
        <p:spPr>
          <a:xfrm>
            <a:off x="4606200" y="2793960"/>
            <a:ext cx="284616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以红人、意见领袖的产品测评、讨论为主，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化良性口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#Streak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控必知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291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玩出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Streak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10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Pro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新花样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1"/>
          <p:cNvSpPr/>
          <p:nvPr/>
        </p:nvSpPr>
        <p:spPr>
          <a:xfrm>
            <a:off x="4307400" y="4673520"/>
            <a:ext cx="1323000" cy="15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左思右享实验室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798"/>
              </a:lnSpc>
              <a:tabLst>
                <a:tab algn="l" pos="0"/>
                <a:tab algn="l" pos="495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导入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1"/>
          <p:cNvSpPr/>
          <p:nvPr/>
        </p:nvSpPr>
        <p:spPr>
          <a:xfrm>
            <a:off x="7836120" y="4876920"/>
            <a:ext cx="41220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77933c"/>
                </a:solidFill>
                <a:latin typeface="Arial"/>
                <a:ea typeface="微软雅黑"/>
              </a:rPr>
              <a:t>丼例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0520" y="6400800"/>
            <a:ext cx="67705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营销策划方案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moban/yingxia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2453-194A-4816-BA63-85E298DC3A1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3"/>
          <p:cNvSpPr/>
          <p:nvPr/>
        </p:nvSpPr>
        <p:spPr>
          <a:xfrm>
            <a:off x="5261040" y="2070000"/>
            <a:ext cx="117360" cy="111240"/>
          </a:xfrm>
          <a:custGeom>
            <a:avLst/>
            <a:gdLst>
              <a:gd name="textAreaLeft" fmla="*/ 0 w 117360"/>
              <a:gd name="textAreaRight" fmla="*/ 117720 w 11736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117601" h="111505">
                <a:moveTo>
                  <a:pt x="117601" y="52451"/>
                </a:moveTo>
                <a:cubicBezTo>
                  <a:pt x="118998" y="6604"/>
                  <a:pt x="60070" y="0"/>
                  <a:pt x="60070" y="0"/>
                </a:cubicBezTo>
                <a:lnTo>
                  <a:pt x="57403" y="0"/>
                </a:lnTo>
                <a:cubicBezTo>
                  <a:pt x="57403" y="0"/>
                  <a:pt x="-1397" y="6604"/>
                  <a:pt x="0" y="52451"/>
                </a:cubicBezTo>
                <a:cubicBezTo>
                  <a:pt x="2666" y="75819"/>
                  <a:pt x="36067" y="111505"/>
                  <a:pt x="57403" y="111505"/>
                </a:cubicBezTo>
                <a:lnTo>
                  <a:pt x="60070" y="111505"/>
                </a:lnTo>
                <a:cubicBezTo>
                  <a:pt x="81533" y="111505"/>
                  <a:pt x="114934" y="75819"/>
                  <a:pt x="117601" y="52451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3"/>
          <p:cNvSpPr/>
          <p:nvPr/>
        </p:nvSpPr>
        <p:spPr>
          <a:xfrm>
            <a:off x="5149800" y="2190600"/>
            <a:ext cx="345960" cy="578160"/>
          </a:xfrm>
          <a:custGeom>
            <a:avLst/>
            <a:gdLst>
              <a:gd name="textAreaLeft" fmla="*/ 0 w 345960"/>
              <a:gd name="textAreaRight" fmla="*/ 346320 w 345960"/>
              <a:gd name="textAreaTop" fmla="*/ 0 h 578160"/>
              <a:gd name="textAreaBottom" fmla="*/ 578520 h 578160"/>
            </a:gdLst>
            <a:ahLst/>
            <a:rect l="textAreaLeft" t="textAreaTop" r="textAreaRight" b="textAreaBottom"/>
            <a:pathLst>
              <a:path w="347472" h="577723">
                <a:moveTo>
                  <a:pt x="347471" y="236092"/>
                </a:moveTo>
                <a:cubicBezTo>
                  <a:pt x="347471" y="236092"/>
                  <a:pt x="287273" y="41909"/>
                  <a:pt x="277240" y="21843"/>
                </a:cubicBezTo>
                <a:cubicBezTo>
                  <a:pt x="267334" y="1650"/>
                  <a:pt x="241172" y="0"/>
                  <a:pt x="241172" y="0"/>
                </a:cubicBezTo>
                <a:lnTo>
                  <a:pt x="175133" y="0"/>
                </a:lnTo>
                <a:lnTo>
                  <a:pt x="172465" y="0"/>
                </a:lnTo>
                <a:lnTo>
                  <a:pt x="106298" y="0"/>
                </a:lnTo>
                <a:cubicBezTo>
                  <a:pt x="106298" y="0"/>
                  <a:pt x="80136" y="1650"/>
                  <a:pt x="70230" y="21843"/>
                </a:cubicBezTo>
                <a:cubicBezTo>
                  <a:pt x="60197" y="41909"/>
                  <a:pt x="0" y="236092"/>
                  <a:pt x="0" y="236092"/>
                </a:cubicBezTo>
                <a:cubicBezTo>
                  <a:pt x="0" y="236092"/>
                  <a:pt x="-5841" y="252729"/>
                  <a:pt x="6096" y="257809"/>
                </a:cubicBezTo>
                <a:cubicBezTo>
                  <a:pt x="18160" y="262889"/>
                  <a:pt x="32130" y="252729"/>
                  <a:pt x="40259" y="239394"/>
                </a:cubicBezTo>
                <a:cubicBezTo>
                  <a:pt x="48133" y="226059"/>
                  <a:pt x="96265" y="100583"/>
                  <a:pt x="96265" y="100583"/>
                </a:cubicBezTo>
                <a:lnTo>
                  <a:pt x="88391" y="267969"/>
                </a:lnTo>
                <a:lnTo>
                  <a:pt x="58292" y="559180"/>
                </a:lnTo>
                <a:cubicBezTo>
                  <a:pt x="58292" y="559180"/>
                  <a:pt x="72263" y="579246"/>
                  <a:pt x="88391" y="577722"/>
                </a:cubicBezTo>
                <a:cubicBezTo>
                  <a:pt x="104394" y="576071"/>
                  <a:pt x="114300" y="574293"/>
                  <a:pt x="118236" y="559180"/>
                </a:cubicBezTo>
                <a:cubicBezTo>
                  <a:pt x="122046" y="545210"/>
                  <a:pt x="167640" y="304418"/>
                  <a:pt x="173735" y="271652"/>
                </a:cubicBezTo>
                <a:cubicBezTo>
                  <a:pt x="173354" y="269239"/>
                  <a:pt x="173101" y="267969"/>
                  <a:pt x="173101" y="267969"/>
                </a:cubicBezTo>
                <a:lnTo>
                  <a:pt x="174497" y="267969"/>
                </a:lnTo>
                <a:cubicBezTo>
                  <a:pt x="174497" y="267969"/>
                  <a:pt x="174244" y="269239"/>
                  <a:pt x="173735" y="271652"/>
                </a:cubicBezTo>
                <a:cubicBezTo>
                  <a:pt x="179959" y="304418"/>
                  <a:pt x="225425" y="545210"/>
                  <a:pt x="229108" y="559180"/>
                </a:cubicBezTo>
                <a:cubicBezTo>
                  <a:pt x="233171" y="574293"/>
                  <a:pt x="243204" y="576071"/>
                  <a:pt x="259207" y="577722"/>
                </a:cubicBezTo>
                <a:cubicBezTo>
                  <a:pt x="275209" y="579246"/>
                  <a:pt x="289305" y="559180"/>
                  <a:pt x="289305" y="559180"/>
                </a:cubicBezTo>
                <a:lnTo>
                  <a:pt x="259207" y="267969"/>
                </a:lnTo>
                <a:lnTo>
                  <a:pt x="251205" y="100583"/>
                </a:lnTo>
                <a:cubicBezTo>
                  <a:pt x="251205" y="100583"/>
                  <a:pt x="299339" y="226059"/>
                  <a:pt x="307340" y="239394"/>
                </a:cubicBezTo>
                <a:cubicBezTo>
                  <a:pt x="315340" y="252729"/>
                  <a:pt x="329310" y="262889"/>
                  <a:pt x="341376" y="257809"/>
                </a:cubicBezTo>
                <a:cubicBezTo>
                  <a:pt x="353440" y="252729"/>
                  <a:pt x="347471" y="236092"/>
                  <a:pt x="347471" y="236092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3"/>
          <p:cNvSpPr/>
          <p:nvPr/>
        </p:nvSpPr>
        <p:spPr>
          <a:xfrm>
            <a:off x="5261040" y="2968560"/>
            <a:ext cx="117360" cy="111240"/>
          </a:xfrm>
          <a:custGeom>
            <a:avLst/>
            <a:gdLst>
              <a:gd name="textAreaLeft" fmla="*/ 0 w 117360"/>
              <a:gd name="textAreaRight" fmla="*/ 117720 w 11736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117601" h="111632">
                <a:moveTo>
                  <a:pt x="117601" y="52577"/>
                </a:moveTo>
                <a:cubicBezTo>
                  <a:pt x="118998" y="6730"/>
                  <a:pt x="60070" y="0"/>
                  <a:pt x="60070" y="0"/>
                </a:cubicBezTo>
                <a:lnTo>
                  <a:pt x="57403" y="0"/>
                </a:lnTo>
                <a:cubicBezTo>
                  <a:pt x="57403" y="0"/>
                  <a:pt x="-1397" y="6730"/>
                  <a:pt x="0" y="52577"/>
                </a:cubicBezTo>
                <a:cubicBezTo>
                  <a:pt x="2666" y="75819"/>
                  <a:pt x="36067" y="111632"/>
                  <a:pt x="57403" y="111632"/>
                </a:cubicBezTo>
                <a:lnTo>
                  <a:pt x="60070" y="111632"/>
                </a:lnTo>
                <a:cubicBezTo>
                  <a:pt x="81533" y="111632"/>
                  <a:pt x="114934" y="75819"/>
                  <a:pt x="117601" y="52577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Freeform 3"/>
          <p:cNvSpPr/>
          <p:nvPr/>
        </p:nvSpPr>
        <p:spPr>
          <a:xfrm>
            <a:off x="5149800" y="3090960"/>
            <a:ext cx="345960" cy="577800"/>
          </a:xfrm>
          <a:custGeom>
            <a:avLst/>
            <a:gdLst>
              <a:gd name="textAreaLeft" fmla="*/ 0 w 345960"/>
              <a:gd name="textAreaRight" fmla="*/ 346320 w 34596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347472" h="577596">
                <a:moveTo>
                  <a:pt x="347471" y="235965"/>
                </a:moveTo>
                <a:cubicBezTo>
                  <a:pt x="347471" y="235965"/>
                  <a:pt x="287273" y="41782"/>
                  <a:pt x="277240" y="21716"/>
                </a:cubicBezTo>
                <a:cubicBezTo>
                  <a:pt x="267334" y="1523"/>
                  <a:pt x="241172" y="0"/>
                  <a:pt x="241172" y="0"/>
                </a:cubicBezTo>
                <a:lnTo>
                  <a:pt x="175133" y="0"/>
                </a:lnTo>
                <a:lnTo>
                  <a:pt x="172465" y="0"/>
                </a:lnTo>
                <a:lnTo>
                  <a:pt x="106298" y="0"/>
                </a:lnTo>
                <a:cubicBezTo>
                  <a:pt x="106298" y="0"/>
                  <a:pt x="80136" y="1523"/>
                  <a:pt x="70230" y="21716"/>
                </a:cubicBezTo>
                <a:cubicBezTo>
                  <a:pt x="60197" y="41782"/>
                  <a:pt x="0" y="235965"/>
                  <a:pt x="0" y="235965"/>
                </a:cubicBezTo>
                <a:cubicBezTo>
                  <a:pt x="0" y="235965"/>
                  <a:pt x="-5841" y="252602"/>
                  <a:pt x="6096" y="257683"/>
                </a:cubicBezTo>
                <a:cubicBezTo>
                  <a:pt x="18160" y="262763"/>
                  <a:pt x="32130" y="252602"/>
                  <a:pt x="40259" y="239267"/>
                </a:cubicBezTo>
                <a:cubicBezTo>
                  <a:pt x="48133" y="225933"/>
                  <a:pt x="96265" y="100456"/>
                  <a:pt x="96265" y="100456"/>
                </a:cubicBezTo>
                <a:lnTo>
                  <a:pt x="88391" y="267842"/>
                </a:lnTo>
                <a:lnTo>
                  <a:pt x="58292" y="559180"/>
                </a:lnTo>
                <a:cubicBezTo>
                  <a:pt x="58292" y="559180"/>
                  <a:pt x="72263" y="579246"/>
                  <a:pt x="88391" y="577595"/>
                </a:cubicBezTo>
                <a:cubicBezTo>
                  <a:pt x="104394" y="575945"/>
                  <a:pt x="114300" y="574294"/>
                  <a:pt x="118236" y="559180"/>
                </a:cubicBezTo>
                <a:cubicBezTo>
                  <a:pt x="122046" y="545083"/>
                  <a:pt x="167640" y="304291"/>
                  <a:pt x="173735" y="271652"/>
                </a:cubicBezTo>
                <a:cubicBezTo>
                  <a:pt x="173354" y="269239"/>
                  <a:pt x="173101" y="267842"/>
                  <a:pt x="173101" y="267842"/>
                </a:cubicBezTo>
                <a:lnTo>
                  <a:pt x="174497" y="267842"/>
                </a:lnTo>
                <a:cubicBezTo>
                  <a:pt x="174497" y="267842"/>
                  <a:pt x="174244" y="269239"/>
                  <a:pt x="173735" y="271652"/>
                </a:cubicBezTo>
                <a:cubicBezTo>
                  <a:pt x="179959" y="304291"/>
                  <a:pt x="225425" y="545083"/>
                  <a:pt x="229108" y="559180"/>
                </a:cubicBezTo>
                <a:cubicBezTo>
                  <a:pt x="233171" y="574294"/>
                  <a:pt x="243204" y="575945"/>
                  <a:pt x="259207" y="577595"/>
                </a:cubicBezTo>
                <a:cubicBezTo>
                  <a:pt x="275209" y="579246"/>
                  <a:pt x="289305" y="559180"/>
                  <a:pt x="289305" y="559180"/>
                </a:cubicBezTo>
                <a:lnTo>
                  <a:pt x="259207" y="267842"/>
                </a:lnTo>
                <a:lnTo>
                  <a:pt x="251205" y="100456"/>
                </a:lnTo>
                <a:cubicBezTo>
                  <a:pt x="251205" y="100456"/>
                  <a:pt x="299339" y="225933"/>
                  <a:pt x="307340" y="239267"/>
                </a:cubicBezTo>
                <a:cubicBezTo>
                  <a:pt x="315340" y="252602"/>
                  <a:pt x="329310" y="262763"/>
                  <a:pt x="341376" y="257683"/>
                </a:cubicBezTo>
                <a:cubicBezTo>
                  <a:pt x="353440" y="252602"/>
                  <a:pt x="347471" y="235965"/>
                  <a:pt x="347471" y="235965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Freeform 3"/>
          <p:cNvSpPr/>
          <p:nvPr/>
        </p:nvSpPr>
        <p:spPr>
          <a:xfrm>
            <a:off x="5956200" y="3502080"/>
            <a:ext cx="117720" cy="112680"/>
          </a:xfrm>
          <a:custGeom>
            <a:avLst/>
            <a:gdLst>
              <a:gd name="textAreaLeft" fmla="*/ 0 w 117720"/>
              <a:gd name="textAreaRight" fmla="*/ 118080 w 1177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17602" h="111505">
                <a:moveTo>
                  <a:pt x="117602" y="52451"/>
                </a:moveTo>
                <a:cubicBezTo>
                  <a:pt x="118999" y="6603"/>
                  <a:pt x="60071" y="0"/>
                  <a:pt x="60071" y="0"/>
                </a:cubicBezTo>
                <a:lnTo>
                  <a:pt x="57404" y="0"/>
                </a:lnTo>
                <a:cubicBezTo>
                  <a:pt x="57404" y="0"/>
                  <a:pt x="-1396" y="6603"/>
                  <a:pt x="0" y="52451"/>
                </a:cubicBezTo>
                <a:cubicBezTo>
                  <a:pt x="2667" y="75819"/>
                  <a:pt x="36067" y="111505"/>
                  <a:pt x="57404" y="111505"/>
                </a:cubicBezTo>
                <a:lnTo>
                  <a:pt x="60071" y="111505"/>
                </a:lnTo>
                <a:cubicBezTo>
                  <a:pt x="81407" y="111505"/>
                  <a:pt x="114935" y="75819"/>
                  <a:pt x="117602" y="52451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Freeform 3"/>
          <p:cNvSpPr/>
          <p:nvPr/>
        </p:nvSpPr>
        <p:spPr>
          <a:xfrm>
            <a:off x="5843520" y="3625920"/>
            <a:ext cx="347760" cy="577800"/>
          </a:xfrm>
          <a:custGeom>
            <a:avLst/>
            <a:gdLst>
              <a:gd name="textAreaLeft" fmla="*/ 0 w 347760"/>
              <a:gd name="textAreaRight" fmla="*/ 348120 w 34776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347344" h="577722">
                <a:moveTo>
                  <a:pt x="347344" y="236092"/>
                </a:moveTo>
                <a:cubicBezTo>
                  <a:pt x="347344" y="236092"/>
                  <a:pt x="287146" y="41910"/>
                  <a:pt x="277240" y="21717"/>
                </a:cubicBezTo>
                <a:cubicBezTo>
                  <a:pt x="267207" y="1651"/>
                  <a:pt x="241045" y="0"/>
                  <a:pt x="241045" y="0"/>
                </a:cubicBezTo>
                <a:lnTo>
                  <a:pt x="175132" y="0"/>
                </a:lnTo>
                <a:lnTo>
                  <a:pt x="172465" y="0"/>
                </a:lnTo>
                <a:lnTo>
                  <a:pt x="106298" y="0"/>
                </a:lnTo>
                <a:cubicBezTo>
                  <a:pt x="106298" y="0"/>
                  <a:pt x="80136" y="1651"/>
                  <a:pt x="70230" y="21717"/>
                </a:cubicBezTo>
                <a:cubicBezTo>
                  <a:pt x="60070" y="41910"/>
                  <a:pt x="0" y="236092"/>
                  <a:pt x="0" y="236092"/>
                </a:cubicBezTo>
                <a:cubicBezTo>
                  <a:pt x="0" y="236092"/>
                  <a:pt x="-5842" y="252729"/>
                  <a:pt x="6095" y="257810"/>
                </a:cubicBezTo>
                <a:cubicBezTo>
                  <a:pt x="18033" y="262890"/>
                  <a:pt x="32003" y="252729"/>
                  <a:pt x="40258" y="239395"/>
                </a:cubicBezTo>
                <a:cubicBezTo>
                  <a:pt x="48132" y="225933"/>
                  <a:pt x="96138" y="100584"/>
                  <a:pt x="96138" y="100584"/>
                </a:cubicBezTo>
                <a:lnTo>
                  <a:pt x="88264" y="267842"/>
                </a:lnTo>
                <a:lnTo>
                  <a:pt x="58165" y="559180"/>
                </a:lnTo>
                <a:cubicBezTo>
                  <a:pt x="58165" y="559180"/>
                  <a:pt x="72262" y="579247"/>
                  <a:pt x="88264" y="577723"/>
                </a:cubicBezTo>
                <a:cubicBezTo>
                  <a:pt x="104266" y="575945"/>
                  <a:pt x="114300" y="574294"/>
                  <a:pt x="118236" y="559180"/>
                </a:cubicBezTo>
                <a:cubicBezTo>
                  <a:pt x="122046" y="545084"/>
                  <a:pt x="167512" y="304292"/>
                  <a:pt x="173735" y="271653"/>
                </a:cubicBezTo>
                <a:cubicBezTo>
                  <a:pt x="173227" y="269240"/>
                  <a:pt x="172973" y="267842"/>
                  <a:pt x="172973" y="267842"/>
                </a:cubicBezTo>
                <a:lnTo>
                  <a:pt x="174497" y="267842"/>
                </a:lnTo>
                <a:cubicBezTo>
                  <a:pt x="174497" y="267842"/>
                  <a:pt x="174244" y="269240"/>
                  <a:pt x="173735" y="271653"/>
                </a:cubicBezTo>
                <a:cubicBezTo>
                  <a:pt x="179958" y="304292"/>
                  <a:pt x="225425" y="545084"/>
                  <a:pt x="229107" y="559180"/>
                </a:cubicBezTo>
                <a:cubicBezTo>
                  <a:pt x="233171" y="574294"/>
                  <a:pt x="243077" y="575945"/>
                  <a:pt x="259079" y="577723"/>
                </a:cubicBezTo>
                <a:cubicBezTo>
                  <a:pt x="275081" y="579247"/>
                  <a:pt x="289305" y="559180"/>
                  <a:pt x="289305" y="559180"/>
                </a:cubicBezTo>
                <a:lnTo>
                  <a:pt x="259079" y="267842"/>
                </a:lnTo>
                <a:lnTo>
                  <a:pt x="251078" y="100584"/>
                </a:lnTo>
                <a:cubicBezTo>
                  <a:pt x="251078" y="100584"/>
                  <a:pt x="299211" y="225933"/>
                  <a:pt x="307339" y="239395"/>
                </a:cubicBezTo>
                <a:cubicBezTo>
                  <a:pt x="315340" y="252729"/>
                  <a:pt x="329310" y="262890"/>
                  <a:pt x="341375" y="257810"/>
                </a:cubicBezTo>
                <a:cubicBezTo>
                  <a:pt x="353440" y="252729"/>
                  <a:pt x="347344" y="236092"/>
                  <a:pt x="347344" y="236092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Freeform 3"/>
          <p:cNvSpPr/>
          <p:nvPr/>
        </p:nvSpPr>
        <p:spPr>
          <a:xfrm>
            <a:off x="6816600" y="3502080"/>
            <a:ext cx="117720" cy="112680"/>
          </a:xfrm>
          <a:custGeom>
            <a:avLst/>
            <a:gdLst>
              <a:gd name="textAreaLeft" fmla="*/ 0 w 117720"/>
              <a:gd name="textAreaRight" fmla="*/ 118080 w 1177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17602" h="111505">
                <a:moveTo>
                  <a:pt x="117601" y="52451"/>
                </a:moveTo>
                <a:cubicBezTo>
                  <a:pt x="118998" y="6603"/>
                  <a:pt x="60070" y="0"/>
                  <a:pt x="60070" y="0"/>
                </a:cubicBezTo>
                <a:lnTo>
                  <a:pt x="57403" y="0"/>
                </a:lnTo>
                <a:cubicBezTo>
                  <a:pt x="57403" y="0"/>
                  <a:pt x="-1397" y="6603"/>
                  <a:pt x="0" y="52451"/>
                </a:cubicBezTo>
                <a:cubicBezTo>
                  <a:pt x="2666" y="75819"/>
                  <a:pt x="36067" y="111505"/>
                  <a:pt x="57403" y="111505"/>
                </a:cubicBezTo>
                <a:lnTo>
                  <a:pt x="60070" y="111505"/>
                </a:lnTo>
                <a:cubicBezTo>
                  <a:pt x="81533" y="111505"/>
                  <a:pt x="114934" y="75819"/>
                  <a:pt x="117601" y="52451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Freeform 3"/>
          <p:cNvSpPr/>
          <p:nvPr/>
        </p:nvSpPr>
        <p:spPr>
          <a:xfrm>
            <a:off x="6705720" y="3625920"/>
            <a:ext cx="345960" cy="577800"/>
          </a:xfrm>
          <a:custGeom>
            <a:avLst/>
            <a:gdLst>
              <a:gd name="textAreaLeft" fmla="*/ 0 w 345960"/>
              <a:gd name="textAreaRight" fmla="*/ 346320 w 34596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347345" h="577722">
                <a:moveTo>
                  <a:pt x="347344" y="236092"/>
                </a:moveTo>
                <a:cubicBezTo>
                  <a:pt x="347344" y="236092"/>
                  <a:pt x="287146" y="41910"/>
                  <a:pt x="277114" y="21717"/>
                </a:cubicBezTo>
                <a:cubicBezTo>
                  <a:pt x="267207" y="1651"/>
                  <a:pt x="241045" y="0"/>
                  <a:pt x="241045" y="0"/>
                </a:cubicBezTo>
                <a:lnTo>
                  <a:pt x="175005" y="0"/>
                </a:lnTo>
                <a:lnTo>
                  <a:pt x="172339" y="0"/>
                </a:lnTo>
                <a:lnTo>
                  <a:pt x="106298" y="0"/>
                </a:lnTo>
                <a:cubicBezTo>
                  <a:pt x="106298" y="0"/>
                  <a:pt x="80136" y="1651"/>
                  <a:pt x="70104" y="21717"/>
                </a:cubicBezTo>
                <a:cubicBezTo>
                  <a:pt x="60070" y="41910"/>
                  <a:pt x="0" y="236092"/>
                  <a:pt x="0" y="236092"/>
                </a:cubicBezTo>
                <a:cubicBezTo>
                  <a:pt x="0" y="236092"/>
                  <a:pt x="-5969" y="252729"/>
                  <a:pt x="5968" y="257810"/>
                </a:cubicBezTo>
                <a:cubicBezTo>
                  <a:pt x="18033" y="262890"/>
                  <a:pt x="32004" y="252729"/>
                  <a:pt x="40131" y="239395"/>
                </a:cubicBezTo>
                <a:cubicBezTo>
                  <a:pt x="48005" y="225933"/>
                  <a:pt x="96139" y="100584"/>
                  <a:pt x="96139" y="100584"/>
                </a:cubicBezTo>
                <a:lnTo>
                  <a:pt x="88265" y="267842"/>
                </a:lnTo>
                <a:lnTo>
                  <a:pt x="58166" y="559180"/>
                </a:lnTo>
                <a:cubicBezTo>
                  <a:pt x="58166" y="559180"/>
                  <a:pt x="72135" y="579247"/>
                  <a:pt x="88265" y="577723"/>
                </a:cubicBezTo>
                <a:cubicBezTo>
                  <a:pt x="104267" y="575945"/>
                  <a:pt x="114172" y="574294"/>
                  <a:pt x="118109" y="559180"/>
                </a:cubicBezTo>
                <a:cubicBezTo>
                  <a:pt x="121919" y="545084"/>
                  <a:pt x="167513" y="304292"/>
                  <a:pt x="173608" y="271653"/>
                </a:cubicBezTo>
                <a:cubicBezTo>
                  <a:pt x="173228" y="269240"/>
                  <a:pt x="172973" y="267842"/>
                  <a:pt x="172973" y="267842"/>
                </a:cubicBezTo>
                <a:lnTo>
                  <a:pt x="174370" y="267842"/>
                </a:lnTo>
                <a:cubicBezTo>
                  <a:pt x="174370" y="267842"/>
                  <a:pt x="174117" y="269240"/>
                  <a:pt x="173608" y="271653"/>
                </a:cubicBezTo>
                <a:cubicBezTo>
                  <a:pt x="179831" y="304292"/>
                  <a:pt x="225297" y="545084"/>
                  <a:pt x="228980" y="559180"/>
                </a:cubicBezTo>
                <a:cubicBezTo>
                  <a:pt x="233044" y="574294"/>
                  <a:pt x="243078" y="575945"/>
                  <a:pt x="259080" y="577723"/>
                </a:cubicBezTo>
                <a:cubicBezTo>
                  <a:pt x="275081" y="579247"/>
                  <a:pt x="289179" y="559180"/>
                  <a:pt x="289179" y="559180"/>
                </a:cubicBezTo>
                <a:lnTo>
                  <a:pt x="259080" y="267842"/>
                </a:lnTo>
                <a:lnTo>
                  <a:pt x="251079" y="100584"/>
                </a:lnTo>
                <a:cubicBezTo>
                  <a:pt x="251079" y="100584"/>
                  <a:pt x="299211" y="225933"/>
                  <a:pt x="307340" y="239395"/>
                </a:cubicBezTo>
                <a:cubicBezTo>
                  <a:pt x="315341" y="252729"/>
                  <a:pt x="329183" y="262890"/>
                  <a:pt x="341248" y="257810"/>
                </a:cubicBezTo>
                <a:cubicBezTo>
                  <a:pt x="353314" y="252729"/>
                  <a:pt x="347344" y="236092"/>
                  <a:pt x="347344" y="236092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3"/>
          <p:cNvSpPr/>
          <p:nvPr/>
        </p:nvSpPr>
        <p:spPr>
          <a:xfrm>
            <a:off x="7432560" y="2968560"/>
            <a:ext cx="117720" cy="111240"/>
          </a:xfrm>
          <a:custGeom>
            <a:avLst/>
            <a:gdLst>
              <a:gd name="textAreaLeft" fmla="*/ 0 w 117720"/>
              <a:gd name="textAreaRight" fmla="*/ 118080 w 11772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117602" h="111632">
                <a:moveTo>
                  <a:pt x="117602" y="52577"/>
                </a:moveTo>
                <a:cubicBezTo>
                  <a:pt x="118998" y="6730"/>
                  <a:pt x="60070" y="0"/>
                  <a:pt x="60070" y="0"/>
                </a:cubicBezTo>
                <a:lnTo>
                  <a:pt x="57531" y="0"/>
                </a:lnTo>
                <a:cubicBezTo>
                  <a:pt x="57531" y="0"/>
                  <a:pt x="-1396" y="6730"/>
                  <a:pt x="0" y="52577"/>
                </a:cubicBezTo>
                <a:cubicBezTo>
                  <a:pt x="2667" y="75819"/>
                  <a:pt x="36195" y="111632"/>
                  <a:pt x="57531" y="111632"/>
                </a:cubicBezTo>
                <a:lnTo>
                  <a:pt x="60070" y="111632"/>
                </a:lnTo>
                <a:cubicBezTo>
                  <a:pt x="81533" y="111632"/>
                  <a:pt x="114934" y="75819"/>
                  <a:pt x="117602" y="52577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Freeform 3"/>
          <p:cNvSpPr/>
          <p:nvPr/>
        </p:nvSpPr>
        <p:spPr>
          <a:xfrm>
            <a:off x="7319880" y="3090960"/>
            <a:ext cx="347760" cy="577800"/>
          </a:xfrm>
          <a:custGeom>
            <a:avLst/>
            <a:gdLst>
              <a:gd name="textAreaLeft" fmla="*/ 0 w 347760"/>
              <a:gd name="textAreaRight" fmla="*/ 348120 w 34776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347344" h="577596">
                <a:moveTo>
                  <a:pt x="347344" y="235965"/>
                </a:moveTo>
                <a:cubicBezTo>
                  <a:pt x="347344" y="235965"/>
                  <a:pt x="287146" y="41782"/>
                  <a:pt x="277113" y="21716"/>
                </a:cubicBezTo>
                <a:cubicBezTo>
                  <a:pt x="267207" y="1523"/>
                  <a:pt x="241045" y="0"/>
                  <a:pt x="241045" y="0"/>
                </a:cubicBezTo>
                <a:lnTo>
                  <a:pt x="175005" y="0"/>
                </a:lnTo>
                <a:lnTo>
                  <a:pt x="172465" y="0"/>
                </a:lnTo>
                <a:lnTo>
                  <a:pt x="106298" y="0"/>
                </a:lnTo>
                <a:cubicBezTo>
                  <a:pt x="106298" y="0"/>
                  <a:pt x="80136" y="1523"/>
                  <a:pt x="70230" y="21716"/>
                </a:cubicBezTo>
                <a:cubicBezTo>
                  <a:pt x="60070" y="41782"/>
                  <a:pt x="0" y="235965"/>
                  <a:pt x="0" y="235965"/>
                </a:cubicBezTo>
                <a:cubicBezTo>
                  <a:pt x="0" y="235965"/>
                  <a:pt x="-5969" y="252602"/>
                  <a:pt x="5968" y="257683"/>
                </a:cubicBezTo>
                <a:cubicBezTo>
                  <a:pt x="18033" y="262763"/>
                  <a:pt x="32003" y="252602"/>
                  <a:pt x="40131" y="239267"/>
                </a:cubicBezTo>
                <a:cubicBezTo>
                  <a:pt x="48132" y="225933"/>
                  <a:pt x="96138" y="100456"/>
                  <a:pt x="96138" y="100456"/>
                </a:cubicBezTo>
                <a:lnTo>
                  <a:pt x="88264" y="267842"/>
                </a:lnTo>
                <a:lnTo>
                  <a:pt x="58165" y="559180"/>
                </a:lnTo>
                <a:cubicBezTo>
                  <a:pt x="58165" y="559180"/>
                  <a:pt x="72135" y="579246"/>
                  <a:pt x="88264" y="577595"/>
                </a:cubicBezTo>
                <a:cubicBezTo>
                  <a:pt x="104266" y="575945"/>
                  <a:pt x="114300" y="574294"/>
                  <a:pt x="118109" y="559180"/>
                </a:cubicBezTo>
                <a:cubicBezTo>
                  <a:pt x="121919" y="545083"/>
                  <a:pt x="167513" y="304291"/>
                  <a:pt x="173608" y="271652"/>
                </a:cubicBezTo>
                <a:cubicBezTo>
                  <a:pt x="173227" y="269239"/>
                  <a:pt x="172973" y="267842"/>
                  <a:pt x="172973" y="267842"/>
                </a:cubicBezTo>
                <a:lnTo>
                  <a:pt x="174370" y="267842"/>
                </a:lnTo>
                <a:cubicBezTo>
                  <a:pt x="174370" y="267842"/>
                  <a:pt x="174116" y="269239"/>
                  <a:pt x="173608" y="271652"/>
                </a:cubicBezTo>
                <a:cubicBezTo>
                  <a:pt x="179831" y="304291"/>
                  <a:pt x="225297" y="545083"/>
                  <a:pt x="228980" y="559180"/>
                </a:cubicBezTo>
                <a:cubicBezTo>
                  <a:pt x="233044" y="574294"/>
                  <a:pt x="243077" y="575945"/>
                  <a:pt x="259079" y="577595"/>
                </a:cubicBezTo>
                <a:cubicBezTo>
                  <a:pt x="275081" y="579246"/>
                  <a:pt x="289178" y="559180"/>
                  <a:pt x="289178" y="559180"/>
                </a:cubicBezTo>
                <a:lnTo>
                  <a:pt x="259079" y="267842"/>
                </a:lnTo>
                <a:lnTo>
                  <a:pt x="251078" y="100456"/>
                </a:lnTo>
                <a:cubicBezTo>
                  <a:pt x="251078" y="100456"/>
                  <a:pt x="299211" y="225933"/>
                  <a:pt x="307339" y="239267"/>
                </a:cubicBezTo>
                <a:cubicBezTo>
                  <a:pt x="315340" y="252602"/>
                  <a:pt x="329310" y="262763"/>
                  <a:pt x="341248" y="257683"/>
                </a:cubicBezTo>
                <a:cubicBezTo>
                  <a:pt x="353313" y="252602"/>
                  <a:pt x="347344" y="235965"/>
                  <a:pt x="347344" y="235965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3"/>
          <p:cNvSpPr/>
          <p:nvPr/>
        </p:nvSpPr>
        <p:spPr>
          <a:xfrm>
            <a:off x="7432560" y="2027160"/>
            <a:ext cx="117720" cy="112680"/>
          </a:xfrm>
          <a:custGeom>
            <a:avLst/>
            <a:gdLst>
              <a:gd name="textAreaLeft" fmla="*/ 0 w 117720"/>
              <a:gd name="textAreaRight" fmla="*/ 118080 w 117720"/>
              <a:gd name="textAreaTop" fmla="*/ 0 h 112680"/>
              <a:gd name="textAreaBottom" fmla="*/ 113040 h 112680"/>
            </a:gdLst>
            <a:ahLst/>
            <a:rect l="textAreaLeft" t="textAreaTop" r="textAreaRight" b="textAreaBottom"/>
            <a:pathLst>
              <a:path w="117602" h="111632">
                <a:moveTo>
                  <a:pt x="117602" y="52577"/>
                </a:moveTo>
                <a:cubicBezTo>
                  <a:pt x="118998" y="6730"/>
                  <a:pt x="60070" y="0"/>
                  <a:pt x="60070" y="0"/>
                </a:cubicBezTo>
                <a:lnTo>
                  <a:pt x="57531" y="0"/>
                </a:lnTo>
                <a:cubicBezTo>
                  <a:pt x="57531" y="0"/>
                  <a:pt x="-1396" y="6730"/>
                  <a:pt x="0" y="52577"/>
                </a:cubicBezTo>
                <a:cubicBezTo>
                  <a:pt x="2667" y="75819"/>
                  <a:pt x="36195" y="111632"/>
                  <a:pt x="57531" y="111632"/>
                </a:cubicBezTo>
                <a:lnTo>
                  <a:pt x="60070" y="111632"/>
                </a:lnTo>
                <a:cubicBezTo>
                  <a:pt x="81533" y="111632"/>
                  <a:pt x="114934" y="75819"/>
                  <a:pt x="117602" y="52577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3"/>
          <p:cNvSpPr/>
          <p:nvPr/>
        </p:nvSpPr>
        <p:spPr>
          <a:xfrm>
            <a:off x="7319880" y="2149560"/>
            <a:ext cx="347760" cy="577800"/>
          </a:xfrm>
          <a:custGeom>
            <a:avLst/>
            <a:gdLst>
              <a:gd name="textAreaLeft" fmla="*/ 0 w 347760"/>
              <a:gd name="textAreaRight" fmla="*/ 348120 w 34776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347344" h="577595">
                <a:moveTo>
                  <a:pt x="347344" y="235966"/>
                </a:moveTo>
                <a:cubicBezTo>
                  <a:pt x="347344" y="235966"/>
                  <a:pt x="287146" y="41782"/>
                  <a:pt x="277113" y="21716"/>
                </a:cubicBezTo>
                <a:cubicBezTo>
                  <a:pt x="267207" y="1523"/>
                  <a:pt x="241045" y="0"/>
                  <a:pt x="241045" y="0"/>
                </a:cubicBezTo>
                <a:lnTo>
                  <a:pt x="175005" y="0"/>
                </a:lnTo>
                <a:lnTo>
                  <a:pt x="172465" y="0"/>
                </a:lnTo>
                <a:lnTo>
                  <a:pt x="106298" y="0"/>
                </a:lnTo>
                <a:cubicBezTo>
                  <a:pt x="106298" y="0"/>
                  <a:pt x="80136" y="1523"/>
                  <a:pt x="70230" y="21716"/>
                </a:cubicBezTo>
                <a:cubicBezTo>
                  <a:pt x="60070" y="41782"/>
                  <a:pt x="0" y="235966"/>
                  <a:pt x="0" y="235966"/>
                </a:cubicBezTo>
                <a:cubicBezTo>
                  <a:pt x="0" y="235966"/>
                  <a:pt x="-5969" y="252602"/>
                  <a:pt x="5968" y="257682"/>
                </a:cubicBezTo>
                <a:cubicBezTo>
                  <a:pt x="18033" y="262763"/>
                  <a:pt x="32003" y="252602"/>
                  <a:pt x="40131" y="239267"/>
                </a:cubicBezTo>
                <a:cubicBezTo>
                  <a:pt x="48132" y="225932"/>
                  <a:pt x="96138" y="100456"/>
                  <a:pt x="96138" y="100456"/>
                </a:cubicBezTo>
                <a:lnTo>
                  <a:pt x="88264" y="267842"/>
                </a:lnTo>
                <a:lnTo>
                  <a:pt x="58165" y="559180"/>
                </a:lnTo>
                <a:cubicBezTo>
                  <a:pt x="58165" y="559180"/>
                  <a:pt x="72135" y="579119"/>
                  <a:pt x="88264" y="577595"/>
                </a:cubicBezTo>
                <a:cubicBezTo>
                  <a:pt x="104266" y="575944"/>
                  <a:pt x="114300" y="574294"/>
                  <a:pt x="118109" y="559180"/>
                </a:cubicBezTo>
                <a:cubicBezTo>
                  <a:pt x="121919" y="545083"/>
                  <a:pt x="167513" y="304291"/>
                  <a:pt x="173608" y="271652"/>
                </a:cubicBezTo>
                <a:cubicBezTo>
                  <a:pt x="173227" y="269239"/>
                  <a:pt x="172973" y="267842"/>
                  <a:pt x="172973" y="267842"/>
                </a:cubicBezTo>
                <a:lnTo>
                  <a:pt x="174370" y="267842"/>
                </a:lnTo>
                <a:cubicBezTo>
                  <a:pt x="174370" y="267842"/>
                  <a:pt x="174116" y="269239"/>
                  <a:pt x="173608" y="271652"/>
                </a:cubicBezTo>
                <a:cubicBezTo>
                  <a:pt x="179831" y="304291"/>
                  <a:pt x="225297" y="545083"/>
                  <a:pt x="228980" y="559180"/>
                </a:cubicBezTo>
                <a:cubicBezTo>
                  <a:pt x="233044" y="574294"/>
                  <a:pt x="243077" y="575944"/>
                  <a:pt x="259079" y="577595"/>
                </a:cubicBezTo>
                <a:cubicBezTo>
                  <a:pt x="275081" y="579119"/>
                  <a:pt x="289178" y="559180"/>
                  <a:pt x="289178" y="559180"/>
                </a:cubicBezTo>
                <a:lnTo>
                  <a:pt x="259079" y="267842"/>
                </a:lnTo>
                <a:lnTo>
                  <a:pt x="251078" y="100456"/>
                </a:lnTo>
                <a:cubicBezTo>
                  <a:pt x="251078" y="100456"/>
                  <a:pt x="299211" y="225932"/>
                  <a:pt x="307339" y="239267"/>
                </a:cubicBezTo>
                <a:cubicBezTo>
                  <a:pt x="315340" y="252602"/>
                  <a:pt x="329310" y="262763"/>
                  <a:pt x="341248" y="257682"/>
                </a:cubicBezTo>
                <a:cubicBezTo>
                  <a:pt x="353313" y="252602"/>
                  <a:pt x="347344" y="235966"/>
                  <a:pt x="347344" y="235966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3"/>
          <p:cNvSpPr/>
          <p:nvPr/>
        </p:nvSpPr>
        <p:spPr>
          <a:xfrm>
            <a:off x="6756480" y="1474920"/>
            <a:ext cx="117360" cy="110880"/>
          </a:xfrm>
          <a:custGeom>
            <a:avLst/>
            <a:gdLst>
              <a:gd name="textAreaLeft" fmla="*/ 0 w 117360"/>
              <a:gd name="textAreaRight" fmla="*/ 117720 w 11736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117602" h="111505">
                <a:moveTo>
                  <a:pt x="117602" y="52450"/>
                </a:moveTo>
                <a:cubicBezTo>
                  <a:pt x="118998" y="6730"/>
                  <a:pt x="60070" y="0"/>
                  <a:pt x="60070" y="0"/>
                </a:cubicBezTo>
                <a:lnTo>
                  <a:pt x="57404" y="0"/>
                </a:lnTo>
                <a:cubicBezTo>
                  <a:pt x="57404" y="0"/>
                  <a:pt x="-1396" y="6730"/>
                  <a:pt x="0" y="52450"/>
                </a:cubicBezTo>
                <a:cubicBezTo>
                  <a:pt x="2667" y="75819"/>
                  <a:pt x="36068" y="111505"/>
                  <a:pt x="57404" y="111505"/>
                </a:cubicBezTo>
                <a:lnTo>
                  <a:pt x="60070" y="111505"/>
                </a:lnTo>
                <a:cubicBezTo>
                  <a:pt x="81533" y="111505"/>
                  <a:pt x="114934" y="75819"/>
                  <a:pt x="117602" y="52450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Freeform 3"/>
          <p:cNvSpPr/>
          <p:nvPr/>
        </p:nvSpPr>
        <p:spPr>
          <a:xfrm>
            <a:off x="6643800" y="1596960"/>
            <a:ext cx="347400" cy="577800"/>
          </a:xfrm>
          <a:custGeom>
            <a:avLst/>
            <a:gdLst>
              <a:gd name="textAreaLeft" fmla="*/ 0 w 347400"/>
              <a:gd name="textAreaRight" fmla="*/ 347760 w 34740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347345" h="577723">
                <a:moveTo>
                  <a:pt x="347345" y="236092"/>
                </a:moveTo>
                <a:cubicBezTo>
                  <a:pt x="347345" y="236092"/>
                  <a:pt x="287147" y="41910"/>
                  <a:pt x="277114" y="21844"/>
                </a:cubicBezTo>
                <a:cubicBezTo>
                  <a:pt x="267208" y="1651"/>
                  <a:pt x="241046" y="0"/>
                  <a:pt x="241046" y="0"/>
                </a:cubicBezTo>
                <a:lnTo>
                  <a:pt x="175006" y="0"/>
                </a:lnTo>
                <a:lnTo>
                  <a:pt x="172339" y="0"/>
                </a:lnTo>
                <a:lnTo>
                  <a:pt x="106298" y="0"/>
                </a:lnTo>
                <a:cubicBezTo>
                  <a:pt x="106298" y="0"/>
                  <a:pt x="80136" y="1651"/>
                  <a:pt x="70104" y="21844"/>
                </a:cubicBezTo>
                <a:cubicBezTo>
                  <a:pt x="60071" y="41910"/>
                  <a:pt x="0" y="236092"/>
                  <a:pt x="0" y="236092"/>
                </a:cubicBezTo>
                <a:cubicBezTo>
                  <a:pt x="0" y="236092"/>
                  <a:pt x="-5968" y="252730"/>
                  <a:pt x="5969" y="257810"/>
                </a:cubicBezTo>
                <a:cubicBezTo>
                  <a:pt x="18034" y="262889"/>
                  <a:pt x="32004" y="252730"/>
                  <a:pt x="40132" y="239395"/>
                </a:cubicBezTo>
                <a:cubicBezTo>
                  <a:pt x="48006" y="226060"/>
                  <a:pt x="96139" y="100583"/>
                  <a:pt x="96139" y="100583"/>
                </a:cubicBezTo>
                <a:lnTo>
                  <a:pt x="88265" y="267970"/>
                </a:lnTo>
                <a:lnTo>
                  <a:pt x="58166" y="559308"/>
                </a:lnTo>
                <a:cubicBezTo>
                  <a:pt x="58166" y="559308"/>
                  <a:pt x="72136" y="579247"/>
                  <a:pt x="88265" y="577723"/>
                </a:cubicBezTo>
                <a:cubicBezTo>
                  <a:pt x="104267" y="576072"/>
                  <a:pt x="114173" y="574420"/>
                  <a:pt x="118110" y="559308"/>
                </a:cubicBezTo>
                <a:cubicBezTo>
                  <a:pt x="121920" y="545211"/>
                  <a:pt x="167513" y="304419"/>
                  <a:pt x="173609" y="271652"/>
                </a:cubicBezTo>
                <a:cubicBezTo>
                  <a:pt x="173228" y="269367"/>
                  <a:pt x="172973" y="267970"/>
                  <a:pt x="172973" y="267970"/>
                </a:cubicBezTo>
                <a:lnTo>
                  <a:pt x="174371" y="267970"/>
                </a:lnTo>
                <a:cubicBezTo>
                  <a:pt x="174371" y="267970"/>
                  <a:pt x="174117" y="269367"/>
                  <a:pt x="173609" y="271652"/>
                </a:cubicBezTo>
                <a:cubicBezTo>
                  <a:pt x="179832" y="304419"/>
                  <a:pt x="225298" y="545211"/>
                  <a:pt x="228981" y="559308"/>
                </a:cubicBezTo>
                <a:cubicBezTo>
                  <a:pt x="233045" y="574420"/>
                  <a:pt x="243078" y="576072"/>
                  <a:pt x="259080" y="577723"/>
                </a:cubicBezTo>
                <a:cubicBezTo>
                  <a:pt x="275082" y="579247"/>
                  <a:pt x="289179" y="559308"/>
                  <a:pt x="289179" y="559308"/>
                </a:cubicBezTo>
                <a:lnTo>
                  <a:pt x="259080" y="267970"/>
                </a:lnTo>
                <a:lnTo>
                  <a:pt x="251079" y="100583"/>
                </a:lnTo>
                <a:cubicBezTo>
                  <a:pt x="251079" y="100583"/>
                  <a:pt x="299211" y="226060"/>
                  <a:pt x="307213" y="239395"/>
                </a:cubicBezTo>
                <a:cubicBezTo>
                  <a:pt x="315341" y="252730"/>
                  <a:pt x="329184" y="262889"/>
                  <a:pt x="341248" y="257810"/>
                </a:cubicBezTo>
                <a:cubicBezTo>
                  <a:pt x="353314" y="252730"/>
                  <a:pt x="347345" y="236092"/>
                  <a:pt x="347345" y="236092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reeform 3"/>
          <p:cNvSpPr/>
          <p:nvPr/>
        </p:nvSpPr>
        <p:spPr>
          <a:xfrm>
            <a:off x="5877000" y="1413000"/>
            <a:ext cx="117360" cy="110880"/>
          </a:xfrm>
          <a:custGeom>
            <a:avLst/>
            <a:gdLst>
              <a:gd name="textAreaLeft" fmla="*/ 0 w 117360"/>
              <a:gd name="textAreaRight" fmla="*/ 117720 w 117360"/>
              <a:gd name="textAreaTop" fmla="*/ 0 h 110880"/>
              <a:gd name="textAreaBottom" fmla="*/ 111240 h 110880"/>
            </a:gdLst>
            <a:ahLst/>
            <a:rect l="textAreaLeft" t="textAreaTop" r="textAreaRight" b="textAreaBottom"/>
            <a:pathLst>
              <a:path w="117602" h="111506">
                <a:moveTo>
                  <a:pt x="117602" y="52451"/>
                </a:moveTo>
                <a:cubicBezTo>
                  <a:pt x="118998" y="6730"/>
                  <a:pt x="60071" y="0"/>
                  <a:pt x="60071" y="0"/>
                </a:cubicBezTo>
                <a:lnTo>
                  <a:pt x="57530" y="0"/>
                </a:lnTo>
                <a:cubicBezTo>
                  <a:pt x="57530" y="0"/>
                  <a:pt x="-1397" y="6730"/>
                  <a:pt x="0" y="52451"/>
                </a:cubicBezTo>
                <a:cubicBezTo>
                  <a:pt x="2666" y="75819"/>
                  <a:pt x="36067" y="111505"/>
                  <a:pt x="57530" y="111505"/>
                </a:cubicBezTo>
                <a:lnTo>
                  <a:pt x="60071" y="111505"/>
                </a:lnTo>
                <a:cubicBezTo>
                  <a:pt x="81534" y="111505"/>
                  <a:pt x="114934" y="75819"/>
                  <a:pt x="117602" y="52451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Freeform 3"/>
          <p:cNvSpPr/>
          <p:nvPr/>
        </p:nvSpPr>
        <p:spPr>
          <a:xfrm>
            <a:off x="5764320" y="1535040"/>
            <a:ext cx="347400" cy="577800"/>
          </a:xfrm>
          <a:custGeom>
            <a:avLst/>
            <a:gdLst>
              <a:gd name="textAreaLeft" fmla="*/ 0 w 347400"/>
              <a:gd name="textAreaRight" fmla="*/ 347760 w 347400"/>
              <a:gd name="textAreaTop" fmla="*/ 0 h 577800"/>
              <a:gd name="textAreaBottom" fmla="*/ 578160 h 577800"/>
            </a:gdLst>
            <a:ahLst/>
            <a:rect l="textAreaLeft" t="textAreaTop" r="textAreaRight" b="textAreaBottom"/>
            <a:pathLst>
              <a:path w="347345" h="577722">
                <a:moveTo>
                  <a:pt x="347345" y="236092"/>
                </a:moveTo>
                <a:cubicBezTo>
                  <a:pt x="347345" y="236092"/>
                  <a:pt x="287146" y="41910"/>
                  <a:pt x="277114" y="21844"/>
                </a:cubicBezTo>
                <a:cubicBezTo>
                  <a:pt x="267208" y="1650"/>
                  <a:pt x="241045" y="0"/>
                  <a:pt x="241045" y="0"/>
                </a:cubicBezTo>
                <a:lnTo>
                  <a:pt x="175005" y="0"/>
                </a:lnTo>
                <a:lnTo>
                  <a:pt x="172339" y="0"/>
                </a:lnTo>
                <a:lnTo>
                  <a:pt x="106298" y="0"/>
                </a:lnTo>
                <a:cubicBezTo>
                  <a:pt x="106298" y="0"/>
                  <a:pt x="80136" y="1650"/>
                  <a:pt x="70230" y="21844"/>
                </a:cubicBezTo>
                <a:cubicBezTo>
                  <a:pt x="60070" y="41910"/>
                  <a:pt x="0" y="236092"/>
                  <a:pt x="0" y="236092"/>
                </a:cubicBezTo>
                <a:cubicBezTo>
                  <a:pt x="0" y="236092"/>
                  <a:pt x="-5969" y="252729"/>
                  <a:pt x="5969" y="257810"/>
                </a:cubicBezTo>
                <a:cubicBezTo>
                  <a:pt x="18033" y="262889"/>
                  <a:pt x="32003" y="252729"/>
                  <a:pt x="40132" y="239395"/>
                </a:cubicBezTo>
                <a:cubicBezTo>
                  <a:pt x="48005" y="226060"/>
                  <a:pt x="96139" y="100583"/>
                  <a:pt x="96139" y="100583"/>
                </a:cubicBezTo>
                <a:lnTo>
                  <a:pt x="88264" y="267970"/>
                </a:lnTo>
                <a:lnTo>
                  <a:pt x="58165" y="559307"/>
                </a:lnTo>
                <a:cubicBezTo>
                  <a:pt x="58165" y="559307"/>
                  <a:pt x="72135" y="579247"/>
                  <a:pt x="88264" y="577723"/>
                </a:cubicBezTo>
                <a:cubicBezTo>
                  <a:pt x="104266" y="576072"/>
                  <a:pt x="114300" y="574420"/>
                  <a:pt x="118109" y="559307"/>
                </a:cubicBezTo>
                <a:cubicBezTo>
                  <a:pt x="121920" y="545210"/>
                  <a:pt x="167513" y="304419"/>
                  <a:pt x="173608" y="271652"/>
                </a:cubicBezTo>
                <a:cubicBezTo>
                  <a:pt x="173227" y="269367"/>
                  <a:pt x="172973" y="267970"/>
                  <a:pt x="172973" y="267970"/>
                </a:cubicBezTo>
                <a:lnTo>
                  <a:pt x="174370" y="267970"/>
                </a:lnTo>
                <a:cubicBezTo>
                  <a:pt x="174370" y="267970"/>
                  <a:pt x="174116" y="269367"/>
                  <a:pt x="173608" y="271652"/>
                </a:cubicBezTo>
                <a:cubicBezTo>
                  <a:pt x="179832" y="304419"/>
                  <a:pt x="225297" y="545210"/>
                  <a:pt x="228980" y="559307"/>
                </a:cubicBezTo>
                <a:cubicBezTo>
                  <a:pt x="233045" y="574420"/>
                  <a:pt x="243077" y="576072"/>
                  <a:pt x="259079" y="577723"/>
                </a:cubicBezTo>
                <a:cubicBezTo>
                  <a:pt x="275082" y="579247"/>
                  <a:pt x="289178" y="559307"/>
                  <a:pt x="289178" y="559307"/>
                </a:cubicBezTo>
                <a:lnTo>
                  <a:pt x="259079" y="267970"/>
                </a:lnTo>
                <a:lnTo>
                  <a:pt x="251078" y="100583"/>
                </a:lnTo>
                <a:cubicBezTo>
                  <a:pt x="251078" y="100583"/>
                  <a:pt x="299211" y="226060"/>
                  <a:pt x="307339" y="239395"/>
                </a:cubicBezTo>
                <a:cubicBezTo>
                  <a:pt x="315340" y="252729"/>
                  <a:pt x="329183" y="262889"/>
                  <a:pt x="341248" y="257810"/>
                </a:cubicBezTo>
                <a:cubicBezTo>
                  <a:pt x="353314" y="252729"/>
                  <a:pt x="347345" y="236092"/>
                  <a:pt x="347345" y="236092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Freeform 3"/>
          <p:cNvSpPr/>
          <p:nvPr/>
        </p:nvSpPr>
        <p:spPr>
          <a:xfrm>
            <a:off x="6311880" y="2276640"/>
            <a:ext cx="160200" cy="152280"/>
          </a:xfrm>
          <a:custGeom>
            <a:avLst/>
            <a:gdLst>
              <a:gd name="textAreaLeft" fmla="*/ 0 w 160200"/>
              <a:gd name="textAreaRight" fmla="*/ 160560 w 160200"/>
              <a:gd name="textAreaTop" fmla="*/ 0 h 152280"/>
              <a:gd name="textAreaBottom" fmla="*/ 152640 h 152280"/>
            </a:gdLst>
            <a:ahLst/>
            <a:rect l="textAreaLeft" t="textAreaTop" r="textAreaRight" b="textAreaBottom"/>
            <a:pathLst>
              <a:path w="160909" h="152526">
                <a:moveTo>
                  <a:pt x="160909" y="71754"/>
                </a:moveTo>
                <a:cubicBezTo>
                  <a:pt x="162814" y="9144"/>
                  <a:pt x="82296" y="0"/>
                  <a:pt x="82296" y="0"/>
                </a:cubicBezTo>
                <a:lnTo>
                  <a:pt x="78613" y="0"/>
                </a:lnTo>
                <a:cubicBezTo>
                  <a:pt x="78613" y="0"/>
                  <a:pt x="-1904" y="9144"/>
                  <a:pt x="0" y="71754"/>
                </a:cubicBezTo>
                <a:cubicBezTo>
                  <a:pt x="3683" y="103632"/>
                  <a:pt x="49403" y="152526"/>
                  <a:pt x="78613" y="152526"/>
                </a:cubicBezTo>
                <a:lnTo>
                  <a:pt x="82296" y="152526"/>
                </a:lnTo>
                <a:cubicBezTo>
                  <a:pt x="111505" y="152526"/>
                  <a:pt x="157226" y="103632"/>
                  <a:pt x="160909" y="71754"/>
                </a:cubicBez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Freeform 3"/>
          <p:cNvSpPr/>
          <p:nvPr/>
        </p:nvSpPr>
        <p:spPr>
          <a:xfrm>
            <a:off x="6156360" y="2444760"/>
            <a:ext cx="479520" cy="789120"/>
          </a:xfrm>
          <a:custGeom>
            <a:avLst/>
            <a:gdLst>
              <a:gd name="textAreaLeft" fmla="*/ 0 w 479520"/>
              <a:gd name="textAreaRight" fmla="*/ 479880 w 479520"/>
              <a:gd name="textAreaTop" fmla="*/ 0 h 789120"/>
              <a:gd name="textAreaBottom" fmla="*/ 789480 h 789120"/>
            </a:gdLst>
            <a:ahLst/>
            <a:rect l="textAreaLeft" t="textAreaTop" r="textAreaRight" b="textAreaBottom"/>
            <a:pathLst>
              <a:path w="479186" h="790194">
                <a:moveTo>
                  <a:pt x="477123" y="322960"/>
                </a:moveTo>
                <a:cubicBezTo>
                  <a:pt x="477123" y="322960"/>
                  <a:pt x="394827" y="57276"/>
                  <a:pt x="381111" y="29844"/>
                </a:cubicBezTo>
                <a:cubicBezTo>
                  <a:pt x="367522" y="2285"/>
                  <a:pt x="331708" y="0"/>
                  <a:pt x="331708" y="0"/>
                </a:cubicBezTo>
                <a:lnTo>
                  <a:pt x="241411" y="0"/>
                </a:lnTo>
                <a:lnTo>
                  <a:pt x="237855" y="0"/>
                </a:lnTo>
                <a:lnTo>
                  <a:pt x="147304" y="0"/>
                </a:lnTo>
                <a:cubicBezTo>
                  <a:pt x="147304" y="0"/>
                  <a:pt x="111617" y="2285"/>
                  <a:pt x="98028" y="29844"/>
                </a:cubicBezTo>
                <a:cubicBezTo>
                  <a:pt x="84185" y="57276"/>
                  <a:pt x="2016" y="322960"/>
                  <a:pt x="2016" y="322960"/>
                </a:cubicBezTo>
                <a:cubicBezTo>
                  <a:pt x="2016" y="322960"/>
                  <a:pt x="-6111" y="345694"/>
                  <a:pt x="10271" y="352551"/>
                </a:cubicBezTo>
                <a:cubicBezTo>
                  <a:pt x="26654" y="359536"/>
                  <a:pt x="45704" y="345694"/>
                  <a:pt x="56880" y="327405"/>
                </a:cubicBezTo>
                <a:cubicBezTo>
                  <a:pt x="67802" y="309117"/>
                  <a:pt x="133461" y="137541"/>
                  <a:pt x="133461" y="137541"/>
                </a:cubicBezTo>
                <a:lnTo>
                  <a:pt x="122666" y="366522"/>
                </a:lnTo>
                <a:lnTo>
                  <a:pt x="81518" y="764920"/>
                </a:lnTo>
                <a:cubicBezTo>
                  <a:pt x="81518" y="764920"/>
                  <a:pt x="100695" y="792352"/>
                  <a:pt x="122666" y="790194"/>
                </a:cubicBezTo>
                <a:cubicBezTo>
                  <a:pt x="144637" y="787907"/>
                  <a:pt x="158353" y="785622"/>
                  <a:pt x="163560" y="764920"/>
                </a:cubicBezTo>
                <a:cubicBezTo>
                  <a:pt x="168894" y="745744"/>
                  <a:pt x="231124" y="416305"/>
                  <a:pt x="239506" y="371601"/>
                </a:cubicBezTo>
                <a:cubicBezTo>
                  <a:pt x="238998" y="368300"/>
                  <a:pt x="238617" y="366522"/>
                  <a:pt x="238617" y="366522"/>
                </a:cubicBezTo>
                <a:lnTo>
                  <a:pt x="240522" y="366522"/>
                </a:lnTo>
                <a:cubicBezTo>
                  <a:pt x="240522" y="366522"/>
                  <a:pt x="240141" y="368300"/>
                  <a:pt x="239506" y="371601"/>
                </a:cubicBezTo>
                <a:cubicBezTo>
                  <a:pt x="248015" y="416305"/>
                  <a:pt x="310245" y="745744"/>
                  <a:pt x="315325" y="764920"/>
                </a:cubicBezTo>
                <a:cubicBezTo>
                  <a:pt x="320786" y="785622"/>
                  <a:pt x="334502" y="787907"/>
                  <a:pt x="356346" y="790194"/>
                </a:cubicBezTo>
                <a:cubicBezTo>
                  <a:pt x="378190" y="792352"/>
                  <a:pt x="397621" y="764920"/>
                  <a:pt x="397621" y="764920"/>
                </a:cubicBezTo>
                <a:lnTo>
                  <a:pt x="356346" y="366522"/>
                </a:lnTo>
                <a:lnTo>
                  <a:pt x="345424" y="137541"/>
                </a:lnTo>
                <a:cubicBezTo>
                  <a:pt x="345424" y="137541"/>
                  <a:pt x="411210" y="309117"/>
                  <a:pt x="422386" y="327405"/>
                </a:cubicBezTo>
                <a:cubicBezTo>
                  <a:pt x="433308" y="345694"/>
                  <a:pt x="452358" y="359536"/>
                  <a:pt x="468867" y="352551"/>
                </a:cubicBezTo>
                <a:cubicBezTo>
                  <a:pt x="485378" y="345694"/>
                  <a:pt x="477123" y="322960"/>
                  <a:pt x="477123" y="322960"/>
                </a:cubicBez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3"/>
          <p:cNvSpPr/>
          <p:nvPr/>
        </p:nvSpPr>
        <p:spPr>
          <a:xfrm>
            <a:off x="1476360" y="1484280"/>
            <a:ext cx="3336840" cy="2327400"/>
          </a:xfrm>
          <a:custGeom>
            <a:avLst/>
            <a:gdLst>
              <a:gd name="textAreaLeft" fmla="*/ 0 w 3336840"/>
              <a:gd name="textAreaRight" fmla="*/ 3337200 w 3336840"/>
              <a:gd name="textAreaTop" fmla="*/ 0 h 2327400"/>
              <a:gd name="textAreaBottom" fmla="*/ 2327760 h 2327400"/>
            </a:gdLst>
            <a:ahLst/>
            <a:rect l="textAreaLeft" t="textAreaTop" r="textAreaRight" b="textAreaBottom"/>
            <a:pathLst>
              <a:path w="3337317" h="2326401">
                <a:moveTo>
                  <a:pt x="3337317" y="2326400"/>
                </a:moveTo>
                <a:lnTo>
                  <a:pt x="2492767" y="2012330"/>
                </a:lnTo>
                <a:cubicBezTo>
                  <a:pt x="1703335" y="2313700"/>
                  <a:pt x="688859" y="2140600"/>
                  <a:pt x="226834" y="1625742"/>
                </a:cubicBezTo>
                <a:cubicBezTo>
                  <a:pt x="-235153" y="1111011"/>
                  <a:pt x="30237" y="449341"/>
                  <a:pt x="819669" y="148097"/>
                </a:cubicBezTo>
                <a:cubicBezTo>
                  <a:pt x="1609101" y="-153273"/>
                  <a:pt x="2623577" y="19827"/>
                  <a:pt x="3085603" y="534685"/>
                </a:cubicBezTo>
                <a:cubicBezTo>
                  <a:pt x="3426598" y="914669"/>
                  <a:pt x="3379863" y="1391554"/>
                  <a:pt x="2967366" y="1740169"/>
                </a:cubicBezTo>
                <a:lnTo>
                  <a:pt x="3337317" y="2326400"/>
                </a:ln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8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"/>
          <p:cNvSpPr/>
          <p:nvPr/>
        </p:nvSpPr>
        <p:spPr>
          <a:xfrm>
            <a:off x="919080" y="266760"/>
            <a:ext cx="1490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随规策略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创造活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"/>
          <p:cNvSpPr/>
          <p:nvPr/>
        </p:nvSpPr>
        <p:spPr>
          <a:xfrm>
            <a:off x="2674440" y="4254480"/>
            <a:ext cx="4115520" cy="7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小众趌味若丌能变成集体认同，将无法承载裂变传播，因此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在策划活动时，须遵循关联性、趌味性、亏动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"/>
          <p:cNvSpPr/>
          <p:nvPr/>
        </p:nvSpPr>
        <p:spPr>
          <a:xfrm>
            <a:off x="1951200" y="2362320"/>
            <a:ext cx="2383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0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WOW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，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I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Lik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It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E7D25-A166-4879-89AE-F8983D3C5F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"/>
          <p:cNvSpPr/>
          <p:nvPr/>
        </p:nvSpPr>
        <p:spPr>
          <a:xfrm>
            <a:off x="1187280" y="3141720"/>
            <a:ext cx="6553440" cy="1944720"/>
          </a:xfrm>
          <a:custGeom>
            <a:avLst/>
            <a:gdLst>
              <a:gd name="textAreaLeft" fmla="*/ 0 w 6553440"/>
              <a:gd name="textAreaRight" fmla="*/ 6553800 w 655344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6552946" h="1944243">
                <a:moveTo>
                  <a:pt x="0" y="113792"/>
                </a:moveTo>
                <a:cubicBezTo>
                  <a:pt x="0" y="50926"/>
                  <a:pt x="50914" y="0"/>
                  <a:pt x="113664" y="0"/>
                </a:cubicBezTo>
                <a:lnTo>
                  <a:pt x="6439154" y="0"/>
                </a:lnTo>
                <a:cubicBezTo>
                  <a:pt x="6502018" y="0"/>
                  <a:pt x="6552945" y="50926"/>
                  <a:pt x="6552945" y="113792"/>
                </a:cubicBezTo>
                <a:lnTo>
                  <a:pt x="6552945" y="1830577"/>
                </a:lnTo>
                <a:cubicBezTo>
                  <a:pt x="6552945" y="1893316"/>
                  <a:pt x="6502018" y="1944243"/>
                  <a:pt x="6439154" y="1944243"/>
                </a:cubicBezTo>
                <a:lnTo>
                  <a:pt x="113664" y="1944243"/>
                </a:lnTo>
                <a:cubicBezTo>
                  <a:pt x="50914" y="1944243"/>
                  <a:pt x="0" y="1893316"/>
                  <a:pt x="0" y="1830577"/>
                </a:cubicBezTo>
                <a:lnTo>
                  <a:pt x="0" y="113792"/>
                </a:ln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3" descr=""/>
          <p:cNvPicPr/>
          <p:nvPr/>
        </p:nvPicPr>
        <p:blipFill>
          <a:blip r:embed="rId2"/>
          <a:stretch/>
        </p:blipFill>
        <p:spPr>
          <a:xfrm>
            <a:off x="812880" y="1689120"/>
            <a:ext cx="1536480" cy="1536840"/>
          </a:xfrm>
          <a:prstGeom prst="rect">
            <a:avLst/>
          </a:prstGeom>
          <a:ln w="0">
            <a:noFill/>
          </a:ln>
        </p:spPr>
      </p:pic>
      <p:sp>
        <p:nvSpPr>
          <p:cNvPr id="437" name="TextBox 1"/>
          <p:cNvSpPr/>
          <p:nvPr/>
        </p:nvSpPr>
        <p:spPr>
          <a:xfrm>
            <a:off x="919080" y="266760"/>
            <a:ext cx="1490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随规策略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创造活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Box 1"/>
          <p:cNvSpPr/>
          <p:nvPr/>
        </p:nvSpPr>
        <p:spPr>
          <a:xfrm>
            <a:off x="1854720" y="2374920"/>
            <a:ext cx="3574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测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Box 1"/>
          <p:cNvSpPr/>
          <p:nvPr/>
        </p:nvSpPr>
        <p:spPr>
          <a:xfrm>
            <a:off x="3982680" y="2197080"/>
            <a:ext cx="23547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左思右享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·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我的另一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Box 1"/>
          <p:cNvSpPr/>
          <p:nvPr/>
        </p:nvSpPr>
        <p:spPr>
          <a:xfrm>
            <a:off x="2782440" y="3251160"/>
            <a:ext cx="3353400" cy="17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用户登录测试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，填写姓名，性别、星座等基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信息后，系统自动生成匘配的内容，如左边是娱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明星，右边是商务精英。并可将生成的内容发布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微博，不好友分享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53D80-0800-40EF-A6AB-33343483D6B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reeform 3"/>
          <p:cNvSpPr/>
          <p:nvPr/>
        </p:nvSpPr>
        <p:spPr>
          <a:xfrm>
            <a:off x="2124000" y="3573360"/>
            <a:ext cx="2448000" cy="180036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448305" h="1800225">
                <a:moveTo>
                  <a:pt x="0" y="173863"/>
                </a:moveTo>
                <a:cubicBezTo>
                  <a:pt x="0" y="77851"/>
                  <a:pt x="77851" y="0"/>
                  <a:pt x="173863" y="0"/>
                </a:cubicBezTo>
                <a:lnTo>
                  <a:pt x="2274442" y="0"/>
                </a:lnTo>
                <a:cubicBezTo>
                  <a:pt x="2370454" y="0"/>
                  <a:pt x="2448305" y="77851"/>
                  <a:pt x="2448305" y="173863"/>
                </a:cubicBezTo>
                <a:lnTo>
                  <a:pt x="2448305" y="1626361"/>
                </a:lnTo>
                <a:cubicBezTo>
                  <a:pt x="2448305" y="1722373"/>
                  <a:pt x="2370454" y="1800225"/>
                  <a:pt x="2274442" y="1800225"/>
                </a:cubicBezTo>
                <a:lnTo>
                  <a:pt x="173863" y="1800225"/>
                </a:lnTo>
                <a:cubicBezTo>
                  <a:pt x="77851" y="1800225"/>
                  <a:pt x="0" y="1722373"/>
                  <a:pt x="0" y="1626361"/>
                </a:cubicBezTo>
                <a:lnTo>
                  <a:pt x="0" y="173863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Freeform 3"/>
          <p:cNvSpPr/>
          <p:nvPr/>
        </p:nvSpPr>
        <p:spPr>
          <a:xfrm>
            <a:off x="4643280" y="3573360"/>
            <a:ext cx="2449800" cy="1800360"/>
          </a:xfrm>
          <a:custGeom>
            <a:avLst/>
            <a:gdLst>
              <a:gd name="textAreaLeft" fmla="*/ 0 w 2449800"/>
              <a:gd name="textAreaRight" fmla="*/ 2450160 w 24498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448305" h="1800225">
                <a:moveTo>
                  <a:pt x="0" y="173863"/>
                </a:moveTo>
                <a:cubicBezTo>
                  <a:pt x="0" y="77851"/>
                  <a:pt x="77850" y="0"/>
                  <a:pt x="173862" y="0"/>
                </a:cubicBezTo>
                <a:lnTo>
                  <a:pt x="2274442" y="0"/>
                </a:lnTo>
                <a:cubicBezTo>
                  <a:pt x="2370454" y="0"/>
                  <a:pt x="2448305" y="77851"/>
                  <a:pt x="2448305" y="173863"/>
                </a:cubicBezTo>
                <a:lnTo>
                  <a:pt x="2448305" y="1626361"/>
                </a:lnTo>
                <a:cubicBezTo>
                  <a:pt x="2448305" y="1722373"/>
                  <a:pt x="2370454" y="1800225"/>
                  <a:pt x="2274442" y="1800225"/>
                </a:cubicBezTo>
                <a:lnTo>
                  <a:pt x="173862" y="1800225"/>
                </a:lnTo>
                <a:cubicBezTo>
                  <a:pt x="77850" y="1800225"/>
                  <a:pt x="0" y="1722373"/>
                  <a:pt x="0" y="1626361"/>
                </a:cubicBezTo>
                <a:lnTo>
                  <a:pt x="0" y="173863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3"/>
          <p:cNvSpPr/>
          <p:nvPr/>
        </p:nvSpPr>
        <p:spPr>
          <a:xfrm>
            <a:off x="2266920" y="2997360"/>
            <a:ext cx="1009800" cy="338040"/>
          </a:xfrm>
          <a:custGeom>
            <a:avLst/>
            <a:gdLst>
              <a:gd name="textAreaLeft" fmla="*/ 0 w 1009800"/>
              <a:gd name="textAreaRight" fmla="*/ 1010160 w 100980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008113" h="338556">
                <a:moveTo>
                  <a:pt x="0" y="338556"/>
                </a:moveTo>
                <a:lnTo>
                  <a:pt x="1008113" y="338556"/>
                </a:lnTo>
                <a:lnTo>
                  <a:pt x="1008113" y="0"/>
                </a:lnTo>
                <a:lnTo>
                  <a:pt x="0" y="0"/>
                </a:lnTo>
                <a:lnTo>
                  <a:pt x="0" y="338556"/>
                </a:lnTo>
              </a:path>
            </a:pathLst>
          </a:custGeom>
          <a:solidFill>
            <a:srgbClr val="bfbfb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3"/>
          <p:cNvSpPr/>
          <p:nvPr/>
        </p:nvSpPr>
        <p:spPr>
          <a:xfrm>
            <a:off x="3492360" y="2997360"/>
            <a:ext cx="1079640" cy="338040"/>
          </a:xfrm>
          <a:custGeom>
            <a:avLst/>
            <a:gdLst>
              <a:gd name="textAreaLeft" fmla="*/ 0 w 1079640"/>
              <a:gd name="textAreaRight" fmla="*/ 1080000 w 107964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080122" h="338556">
                <a:moveTo>
                  <a:pt x="0" y="338556"/>
                </a:moveTo>
                <a:lnTo>
                  <a:pt x="1080122" y="338556"/>
                </a:lnTo>
                <a:lnTo>
                  <a:pt x="1080122" y="0"/>
                </a:lnTo>
                <a:lnTo>
                  <a:pt x="0" y="0"/>
                </a:lnTo>
                <a:lnTo>
                  <a:pt x="0" y="338556"/>
                </a:lnTo>
              </a:path>
            </a:pathLst>
          </a:custGeom>
          <a:solidFill>
            <a:srgbClr val="bfbfb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reeform 3"/>
          <p:cNvSpPr/>
          <p:nvPr/>
        </p:nvSpPr>
        <p:spPr>
          <a:xfrm>
            <a:off x="4788000" y="2997360"/>
            <a:ext cx="1008000" cy="338040"/>
          </a:xfrm>
          <a:custGeom>
            <a:avLst/>
            <a:gdLst>
              <a:gd name="textAreaLeft" fmla="*/ 0 w 1008000"/>
              <a:gd name="textAreaRight" fmla="*/ 1008360 w 100800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1008113" h="338556">
                <a:moveTo>
                  <a:pt x="0" y="338556"/>
                </a:moveTo>
                <a:lnTo>
                  <a:pt x="1008113" y="338556"/>
                </a:lnTo>
                <a:lnTo>
                  <a:pt x="1008113" y="0"/>
                </a:lnTo>
                <a:lnTo>
                  <a:pt x="0" y="0"/>
                </a:lnTo>
                <a:lnTo>
                  <a:pt x="0" y="338556"/>
                </a:lnTo>
              </a:path>
            </a:pathLst>
          </a:custGeom>
          <a:solidFill>
            <a:srgbClr val="bfbfb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3"/>
          <p:cNvSpPr/>
          <p:nvPr/>
        </p:nvSpPr>
        <p:spPr>
          <a:xfrm>
            <a:off x="7361280" y="4365720"/>
            <a:ext cx="277920" cy="263520"/>
          </a:xfrm>
          <a:custGeom>
            <a:avLst/>
            <a:gdLst>
              <a:gd name="textAreaLeft" fmla="*/ 0 w 277920"/>
              <a:gd name="textAreaRight" fmla="*/ 278280 w 277920"/>
              <a:gd name="textAreaTop" fmla="*/ 0 h 263520"/>
              <a:gd name="textAreaBottom" fmla="*/ 263880 h 263520"/>
            </a:gdLst>
            <a:ahLst/>
            <a:rect l="textAreaLeft" t="textAreaTop" r="textAreaRight" b="textAreaBottom"/>
            <a:pathLst>
              <a:path w="278383" h="263905">
                <a:moveTo>
                  <a:pt x="278383" y="124078"/>
                </a:moveTo>
                <a:cubicBezTo>
                  <a:pt x="281558" y="15747"/>
                  <a:pt x="142239" y="0"/>
                  <a:pt x="142239" y="0"/>
                </a:cubicBezTo>
                <a:lnTo>
                  <a:pt x="136016" y="0"/>
                </a:lnTo>
                <a:cubicBezTo>
                  <a:pt x="136016" y="0"/>
                  <a:pt x="-3302" y="15747"/>
                  <a:pt x="0" y="124078"/>
                </a:cubicBezTo>
                <a:cubicBezTo>
                  <a:pt x="6222" y="179323"/>
                  <a:pt x="85470" y="263905"/>
                  <a:pt x="136016" y="263905"/>
                </a:cubicBezTo>
                <a:lnTo>
                  <a:pt x="142239" y="263905"/>
                </a:lnTo>
                <a:cubicBezTo>
                  <a:pt x="192785" y="263905"/>
                  <a:pt x="272033" y="179323"/>
                  <a:pt x="278383" y="124078"/>
                </a:cubicBez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3"/>
          <p:cNvSpPr/>
          <p:nvPr/>
        </p:nvSpPr>
        <p:spPr>
          <a:xfrm>
            <a:off x="7093080" y="4654440"/>
            <a:ext cx="828720" cy="1366920"/>
          </a:xfrm>
          <a:custGeom>
            <a:avLst/>
            <a:gdLst>
              <a:gd name="textAreaLeft" fmla="*/ 0 w 828720"/>
              <a:gd name="textAreaRight" fmla="*/ 829080 w 828720"/>
              <a:gd name="textAreaTop" fmla="*/ 0 h 1366920"/>
              <a:gd name="textAreaBottom" fmla="*/ 1367280 h 1366920"/>
            </a:gdLst>
            <a:ahLst/>
            <a:rect l="textAreaLeft" t="textAreaTop" r="textAreaRight" b="textAreaBottom"/>
            <a:pathLst>
              <a:path w="828945" h="1367091">
                <a:moveTo>
                  <a:pt x="825389" y="558672"/>
                </a:moveTo>
                <a:cubicBezTo>
                  <a:pt x="825389" y="558672"/>
                  <a:pt x="683021" y="99186"/>
                  <a:pt x="659272" y="51561"/>
                </a:cubicBezTo>
                <a:cubicBezTo>
                  <a:pt x="635778" y="3936"/>
                  <a:pt x="573929" y="0"/>
                  <a:pt x="573929" y="0"/>
                </a:cubicBezTo>
                <a:lnTo>
                  <a:pt x="417719" y="0"/>
                </a:lnTo>
                <a:lnTo>
                  <a:pt x="411495" y="0"/>
                </a:lnTo>
                <a:lnTo>
                  <a:pt x="255032" y="0"/>
                </a:lnTo>
                <a:cubicBezTo>
                  <a:pt x="255032" y="0"/>
                  <a:pt x="193056" y="3936"/>
                  <a:pt x="169560" y="51561"/>
                </a:cubicBezTo>
                <a:cubicBezTo>
                  <a:pt x="145684" y="99186"/>
                  <a:pt x="3444" y="558672"/>
                  <a:pt x="3444" y="558672"/>
                </a:cubicBezTo>
                <a:cubicBezTo>
                  <a:pt x="3444" y="558672"/>
                  <a:pt x="-10524" y="598042"/>
                  <a:pt x="17795" y="609980"/>
                </a:cubicBezTo>
                <a:cubicBezTo>
                  <a:pt x="46117" y="622045"/>
                  <a:pt x="79264" y="598042"/>
                  <a:pt x="98568" y="566546"/>
                </a:cubicBezTo>
                <a:cubicBezTo>
                  <a:pt x="117237" y="534796"/>
                  <a:pt x="231029" y="237997"/>
                  <a:pt x="231029" y="237997"/>
                </a:cubicBezTo>
                <a:lnTo>
                  <a:pt x="212359" y="633983"/>
                </a:lnTo>
                <a:lnTo>
                  <a:pt x="141113" y="1323339"/>
                </a:lnTo>
                <a:cubicBezTo>
                  <a:pt x="141113" y="1323339"/>
                  <a:pt x="174259" y="1370723"/>
                  <a:pt x="212359" y="1367091"/>
                </a:cubicBezTo>
                <a:cubicBezTo>
                  <a:pt x="250206" y="1363078"/>
                  <a:pt x="273828" y="1359141"/>
                  <a:pt x="283098" y="1323339"/>
                </a:cubicBezTo>
                <a:cubicBezTo>
                  <a:pt x="292116" y="1290053"/>
                  <a:pt x="399812" y="720216"/>
                  <a:pt x="414544" y="642873"/>
                </a:cubicBezTo>
                <a:cubicBezTo>
                  <a:pt x="413401" y="637285"/>
                  <a:pt x="412766" y="633983"/>
                  <a:pt x="412766" y="633983"/>
                </a:cubicBezTo>
                <a:lnTo>
                  <a:pt x="416194" y="633983"/>
                </a:lnTo>
                <a:cubicBezTo>
                  <a:pt x="416194" y="633983"/>
                  <a:pt x="415559" y="637285"/>
                  <a:pt x="414544" y="642873"/>
                </a:cubicBezTo>
                <a:cubicBezTo>
                  <a:pt x="429148" y="720216"/>
                  <a:pt x="536718" y="1290053"/>
                  <a:pt x="545481" y="1323339"/>
                </a:cubicBezTo>
                <a:cubicBezTo>
                  <a:pt x="555132" y="1359141"/>
                  <a:pt x="578755" y="1363078"/>
                  <a:pt x="616601" y="1367091"/>
                </a:cubicBezTo>
                <a:cubicBezTo>
                  <a:pt x="654446" y="1370723"/>
                  <a:pt x="687975" y="1323339"/>
                  <a:pt x="687975" y="1323339"/>
                </a:cubicBezTo>
                <a:lnTo>
                  <a:pt x="616601" y="633983"/>
                </a:lnTo>
                <a:lnTo>
                  <a:pt x="597551" y="237997"/>
                </a:lnTo>
                <a:cubicBezTo>
                  <a:pt x="597551" y="237997"/>
                  <a:pt x="711469" y="534796"/>
                  <a:pt x="730773" y="566546"/>
                </a:cubicBezTo>
                <a:cubicBezTo>
                  <a:pt x="749696" y="598042"/>
                  <a:pt x="782717" y="622045"/>
                  <a:pt x="811165" y="609980"/>
                </a:cubicBezTo>
                <a:cubicBezTo>
                  <a:pt x="839613" y="598042"/>
                  <a:pt x="825389" y="558672"/>
                  <a:pt x="825389" y="558672"/>
                </a:cubicBez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0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3" descr=""/>
          <p:cNvPicPr/>
          <p:nvPr/>
        </p:nvPicPr>
        <p:blipFill>
          <a:blip r:embed="rId2"/>
          <a:stretch/>
        </p:blipFill>
        <p:spPr>
          <a:xfrm>
            <a:off x="812880" y="1181160"/>
            <a:ext cx="7556400" cy="5676840"/>
          </a:xfrm>
          <a:prstGeom prst="rect">
            <a:avLst/>
          </a:prstGeom>
          <a:ln w="0">
            <a:noFill/>
          </a:ln>
        </p:spPr>
      </p:pic>
      <p:sp>
        <p:nvSpPr>
          <p:cNvPr id="452" name="TextBox 1"/>
          <p:cNvSpPr/>
          <p:nvPr/>
        </p:nvSpPr>
        <p:spPr>
          <a:xfrm>
            <a:off x="1994400" y="2158920"/>
            <a:ext cx="3574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测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1"/>
          <p:cNvSpPr/>
          <p:nvPr/>
        </p:nvSpPr>
        <p:spPr>
          <a:xfrm>
            <a:off x="3982680" y="1981080"/>
            <a:ext cx="235476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左思右享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·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我的另一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1"/>
          <p:cNvSpPr/>
          <p:nvPr/>
        </p:nvSpPr>
        <p:spPr>
          <a:xfrm>
            <a:off x="832680" y="266760"/>
            <a:ext cx="19447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随规策略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创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DE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1"/>
          <p:cNvSpPr/>
          <p:nvPr/>
        </p:nvSpPr>
        <p:spPr>
          <a:xfrm>
            <a:off x="3671280" y="3022560"/>
            <a:ext cx="2293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Arial"/>
                <a:ea typeface="微软雅黑"/>
              </a:rPr>
              <a:t>性别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1"/>
          <p:cNvSpPr/>
          <p:nvPr/>
        </p:nvSpPr>
        <p:spPr>
          <a:xfrm>
            <a:off x="4966920" y="3022560"/>
            <a:ext cx="2293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Arial"/>
                <a:ea typeface="微软雅黑"/>
              </a:rPr>
              <a:t>星座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TextBox 1"/>
          <p:cNvSpPr/>
          <p:nvPr/>
        </p:nvSpPr>
        <p:spPr>
          <a:xfrm>
            <a:off x="2300760" y="3022560"/>
            <a:ext cx="369000" cy="9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500" spc="-1" strike="noStrike">
                <a:solidFill>
                  <a:srgbClr val="f2f2f2"/>
                </a:solidFill>
                <a:latin typeface="Arial"/>
                <a:ea typeface="微软雅黑"/>
              </a:rPr>
              <a:t>姓名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139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微软雅黑"/>
              </a:rPr>
              <a:t>娱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TextBox 1"/>
          <p:cNvSpPr/>
          <p:nvPr/>
        </p:nvSpPr>
        <p:spPr>
          <a:xfrm>
            <a:off x="6229080" y="3048120"/>
            <a:ext cx="668880" cy="9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立即测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393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7f7f7f"/>
                </a:solidFill>
                <a:latin typeface="Arial"/>
                <a:ea typeface="微软雅黑"/>
              </a:rPr>
              <a:t>商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E41F3-E51E-49D7-B294-900DA8A540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3"/>
          <p:cNvSpPr/>
          <p:nvPr/>
        </p:nvSpPr>
        <p:spPr>
          <a:xfrm>
            <a:off x="1187280" y="3141720"/>
            <a:ext cx="6553440" cy="1944720"/>
          </a:xfrm>
          <a:custGeom>
            <a:avLst/>
            <a:gdLst>
              <a:gd name="textAreaLeft" fmla="*/ 0 w 6553440"/>
              <a:gd name="textAreaRight" fmla="*/ 6553800 w 655344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6552946" h="1944243">
                <a:moveTo>
                  <a:pt x="0" y="113792"/>
                </a:moveTo>
                <a:cubicBezTo>
                  <a:pt x="0" y="50926"/>
                  <a:pt x="50914" y="0"/>
                  <a:pt x="113664" y="0"/>
                </a:cubicBezTo>
                <a:lnTo>
                  <a:pt x="6439154" y="0"/>
                </a:lnTo>
                <a:cubicBezTo>
                  <a:pt x="6502018" y="0"/>
                  <a:pt x="6552945" y="50926"/>
                  <a:pt x="6552945" y="113792"/>
                </a:cubicBezTo>
                <a:lnTo>
                  <a:pt x="6552945" y="1830577"/>
                </a:lnTo>
                <a:cubicBezTo>
                  <a:pt x="6552945" y="1893316"/>
                  <a:pt x="6502018" y="1944243"/>
                  <a:pt x="6439154" y="1944243"/>
                </a:cubicBezTo>
                <a:lnTo>
                  <a:pt x="113664" y="1944243"/>
                </a:lnTo>
                <a:cubicBezTo>
                  <a:pt x="50914" y="1944243"/>
                  <a:pt x="0" y="1893316"/>
                  <a:pt x="0" y="1830577"/>
                </a:cubicBezTo>
                <a:lnTo>
                  <a:pt x="0" y="113792"/>
                </a:ln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463" name="Picture 3" descr=""/>
          <p:cNvPicPr/>
          <p:nvPr/>
        </p:nvPicPr>
        <p:blipFill>
          <a:blip r:embed="rId2"/>
          <a:stretch/>
        </p:blipFill>
        <p:spPr>
          <a:xfrm>
            <a:off x="812880" y="1689120"/>
            <a:ext cx="1536480" cy="1536840"/>
          </a:xfrm>
          <a:prstGeom prst="rect">
            <a:avLst/>
          </a:prstGeom>
          <a:ln w="0">
            <a:noFill/>
          </a:ln>
        </p:spPr>
      </p:pic>
      <p:sp>
        <p:nvSpPr>
          <p:cNvPr id="464" name="TextBox 1"/>
          <p:cNvSpPr/>
          <p:nvPr/>
        </p:nvSpPr>
        <p:spPr>
          <a:xfrm>
            <a:off x="919080" y="266760"/>
            <a:ext cx="1490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随规策略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创造活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TextBox 1"/>
          <p:cNvSpPr/>
          <p:nvPr/>
        </p:nvSpPr>
        <p:spPr>
          <a:xfrm>
            <a:off x="1854720" y="2374920"/>
            <a:ext cx="3574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竞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TextBox 1"/>
          <p:cNvSpPr/>
          <p:nvPr/>
        </p:nvSpPr>
        <p:spPr>
          <a:xfrm>
            <a:off x="2893320" y="2197080"/>
            <a:ext cx="415368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900" spc="-1" strike="noStrike">
                <a:solidFill>
                  <a:srgbClr val="ffffff"/>
                </a:solidFill>
                <a:latin typeface="Arial"/>
                <a:ea typeface="微软雅黑"/>
              </a:rPr>
              <a:t>猜</a:t>
            </a:r>
            <a:r>
              <a:rPr b="0" lang="zh-CN" sz="3900" spc="-1" strike="noStrike">
                <a:solidFill>
                  <a:srgbClr val="ffffff"/>
                </a:solidFill>
                <a:latin typeface="Arial"/>
                <a:ea typeface="微软雅黑"/>
              </a:rPr>
              <a:t>·</a:t>
            </a:r>
            <a:r>
              <a:rPr b="0" lang="zh-CN" sz="3900" spc="-1" strike="noStrike">
                <a:solidFill>
                  <a:srgbClr val="ffffff"/>
                </a:solidFill>
                <a:latin typeface="Arial"/>
                <a:ea typeface="微软雅黑"/>
              </a:rPr>
              <a:t>解</a:t>
            </a:r>
            <a:r>
              <a:rPr b="0" lang="zh-CN" sz="3900" spc="-1" strike="noStrike">
                <a:solidFill>
                  <a:srgbClr val="ffffff"/>
                </a:solidFill>
                <a:latin typeface="Arial"/>
                <a:ea typeface="微软雅黑"/>
              </a:rPr>
              <a:t>Streak</a:t>
            </a:r>
            <a:r>
              <a:rPr b="0" lang="zh-CN" sz="3900" spc="-1" strike="noStrike">
                <a:solidFill>
                  <a:srgbClr val="ffffff"/>
                </a:solidFill>
                <a:latin typeface="Arial"/>
                <a:ea typeface="微软雅黑"/>
              </a:rPr>
              <a:t>平板原件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1"/>
          <p:cNvSpPr/>
          <p:nvPr/>
        </p:nvSpPr>
        <p:spPr>
          <a:xfrm>
            <a:off x="2656800" y="3251160"/>
            <a:ext cx="3678120" cy="17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用户登录测试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，填写原件数，并同步至微博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@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戴尔中国，即可参不活动。活动以暴力拆机规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公布原件数量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@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戴尔中国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收发，红人转发），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终猜中戒接近者获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C1DD-D3E6-4EB1-A7AE-0EF3EC36526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Freeform 3"/>
          <p:cNvSpPr/>
          <p:nvPr/>
        </p:nvSpPr>
        <p:spPr>
          <a:xfrm>
            <a:off x="2124000" y="3573360"/>
            <a:ext cx="2448000" cy="1800360"/>
          </a:xfrm>
          <a:custGeom>
            <a:avLst/>
            <a:gdLst>
              <a:gd name="textAreaLeft" fmla="*/ 0 w 2448000"/>
              <a:gd name="textAreaRight" fmla="*/ 2448360 w 24480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448305" h="1800225">
                <a:moveTo>
                  <a:pt x="0" y="173863"/>
                </a:moveTo>
                <a:cubicBezTo>
                  <a:pt x="0" y="77851"/>
                  <a:pt x="77851" y="0"/>
                  <a:pt x="173863" y="0"/>
                </a:cubicBezTo>
                <a:lnTo>
                  <a:pt x="2274442" y="0"/>
                </a:lnTo>
                <a:cubicBezTo>
                  <a:pt x="2370454" y="0"/>
                  <a:pt x="2448305" y="77851"/>
                  <a:pt x="2448305" y="173863"/>
                </a:cubicBezTo>
                <a:lnTo>
                  <a:pt x="2448305" y="1626361"/>
                </a:lnTo>
                <a:cubicBezTo>
                  <a:pt x="2448305" y="1722373"/>
                  <a:pt x="2370454" y="1800225"/>
                  <a:pt x="2274442" y="1800225"/>
                </a:cubicBezTo>
                <a:lnTo>
                  <a:pt x="173863" y="1800225"/>
                </a:lnTo>
                <a:cubicBezTo>
                  <a:pt x="77851" y="1800225"/>
                  <a:pt x="0" y="1722373"/>
                  <a:pt x="0" y="1626361"/>
                </a:cubicBezTo>
                <a:lnTo>
                  <a:pt x="0" y="173863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Freeform 3"/>
          <p:cNvSpPr/>
          <p:nvPr/>
        </p:nvSpPr>
        <p:spPr>
          <a:xfrm>
            <a:off x="4643280" y="3573360"/>
            <a:ext cx="2449800" cy="1800360"/>
          </a:xfrm>
          <a:custGeom>
            <a:avLst/>
            <a:gdLst>
              <a:gd name="textAreaLeft" fmla="*/ 0 w 2449800"/>
              <a:gd name="textAreaRight" fmla="*/ 2450160 w 24498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448305" h="1800225">
                <a:moveTo>
                  <a:pt x="0" y="173863"/>
                </a:moveTo>
                <a:cubicBezTo>
                  <a:pt x="0" y="77851"/>
                  <a:pt x="77850" y="0"/>
                  <a:pt x="173862" y="0"/>
                </a:cubicBezTo>
                <a:lnTo>
                  <a:pt x="2274442" y="0"/>
                </a:lnTo>
                <a:cubicBezTo>
                  <a:pt x="2370454" y="0"/>
                  <a:pt x="2448305" y="77851"/>
                  <a:pt x="2448305" y="173863"/>
                </a:cubicBezTo>
                <a:lnTo>
                  <a:pt x="2448305" y="1626361"/>
                </a:lnTo>
                <a:cubicBezTo>
                  <a:pt x="2448305" y="1722373"/>
                  <a:pt x="2370454" y="1800225"/>
                  <a:pt x="2274442" y="1800225"/>
                </a:cubicBezTo>
                <a:lnTo>
                  <a:pt x="173862" y="1800225"/>
                </a:lnTo>
                <a:cubicBezTo>
                  <a:pt x="77850" y="1800225"/>
                  <a:pt x="0" y="1722373"/>
                  <a:pt x="0" y="1626361"/>
                </a:cubicBezTo>
                <a:lnTo>
                  <a:pt x="0" y="173863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Freeform 3"/>
          <p:cNvSpPr/>
          <p:nvPr/>
        </p:nvSpPr>
        <p:spPr>
          <a:xfrm>
            <a:off x="2266920" y="2997360"/>
            <a:ext cx="3529080" cy="338040"/>
          </a:xfrm>
          <a:custGeom>
            <a:avLst/>
            <a:gdLst>
              <a:gd name="textAreaLeft" fmla="*/ 0 w 3529080"/>
              <a:gd name="textAreaRight" fmla="*/ 3529440 w 3529080"/>
              <a:gd name="textAreaTop" fmla="*/ 0 h 338040"/>
              <a:gd name="textAreaBottom" fmla="*/ 338400 h 338040"/>
            </a:gdLst>
            <a:ahLst/>
            <a:rect l="textAreaLeft" t="textAreaTop" r="textAreaRight" b="textAreaBottom"/>
            <a:pathLst>
              <a:path w="3528441" h="338556">
                <a:moveTo>
                  <a:pt x="0" y="338556"/>
                </a:moveTo>
                <a:lnTo>
                  <a:pt x="3528441" y="338556"/>
                </a:lnTo>
                <a:lnTo>
                  <a:pt x="3528441" y="0"/>
                </a:lnTo>
                <a:lnTo>
                  <a:pt x="0" y="0"/>
                </a:lnTo>
                <a:lnTo>
                  <a:pt x="0" y="338556"/>
                </a:lnTo>
              </a:path>
            </a:pathLst>
          </a:custGeom>
          <a:solidFill>
            <a:srgbClr val="bfbfb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3"/>
          <p:cNvSpPr/>
          <p:nvPr/>
        </p:nvSpPr>
        <p:spPr>
          <a:xfrm>
            <a:off x="4643280" y="3573360"/>
            <a:ext cx="2449800" cy="1800360"/>
          </a:xfrm>
          <a:custGeom>
            <a:avLst/>
            <a:gdLst>
              <a:gd name="textAreaLeft" fmla="*/ 0 w 2449800"/>
              <a:gd name="textAreaRight" fmla="*/ 2450160 w 2449800"/>
              <a:gd name="textAreaTop" fmla="*/ 0 h 1800360"/>
              <a:gd name="textAreaBottom" fmla="*/ 1800720 h 1800360"/>
            </a:gdLst>
            <a:ahLst/>
            <a:rect l="textAreaLeft" t="textAreaTop" r="textAreaRight" b="textAreaBottom"/>
            <a:pathLst>
              <a:path w="2448305" h="1800225">
                <a:moveTo>
                  <a:pt x="0" y="173863"/>
                </a:moveTo>
                <a:cubicBezTo>
                  <a:pt x="0" y="77851"/>
                  <a:pt x="77850" y="0"/>
                  <a:pt x="173862" y="0"/>
                </a:cubicBezTo>
                <a:lnTo>
                  <a:pt x="2274442" y="0"/>
                </a:lnTo>
                <a:cubicBezTo>
                  <a:pt x="2370454" y="0"/>
                  <a:pt x="2448305" y="77851"/>
                  <a:pt x="2448305" y="173863"/>
                </a:cubicBezTo>
                <a:lnTo>
                  <a:pt x="2448305" y="1626361"/>
                </a:lnTo>
                <a:cubicBezTo>
                  <a:pt x="2448305" y="1722373"/>
                  <a:pt x="2370454" y="1800225"/>
                  <a:pt x="2274442" y="1800225"/>
                </a:cubicBezTo>
                <a:lnTo>
                  <a:pt x="173862" y="1800225"/>
                </a:lnTo>
                <a:cubicBezTo>
                  <a:pt x="77850" y="1800225"/>
                  <a:pt x="0" y="1722373"/>
                  <a:pt x="0" y="1626361"/>
                </a:cubicBezTo>
                <a:lnTo>
                  <a:pt x="0" y="173863"/>
                </a:lnTo>
              </a:path>
            </a:pathLst>
          </a:custGeom>
          <a:solidFill>
            <a:srgbClr val="c2c2c2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3"/>
          <p:cNvSpPr/>
          <p:nvPr/>
        </p:nvSpPr>
        <p:spPr>
          <a:xfrm>
            <a:off x="2476440" y="4627440"/>
            <a:ext cx="1728720" cy="352440"/>
          </a:xfrm>
          <a:custGeom>
            <a:avLst/>
            <a:gdLst>
              <a:gd name="textAreaLeft" fmla="*/ 0 w 1728720"/>
              <a:gd name="textAreaRight" fmla="*/ 1729080 w 1728720"/>
              <a:gd name="textAreaTop" fmla="*/ 0 h 352440"/>
              <a:gd name="textAreaBottom" fmla="*/ 352800 h 352440"/>
            </a:gdLst>
            <a:ahLst/>
            <a:rect l="textAreaLeft" t="textAreaTop" r="textAreaRight" b="textAreaBottom"/>
            <a:pathLst>
              <a:path w="1728596" h="353314">
                <a:moveTo>
                  <a:pt x="6350" y="63119"/>
                </a:moveTo>
                <a:cubicBezTo>
                  <a:pt x="6350" y="31750"/>
                  <a:pt x="31750" y="6350"/>
                  <a:pt x="63118" y="6350"/>
                </a:cubicBezTo>
                <a:lnTo>
                  <a:pt x="1665477" y="6350"/>
                </a:lnTo>
                <a:cubicBezTo>
                  <a:pt x="1696846" y="6350"/>
                  <a:pt x="1722246" y="31750"/>
                  <a:pt x="1722246" y="63119"/>
                </a:cubicBezTo>
                <a:lnTo>
                  <a:pt x="1722246" y="290195"/>
                </a:lnTo>
                <a:cubicBezTo>
                  <a:pt x="1722246" y="321564"/>
                  <a:pt x="1696846" y="346964"/>
                  <a:pt x="1665477" y="346964"/>
                </a:cubicBezTo>
                <a:lnTo>
                  <a:pt x="63118" y="346964"/>
                </a:lnTo>
                <a:cubicBezTo>
                  <a:pt x="31750" y="346964"/>
                  <a:pt x="6350" y="321564"/>
                  <a:pt x="6350" y="290195"/>
                </a:cubicBezTo>
                <a:lnTo>
                  <a:pt x="6350" y="63119"/>
                </a:lnTo>
              </a:path>
            </a:pathLst>
          </a:custGeom>
          <a:noFill/>
          <a:ln w="12600">
            <a:solidFill>
              <a:srgbClr val="46aac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3" descr=""/>
          <p:cNvPicPr/>
          <p:nvPr/>
        </p:nvPicPr>
        <p:blipFill>
          <a:blip r:embed="rId2"/>
          <a:stretch/>
        </p:blipFill>
        <p:spPr>
          <a:xfrm>
            <a:off x="812880" y="1181160"/>
            <a:ext cx="7556400" cy="5143320"/>
          </a:xfrm>
          <a:prstGeom prst="rect">
            <a:avLst/>
          </a:prstGeom>
          <a:ln w="0">
            <a:noFill/>
          </a:ln>
        </p:spPr>
      </p:pic>
      <p:sp>
        <p:nvSpPr>
          <p:cNvPr id="477" name="TextBox 1"/>
          <p:cNvSpPr/>
          <p:nvPr/>
        </p:nvSpPr>
        <p:spPr>
          <a:xfrm>
            <a:off x="832680" y="266760"/>
            <a:ext cx="19447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随规策略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创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DE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"/>
          <p:cNvSpPr/>
          <p:nvPr/>
        </p:nvSpPr>
        <p:spPr>
          <a:xfrm>
            <a:off x="2350080" y="2158920"/>
            <a:ext cx="3574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竞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"/>
          <p:cNvSpPr/>
          <p:nvPr/>
        </p:nvSpPr>
        <p:spPr>
          <a:xfrm>
            <a:off x="3458520" y="1981080"/>
            <a:ext cx="342828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Streak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疯狂大猜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"/>
          <p:cNvSpPr/>
          <p:nvPr/>
        </p:nvSpPr>
        <p:spPr>
          <a:xfrm>
            <a:off x="4803120" y="3048120"/>
            <a:ext cx="2099520" cy="23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140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参不猜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40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40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898"/>
              </a:lnSpc>
              <a:tabLst>
                <a:tab algn="l" pos="0"/>
                <a:tab algn="l" pos="140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bfbfbf"/>
                </a:solidFill>
                <a:latin typeface="Arial"/>
                <a:ea typeface="微软雅黑"/>
              </a:rPr>
              <a:t>Streak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700" spc="-1" strike="noStrike">
                <a:solidFill>
                  <a:srgbClr val="bfbfbf"/>
                </a:solidFill>
                <a:latin typeface="Arial"/>
                <a:ea typeface="微软雅黑"/>
              </a:rPr>
              <a:t>10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2700" spc="-1" strike="noStrike">
                <a:solidFill>
                  <a:srgbClr val="bfbfbf"/>
                </a:solidFill>
                <a:latin typeface="Arial"/>
                <a:ea typeface="微软雅黑"/>
              </a:rPr>
              <a:t>Pro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298"/>
              </a:lnSpc>
              <a:tabLst>
                <a:tab algn="l" pos="0"/>
                <a:tab algn="l" pos="140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bfbf"/>
                </a:solidFill>
                <a:latin typeface="Arial"/>
                <a:ea typeface="微软雅黑"/>
              </a:rPr>
              <a:t>原件总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199"/>
              </a:lnSpc>
              <a:tabLst>
                <a:tab algn="l" pos="0"/>
                <a:tab algn="l" pos="140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fbfbf"/>
                </a:solidFill>
                <a:latin typeface="Arial"/>
                <a:ea typeface="微软雅黑"/>
              </a:rPr>
              <a:t>即将解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"/>
          <p:cNvSpPr/>
          <p:nvPr/>
        </p:nvSpPr>
        <p:spPr>
          <a:xfrm>
            <a:off x="2417760" y="3022560"/>
            <a:ext cx="1590480" cy="18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2412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2f2f2"/>
                </a:solidFill>
                <a:latin typeface="Arial"/>
                <a:ea typeface="微软雅黑"/>
              </a:rPr>
              <a:t>输入原件总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00"/>
              </a:lnSpc>
              <a:tabLst>
                <a:tab algn="l" pos="0"/>
                <a:tab algn="l" pos="2412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已有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XXXXX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00"/>
              </a:lnSpc>
              <a:tabLst>
                <a:tab algn="l" pos="0"/>
                <a:tab algn="l" pos="2412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微软雅黑"/>
              </a:rPr>
              <a:t>参不猜解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412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241200"/>
                <a:tab algn="l" pos="254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了解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ak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P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8573-14C6-41AA-8406-319150806AC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Box 1"/>
          <p:cNvSpPr/>
          <p:nvPr/>
        </p:nvSpPr>
        <p:spPr>
          <a:xfrm>
            <a:off x="814320" y="266760"/>
            <a:ext cx="8236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产品特性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"/>
          <p:cNvSpPr/>
          <p:nvPr/>
        </p:nvSpPr>
        <p:spPr>
          <a:xfrm>
            <a:off x="2328840" y="2413080"/>
            <a:ext cx="4252680" cy="7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100" spc="-1" strike="noStrike">
                <a:solidFill>
                  <a:srgbClr val="ffffff"/>
                </a:solidFill>
                <a:latin typeface="Arial"/>
                <a:ea typeface="微软雅黑"/>
              </a:rPr>
              <a:t>戴尔™第一款</a:t>
            </a:r>
            <a:r>
              <a:rPr b="0" lang="zh-CN" sz="4100" spc="-1" strike="noStrike">
                <a:solidFill>
                  <a:srgbClr val="ffffff"/>
                </a:solidFill>
                <a:latin typeface="Arial"/>
                <a:ea typeface="微软雅黑"/>
              </a:rPr>
              <a:t>10</a:t>
            </a:r>
            <a:r>
              <a:rPr b="0" lang="zh-CN" sz="4100" spc="-1" strike="noStrike">
                <a:solidFill>
                  <a:srgbClr val="ffffff"/>
                </a:solidFill>
                <a:latin typeface="Arial"/>
                <a:ea typeface="微软雅黑"/>
              </a:rPr>
              <a:t>寸平板电脑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"/>
          <p:cNvSpPr/>
          <p:nvPr/>
        </p:nvSpPr>
        <p:spPr>
          <a:xfrm>
            <a:off x="2582280" y="3936960"/>
            <a:ext cx="3658320" cy="85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6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微软雅黑"/>
              </a:rPr>
              <a:t>工作和生活的完美平衡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"/>
          <p:cNvSpPr/>
          <p:nvPr/>
        </p:nvSpPr>
        <p:spPr>
          <a:xfrm>
            <a:off x="1336680" y="2882880"/>
            <a:ext cx="5848200" cy="125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Streak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10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7200" spc="-1" strike="noStrike">
                <a:solidFill>
                  <a:srgbClr val="ffffff"/>
                </a:solidFill>
                <a:latin typeface="Arial"/>
                <a:ea typeface="微软雅黑"/>
              </a:rPr>
              <a:t>Pro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B8FA7-20CB-4309-805F-C2FA9EA7183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Freeform 3"/>
          <p:cNvSpPr/>
          <p:nvPr/>
        </p:nvSpPr>
        <p:spPr>
          <a:xfrm>
            <a:off x="1187280" y="3141720"/>
            <a:ext cx="6553440" cy="1944720"/>
          </a:xfrm>
          <a:custGeom>
            <a:avLst/>
            <a:gdLst>
              <a:gd name="textAreaLeft" fmla="*/ 0 w 6553440"/>
              <a:gd name="textAreaRight" fmla="*/ 6553800 w 6553440"/>
              <a:gd name="textAreaTop" fmla="*/ 0 h 1944720"/>
              <a:gd name="textAreaBottom" fmla="*/ 1945080 h 1944720"/>
            </a:gdLst>
            <a:ahLst/>
            <a:rect l="textAreaLeft" t="textAreaTop" r="textAreaRight" b="textAreaBottom"/>
            <a:pathLst>
              <a:path w="6552946" h="1944243">
                <a:moveTo>
                  <a:pt x="0" y="113792"/>
                </a:moveTo>
                <a:cubicBezTo>
                  <a:pt x="0" y="50926"/>
                  <a:pt x="50914" y="0"/>
                  <a:pt x="113664" y="0"/>
                </a:cubicBezTo>
                <a:lnTo>
                  <a:pt x="6439154" y="0"/>
                </a:lnTo>
                <a:cubicBezTo>
                  <a:pt x="6502018" y="0"/>
                  <a:pt x="6552945" y="50926"/>
                  <a:pt x="6552945" y="113792"/>
                </a:cubicBezTo>
                <a:lnTo>
                  <a:pt x="6552945" y="1830577"/>
                </a:lnTo>
                <a:cubicBezTo>
                  <a:pt x="6552945" y="1893316"/>
                  <a:pt x="6502018" y="1944243"/>
                  <a:pt x="6439154" y="1944243"/>
                </a:cubicBezTo>
                <a:lnTo>
                  <a:pt x="113664" y="1944243"/>
                </a:lnTo>
                <a:cubicBezTo>
                  <a:pt x="50914" y="1944243"/>
                  <a:pt x="0" y="1893316"/>
                  <a:pt x="0" y="1830577"/>
                </a:cubicBezTo>
                <a:lnTo>
                  <a:pt x="0" y="113792"/>
                </a:ln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"/>
          <p:cNvPicPr/>
          <p:nvPr/>
        </p:nvPicPr>
        <p:blipFill>
          <a:blip r:embed="rId2"/>
          <a:stretch/>
        </p:blipFill>
        <p:spPr>
          <a:xfrm>
            <a:off x="888840" y="1689120"/>
            <a:ext cx="1536840" cy="1536840"/>
          </a:xfrm>
          <a:prstGeom prst="rect">
            <a:avLst/>
          </a:prstGeom>
          <a:ln w="0">
            <a:noFill/>
          </a:ln>
        </p:spPr>
      </p:pic>
      <p:sp>
        <p:nvSpPr>
          <p:cNvPr id="487" name="TextBox 1"/>
          <p:cNvSpPr/>
          <p:nvPr/>
        </p:nvSpPr>
        <p:spPr>
          <a:xfrm>
            <a:off x="1880280" y="2374920"/>
            <a:ext cx="3574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造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"/>
          <p:cNvSpPr/>
          <p:nvPr/>
        </p:nvSpPr>
        <p:spPr>
          <a:xfrm>
            <a:off x="3322440" y="2197080"/>
            <a:ext cx="347184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自娱字乐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·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两面派智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"/>
          <p:cNvSpPr/>
          <p:nvPr/>
        </p:nvSpPr>
        <p:spPr>
          <a:xfrm>
            <a:off x="2531160" y="3251160"/>
            <a:ext cx="3927600" cy="17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用户登录测试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，完成简单填空（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3~5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个词）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即可生成图文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两面体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#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，参不用户创造的两面体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转发越多获取积分越多，最终凭借积分购买戴尔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品可获得相应折扣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"/>
          <p:cNvSpPr/>
          <p:nvPr/>
        </p:nvSpPr>
        <p:spPr>
          <a:xfrm>
            <a:off x="919080" y="266760"/>
            <a:ext cx="1490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随规策略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创造活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BEC44-178F-446E-9AEE-F4439A87457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3"/>
          <p:cNvSpPr/>
          <p:nvPr/>
        </p:nvSpPr>
        <p:spPr>
          <a:xfrm>
            <a:off x="1908000" y="2852640"/>
            <a:ext cx="5400720" cy="252108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2521080"/>
              <a:gd name="textAreaBottom" fmla="*/ 2521440 h 2521080"/>
            </a:gdLst>
            <a:ahLst/>
            <a:rect l="textAreaLeft" t="textAreaTop" r="textAreaRight" b="textAreaBottom"/>
            <a:pathLst>
              <a:path w="5400675" h="2520314">
                <a:moveTo>
                  <a:pt x="0" y="153416"/>
                </a:moveTo>
                <a:cubicBezTo>
                  <a:pt x="0" y="68707"/>
                  <a:pt x="68706" y="0"/>
                  <a:pt x="153415" y="0"/>
                </a:cubicBezTo>
                <a:lnTo>
                  <a:pt x="5247258" y="0"/>
                </a:lnTo>
                <a:cubicBezTo>
                  <a:pt x="5331967" y="0"/>
                  <a:pt x="5400675" y="68707"/>
                  <a:pt x="5400675" y="153416"/>
                </a:cubicBezTo>
                <a:lnTo>
                  <a:pt x="5400675" y="2366899"/>
                </a:lnTo>
                <a:cubicBezTo>
                  <a:pt x="5400675" y="2451607"/>
                  <a:pt x="5331967" y="2520314"/>
                  <a:pt x="5247258" y="2520314"/>
                </a:cubicBezTo>
                <a:lnTo>
                  <a:pt x="153415" y="2520314"/>
                </a:lnTo>
                <a:cubicBezTo>
                  <a:pt x="68706" y="2520314"/>
                  <a:pt x="0" y="2451607"/>
                  <a:pt x="0" y="2366899"/>
                </a:cubicBezTo>
                <a:lnTo>
                  <a:pt x="0" y="153416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3"/>
          <p:cNvSpPr/>
          <p:nvPr/>
        </p:nvSpPr>
        <p:spPr>
          <a:xfrm>
            <a:off x="2463840" y="3516480"/>
            <a:ext cx="1843200" cy="14040"/>
          </a:xfrm>
          <a:custGeom>
            <a:avLst/>
            <a:gdLst>
              <a:gd name="textAreaLeft" fmla="*/ 0 w 1843200"/>
              <a:gd name="textAreaRight" fmla="*/ 1843560 w 18432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842516" h="13716">
                <a:moveTo>
                  <a:pt x="0" y="0"/>
                </a:moveTo>
                <a:lnTo>
                  <a:pt x="921257" y="0"/>
                </a:lnTo>
                <a:lnTo>
                  <a:pt x="1842516" y="0"/>
                </a:lnTo>
                <a:lnTo>
                  <a:pt x="1842516" y="13716"/>
                </a:lnTo>
                <a:lnTo>
                  <a:pt x="921257" y="13716"/>
                </a:lnTo>
                <a:lnTo>
                  <a:pt x="0" y="137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Freeform 3"/>
          <p:cNvSpPr/>
          <p:nvPr/>
        </p:nvSpPr>
        <p:spPr>
          <a:xfrm>
            <a:off x="4762440" y="3516480"/>
            <a:ext cx="2482920" cy="14040"/>
          </a:xfrm>
          <a:custGeom>
            <a:avLst/>
            <a:gdLst>
              <a:gd name="textAreaLeft" fmla="*/ 0 w 2482920"/>
              <a:gd name="textAreaRight" fmla="*/ 2483280 w 248292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482595" h="13716">
                <a:moveTo>
                  <a:pt x="0" y="0"/>
                </a:moveTo>
                <a:lnTo>
                  <a:pt x="1241297" y="0"/>
                </a:lnTo>
                <a:lnTo>
                  <a:pt x="2482595" y="0"/>
                </a:lnTo>
                <a:lnTo>
                  <a:pt x="2482595" y="13716"/>
                </a:lnTo>
                <a:lnTo>
                  <a:pt x="1241297" y="13716"/>
                </a:lnTo>
                <a:lnTo>
                  <a:pt x="0" y="137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Freeform 3"/>
          <p:cNvSpPr/>
          <p:nvPr/>
        </p:nvSpPr>
        <p:spPr>
          <a:xfrm>
            <a:off x="2463840" y="3927600"/>
            <a:ext cx="1843200" cy="14040"/>
          </a:xfrm>
          <a:custGeom>
            <a:avLst/>
            <a:gdLst>
              <a:gd name="textAreaLeft" fmla="*/ 0 w 1843200"/>
              <a:gd name="textAreaRight" fmla="*/ 1843560 w 184320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842516" h="13716">
                <a:moveTo>
                  <a:pt x="0" y="0"/>
                </a:moveTo>
                <a:lnTo>
                  <a:pt x="921257" y="0"/>
                </a:lnTo>
                <a:lnTo>
                  <a:pt x="1842516" y="0"/>
                </a:lnTo>
                <a:lnTo>
                  <a:pt x="1842516" y="13716"/>
                </a:lnTo>
                <a:lnTo>
                  <a:pt x="921257" y="13716"/>
                </a:lnTo>
                <a:lnTo>
                  <a:pt x="0" y="137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3"/>
          <p:cNvSpPr/>
          <p:nvPr/>
        </p:nvSpPr>
        <p:spPr>
          <a:xfrm>
            <a:off x="4832280" y="3927600"/>
            <a:ext cx="2413080" cy="14040"/>
          </a:xfrm>
          <a:custGeom>
            <a:avLst/>
            <a:gdLst>
              <a:gd name="textAreaLeft" fmla="*/ 0 w 2413080"/>
              <a:gd name="textAreaRight" fmla="*/ 2413440 w 241308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2414015" h="13716">
                <a:moveTo>
                  <a:pt x="0" y="0"/>
                </a:moveTo>
                <a:lnTo>
                  <a:pt x="1207008" y="0"/>
                </a:lnTo>
                <a:lnTo>
                  <a:pt x="2414015" y="0"/>
                </a:lnTo>
                <a:lnTo>
                  <a:pt x="2414015" y="13716"/>
                </a:lnTo>
                <a:lnTo>
                  <a:pt x="1207008" y="13716"/>
                </a:lnTo>
                <a:lnTo>
                  <a:pt x="0" y="13716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"/>
          <p:cNvSpPr/>
          <p:nvPr/>
        </p:nvSpPr>
        <p:spPr>
          <a:xfrm>
            <a:off x="3149640" y="4338720"/>
            <a:ext cx="1501560" cy="14040"/>
          </a:xfrm>
          <a:custGeom>
            <a:avLst/>
            <a:gdLst>
              <a:gd name="textAreaLeft" fmla="*/ 0 w 1501560"/>
              <a:gd name="textAreaRight" fmla="*/ 1501920 w 150156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1501139" h="13715">
                <a:moveTo>
                  <a:pt x="0" y="0"/>
                </a:moveTo>
                <a:lnTo>
                  <a:pt x="750569" y="0"/>
                </a:lnTo>
                <a:lnTo>
                  <a:pt x="1501139" y="0"/>
                </a:lnTo>
                <a:lnTo>
                  <a:pt x="1501139" y="13715"/>
                </a:lnTo>
                <a:lnTo>
                  <a:pt x="750569" y="13715"/>
                </a:lnTo>
                <a:lnTo>
                  <a:pt x="0" y="13715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"/>
          <p:cNvSpPr/>
          <p:nvPr/>
        </p:nvSpPr>
        <p:spPr>
          <a:xfrm>
            <a:off x="2463840" y="4749840"/>
            <a:ext cx="1433520" cy="14400"/>
          </a:xfrm>
          <a:custGeom>
            <a:avLst/>
            <a:gdLst>
              <a:gd name="textAreaLeft" fmla="*/ 0 w 1433520"/>
              <a:gd name="textAreaRight" fmla="*/ 1433880 w 1433520"/>
              <a:gd name="textAreaTop" fmla="*/ 0 h 14400"/>
              <a:gd name="textAreaBottom" fmla="*/ 14760 h 14400"/>
            </a:gdLst>
            <a:ahLst/>
            <a:rect l="textAreaLeft" t="textAreaTop" r="textAreaRight" b="textAreaBottom"/>
            <a:pathLst>
              <a:path w="1434083" h="13715">
                <a:moveTo>
                  <a:pt x="0" y="0"/>
                </a:moveTo>
                <a:lnTo>
                  <a:pt x="717041" y="0"/>
                </a:lnTo>
                <a:lnTo>
                  <a:pt x="1434083" y="0"/>
                </a:lnTo>
                <a:lnTo>
                  <a:pt x="1434083" y="13715"/>
                </a:lnTo>
                <a:lnTo>
                  <a:pt x="717041" y="13715"/>
                </a:lnTo>
                <a:lnTo>
                  <a:pt x="0" y="13715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040" bIns="-32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" descr=""/>
          <p:cNvPicPr/>
          <p:nvPr/>
        </p:nvPicPr>
        <p:blipFill>
          <a:blip r:embed="rId2"/>
          <a:stretch/>
        </p:blipFill>
        <p:spPr>
          <a:xfrm>
            <a:off x="812880" y="1181160"/>
            <a:ext cx="7556400" cy="5143320"/>
          </a:xfrm>
          <a:prstGeom prst="rect">
            <a:avLst/>
          </a:prstGeom>
          <a:ln w="0">
            <a:noFill/>
          </a:ln>
        </p:spPr>
      </p:pic>
      <p:sp>
        <p:nvSpPr>
          <p:cNvPr id="502" name="TextBox 1"/>
          <p:cNvSpPr/>
          <p:nvPr/>
        </p:nvSpPr>
        <p:spPr>
          <a:xfrm>
            <a:off x="832680" y="266760"/>
            <a:ext cx="194472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随规策略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创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意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DE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Box 1"/>
          <p:cNvSpPr/>
          <p:nvPr/>
        </p:nvSpPr>
        <p:spPr>
          <a:xfrm>
            <a:off x="2134080" y="2158920"/>
            <a:ext cx="357480" cy="4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造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1"/>
          <p:cNvSpPr/>
          <p:nvPr/>
        </p:nvSpPr>
        <p:spPr>
          <a:xfrm>
            <a:off x="3398760" y="1981080"/>
            <a:ext cx="3471840" cy="77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自娱字乐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·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两面派智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1"/>
          <p:cNvSpPr/>
          <p:nvPr/>
        </p:nvSpPr>
        <p:spPr>
          <a:xfrm>
            <a:off x="6202080" y="4952880"/>
            <a:ext cx="534240" cy="27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生成两面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1"/>
          <p:cNvSpPr/>
          <p:nvPr/>
        </p:nvSpPr>
        <p:spPr>
          <a:xfrm>
            <a:off x="2099880" y="3251160"/>
            <a:ext cx="275040" cy="7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左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1"/>
          <p:cNvSpPr/>
          <p:nvPr/>
        </p:nvSpPr>
        <p:spPr>
          <a:xfrm>
            <a:off x="4398840" y="3251160"/>
            <a:ext cx="338400" cy="7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也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633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右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1"/>
          <p:cNvSpPr/>
          <p:nvPr/>
        </p:nvSpPr>
        <p:spPr>
          <a:xfrm>
            <a:off x="7057080" y="3251160"/>
            <a:ext cx="137880" cy="7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1"/>
          <p:cNvSpPr/>
          <p:nvPr/>
        </p:nvSpPr>
        <p:spPr>
          <a:xfrm>
            <a:off x="2240280" y="4076640"/>
            <a:ext cx="68652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人生就是个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1"/>
          <p:cNvSpPr/>
          <p:nvPr/>
        </p:nvSpPr>
        <p:spPr>
          <a:xfrm>
            <a:off x="4682160" y="4076640"/>
            <a:ext cx="250560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Work Ha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Play Har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1"/>
          <p:cNvSpPr/>
          <p:nvPr/>
        </p:nvSpPr>
        <p:spPr>
          <a:xfrm>
            <a:off x="2099880" y="4483080"/>
            <a:ext cx="27504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1"/>
          <p:cNvSpPr/>
          <p:nvPr/>
        </p:nvSpPr>
        <p:spPr>
          <a:xfrm>
            <a:off x="4242600" y="4483080"/>
            <a:ext cx="8236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我爱两面派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1"/>
          <p:cNvSpPr/>
          <p:nvPr/>
        </p:nvSpPr>
        <p:spPr>
          <a:xfrm>
            <a:off x="3082680" y="3238560"/>
            <a:ext cx="75168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DELL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高管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152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KP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1"/>
          <p:cNvSpPr/>
          <p:nvPr/>
        </p:nvSpPr>
        <p:spPr>
          <a:xfrm>
            <a:off x="5504760" y="3238560"/>
            <a:ext cx="1010880" cy="73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WOW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公会会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40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DKP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1"/>
          <p:cNvSpPr/>
          <p:nvPr/>
        </p:nvSpPr>
        <p:spPr>
          <a:xfrm>
            <a:off x="3798360" y="4051440"/>
            <a:ext cx="2293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副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1"/>
          <p:cNvSpPr/>
          <p:nvPr/>
        </p:nvSpPr>
        <p:spPr>
          <a:xfrm>
            <a:off x="3038760" y="4483080"/>
            <a:ext cx="45792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戴尔平板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C6134-186B-4D41-947E-EDFE3CE7A5B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Freeform 3"/>
          <p:cNvSpPr/>
          <p:nvPr/>
        </p:nvSpPr>
        <p:spPr>
          <a:xfrm>
            <a:off x="988920" y="1335240"/>
            <a:ext cx="7164360" cy="4325760"/>
          </a:xfrm>
          <a:custGeom>
            <a:avLst/>
            <a:gdLst>
              <a:gd name="textAreaLeft" fmla="*/ 0 w 7164360"/>
              <a:gd name="textAreaRight" fmla="*/ 7164720 w 7164360"/>
              <a:gd name="textAreaTop" fmla="*/ 0 h 4325760"/>
              <a:gd name="textAreaBottom" fmla="*/ 4326120 h 4325760"/>
            </a:gdLst>
            <a:ahLst/>
            <a:rect l="textAreaLeft" t="textAreaTop" r="textAreaRight" b="textAreaBottom"/>
            <a:pathLst>
              <a:path w="7164819" h="4326229">
                <a:moveTo>
                  <a:pt x="0" y="130428"/>
                </a:moveTo>
                <a:cubicBezTo>
                  <a:pt x="0" y="58419"/>
                  <a:pt x="58369" y="0"/>
                  <a:pt x="130352" y="0"/>
                </a:cubicBezTo>
                <a:lnTo>
                  <a:pt x="7034390" y="0"/>
                </a:lnTo>
                <a:cubicBezTo>
                  <a:pt x="7106399" y="0"/>
                  <a:pt x="7164819" y="58419"/>
                  <a:pt x="7164819" y="130428"/>
                </a:cubicBezTo>
                <a:lnTo>
                  <a:pt x="7164819" y="4195825"/>
                </a:lnTo>
                <a:cubicBezTo>
                  <a:pt x="7164819" y="4267860"/>
                  <a:pt x="7106399" y="4326229"/>
                  <a:pt x="7034390" y="4326229"/>
                </a:cubicBezTo>
                <a:lnTo>
                  <a:pt x="130352" y="4326229"/>
                </a:lnTo>
                <a:cubicBezTo>
                  <a:pt x="58369" y="4326229"/>
                  <a:pt x="0" y="4267860"/>
                  <a:pt x="0" y="4195825"/>
                </a:cubicBezTo>
                <a:lnTo>
                  <a:pt x="0" y="130428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Freeform 3"/>
          <p:cNvSpPr/>
          <p:nvPr/>
        </p:nvSpPr>
        <p:spPr>
          <a:xfrm>
            <a:off x="1116000" y="1550880"/>
            <a:ext cx="3456000" cy="388944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3889440"/>
              <a:gd name="textAreaBottom" fmla="*/ 3889800 h 3889440"/>
            </a:gdLst>
            <a:ahLst/>
            <a:rect l="textAreaLeft" t="textAreaTop" r="textAreaRight" b="textAreaBottom"/>
            <a:pathLst>
              <a:path w="3456432" h="3888485">
                <a:moveTo>
                  <a:pt x="0" y="3888486"/>
                </a:moveTo>
                <a:lnTo>
                  <a:pt x="3456431" y="3888486"/>
                </a:lnTo>
                <a:lnTo>
                  <a:pt x="3456431" y="0"/>
                </a:lnTo>
                <a:lnTo>
                  <a:pt x="0" y="0"/>
                </a:lnTo>
                <a:lnTo>
                  <a:pt x="0" y="3888486"/>
                </a:lnTo>
              </a:path>
            </a:pathLst>
          </a:custGeom>
          <a:solidFill>
            <a:srgbClr val="00b0f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Freeform 3"/>
          <p:cNvSpPr/>
          <p:nvPr/>
        </p:nvSpPr>
        <p:spPr>
          <a:xfrm>
            <a:off x="4572000" y="1550880"/>
            <a:ext cx="3456000" cy="388944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3889440"/>
              <a:gd name="textAreaBottom" fmla="*/ 3889800 h 3889440"/>
            </a:gdLst>
            <a:ahLst/>
            <a:rect l="textAreaLeft" t="textAreaTop" r="textAreaRight" b="textAreaBottom"/>
            <a:pathLst>
              <a:path w="3456432" h="3888485">
                <a:moveTo>
                  <a:pt x="0" y="3888486"/>
                </a:moveTo>
                <a:lnTo>
                  <a:pt x="3456431" y="3888486"/>
                </a:lnTo>
                <a:lnTo>
                  <a:pt x="3456431" y="0"/>
                </a:lnTo>
                <a:lnTo>
                  <a:pt x="0" y="0"/>
                </a:lnTo>
                <a:lnTo>
                  <a:pt x="0" y="3888486"/>
                </a:lnTo>
              </a:path>
            </a:pathLst>
          </a:custGeom>
          <a:solidFill>
            <a:srgbClr val="00b0f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Freeform 3"/>
          <p:cNvSpPr/>
          <p:nvPr/>
        </p:nvSpPr>
        <p:spPr>
          <a:xfrm>
            <a:off x="4565520" y="1328760"/>
            <a:ext cx="22320" cy="4338720"/>
          </a:xfrm>
          <a:custGeom>
            <a:avLst/>
            <a:gdLst>
              <a:gd name="textAreaLeft" fmla="*/ 0 w 22320"/>
              <a:gd name="textAreaRight" fmla="*/ 22680 w 22320"/>
              <a:gd name="textAreaTop" fmla="*/ 0 h 4338720"/>
              <a:gd name="textAreaBottom" fmla="*/ 4339080 h 4338720"/>
            </a:gdLst>
            <a:ahLst/>
            <a:rect l="textAreaLeft" t="textAreaTop" r="textAreaRight" b="textAreaBottom"/>
            <a:pathLst>
              <a:path w="22225" h="4338929">
                <a:moveTo>
                  <a:pt x="6350" y="6350"/>
                </a:moveTo>
                <a:lnTo>
                  <a:pt x="6350" y="4332579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Freeform 3"/>
          <p:cNvSpPr/>
          <p:nvPr/>
        </p:nvSpPr>
        <p:spPr>
          <a:xfrm>
            <a:off x="5292720" y="3230640"/>
            <a:ext cx="33480" cy="539640"/>
          </a:xfrm>
          <a:custGeom>
            <a:avLst/>
            <a:gdLst>
              <a:gd name="textAreaLeft" fmla="*/ 0 w 33480"/>
              <a:gd name="textAreaRight" fmla="*/ 33840 w 3348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33782" h="540384">
                <a:moveTo>
                  <a:pt x="16891" y="0"/>
                </a:moveTo>
                <a:lnTo>
                  <a:pt x="16891" y="540384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Freeform 3"/>
          <p:cNvSpPr/>
          <p:nvPr/>
        </p:nvSpPr>
        <p:spPr>
          <a:xfrm>
            <a:off x="5359320" y="3230640"/>
            <a:ext cx="66600" cy="539640"/>
          </a:xfrm>
          <a:custGeom>
            <a:avLst/>
            <a:gdLst>
              <a:gd name="textAreaLeft" fmla="*/ 0 w 66600"/>
              <a:gd name="textAreaRight" fmla="*/ 66600 w 66600"/>
              <a:gd name="textAreaTop" fmla="*/ 0 h 539640"/>
              <a:gd name="textAreaBottom" fmla="*/ 540000 h 539640"/>
            </a:gdLst>
            <a:ahLst/>
            <a:rect l="textAreaLeft" t="textAreaTop" r="textAreaRight" b="textAreaBottom"/>
            <a:pathLst>
              <a:path w="67564" h="540384">
                <a:moveTo>
                  <a:pt x="0" y="0"/>
                </a:moveTo>
                <a:lnTo>
                  <a:pt x="67564" y="0"/>
                </a:lnTo>
                <a:lnTo>
                  <a:pt x="67564" y="540384"/>
                </a:lnTo>
                <a:lnTo>
                  <a:pt x="0" y="540384"/>
                </a:lnTo>
                <a:lnTo>
                  <a:pt x="0" y="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Freeform 3"/>
          <p:cNvSpPr/>
          <p:nvPr/>
        </p:nvSpPr>
        <p:spPr>
          <a:xfrm>
            <a:off x="5460840" y="2960640"/>
            <a:ext cx="1343160" cy="1081080"/>
          </a:xfrm>
          <a:custGeom>
            <a:avLst/>
            <a:gdLst>
              <a:gd name="textAreaLeft" fmla="*/ 0 w 1343160"/>
              <a:gd name="textAreaRight" fmla="*/ 1343520 w 134316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1343279" h="1080643">
                <a:moveTo>
                  <a:pt x="0" y="270129"/>
                </a:moveTo>
                <a:lnTo>
                  <a:pt x="802894" y="270129"/>
                </a:lnTo>
                <a:lnTo>
                  <a:pt x="802894" y="0"/>
                </a:lnTo>
                <a:lnTo>
                  <a:pt x="1343279" y="540385"/>
                </a:lnTo>
                <a:lnTo>
                  <a:pt x="802894" y="1080643"/>
                </a:lnTo>
                <a:lnTo>
                  <a:pt x="802894" y="810513"/>
                </a:lnTo>
                <a:lnTo>
                  <a:pt x="0" y="810513"/>
                </a:lnTo>
                <a:lnTo>
                  <a:pt x="0" y="270129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3" descr=""/>
          <p:cNvPicPr/>
          <p:nvPr/>
        </p:nvPicPr>
        <p:blipFill>
          <a:blip r:embed="rId1"/>
          <a:stretch/>
        </p:blipFill>
        <p:spPr>
          <a:xfrm>
            <a:off x="7149960" y="4635360"/>
            <a:ext cx="749520" cy="749520"/>
          </a:xfrm>
          <a:prstGeom prst="rect">
            <a:avLst/>
          </a:prstGeom>
          <a:ln w="0">
            <a:noFill/>
          </a:ln>
        </p:spPr>
      </p:pic>
      <p:sp>
        <p:nvSpPr>
          <p:cNvPr id="527" name="TextBox 1"/>
          <p:cNvSpPr/>
          <p:nvPr/>
        </p:nvSpPr>
        <p:spPr>
          <a:xfrm>
            <a:off x="2198520" y="2362320"/>
            <a:ext cx="87372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项目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微博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传播策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推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广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5D879-3D96-411F-AF0B-DE4DF682202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Freeform 3"/>
          <p:cNvSpPr/>
          <p:nvPr/>
        </p:nvSpPr>
        <p:spPr>
          <a:xfrm>
            <a:off x="1827360" y="2133720"/>
            <a:ext cx="1519200" cy="1295280"/>
          </a:xfrm>
          <a:custGeom>
            <a:avLst/>
            <a:gdLst>
              <a:gd name="textAreaLeft" fmla="*/ 0 w 1519200"/>
              <a:gd name="textAreaRight" fmla="*/ 1519560 w 1519200"/>
              <a:gd name="textAreaTop" fmla="*/ 0 h 1295280"/>
              <a:gd name="textAreaBottom" fmla="*/ 1295640 h 1295280"/>
            </a:gdLst>
            <a:ahLst/>
            <a:rect l="textAreaLeft" t="textAreaTop" r="textAreaRight" b="textAreaBottom"/>
            <a:pathLst>
              <a:path w="1519300" h="1296924">
                <a:moveTo>
                  <a:pt x="0" y="324231"/>
                </a:moveTo>
                <a:lnTo>
                  <a:pt x="870711" y="324231"/>
                </a:lnTo>
                <a:lnTo>
                  <a:pt x="870711" y="0"/>
                </a:lnTo>
                <a:lnTo>
                  <a:pt x="1519300" y="648462"/>
                </a:lnTo>
                <a:lnTo>
                  <a:pt x="870711" y="1296923"/>
                </a:lnTo>
                <a:lnTo>
                  <a:pt x="870711" y="972693"/>
                </a:lnTo>
                <a:lnTo>
                  <a:pt x="0" y="972693"/>
                </a:lnTo>
                <a:lnTo>
                  <a:pt x="0" y="324231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Freeform 3"/>
          <p:cNvSpPr/>
          <p:nvPr/>
        </p:nvSpPr>
        <p:spPr>
          <a:xfrm>
            <a:off x="3340080" y="3124080"/>
            <a:ext cx="22320" cy="397080"/>
          </a:xfrm>
          <a:custGeom>
            <a:avLst/>
            <a:gdLst>
              <a:gd name="textAreaLeft" fmla="*/ 0 w 22320"/>
              <a:gd name="textAreaRight" fmla="*/ 22680 w 2232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2225" h="395350">
                <a:moveTo>
                  <a:pt x="6350" y="6350"/>
                </a:moveTo>
                <a:lnTo>
                  <a:pt x="6350" y="38900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Freeform 3"/>
          <p:cNvSpPr/>
          <p:nvPr/>
        </p:nvSpPr>
        <p:spPr>
          <a:xfrm>
            <a:off x="7977240" y="3162240"/>
            <a:ext cx="22320" cy="397080"/>
          </a:xfrm>
          <a:custGeom>
            <a:avLst/>
            <a:gdLst>
              <a:gd name="textAreaLeft" fmla="*/ 0 w 22320"/>
              <a:gd name="textAreaRight" fmla="*/ 22680 w 22320"/>
              <a:gd name="textAreaTop" fmla="*/ 0 h 397080"/>
              <a:gd name="textAreaBottom" fmla="*/ 397440 h 397080"/>
            </a:gdLst>
            <a:ahLst/>
            <a:rect l="textAreaLeft" t="textAreaTop" r="textAreaRight" b="textAreaBottom"/>
            <a:pathLst>
              <a:path w="22225" h="396875">
                <a:moveTo>
                  <a:pt x="6350" y="6350"/>
                </a:moveTo>
                <a:lnTo>
                  <a:pt x="6350" y="390525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Freeform 3"/>
          <p:cNvSpPr/>
          <p:nvPr/>
        </p:nvSpPr>
        <p:spPr>
          <a:xfrm>
            <a:off x="3998880" y="3362400"/>
            <a:ext cx="1300320" cy="22320"/>
          </a:xfrm>
          <a:custGeom>
            <a:avLst/>
            <a:gdLst>
              <a:gd name="textAreaLeft" fmla="*/ 0 w 1300320"/>
              <a:gd name="textAreaRight" fmla="*/ 1300680 w 130032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300225" h="22225">
                <a:moveTo>
                  <a:pt x="6350" y="6350"/>
                </a:moveTo>
                <a:lnTo>
                  <a:pt x="1293875" y="6350"/>
                </a:ln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Freeform 3"/>
          <p:cNvSpPr/>
          <p:nvPr/>
        </p:nvSpPr>
        <p:spPr>
          <a:xfrm>
            <a:off x="5932440" y="3362400"/>
            <a:ext cx="1282680" cy="22320"/>
          </a:xfrm>
          <a:custGeom>
            <a:avLst/>
            <a:gdLst>
              <a:gd name="textAreaLeft" fmla="*/ 0 w 1282680"/>
              <a:gd name="textAreaRight" fmla="*/ 1282680 w 128268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1282700" h="22225">
                <a:moveTo>
                  <a:pt x="6350" y="6350"/>
                </a:moveTo>
                <a:lnTo>
                  <a:pt x="1276350" y="9525"/>
                </a:ln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Freeform 3"/>
          <p:cNvSpPr/>
          <p:nvPr/>
        </p:nvSpPr>
        <p:spPr>
          <a:xfrm>
            <a:off x="2987640" y="3718080"/>
            <a:ext cx="1582920" cy="180000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1582674" h="1800225">
                <a:moveTo>
                  <a:pt x="0" y="263779"/>
                </a:moveTo>
                <a:cubicBezTo>
                  <a:pt x="0" y="118110"/>
                  <a:pt x="118110" y="0"/>
                  <a:pt x="263779" y="0"/>
                </a:cubicBezTo>
                <a:lnTo>
                  <a:pt x="1318894" y="0"/>
                </a:lnTo>
                <a:cubicBezTo>
                  <a:pt x="1464563" y="0"/>
                  <a:pt x="1582674" y="118110"/>
                  <a:pt x="1582674" y="263779"/>
                </a:cubicBezTo>
                <a:lnTo>
                  <a:pt x="1582674" y="1536446"/>
                </a:lnTo>
                <a:cubicBezTo>
                  <a:pt x="1582674" y="1682115"/>
                  <a:pt x="1464563" y="1800225"/>
                  <a:pt x="1318894" y="1800225"/>
                </a:cubicBezTo>
                <a:lnTo>
                  <a:pt x="263779" y="1800225"/>
                </a:lnTo>
                <a:cubicBezTo>
                  <a:pt x="118110" y="1800225"/>
                  <a:pt x="0" y="1682115"/>
                  <a:pt x="0" y="1536446"/>
                </a:cubicBezTo>
                <a:lnTo>
                  <a:pt x="0" y="263779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Freeform 3"/>
          <p:cNvSpPr/>
          <p:nvPr/>
        </p:nvSpPr>
        <p:spPr>
          <a:xfrm>
            <a:off x="4859280" y="3718080"/>
            <a:ext cx="1584360" cy="1800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1584325" h="1800225">
                <a:moveTo>
                  <a:pt x="0" y="264033"/>
                </a:moveTo>
                <a:cubicBezTo>
                  <a:pt x="0" y="118236"/>
                  <a:pt x="118236" y="0"/>
                  <a:pt x="264032" y="0"/>
                </a:cubicBezTo>
                <a:lnTo>
                  <a:pt x="1320291" y="0"/>
                </a:lnTo>
                <a:cubicBezTo>
                  <a:pt x="1466087" y="0"/>
                  <a:pt x="1584325" y="118236"/>
                  <a:pt x="1584325" y="264033"/>
                </a:cubicBezTo>
                <a:lnTo>
                  <a:pt x="1584325" y="1536192"/>
                </a:lnTo>
                <a:cubicBezTo>
                  <a:pt x="1584325" y="1681988"/>
                  <a:pt x="1466087" y="1800225"/>
                  <a:pt x="1320291" y="1800225"/>
                </a:cubicBezTo>
                <a:lnTo>
                  <a:pt x="264032" y="1800225"/>
                </a:lnTo>
                <a:cubicBezTo>
                  <a:pt x="118236" y="1800225"/>
                  <a:pt x="0" y="1681988"/>
                  <a:pt x="0" y="1536192"/>
                </a:cubicBezTo>
                <a:lnTo>
                  <a:pt x="0" y="264033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3"/>
          <p:cNvSpPr/>
          <p:nvPr/>
        </p:nvSpPr>
        <p:spPr>
          <a:xfrm>
            <a:off x="6659640" y="3718080"/>
            <a:ext cx="1584360" cy="1800000"/>
          </a:xfrm>
          <a:custGeom>
            <a:avLst/>
            <a:gdLst>
              <a:gd name="textAreaLeft" fmla="*/ 0 w 1584360"/>
              <a:gd name="textAreaRight" fmla="*/ 1584720 w 158436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1584325" h="1800225">
                <a:moveTo>
                  <a:pt x="0" y="264033"/>
                </a:moveTo>
                <a:cubicBezTo>
                  <a:pt x="0" y="118236"/>
                  <a:pt x="118236" y="0"/>
                  <a:pt x="264032" y="0"/>
                </a:cubicBezTo>
                <a:lnTo>
                  <a:pt x="1320291" y="0"/>
                </a:lnTo>
                <a:cubicBezTo>
                  <a:pt x="1466088" y="0"/>
                  <a:pt x="1584325" y="118236"/>
                  <a:pt x="1584325" y="264033"/>
                </a:cubicBezTo>
                <a:lnTo>
                  <a:pt x="1584325" y="1536192"/>
                </a:lnTo>
                <a:cubicBezTo>
                  <a:pt x="1584325" y="1681988"/>
                  <a:pt x="1466088" y="1800225"/>
                  <a:pt x="1320291" y="1800225"/>
                </a:cubicBezTo>
                <a:lnTo>
                  <a:pt x="264032" y="1800225"/>
                </a:lnTo>
                <a:cubicBezTo>
                  <a:pt x="118236" y="1800225"/>
                  <a:pt x="0" y="1681988"/>
                  <a:pt x="0" y="1536192"/>
                </a:cubicBezTo>
                <a:lnTo>
                  <a:pt x="0" y="264033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539" name="Picture 3" descr=""/>
          <p:cNvPicPr/>
          <p:nvPr/>
        </p:nvPicPr>
        <p:blipFill>
          <a:blip r:embed="rId2"/>
          <a:stretch/>
        </p:blipFill>
        <p:spPr>
          <a:xfrm>
            <a:off x="241200" y="2197080"/>
            <a:ext cx="1460520" cy="13208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"/>
          <p:cNvPicPr/>
          <p:nvPr/>
        </p:nvPicPr>
        <p:blipFill>
          <a:blip r:embed="rId3"/>
          <a:stretch/>
        </p:blipFill>
        <p:spPr>
          <a:xfrm>
            <a:off x="1778040" y="2095560"/>
            <a:ext cx="1816200" cy="140976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"/>
          <p:cNvPicPr/>
          <p:nvPr/>
        </p:nvPicPr>
        <p:blipFill>
          <a:blip r:embed="rId4"/>
          <a:stretch/>
        </p:blipFill>
        <p:spPr>
          <a:xfrm>
            <a:off x="4229280" y="2679840"/>
            <a:ext cx="787320" cy="12672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3" descr=""/>
          <p:cNvPicPr/>
          <p:nvPr/>
        </p:nvPicPr>
        <p:blipFill>
          <a:blip r:embed="rId5"/>
          <a:stretch/>
        </p:blipFill>
        <p:spPr>
          <a:xfrm>
            <a:off x="6019920" y="2679840"/>
            <a:ext cx="787320" cy="12672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3" descr=""/>
          <p:cNvPicPr/>
          <p:nvPr/>
        </p:nvPicPr>
        <p:blipFill>
          <a:blip r:embed="rId6"/>
          <a:stretch/>
        </p:blipFill>
        <p:spPr>
          <a:xfrm>
            <a:off x="7683480" y="3301920"/>
            <a:ext cx="241200" cy="127080"/>
          </a:xfrm>
          <a:prstGeom prst="rect">
            <a:avLst/>
          </a:prstGeom>
          <a:ln w="0">
            <a:noFill/>
          </a:ln>
        </p:spPr>
      </p:pic>
      <p:sp>
        <p:nvSpPr>
          <p:cNvPr id="544" name="TextBox 1"/>
          <p:cNvSpPr/>
          <p:nvPr/>
        </p:nvSpPr>
        <p:spPr>
          <a:xfrm>
            <a:off x="2146320" y="2476440"/>
            <a:ext cx="54936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找对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才能裂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1"/>
          <p:cNvSpPr/>
          <p:nvPr/>
        </p:nvSpPr>
        <p:spPr>
          <a:xfrm>
            <a:off x="1514160" y="266760"/>
            <a:ext cx="47203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2044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推广服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传播价值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44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44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44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44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499"/>
              </a:lnSpc>
              <a:tabLst>
                <a:tab algn="l" pos="0"/>
                <a:tab algn="l" pos="2044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精准匘配引爆红人的推广策略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TextBox 1"/>
          <p:cNvSpPr/>
          <p:nvPr/>
        </p:nvSpPr>
        <p:spPr>
          <a:xfrm>
            <a:off x="3325320" y="2463840"/>
            <a:ext cx="866160" cy="29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399"/>
              </a:lnSpc>
              <a:tabLst>
                <a:tab algn="l" pos="0"/>
                <a:tab algn="l" pos="88920"/>
                <a:tab algn="l" pos="254160"/>
                <a:tab algn="l" pos="4698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254160"/>
                <a:tab algn="l" pos="4698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88920"/>
                <a:tab algn="l" pos="254160"/>
                <a:tab algn="l" pos="4698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254160"/>
                <a:tab algn="l" pos="4698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88920"/>
                <a:tab algn="l" pos="254160"/>
                <a:tab algn="l" pos="4698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88920"/>
                <a:tab algn="l" pos="254160"/>
                <a:tab algn="l" pos="4698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对的名人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88920"/>
                <a:tab algn="l" pos="254160"/>
                <a:tab algn="l" pos="4698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•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在这个行业有影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88920"/>
                <a:tab algn="l" pos="254160"/>
                <a:tab algn="l" pos="4698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力和公信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88920"/>
                <a:tab algn="l" pos="254160"/>
                <a:tab algn="l" pos="4698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•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二级粉丝在这个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88920"/>
                <a:tab algn="l" pos="254160"/>
                <a:tab algn="l" pos="4698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业有活跃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88920"/>
                <a:tab algn="l" pos="254160"/>
                <a:tab algn="l" pos="4698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•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一级粉丝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20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万人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88920"/>
                <a:tab algn="l" pos="254160"/>
                <a:tab algn="l" pos="46980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1"/>
          <p:cNvSpPr/>
          <p:nvPr/>
        </p:nvSpPr>
        <p:spPr>
          <a:xfrm>
            <a:off x="7080480" y="2158920"/>
            <a:ext cx="747360" cy="301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999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ff"/>
                </a:solidFill>
                <a:latin typeface="Arial"/>
                <a:ea typeface="微软雅黑"/>
              </a:rPr>
              <a:t>众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裂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广面与多点的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合，激发网民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的关系传播，最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终实现网络病毒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469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裂变效应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Box 1"/>
          <p:cNvSpPr/>
          <p:nvPr/>
        </p:nvSpPr>
        <p:spPr>
          <a:xfrm>
            <a:off x="5174640" y="2400480"/>
            <a:ext cx="905760" cy="29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76320"/>
                <a:tab algn="l" pos="101520"/>
                <a:tab algn="l" pos="26676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76320"/>
                <a:tab algn="l" pos="101520"/>
                <a:tab algn="l" pos="26676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多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01520"/>
                <a:tab algn="l" pos="26676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6320"/>
                <a:tab algn="l" pos="101520"/>
                <a:tab algn="l" pos="26676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76320"/>
                <a:tab algn="l" pos="101520"/>
                <a:tab algn="l" pos="26676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对的活跃真人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76320"/>
                <a:tab algn="l" pos="101520"/>
                <a:tab algn="l" pos="26676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•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在这个行业有活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76320"/>
                <a:tab algn="l" pos="101520"/>
                <a:tab algn="l" pos="26676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度和互动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76320"/>
                <a:tab algn="l" pos="101520"/>
                <a:tab algn="l" pos="26676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•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二级粉丝在这个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76320"/>
                <a:tab algn="l" pos="101520"/>
                <a:tab algn="l" pos="26676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业有活跃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76320"/>
                <a:tab algn="l" pos="101520"/>
                <a:tab algn="l" pos="26676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•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经常互动的粉丝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76320"/>
                <a:tab algn="l" pos="101520"/>
                <a:tab algn="l" pos="266760"/>
                <a:tab algn="l" pos="44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过百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29D0-874E-4752-A91B-CF14C61B731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Freeform 3"/>
          <p:cNvSpPr/>
          <p:nvPr/>
        </p:nvSpPr>
        <p:spPr>
          <a:xfrm>
            <a:off x="324000" y="4940280"/>
            <a:ext cx="8423280" cy="1168560"/>
          </a:xfrm>
          <a:custGeom>
            <a:avLst/>
            <a:gdLst>
              <a:gd name="textAreaLeft" fmla="*/ 0 w 8423280"/>
              <a:gd name="textAreaRight" fmla="*/ 8423640 w 8423280"/>
              <a:gd name="textAreaTop" fmla="*/ 0 h 1168560"/>
              <a:gd name="textAreaBottom" fmla="*/ 1168920 h 1168560"/>
            </a:gdLst>
            <a:ahLst/>
            <a:rect l="textAreaLeft" t="textAreaTop" r="textAreaRight" b="textAreaBottom"/>
            <a:pathLst>
              <a:path w="8424862" h="1168019">
                <a:moveTo>
                  <a:pt x="0" y="23621"/>
                </a:moveTo>
                <a:cubicBezTo>
                  <a:pt x="0" y="10540"/>
                  <a:pt x="10604" y="0"/>
                  <a:pt x="23685" y="0"/>
                </a:cubicBezTo>
                <a:lnTo>
                  <a:pt x="8401113" y="0"/>
                </a:lnTo>
                <a:cubicBezTo>
                  <a:pt x="8414194" y="0"/>
                  <a:pt x="8424862" y="10540"/>
                  <a:pt x="8424862" y="23621"/>
                </a:cubicBezTo>
                <a:lnTo>
                  <a:pt x="8424862" y="1144333"/>
                </a:lnTo>
                <a:cubicBezTo>
                  <a:pt x="8424862" y="1157414"/>
                  <a:pt x="8414194" y="1168019"/>
                  <a:pt x="8401113" y="1168019"/>
                </a:cubicBezTo>
                <a:lnTo>
                  <a:pt x="23685" y="1168019"/>
                </a:lnTo>
                <a:cubicBezTo>
                  <a:pt x="10604" y="1168019"/>
                  <a:pt x="0" y="1157414"/>
                  <a:pt x="0" y="1144333"/>
                </a:cubicBezTo>
                <a:lnTo>
                  <a:pt x="0" y="23621"/>
                </a:lnTo>
              </a:path>
            </a:pathLst>
          </a:custGeom>
          <a:solidFill>
            <a:srgbClr val="a8d327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3" descr=""/>
          <p:cNvPicPr/>
          <p:nvPr/>
        </p:nvPicPr>
        <p:blipFill>
          <a:blip r:embed="rId2"/>
          <a:stretch/>
        </p:blipFill>
        <p:spPr>
          <a:xfrm>
            <a:off x="1028880" y="1333440"/>
            <a:ext cx="3390840" cy="3314880"/>
          </a:xfrm>
          <a:prstGeom prst="rect">
            <a:avLst/>
          </a:prstGeom>
          <a:ln w="0">
            <a:noFill/>
          </a:ln>
        </p:spPr>
      </p:pic>
      <p:pic>
        <p:nvPicPr>
          <p:cNvPr id="554" name="Picture 3" descr=""/>
          <p:cNvPicPr/>
          <p:nvPr/>
        </p:nvPicPr>
        <p:blipFill>
          <a:blip r:embed="rId3"/>
          <a:stretch/>
        </p:blipFill>
        <p:spPr>
          <a:xfrm>
            <a:off x="4470480" y="1333440"/>
            <a:ext cx="3784680" cy="3314880"/>
          </a:xfrm>
          <a:prstGeom prst="rect">
            <a:avLst/>
          </a:prstGeom>
          <a:ln w="0">
            <a:noFill/>
          </a:ln>
        </p:spPr>
      </p:pic>
      <p:sp>
        <p:nvSpPr>
          <p:cNvPr id="555" name="TextBox 1"/>
          <p:cNvSpPr/>
          <p:nvPr/>
        </p:nvSpPr>
        <p:spPr>
          <a:xfrm>
            <a:off x="919080" y="266760"/>
            <a:ext cx="1490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推广服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寺找红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1"/>
          <p:cNvSpPr/>
          <p:nvPr/>
        </p:nvSpPr>
        <p:spPr>
          <a:xfrm>
            <a:off x="3834720" y="5054760"/>
            <a:ext cx="1648800" cy="101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传统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EPR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的红人传播是基亍一批固定的红人，他们的个性丌一定不活动相匘配，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传播效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丌够自然。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随规微博派的红人是根据活动调性，精准到性别、圈子、话题标签等属性，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向选出的有特定营销传播力的匘配人群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2D1DE-8A91-46D5-BC1C-93BA185368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9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sp>
        <p:nvSpPr>
          <p:cNvPr id="560" name="TextBox 1"/>
          <p:cNvSpPr/>
          <p:nvPr/>
        </p:nvSpPr>
        <p:spPr>
          <a:xfrm>
            <a:off x="919080" y="266760"/>
            <a:ext cx="1490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推广服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红人类别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1"/>
          <p:cNvSpPr/>
          <p:nvPr/>
        </p:nvSpPr>
        <p:spPr>
          <a:xfrm>
            <a:off x="4504680" y="2730600"/>
            <a:ext cx="137880" cy="3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F349-A854-486C-9226-A8B77147463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Freeform 3"/>
          <p:cNvSpPr/>
          <p:nvPr/>
        </p:nvSpPr>
        <p:spPr>
          <a:xfrm>
            <a:off x="1397160" y="4149720"/>
            <a:ext cx="6276960" cy="1374840"/>
          </a:xfrm>
          <a:custGeom>
            <a:avLst/>
            <a:gdLst>
              <a:gd name="textAreaLeft" fmla="*/ 0 w 6276960"/>
              <a:gd name="textAreaRight" fmla="*/ 6277320 w 62769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6276975" h="1373251">
                <a:moveTo>
                  <a:pt x="6350" y="173355"/>
                </a:moveTo>
                <a:cubicBezTo>
                  <a:pt x="6350" y="81153"/>
                  <a:pt x="81025" y="6350"/>
                  <a:pt x="173227" y="6350"/>
                </a:cubicBezTo>
                <a:lnTo>
                  <a:pt x="6103746" y="6350"/>
                </a:lnTo>
                <a:cubicBezTo>
                  <a:pt x="6195948" y="6350"/>
                  <a:pt x="6270625" y="81153"/>
                  <a:pt x="6270625" y="173355"/>
                </a:cubicBezTo>
                <a:lnTo>
                  <a:pt x="6270625" y="1199896"/>
                </a:lnTo>
                <a:cubicBezTo>
                  <a:pt x="6270625" y="1292098"/>
                  <a:pt x="6195948" y="1366901"/>
                  <a:pt x="6103746" y="1366901"/>
                </a:cubicBezTo>
                <a:lnTo>
                  <a:pt x="173227" y="1366901"/>
                </a:lnTo>
                <a:cubicBezTo>
                  <a:pt x="81025" y="1366901"/>
                  <a:pt x="6350" y="1292098"/>
                  <a:pt x="6350" y="1199896"/>
                </a:cubicBezTo>
                <a:lnTo>
                  <a:pt x="6350" y="173355"/>
                </a:lnTo>
              </a:path>
            </a:pathLst>
          </a:custGeom>
          <a:noFill/>
          <a:ln w="12600">
            <a:solidFill>
              <a:srgbClr val="ffff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Freeform 3"/>
          <p:cNvSpPr/>
          <p:nvPr/>
        </p:nvSpPr>
        <p:spPr>
          <a:xfrm>
            <a:off x="1246320" y="1622520"/>
            <a:ext cx="4262400" cy="2238120"/>
          </a:xfrm>
          <a:custGeom>
            <a:avLst/>
            <a:gdLst>
              <a:gd name="textAreaLeft" fmla="*/ 0 w 4262400"/>
              <a:gd name="textAreaRight" fmla="*/ 4262760 w 4262400"/>
              <a:gd name="textAreaTop" fmla="*/ 0 h 2238120"/>
              <a:gd name="textAreaBottom" fmla="*/ 2238480 h 2238120"/>
            </a:gdLst>
            <a:ahLst/>
            <a:rect l="textAreaLeft" t="textAreaTop" r="textAreaRight" b="textAreaBottom"/>
            <a:pathLst>
              <a:path w="4263707" h="2238374">
                <a:moveTo>
                  <a:pt x="4251007" y="928877"/>
                </a:moveTo>
                <a:lnTo>
                  <a:pt x="3334194" y="12700"/>
                </a:lnTo>
                <a:lnTo>
                  <a:pt x="1119822" y="2225674"/>
                </a:lnTo>
                <a:lnTo>
                  <a:pt x="12700" y="1119250"/>
                </a:lnTo>
                <a:lnTo>
                  <a:pt x="1106233" y="26288"/>
                </a:lnTo>
                <a:lnTo>
                  <a:pt x="2009457" y="928877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Freeform 3"/>
          <p:cNvSpPr/>
          <p:nvPr/>
        </p:nvSpPr>
        <p:spPr>
          <a:xfrm>
            <a:off x="3637080" y="1622520"/>
            <a:ext cx="4263840" cy="2238120"/>
          </a:xfrm>
          <a:custGeom>
            <a:avLst/>
            <a:gdLst>
              <a:gd name="textAreaLeft" fmla="*/ 0 w 4263840"/>
              <a:gd name="textAreaRight" fmla="*/ 4264200 w 4263840"/>
              <a:gd name="textAreaTop" fmla="*/ 0 h 2238120"/>
              <a:gd name="textAreaBottom" fmla="*/ 2238480 h 2238120"/>
            </a:gdLst>
            <a:ahLst/>
            <a:rect l="textAreaLeft" t="textAreaTop" r="textAreaRight" b="textAreaBottom"/>
            <a:pathLst>
              <a:path w="4263771" h="2238374">
                <a:moveTo>
                  <a:pt x="12700" y="1309497"/>
                </a:moveTo>
                <a:lnTo>
                  <a:pt x="929513" y="2225674"/>
                </a:lnTo>
                <a:lnTo>
                  <a:pt x="3143885" y="12700"/>
                </a:lnTo>
                <a:lnTo>
                  <a:pt x="4251071" y="1119250"/>
                </a:lnTo>
                <a:lnTo>
                  <a:pt x="3157474" y="2212086"/>
                </a:lnTo>
                <a:lnTo>
                  <a:pt x="2254250" y="1309497"/>
                </a:lnTo>
              </a:path>
            </a:pathLst>
          </a:custGeom>
          <a:noFill/>
          <a:ln w="25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Freeform 3"/>
          <p:cNvSpPr/>
          <p:nvPr/>
        </p:nvSpPr>
        <p:spPr>
          <a:xfrm>
            <a:off x="1574640" y="1994040"/>
            <a:ext cx="1501920" cy="1501560"/>
          </a:xfrm>
          <a:custGeom>
            <a:avLst/>
            <a:gdLst>
              <a:gd name="textAreaLeft" fmla="*/ 0 w 1501920"/>
              <a:gd name="textAreaRight" fmla="*/ 1502280 w 1501920"/>
              <a:gd name="textAreaTop" fmla="*/ 0 h 1501560"/>
              <a:gd name="textAreaBottom" fmla="*/ 1501920 h 1501560"/>
            </a:gdLst>
            <a:ahLst/>
            <a:rect l="textAreaLeft" t="textAreaTop" r="textAreaRight" b="textAreaBottom"/>
            <a:pathLst>
              <a:path w="1501902" h="1502029">
                <a:moveTo>
                  <a:pt x="0" y="751077"/>
                </a:moveTo>
                <a:lnTo>
                  <a:pt x="750950" y="0"/>
                </a:lnTo>
                <a:lnTo>
                  <a:pt x="1501902" y="751077"/>
                </a:lnTo>
                <a:lnTo>
                  <a:pt x="750950" y="1502029"/>
                </a:lnTo>
                <a:lnTo>
                  <a:pt x="0" y="751077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Freeform 3"/>
          <p:cNvSpPr/>
          <p:nvPr/>
        </p:nvSpPr>
        <p:spPr>
          <a:xfrm>
            <a:off x="3816360" y="1994040"/>
            <a:ext cx="1501920" cy="1501560"/>
          </a:xfrm>
          <a:custGeom>
            <a:avLst/>
            <a:gdLst>
              <a:gd name="textAreaLeft" fmla="*/ 0 w 1501920"/>
              <a:gd name="textAreaRight" fmla="*/ 1502280 w 1501920"/>
              <a:gd name="textAreaTop" fmla="*/ 0 h 1501560"/>
              <a:gd name="textAreaBottom" fmla="*/ 1501920 h 1501560"/>
            </a:gdLst>
            <a:ahLst/>
            <a:rect l="textAreaLeft" t="textAreaTop" r="textAreaRight" b="textAreaBottom"/>
            <a:pathLst>
              <a:path w="1501902" h="1502029">
                <a:moveTo>
                  <a:pt x="0" y="751077"/>
                </a:moveTo>
                <a:lnTo>
                  <a:pt x="750951" y="0"/>
                </a:lnTo>
                <a:lnTo>
                  <a:pt x="1501902" y="751077"/>
                </a:lnTo>
                <a:lnTo>
                  <a:pt x="750951" y="1502029"/>
                </a:lnTo>
                <a:lnTo>
                  <a:pt x="0" y="751077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Freeform 3"/>
          <p:cNvSpPr/>
          <p:nvPr/>
        </p:nvSpPr>
        <p:spPr>
          <a:xfrm>
            <a:off x="6039000" y="1994040"/>
            <a:ext cx="1501560" cy="1501560"/>
          </a:xfrm>
          <a:custGeom>
            <a:avLst/>
            <a:gdLst>
              <a:gd name="textAreaLeft" fmla="*/ 0 w 1501560"/>
              <a:gd name="textAreaRight" fmla="*/ 1501920 w 1501560"/>
              <a:gd name="textAreaTop" fmla="*/ 0 h 1501560"/>
              <a:gd name="textAreaBottom" fmla="*/ 1501920 h 1501560"/>
            </a:gdLst>
            <a:ahLst/>
            <a:rect l="textAreaLeft" t="textAreaTop" r="textAreaRight" b="textAreaBottom"/>
            <a:pathLst>
              <a:path w="1501902" h="1502029">
                <a:moveTo>
                  <a:pt x="0" y="751077"/>
                </a:moveTo>
                <a:lnTo>
                  <a:pt x="750951" y="0"/>
                </a:lnTo>
                <a:lnTo>
                  <a:pt x="1501902" y="751077"/>
                </a:lnTo>
                <a:lnTo>
                  <a:pt x="750951" y="1502029"/>
                </a:lnTo>
                <a:lnTo>
                  <a:pt x="0" y="751077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3"/>
          <p:cNvSpPr/>
          <p:nvPr/>
        </p:nvSpPr>
        <p:spPr>
          <a:xfrm>
            <a:off x="2179800" y="2112840"/>
            <a:ext cx="282240" cy="282600"/>
          </a:xfrm>
          <a:custGeom>
            <a:avLst/>
            <a:gdLst>
              <a:gd name="textAreaLeft" fmla="*/ 0 w 282240"/>
              <a:gd name="textAreaRight" fmla="*/ 282600 w 28224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82955" h="282829">
                <a:moveTo>
                  <a:pt x="0" y="141351"/>
                </a:moveTo>
                <a:lnTo>
                  <a:pt x="141477" y="0"/>
                </a:lnTo>
                <a:lnTo>
                  <a:pt x="282955" y="141351"/>
                </a:lnTo>
                <a:lnTo>
                  <a:pt x="141477" y="282829"/>
                </a:lnTo>
                <a:lnTo>
                  <a:pt x="0" y="141351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3"/>
          <p:cNvSpPr/>
          <p:nvPr/>
        </p:nvSpPr>
        <p:spPr>
          <a:xfrm>
            <a:off x="4422600" y="211284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82829" h="282829">
                <a:moveTo>
                  <a:pt x="0" y="141351"/>
                </a:moveTo>
                <a:lnTo>
                  <a:pt x="141351" y="0"/>
                </a:lnTo>
                <a:lnTo>
                  <a:pt x="282829" y="141351"/>
                </a:lnTo>
                <a:lnTo>
                  <a:pt x="141351" y="282829"/>
                </a:lnTo>
                <a:lnTo>
                  <a:pt x="0" y="141351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3"/>
          <p:cNvSpPr/>
          <p:nvPr/>
        </p:nvSpPr>
        <p:spPr>
          <a:xfrm>
            <a:off x="6645240" y="2112840"/>
            <a:ext cx="282600" cy="282600"/>
          </a:xfrm>
          <a:custGeom>
            <a:avLst/>
            <a:gdLst>
              <a:gd name="textAreaLeft" fmla="*/ 0 w 282600"/>
              <a:gd name="textAreaRight" fmla="*/ 282960 w 282600"/>
              <a:gd name="textAreaTop" fmla="*/ 0 h 282600"/>
              <a:gd name="textAreaBottom" fmla="*/ 282960 h 282600"/>
            </a:gdLst>
            <a:ahLst/>
            <a:rect l="textAreaLeft" t="textAreaTop" r="textAreaRight" b="textAreaBottom"/>
            <a:pathLst>
              <a:path w="282829" h="282829">
                <a:moveTo>
                  <a:pt x="0" y="141351"/>
                </a:moveTo>
                <a:lnTo>
                  <a:pt x="141351" y="0"/>
                </a:lnTo>
                <a:lnTo>
                  <a:pt x="282829" y="141351"/>
                </a:lnTo>
                <a:lnTo>
                  <a:pt x="141351" y="282829"/>
                </a:lnTo>
                <a:lnTo>
                  <a:pt x="0" y="141351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sp>
        <p:nvSpPr>
          <p:cNvPr id="574" name="TextBox 1"/>
          <p:cNvSpPr/>
          <p:nvPr/>
        </p:nvSpPr>
        <p:spPr>
          <a:xfrm>
            <a:off x="955080" y="266760"/>
            <a:ext cx="15976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推广服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微博派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1"/>
          <p:cNvSpPr/>
          <p:nvPr/>
        </p:nvSpPr>
        <p:spPr>
          <a:xfrm>
            <a:off x="2413080" y="4254480"/>
            <a:ext cx="4301640" cy="11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53352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595959"/>
                </a:solidFill>
                <a:latin typeface="Arial"/>
                <a:ea typeface="微软雅黑"/>
              </a:rPr>
              <a:t>依托随规传媒独立开发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  <a:ea typeface="微软雅黑"/>
              </a:rPr>
              <a:t>AdMan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  <a:ea typeface="微软雅黑"/>
              </a:rPr>
              <a:t>数据挖掘技术，在社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53352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2000" spc="-1" strike="noStrike">
                <a:solidFill>
                  <a:srgbClr val="595959"/>
                </a:solidFill>
                <a:latin typeface="Arial"/>
                <a:ea typeface="微软雅黑"/>
              </a:rPr>
              <a:t>化媒体平台上实现影响力效果可预估、可量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533520"/>
                <a:tab algn="l" pos="1486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www.weibopie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1"/>
          <p:cNvSpPr/>
          <p:nvPr/>
        </p:nvSpPr>
        <p:spPr>
          <a:xfrm>
            <a:off x="2016720" y="2158920"/>
            <a:ext cx="49536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368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微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1"/>
          <p:cNvSpPr/>
          <p:nvPr/>
        </p:nvSpPr>
        <p:spPr>
          <a:xfrm>
            <a:off x="4271040" y="2158920"/>
            <a:ext cx="48276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微洞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1"/>
          <p:cNvSpPr/>
          <p:nvPr/>
        </p:nvSpPr>
        <p:spPr>
          <a:xfrm>
            <a:off x="6506280" y="2158920"/>
            <a:ext cx="48276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355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微舆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8387-4B78-4CE0-8A62-6FB6EF8113F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3"/>
          <p:cNvSpPr/>
          <p:nvPr/>
        </p:nvSpPr>
        <p:spPr>
          <a:xfrm>
            <a:off x="1332000" y="1717560"/>
            <a:ext cx="3517920" cy="3400560"/>
          </a:xfrm>
          <a:custGeom>
            <a:avLst/>
            <a:gdLst>
              <a:gd name="textAreaLeft" fmla="*/ 0 w 3517920"/>
              <a:gd name="textAreaRight" fmla="*/ 3518280 w 3517920"/>
              <a:gd name="textAreaTop" fmla="*/ 0 h 3400560"/>
              <a:gd name="textAreaBottom" fmla="*/ 3400920 h 3400560"/>
            </a:gdLst>
            <a:ahLst/>
            <a:rect l="textAreaLeft" t="textAreaTop" r="textAreaRight" b="textAreaBottom"/>
            <a:pathLst>
              <a:path w="3517900" h="3400425">
                <a:moveTo>
                  <a:pt x="0" y="292226"/>
                </a:moveTo>
                <a:cubicBezTo>
                  <a:pt x="0" y="130810"/>
                  <a:pt x="130810" y="0"/>
                  <a:pt x="292227" y="0"/>
                </a:cubicBezTo>
                <a:lnTo>
                  <a:pt x="3225545" y="0"/>
                </a:lnTo>
                <a:cubicBezTo>
                  <a:pt x="3386963" y="0"/>
                  <a:pt x="3517900" y="130810"/>
                  <a:pt x="3517900" y="292226"/>
                </a:cubicBezTo>
                <a:lnTo>
                  <a:pt x="3517900" y="3108197"/>
                </a:lnTo>
                <a:cubicBezTo>
                  <a:pt x="3517900" y="3269615"/>
                  <a:pt x="3386963" y="3400425"/>
                  <a:pt x="3225545" y="3400425"/>
                </a:cubicBezTo>
                <a:lnTo>
                  <a:pt x="292227" y="3400425"/>
                </a:lnTo>
                <a:cubicBezTo>
                  <a:pt x="130810" y="3400425"/>
                  <a:pt x="0" y="3269615"/>
                  <a:pt x="0" y="3108197"/>
                </a:cubicBezTo>
                <a:lnTo>
                  <a:pt x="0" y="292226"/>
                </a:lnTo>
              </a:path>
            </a:pathLst>
          </a:custGeom>
          <a:solidFill>
            <a:srgbClr val="ededed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3" descr=""/>
          <p:cNvPicPr/>
          <p:nvPr/>
        </p:nvPicPr>
        <p:blipFill>
          <a:blip r:embed="rId2"/>
          <a:stretch/>
        </p:blipFill>
        <p:spPr>
          <a:xfrm>
            <a:off x="1308240" y="1714680"/>
            <a:ext cx="3568680" cy="5143320"/>
          </a:xfrm>
          <a:prstGeom prst="rect">
            <a:avLst/>
          </a:prstGeom>
          <a:ln w="0">
            <a:noFill/>
          </a:ln>
        </p:spPr>
      </p:pic>
      <p:sp>
        <p:nvSpPr>
          <p:cNvPr id="584" name="TextBox 1"/>
          <p:cNvSpPr/>
          <p:nvPr/>
        </p:nvSpPr>
        <p:spPr>
          <a:xfrm>
            <a:off x="5168160" y="3365640"/>
            <a:ext cx="6336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TextBox 1"/>
          <p:cNvSpPr/>
          <p:nvPr/>
        </p:nvSpPr>
        <p:spPr>
          <a:xfrm>
            <a:off x="5732280" y="3340080"/>
            <a:ext cx="1227240" cy="15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建立良性的以数据为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础的企业微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KPI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体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了解企业微博运行情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了解竞品微博运行情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发现企业微博改善机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"/>
          <p:cNvSpPr/>
          <p:nvPr/>
        </p:nvSpPr>
        <p:spPr>
          <a:xfrm>
            <a:off x="1186200" y="266760"/>
            <a:ext cx="6312960" cy="29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25560"/>
                <a:tab algn="l" pos="459756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推广服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微博派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459756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459756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459756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25560"/>
                <a:tab algn="l" pos="459756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微诊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459756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459756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459756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tabLst>
                <a:tab algn="l" pos="0"/>
                <a:tab algn="l" pos="25560"/>
                <a:tab algn="l" pos="459756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通过随规传播力模型分析数据呾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25560"/>
                <a:tab algn="l" pos="459756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表，形成可规化的健康情冴诊断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459756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4000"/>
              </a:lnSpc>
              <a:tabLst>
                <a:tab algn="l" pos="0"/>
                <a:tab algn="l" pos="25560"/>
                <a:tab algn="l" pos="4597560"/>
                <a:tab algn="l" pos="46864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实现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214E8-C8AC-4476-B255-8DB6E3BA5D4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Freeform 3"/>
          <p:cNvSpPr/>
          <p:nvPr/>
        </p:nvSpPr>
        <p:spPr>
          <a:xfrm>
            <a:off x="611280" y="1700280"/>
            <a:ext cx="4767120" cy="3166920"/>
          </a:xfrm>
          <a:custGeom>
            <a:avLst/>
            <a:gdLst>
              <a:gd name="textAreaLeft" fmla="*/ 0 w 4767120"/>
              <a:gd name="textAreaRight" fmla="*/ 4767480 w 4767120"/>
              <a:gd name="textAreaTop" fmla="*/ 0 h 3166920"/>
              <a:gd name="textAreaBottom" fmla="*/ 3167280 h 3166920"/>
            </a:gdLst>
            <a:ahLst/>
            <a:rect l="textAreaLeft" t="textAreaTop" r="textAreaRight" b="textAreaBottom"/>
            <a:pathLst>
              <a:path w="4767275" h="3167125">
                <a:moveTo>
                  <a:pt x="0" y="272161"/>
                </a:moveTo>
                <a:cubicBezTo>
                  <a:pt x="0" y="121920"/>
                  <a:pt x="121856" y="0"/>
                  <a:pt x="272186" y="0"/>
                </a:cubicBezTo>
                <a:lnTo>
                  <a:pt x="4495114" y="0"/>
                </a:lnTo>
                <a:cubicBezTo>
                  <a:pt x="4645355" y="0"/>
                  <a:pt x="4767275" y="121920"/>
                  <a:pt x="4767275" y="272161"/>
                </a:cubicBezTo>
                <a:lnTo>
                  <a:pt x="4767275" y="2894964"/>
                </a:lnTo>
                <a:cubicBezTo>
                  <a:pt x="4767275" y="3045206"/>
                  <a:pt x="4645355" y="3167125"/>
                  <a:pt x="4495114" y="3167125"/>
                </a:cubicBezTo>
                <a:lnTo>
                  <a:pt x="272186" y="3167125"/>
                </a:lnTo>
                <a:cubicBezTo>
                  <a:pt x="121856" y="3167125"/>
                  <a:pt x="0" y="3045206"/>
                  <a:pt x="0" y="2894964"/>
                </a:cubicBezTo>
                <a:lnTo>
                  <a:pt x="0" y="272161"/>
                </a:lnTo>
              </a:path>
            </a:pathLst>
          </a:custGeom>
          <a:solidFill>
            <a:srgbClr val="ededed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3" descr=""/>
          <p:cNvPicPr/>
          <p:nvPr/>
        </p:nvPicPr>
        <p:blipFill>
          <a:blip r:embed="rId2"/>
          <a:stretch/>
        </p:blipFill>
        <p:spPr>
          <a:xfrm>
            <a:off x="584280" y="1689120"/>
            <a:ext cx="4825800" cy="5168880"/>
          </a:xfrm>
          <a:prstGeom prst="rect">
            <a:avLst/>
          </a:prstGeom>
          <a:ln w="0">
            <a:noFill/>
          </a:ln>
        </p:spPr>
      </p:pic>
      <p:sp>
        <p:nvSpPr>
          <p:cNvPr id="592" name="TextBox 1"/>
          <p:cNvSpPr/>
          <p:nvPr/>
        </p:nvSpPr>
        <p:spPr>
          <a:xfrm>
            <a:off x="5663520" y="3327480"/>
            <a:ext cx="63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Box 1"/>
          <p:cNvSpPr/>
          <p:nvPr/>
        </p:nvSpPr>
        <p:spPr>
          <a:xfrm>
            <a:off x="6424560" y="3301920"/>
            <a:ext cx="157644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直观解析企业微博活动的趋势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传播关健点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直观解析企业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App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推广走势；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传播路径不传播关健人清晰可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Box 1"/>
          <p:cNvSpPr/>
          <p:nvPr/>
        </p:nvSpPr>
        <p:spPr>
          <a:xfrm>
            <a:off x="1188720" y="266760"/>
            <a:ext cx="6833520" cy="29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2556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推广服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微博派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2556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微洞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699"/>
              </a:lnSpc>
              <a:tabLst>
                <a:tab algn="l" pos="0"/>
                <a:tab algn="l" pos="2556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动态分析微博营销活动数据，多维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2556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呈现传播路径、粉丝变化等图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399"/>
              </a:lnSpc>
              <a:tabLst>
                <a:tab algn="l" pos="0"/>
                <a:tab algn="l" pos="25560"/>
                <a:tab algn="l" pos="51181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实现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FBFF-B04F-46B0-843E-C706C603FCE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Freeform 3"/>
          <p:cNvSpPr/>
          <p:nvPr/>
        </p:nvSpPr>
        <p:spPr>
          <a:xfrm>
            <a:off x="825480" y="1700280"/>
            <a:ext cx="3933720" cy="3300480"/>
          </a:xfrm>
          <a:custGeom>
            <a:avLst/>
            <a:gdLst>
              <a:gd name="textAreaLeft" fmla="*/ 0 w 3933720"/>
              <a:gd name="textAreaRight" fmla="*/ 3934080 w 3933720"/>
              <a:gd name="textAreaTop" fmla="*/ 0 h 3300480"/>
              <a:gd name="textAreaBottom" fmla="*/ 3300840 h 3300480"/>
            </a:gdLst>
            <a:ahLst/>
            <a:rect l="textAreaLeft" t="textAreaTop" r="textAreaRight" b="textAreaBottom"/>
            <a:pathLst>
              <a:path w="3933812" h="3300476">
                <a:moveTo>
                  <a:pt x="0" y="283717"/>
                </a:moveTo>
                <a:cubicBezTo>
                  <a:pt x="0" y="127000"/>
                  <a:pt x="126987" y="0"/>
                  <a:pt x="283641" y="0"/>
                </a:cubicBezTo>
                <a:lnTo>
                  <a:pt x="3650221" y="0"/>
                </a:lnTo>
                <a:cubicBezTo>
                  <a:pt x="3806812" y="0"/>
                  <a:pt x="3933812" y="127000"/>
                  <a:pt x="3933812" y="283717"/>
                </a:cubicBezTo>
                <a:lnTo>
                  <a:pt x="3933812" y="3016757"/>
                </a:lnTo>
                <a:cubicBezTo>
                  <a:pt x="3933812" y="3173475"/>
                  <a:pt x="3806812" y="3300475"/>
                  <a:pt x="3650221" y="3300475"/>
                </a:cubicBezTo>
                <a:lnTo>
                  <a:pt x="283641" y="3300475"/>
                </a:lnTo>
                <a:cubicBezTo>
                  <a:pt x="126987" y="3300475"/>
                  <a:pt x="0" y="3173475"/>
                  <a:pt x="0" y="3016757"/>
                </a:cubicBezTo>
                <a:lnTo>
                  <a:pt x="0" y="283717"/>
                </a:lnTo>
              </a:path>
            </a:pathLst>
          </a:custGeom>
          <a:solidFill>
            <a:srgbClr val="ededed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3" descr=""/>
          <p:cNvPicPr/>
          <p:nvPr/>
        </p:nvPicPr>
        <p:blipFill>
          <a:blip r:embed="rId2"/>
          <a:stretch/>
        </p:blipFill>
        <p:spPr>
          <a:xfrm>
            <a:off x="800280" y="1689120"/>
            <a:ext cx="3987720" cy="5168880"/>
          </a:xfrm>
          <a:prstGeom prst="rect">
            <a:avLst/>
          </a:prstGeom>
          <a:ln w="0">
            <a:noFill/>
          </a:ln>
        </p:spPr>
      </p:pic>
      <p:sp>
        <p:nvSpPr>
          <p:cNvPr id="600" name="TextBox 1"/>
          <p:cNvSpPr/>
          <p:nvPr/>
        </p:nvSpPr>
        <p:spPr>
          <a:xfrm>
            <a:off x="5307840" y="3454560"/>
            <a:ext cx="63360" cy="15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"/>
          <p:cNvSpPr/>
          <p:nvPr/>
        </p:nvSpPr>
        <p:spPr>
          <a:xfrm>
            <a:off x="5951880" y="3429000"/>
            <a:ext cx="1067400" cy="15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了解品牌呾产品口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了解行业舆论动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分析公关活动效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分析竞争对手活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了解危机公关处理情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1"/>
          <p:cNvSpPr/>
          <p:nvPr/>
        </p:nvSpPr>
        <p:spPr>
          <a:xfrm>
            <a:off x="1060200" y="266760"/>
            <a:ext cx="616032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25560"/>
                <a:tab algn="l" pos="467352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推广服务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微博派概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467352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467352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467352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25560"/>
                <a:tab algn="l" pos="467352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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微舆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467352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467352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467352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467352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467352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5560"/>
                <a:tab algn="l" pos="467352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99"/>
              </a:lnSpc>
              <a:tabLst>
                <a:tab algn="l" pos="0"/>
                <a:tab algn="l" pos="25560"/>
                <a:tab algn="l" pos="467352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全方位及时监测品牌及竞品在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25560"/>
                <a:tab algn="l" pos="467352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网络中的相关正负面舆情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600"/>
              </a:lnSpc>
              <a:tabLst>
                <a:tab algn="l" pos="0"/>
                <a:tab algn="l" pos="25560"/>
                <a:tab algn="l" pos="4673520"/>
                <a:tab algn="l" pos="4826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实现目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F49DE-AA5B-481D-B8AE-E90A106DED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Freeform 3"/>
          <p:cNvSpPr/>
          <p:nvPr/>
        </p:nvSpPr>
        <p:spPr>
          <a:xfrm>
            <a:off x="6126120" y="2090880"/>
            <a:ext cx="1628640" cy="1103040"/>
          </a:xfrm>
          <a:custGeom>
            <a:avLst/>
            <a:gdLst>
              <a:gd name="textAreaLeft" fmla="*/ 0 w 1628640"/>
              <a:gd name="textAreaRight" fmla="*/ 1629000 w 1628640"/>
              <a:gd name="textAreaTop" fmla="*/ 0 h 1103040"/>
              <a:gd name="textAreaBottom" fmla="*/ 1103400 h 1103040"/>
            </a:gdLst>
            <a:ahLst/>
            <a:rect l="textAreaLeft" t="textAreaTop" r="textAreaRight" b="textAreaBottom"/>
            <a:pathLst>
              <a:path w="1628374" h="1103529">
                <a:moveTo>
                  <a:pt x="0" y="1103528"/>
                </a:moveTo>
                <a:lnTo>
                  <a:pt x="198373" y="813715"/>
                </a:lnTo>
                <a:cubicBezTo>
                  <a:pt x="-73025" y="594131"/>
                  <a:pt x="-10541" y="277394"/>
                  <a:pt x="337820" y="106325"/>
                </a:cubicBezTo>
                <a:cubicBezTo>
                  <a:pt x="686180" y="-64743"/>
                  <a:pt x="1188592" y="-25374"/>
                  <a:pt x="1459864" y="194209"/>
                </a:cubicBezTo>
                <a:cubicBezTo>
                  <a:pt x="1731263" y="413919"/>
                  <a:pt x="1668779" y="730530"/>
                  <a:pt x="1320419" y="901599"/>
                </a:cubicBezTo>
                <a:cubicBezTo>
                  <a:pt x="1063371" y="1027963"/>
                  <a:pt x="710311" y="1043203"/>
                  <a:pt x="428371" y="940080"/>
                </a:cubicBezTo>
                <a:lnTo>
                  <a:pt x="0" y="1103528"/>
                </a:ln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reeform 3"/>
          <p:cNvSpPr/>
          <p:nvPr/>
        </p:nvSpPr>
        <p:spPr>
          <a:xfrm>
            <a:off x="1476360" y="3281400"/>
            <a:ext cx="5904000" cy="931680"/>
          </a:xfrm>
          <a:custGeom>
            <a:avLst/>
            <a:gdLst>
              <a:gd name="textAreaLeft" fmla="*/ 0 w 5904000"/>
              <a:gd name="textAreaRight" fmla="*/ 5904360 w 5904000"/>
              <a:gd name="textAreaTop" fmla="*/ 0 h 931680"/>
              <a:gd name="textAreaBottom" fmla="*/ 932040 h 931680"/>
            </a:gdLst>
            <a:ahLst/>
            <a:rect l="textAreaLeft" t="textAreaTop" r="textAreaRight" b="textAreaBottom"/>
            <a:pathLst>
              <a:path w="5904357" h="932561">
                <a:moveTo>
                  <a:pt x="0" y="932561"/>
                </a:moveTo>
                <a:lnTo>
                  <a:pt x="5904356" y="932561"/>
                </a:lnTo>
                <a:lnTo>
                  <a:pt x="5904356" y="0"/>
                </a:lnTo>
                <a:lnTo>
                  <a:pt x="0" y="0"/>
                </a:lnTo>
                <a:lnTo>
                  <a:pt x="0" y="932561"/>
                </a:ln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Freeform 3"/>
          <p:cNvSpPr/>
          <p:nvPr/>
        </p:nvSpPr>
        <p:spPr>
          <a:xfrm>
            <a:off x="820800" y="5265720"/>
            <a:ext cx="436680" cy="860400"/>
          </a:xfrm>
          <a:custGeom>
            <a:avLst/>
            <a:gdLst>
              <a:gd name="textAreaLeft" fmla="*/ 0 w 436680"/>
              <a:gd name="textAreaRight" fmla="*/ 437040 w 43668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435587" h="860272">
                <a:moveTo>
                  <a:pt x="433732" y="351574"/>
                </a:moveTo>
                <a:cubicBezTo>
                  <a:pt x="433732" y="351574"/>
                  <a:pt x="358878" y="62357"/>
                  <a:pt x="346419" y="32512"/>
                </a:cubicBezTo>
                <a:cubicBezTo>
                  <a:pt x="334087" y="2540"/>
                  <a:pt x="301563" y="0"/>
                  <a:pt x="301563" y="0"/>
                </a:cubicBezTo>
                <a:lnTo>
                  <a:pt x="219483" y="0"/>
                </a:lnTo>
                <a:lnTo>
                  <a:pt x="216231" y="0"/>
                </a:lnTo>
                <a:lnTo>
                  <a:pt x="133986" y="0"/>
                </a:lnTo>
                <a:cubicBezTo>
                  <a:pt x="133986" y="0"/>
                  <a:pt x="101461" y="2540"/>
                  <a:pt x="89117" y="32512"/>
                </a:cubicBezTo>
                <a:cubicBezTo>
                  <a:pt x="76531" y="62357"/>
                  <a:pt x="1817" y="351574"/>
                  <a:pt x="1817" y="351574"/>
                </a:cubicBezTo>
                <a:cubicBezTo>
                  <a:pt x="1817" y="351574"/>
                  <a:pt x="-5535" y="376351"/>
                  <a:pt x="9336" y="383870"/>
                </a:cubicBezTo>
                <a:cubicBezTo>
                  <a:pt x="24245" y="391490"/>
                  <a:pt x="41632" y="376351"/>
                  <a:pt x="51779" y="356476"/>
                </a:cubicBezTo>
                <a:cubicBezTo>
                  <a:pt x="61634" y="336562"/>
                  <a:pt x="121375" y="149733"/>
                  <a:pt x="121375" y="149733"/>
                </a:cubicBezTo>
                <a:lnTo>
                  <a:pt x="111583" y="398957"/>
                </a:lnTo>
                <a:lnTo>
                  <a:pt x="74156" y="832739"/>
                </a:lnTo>
                <a:cubicBezTo>
                  <a:pt x="74156" y="832739"/>
                  <a:pt x="91594" y="862558"/>
                  <a:pt x="111583" y="860272"/>
                </a:cubicBezTo>
                <a:cubicBezTo>
                  <a:pt x="131484" y="857745"/>
                  <a:pt x="143918" y="855269"/>
                  <a:pt x="148731" y="832739"/>
                </a:cubicBezTo>
                <a:cubicBezTo>
                  <a:pt x="153531" y="811784"/>
                  <a:pt x="210123" y="453250"/>
                  <a:pt x="217793" y="404571"/>
                </a:cubicBezTo>
                <a:cubicBezTo>
                  <a:pt x="217235" y="401015"/>
                  <a:pt x="216917" y="398957"/>
                  <a:pt x="216917" y="398957"/>
                </a:cubicBezTo>
                <a:lnTo>
                  <a:pt x="218682" y="398957"/>
                </a:lnTo>
                <a:cubicBezTo>
                  <a:pt x="218682" y="398957"/>
                  <a:pt x="218352" y="401015"/>
                  <a:pt x="217793" y="404571"/>
                </a:cubicBezTo>
                <a:cubicBezTo>
                  <a:pt x="225464" y="453250"/>
                  <a:pt x="282005" y="811784"/>
                  <a:pt x="286653" y="832739"/>
                </a:cubicBezTo>
                <a:cubicBezTo>
                  <a:pt x="291669" y="855269"/>
                  <a:pt x="304077" y="857745"/>
                  <a:pt x="323965" y="860272"/>
                </a:cubicBezTo>
                <a:cubicBezTo>
                  <a:pt x="343866" y="862558"/>
                  <a:pt x="361481" y="832739"/>
                  <a:pt x="361481" y="832739"/>
                </a:cubicBezTo>
                <a:lnTo>
                  <a:pt x="323965" y="398957"/>
                </a:lnTo>
                <a:lnTo>
                  <a:pt x="314009" y="149733"/>
                </a:lnTo>
                <a:cubicBezTo>
                  <a:pt x="314009" y="149733"/>
                  <a:pt x="373864" y="336562"/>
                  <a:pt x="383960" y="356476"/>
                </a:cubicBezTo>
                <a:cubicBezTo>
                  <a:pt x="393904" y="376351"/>
                  <a:pt x="411252" y="391490"/>
                  <a:pt x="426213" y="383870"/>
                </a:cubicBezTo>
                <a:cubicBezTo>
                  <a:pt x="441186" y="376351"/>
                  <a:pt x="433732" y="351574"/>
                  <a:pt x="433732" y="351574"/>
                </a:cubicBezTo>
              </a:path>
            </a:pathLst>
          </a:cu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reeform 3"/>
          <p:cNvSpPr/>
          <p:nvPr/>
        </p:nvSpPr>
        <p:spPr>
          <a:xfrm>
            <a:off x="961920" y="5083200"/>
            <a:ext cx="146160" cy="165240"/>
          </a:xfrm>
          <a:custGeom>
            <a:avLst/>
            <a:gdLst>
              <a:gd name="textAreaLeft" fmla="*/ 0 w 146160"/>
              <a:gd name="textAreaRight" fmla="*/ 146160 w 14616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146253" h="165989">
                <a:moveTo>
                  <a:pt x="146253" y="78104"/>
                </a:moveTo>
                <a:cubicBezTo>
                  <a:pt x="147929" y="9905"/>
                  <a:pt x="74764" y="0"/>
                  <a:pt x="74764" y="0"/>
                </a:cubicBezTo>
                <a:lnTo>
                  <a:pt x="71450" y="0"/>
                </a:lnTo>
                <a:cubicBezTo>
                  <a:pt x="71450" y="0"/>
                  <a:pt x="-1727" y="9905"/>
                  <a:pt x="0" y="78104"/>
                </a:cubicBezTo>
                <a:cubicBezTo>
                  <a:pt x="3301" y="112776"/>
                  <a:pt x="44919" y="165988"/>
                  <a:pt x="71450" y="165988"/>
                </a:cubicBezTo>
                <a:lnTo>
                  <a:pt x="74764" y="165988"/>
                </a:lnTo>
                <a:cubicBezTo>
                  <a:pt x="101345" y="165988"/>
                  <a:pt x="142925" y="112776"/>
                  <a:pt x="146253" y="78104"/>
                </a:cubicBezTo>
              </a:path>
            </a:pathLst>
          </a:cu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3"/>
          <p:cNvSpPr/>
          <p:nvPr/>
        </p:nvSpPr>
        <p:spPr>
          <a:xfrm>
            <a:off x="6696000" y="6377040"/>
            <a:ext cx="196920" cy="388800"/>
          </a:xfrm>
          <a:custGeom>
            <a:avLst/>
            <a:gdLst>
              <a:gd name="textAreaLeft" fmla="*/ 0 w 196920"/>
              <a:gd name="textAreaRight" fmla="*/ 197280 w 196920"/>
              <a:gd name="textAreaTop" fmla="*/ 0 h 388800"/>
              <a:gd name="textAreaBottom" fmla="*/ 389160 h 388800"/>
            </a:gdLst>
            <a:ahLst/>
            <a:rect l="textAreaLeft" t="textAreaTop" r="textAreaRight" b="textAreaBottom"/>
            <a:pathLst>
              <a:path w="195579" h="389504">
                <a:moveTo>
                  <a:pt x="195579" y="159169"/>
                </a:moveTo>
                <a:cubicBezTo>
                  <a:pt x="195579" y="159169"/>
                  <a:pt x="161670" y="28231"/>
                  <a:pt x="156082" y="14681"/>
                </a:cubicBezTo>
                <a:cubicBezTo>
                  <a:pt x="150494" y="1092"/>
                  <a:pt x="135762" y="0"/>
                  <a:pt x="135762" y="0"/>
                </a:cubicBezTo>
                <a:lnTo>
                  <a:pt x="98551" y="0"/>
                </a:lnTo>
                <a:lnTo>
                  <a:pt x="97027" y="0"/>
                </a:lnTo>
                <a:lnTo>
                  <a:pt x="59816" y="0"/>
                </a:lnTo>
                <a:cubicBezTo>
                  <a:pt x="59816" y="0"/>
                  <a:pt x="45084" y="1092"/>
                  <a:pt x="39496" y="14681"/>
                </a:cubicBezTo>
                <a:cubicBezTo>
                  <a:pt x="33781" y="28231"/>
                  <a:pt x="0" y="159169"/>
                  <a:pt x="0" y="159169"/>
                </a:cubicBezTo>
                <a:cubicBezTo>
                  <a:pt x="0" y="159169"/>
                  <a:pt x="-3302" y="170383"/>
                  <a:pt x="3428" y="173799"/>
                </a:cubicBezTo>
                <a:cubicBezTo>
                  <a:pt x="10159" y="177241"/>
                  <a:pt x="18033" y="170383"/>
                  <a:pt x="22605" y="161391"/>
                </a:cubicBezTo>
                <a:cubicBezTo>
                  <a:pt x="27050" y="152374"/>
                  <a:pt x="54101" y="67779"/>
                  <a:pt x="54101" y="67779"/>
                </a:cubicBezTo>
                <a:lnTo>
                  <a:pt x="49656" y="180632"/>
                </a:lnTo>
                <a:lnTo>
                  <a:pt x="32765" y="377046"/>
                </a:lnTo>
                <a:cubicBezTo>
                  <a:pt x="32765" y="377046"/>
                  <a:pt x="40639" y="390545"/>
                  <a:pt x="49656" y="389504"/>
                </a:cubicBezTo>
                <a:cubicBezTo>
                  <a:pt x="58673" y="388360"/>
                  <a:pt x="64388" y="387243"/>
                  <a:pt x="66547" y="377046"/>
                </a:cubicBezTo>
                <a:cubicBezTo>
                  <a:pt x="68706" y="367558"/>
                  <a:pt x="94360" y="205206"/>
                  <a:pt x="97789" y="183159"/>
                </a:cubicBezTo>
                <a:cubicBezTo>
                  <a:pt x="97535" y="181559"/>
                  <a:pt x="97408" y="180632"/>
                  <a:pt x="97408" y="180632"/>
                </a:cubicBezTo>
                <a:lnTo>
                  <a:pt x="98170" y="180632"/>
                </a:lnTo>
                <a:cubicBezTo>
                  <a:pt x="98170" y="180632"/>
                  <a:pt x="98043" y="181559"/>
                  <a:pt x="97789" y="183159"/>
                </a:cubicBezTo>
                <a:cubicBezTo>
                  <a:pt x="101218" y="205206"/>
                  <a:pt x="126872" y="367558"/>
                  <a:pt x="128904" y="377046"/>
                </a:cubicBezTo>
                <a:cubicBezTo>
                  <a:pt x="131190" y="387243"/>
                  <a:pt x="136905" y="388360"/>
                  <a:pt x="145795" y="389504"/>
                </a:cubicBezTo>
                <a:cubicBezTo>
                  <a:pt x="154812" y="390545"/>
                  <a:pt x="162813" y="377046"/>
                  <a:pt x="162813" y="377046"/>
                </a:cubicBezTo>
                <a:lnTo>
                  <a:pt x="145795" y="180632"/>
                </a:lnTo>
                <a:lnTo>
                  <a:pt x="141350" y="67779"/>
                </a:lnTo>
                <a:cubicBezTo>
                  <a:pt x="141350" y="67779"/>
                  <a:pt x="168401" y="152374"/>
                  <a:pt x="172973" y="161391"/>
                </a:cubicBezTo>
                <a:cubicBezTo>
                  <a:pt x="177545" y="170383"/>
                  <a:pt x="185419" y="177241"/>
                  <a:pt x="192150" y="173799"/>
                </a:cubicBezTo>
                <a:cubicBezTo>
                  <a:pt x="198881" y="170383"/>
                  <a:pt x="195579" y="159169"/>
                  <a:pt x="195579" y="159169"/>
                </a:cubicBezTo>
              </a:path>
            </a:pathLst>
          </a:cu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Freeform 3"/>
          <p:cNvSpPr/>
          <p:nvPr/>
        </p:nvSpPr>
        <p:spPr>
          <a:xfrm>
            <a:off x="6759720" y="6294600"/>
            <a:ext cx="66600" cy="74520"/>
          </a:xfrm>
          <a:custGeom>
            <a:avLst/>
            <a:gdLst>
              <a:gd name="textAreaLeft" fmla="*/ 0 w 66600"/>
              <a:gd name="textAreaRight" fmla="*/ 66960 w 66600"/>
              <a:gd name="textAreaTop" fmla="*/ 0 h 74520"/>
              <a:gd name="textAreaBottom" fmla="*/ 74880 h 74520"/>
            </a:gdLst>
            <a:ahLst/>
            <a:rect l="textAreaLeft" t="textAreaTop" r="textAreaRight" b="textAreaBottom"/>
            <a:pathLst>
              <a:path w="66166" h="75209">
                <a:moveTo>
                  <a:pt x="66166" y="35382"/>
                </a:moveTo>
                <a:cubicBezTo>
                  <a:pt x="66929" y="4495"/>
                  <a:pt x="33781" y="0"/>
                  <a:pt x="33781" y="0"/>
                </a:cubicBezTo>
                <a:lnTo>
                  <a:pt x="32384" y="0"/>
                </a:lnTo>
                <a:cubicBezTo>
                  <a:pt x="32384" y="0"/>
                  <a:pt x="-761" y="4495"/>
                  <a:pt x="0" y="35382"/>
                </a:cubicBezTo>
                <a:cubicBezTo>
                  <a:pt x="1523" y="51105"/>
                  <a:pt x="20319" y="75209"/>
                  <a:pt x="32384" y="75209"/>
                </a:cubicBezTo>
                <a:lnTo>
                  <a:pt x="33781" y="75209"/>
                </a:lnTo>
                <a:cubicBezTo>
                  <a:pt x="45846" y="75209"/>
                  <a:pt x="64642" y="51105"/>
                  <a:pt x="66166" y="35382"/>
                </a:cubicBezTo>
              </a:path>
            </a:pathLst>
          </a:cu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reeform 3"/>
          <p:cNvSpPr/>
          <p:nvPr/>
        </p:nvSpPr>
        <p:spPr>
          <a:xfrm>
            <a:off x="6149880" y="6129360"/>
            <a:ext cx="258840" cy="514440"/>
          </a:xfrm>
          <a:custGeom>
            <a:avLst/>
            <a:gdLst>
              <a:gd name="textAreaLeft" fmla="*/ 0 w 258840"/>
              <a:gd name="textAreaRight" fmla="*/ 259200 w 258840"/>
              <a:gd name="textAreaTop" fmla="*/ 0 h 514440"/>
              <a:gd name="textAreaBottom" fmla="*/ 514800 h 514440"/>
            </a:gdLst>
            <a:ahLst/>
            <a:rect l="textAreaLeft" t="textAreaTop" r="textAreaRight" b="textAreaBottom"/>
            <a:pathLst>
              <a:path w="257809" h="513473">
                <a:moveTo>
                  <a:pt x="257809" y="209829"/>
                </a:moveTo>
                <a:cubicBezTo>
                  <a:pt x="257809" y="209829"/>
                  <a:pt x="213105" y="37223"/>
                  <a:pt x="205739" y="19367"/>
                </a:cubicBezTo>
                <a:cubicBezTo>
                  <a:pt x="198246" y="1460"/>
                  <a:pt x="178942" y="0"/>
                  <a:pt x="178942" y="0"/>
                </a:cubicBezTo>
                <a:lnTo>
                  <a:pt x="129920" y="0"/>
                </a:lnTo>
                <a:lnTo>
                  <a:pt x="128015" y="0"/>
                </a:lnTo>
                <a:lnTo>
                  <a:pt x="78866" y="0"/>
                </a:lnTo>
                <a:cubicBezTo>
                  <a:pt x="78866" y="0"/>
                  <a:pt x="59435" y="1460"/>
                  <a:pt x="52070" y="19367"/>
                </a:cubicBezTo>
                <a:cubicBezTo>
                  <a:pt x="44576" y="37223"/>
                  <a:pt x="0" y="209829"/>
                  <a:pt x="0" y="209829"/>
                </a:cubicBezTo>
                <a:cubicBezTo>
                  <a:pt x="0" y="209829"/>
                  <a:pt x="-4445" y="224612"/>
                  <a:pt x="4445" y="229108"/>
                </a:cubicBezTo>
                <a:cubicBezTo>
                  <a:pt x="13334" y="233654"/>
                  <a:pt x="23748" y="224612"/>
                  <a:pt x="29845" y="212762"/>
                </a:cubicBezTo>
                <a:cubicBezTo>
                  <a:pt x="35686" y="200876"/>
                  <a:pt x="71373" y="89357"/>
                  <a:pt x="71373" y="89357"/>
                </a:cubicBezTo>
                <a:lnTo>
                  <a:pt x="65532" y="238112"/>
                </a:lnTo>
                <a:lnTo>
                  <a:pt x="43179" y="497039"/>
                </a:lnTo>
                <a:cubicBezTo>
                  <a:pt x="43179" y="497039"/>
                  <a:pt x="53594" y="514845"/>
                  <a:pt x="65532" y="513473"/>
                </a:cubicBezTo>
                <a:cubicBezTo>
                  <a:pt x="77342" y="511962"/>
                  <a:pt x="84835" y="510489"/>
                  <a:pt x="87629" y="497039"/>
                </a:cubicBezTo>
                <a:cubicBezTo>
                  <a:pt x="90551" y="484530"/>
                  <a:pt x="124332" y="270522"/>
                  <a:pt x="128904" y="241465"/>
                </a:cubicBezTo>
                <a:cubicBezTo>
                  <a:pt x="128523" y="239344"/>
                  <a:pt x="128396" y="238112"/>
                  <a:pt x="128396" y="238112"/>
                </a:cubicBezTo>
                <a:lnTo>
                  <a:pt x="129413" y="238112"/>
                </a:lnTo>
                <a:cubicBezTo>
                  <a:pt x="129413" y="238112"/>
                  <a:pt x="129285" y="239344"/>
                  <a:pt x="128904" y="241465"/>
                </a:cubicBezTo>
                <a:cubicBezTo>
                  <a:pt x="133476" y="270522"/>
                  <a:pt x="167258" y="484530"/>
                  <a:pt x="170052" y="497039"/>
                </a:cubicBezTo>
                <a:cubicBezTo>
                  <a:pt x="172973" y="510489"/>
                  <a:pt x="180339" y="511962"/>
                  <a:pt x="192277" y="513473"/>
                </a:cubicBezTo>
                <a:cubicBezTo>
                  <a:pt x="204088" y="514845"/>
                  <a:pt x="214629" y="497039"/>
                  <a:pt x="214629" y="497039"/>
                </a:cubicBezTo>
                <a:lnTo>
                  <a:pt x="192277" y="238112"/>
                </a:lnTo>
                <a:lnTo>
                  <a:pt x="186308" y="89357"/>
                </a:lnTo>
                <a:cubicBezTo>
                  <a:pt x="186308" y="89357"/>
                  <a:pt x="221995" y="200876"/>
                  <a:pt x="228091" y="212762"/>
                </a:cubicBezTo>
                <a:cubicBezTo>
                  <a:pt x="234060" y="224612"/>
                  <a:pt x="244347" y="233654"/>
                  <a:pt x="253238" y="229108"/>
                </a:cubicBezTo>
                <a:cubicBezTo>
                  <a:pt x="262254" y="224612"/>
                  <a:pt x="257809" y="209829"/>
                  <a:pt x="257809" y="209829"/>
                </a:cubicBezTo>
              </a:path>
            </a:pathLst>
          </a:cu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3"/>
          <p:cNvSpPr/>
          <p:nvPr/>
        </p:nvSpPr>
        <p:spPr>
          <a:xfrm>
            <a:off x="6234120" y="6021360"/>
            <a:ext cx="87480" cy="98280"/>
          </a:xfrm>
          <a:custGeom>
            <a:avLst/>
            <a:gdLst>
              <a:gd name="textAreaLeft" fmla="*/ 0 w 87480"/>
              <a:gd name="textAreaRight" fmla="*/ 87840 w 87480"/>
              <a:gd name="textAreaTop" fmla="*/ 0 h 98280"/>
              <a:gd name="textAreaBottom" fmla="*/ 98640 h 98280"/>
            </a:gdLst>
            <a:ahLst/>
            <a:rect l="textAreaLeft" t="textAreaTop" r="textAreaRight" b="textAreaBottom"/>
            <a:pathLst>
              <a:path w="87375" h="99123">
                <a:moveTo>
                  <a:pt x="87376" y="46634"/>
                </a:moveTo>
                <a:cubicBezTo>
                  <a:pt x="88264" y="5905"/>
                  <a:pt x="44703" y="0"/>
                  <a:pt x="44703" y="0"/>
                </a:cubicBezTo>
                <a:lnTo>
                  <a:pt x="42671" y="0"/>
                </a:lnTo>
                <a:cubicBezTo>
                  <a:pt x="42671" y="0"/>
                  <a:pt x="-1016" y="5905"/>
                  <a:pt x="0" y="46634"/>
                </a:cubicBezTo>
                <a:cubicBezTo>
                  <a:pt x="2032" y="67360"/>
                  <a:pt x="26796" y="99123"/>
                  <a:pt x="42671" y="99123"/>
                </a:cubicBezTo>
                <a:lnTo>
                  <a:pt x="44703" y="99123"/>
                </a:lnTo>
                <a:cubicBezTo>
                  <a:pt x="60578" y="99123"/>
                  <a:pt x="85344" y="67360"/>
                  <a:pt x="87376" y="46634"/>
                </a:cubicBezTo>
              </a:path>
            </a:pathLst>
          </a:cu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3"/>
          <p:cNvSpPr/>
          <p:nvPr/>
        </p:nvSpPr>
        <p:spPr>
          <a:xfrm>
            <a:off x="5376960" y="5800680"/>
            <a:ext cx="312480" cy="623880"/>
          </a:xfrm>
          <a:custGeom>
            <a:avLst/>
            <a:gdLst>
              <a:gd name="textAreaLeft" fmla="*/ 0 w 312480"/>
              <a:gd name="textAreaRight" fmla="*/ 312840 w 312480"/>
              <a:gd name="textAreaTop" fmla="*/ 0 h 623880"/>
              <a:gd name="textAreaBottom" fmla="*/ 624240 h 623880"/>
            </a:gdLst>
            <a:ahLst/>
            <a:rect l="textAreaLeft" t="textAreaTop" r="textAreaRight" b="textAreaBottom"/>
            <a:pathLst>
              <a:path w="313055" h="623392">
                <a:moveTo>
                  <a:pt x="313055" y="254749"/>
                </a:moveTo>
                <a:cubicBezTo>
                  <a:pt x="313055" y="254749"/>
                  <a:pt x="258826" y="45173"/>
                  <a:pt x="249809" y="23495"/>
                </a:cubicBezTo>
                <a:cubicBezTo>
                  <a:pt x="240792" y="1765"/>
                  <a:pt x="217297" y="0"/>
                  <a:pt x="217297" y="0"/>
                </a:cubicBezTo>
                <a:lnTo>
                  <a:pt x="157734" y="0"/>
                </a:lnTo>
                <a:lnTo>
                  <a:pt x="155448" y="0"/>
                </a:lnTo>
                <a:lnTo>
                  <a:pt x="95758" y="0"/>
                </a:lnTo>
                <a:cubicBezTo>
                  <a:pt x="95758" y="0"/>
                  <a:pt x="72263" y="1765"/>
                  <a:pt x="63246" y="23495"/>
                </a:cubicBezTo>
                <a:cubicBezTo>
                  <a:pt x="54102" y="45173"/>
                  <a:pt x="0" y="254749"/>
                  <a:pt x="0" y="254749"/>
                </a:cubicBezTo>
                <a:cubicBezTo>
                  <a:pt x="0" y="254749"/>
                  <a:pt x="-5333" y="272694"/>
                  <a:pt x="5461" y="278155"/>
                </a:cubicBezTo>
                <a:cubicBezTo>
                  <a:pt x="16256" y="283667"/>
                  <a:pt x="28829" y="272694"/>
                  <a:pt x="36195" y="258305"/>
                </a:cubicBezTo>
                <a:cubicBezTo>
                  <a:pt x="43307" y="243878"/>
                  <a:pt x="86614" y="108496"/>
                  <a:pt x="86614" y="108496"/>
                </a:cubicBezTo>
                <a:lnTo>
                  <a:pt x="79502" y="289090"/>
                </a:lnTo>
                <a:lnTo>
                  <a:pt x="52451" y="603453"/>
                </a:lnTo>
                <a:cubicBezTo>
                  <a:pt x="52451" y="603453"/>
                  <a:pt x="65024" y="625068"/>
                  <a:pt x="79502" y="623392"/>
                </a:cubicBezTo>
                <a:cubicBezTo>
                  <a:pt x="93980" y="621576"/>
                  <a:pt x="102997" y="619759"/>
                  <a:pt x="106426" y="603453"/>
                </a:cubicBezTo>
                <a:cubicBezTo>
                  <a:pt x="109982" y="588251"/>
                  <a:pt x="151003" y="328421"/>
                  <a:pt x="156591" y="293154"/>
                </a:cubicBezTo>
                <a:cubicBezTo>
                  <a:pt x="156083" y="290563"/>
                  <a:pt x="155956" y="289090"/>
                  <a:pt x="155956" y="289090"/>
                </a:cubicBezTo>
                <a:lnTo>
                  <a:pt x="157226" y="289090"/>
                </a:lnTo>
                <a:cubicBezTo>
                  <a:pt x="157226" y="289090"/>
                  <a:pt x="156972" y="290563"/>
                  <a:pt x="156591" y="293154"/>
                </a:cubicBezTo>
                <a:cubicBezTo>
                  <a:pt x="162052" y="328421"/>
                  <a:pt x="203073" y="588251"/>
                  <a:pt x="206375" y="603453"/>
                </a:cubicBezTo>
                <a:cubicBezTo>
                  <a:pt x="210058" y="619759"/>
                  <a:pt x="219075" y="621576"/>
                  <a:pt x="233426" y="623392"/>
                </a:cubicBezTo>
                <a:cubicBezTo>
                  <a:pt x="247904" y="625068"/>
                  <a:pt x="260604" y="603453"/>
                  <a:pt x="260604" y="603453"/>
                </a:cubicBezTo>
                <a:lnTo>
                  <a:pt x="233426" y="289090"/>
                </a:lnTo>
                <a:lnTo>
                  <a:pt x="226314" y="108496"/>
                </a:lnTo>
                <a:cubicBezTo>
                  <a:pt x="226314" y="108496"/>
                  <a:pt x="269621" y="243878"/>
                  <a:pt x="276987" y="258305"/>
                </a:cubicBezTo>
                <a:cubicBezTo>
                  <a:pt x="284226" y="272694"/>
                  <a:pt x="296672" y="283667"/>
                  <a:pt x="307594" y="278155"/>
                </a:cubicBezTo>
                <a:cubicBezTo>
                  <a:pt x="318389" y="272694"/>
                  <a:pt x="313055" y="254749"/>
                  <a:pt x="313055" y="254749"/>
                </a:cubicBezTo>
              </a:path>
            </a:pathLst>
          </a:cu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3"/>
          <p:cNvSpPr/>
          <p:nvPr/>
        </p:nvSpPr>
        <p:spPr>
          <a:xfrm>
            <a:off x="5478480" y="5668920"/>
            <a:ext cx="106200" cy="120600"/>
          </a:xfrm>
          <a:custGeom>
            <a:avLst/>
            <a:gdLst>
              <a:gd name="textAreaLeft" fmla="*/ 0 w 106200"/>
              <a:gd name="textAreaRight" fmla="*/ 106560 w 106200"/>
              <a:gd name="textAreaTop" fmla="*/ 0 h 120600"/>
              <a:gd name="textAreaBottom" fmla="*/ 120960 h 120600"/>
            </a:gdLst>
            <a:ahLst/>
            <a:rect l="textAreaLeft" t="textAreaTop" r="textAreaRight" b="textAreaBottom"/>
            <a:pathLst>
              <a:path w="106045" h="120344">
                <a:moveTo>
                  <a:pt x="106045" y="56629"/>
                </a:moveTo>
                <a:cubicBezTo>
                  <a:pt x="107188" y="7188"/>
                  <a:pt x="54229" y="0"/>
                  <a:pt x="54229" y="0"/>
                </a:cubicBezTo>
                <a:lnTo>
                  <a:pt x="51816" y="0"/>
                </a:lnTo>
                <a:cubicBezTo>
                  <a:pt x="51816" y="0"/>
                  <a:pt x="-1269" y="7188"/>
                  <a:pt x="0" y="56629"/>
                </a:cubicBezTo>
                <a:cubicBezTo>
                  <a:pt x="2413" y="81775"/>
                  <a:pt x="32512" y="120344"/>
                  <a:pt x="51816" y="120344"/>
                </a:cubicBezTo>
                <a:lnTo>
                  <a:pt x="54229" y="120344"/>
                </a:lnTo>
                <a:cubicBezTo>
                  <a:pt x="73405" y="120344"/>
                  <a:pt x="103632" y="81775"/>
                  <a:pt x="106045" y="56629"/>
                </a:cubicBezTo>
              </a:path>
            </a:pathLst>
          </a:cu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3"/>
          <p:cNvSpPr/>
          <p:nvPr/>
        </p:nvSpPr>
        <p:spPr>
          <a:xfrm>
            <a:off x="4349880" y="5321160"/>
            <a:ext cx="393480" cy="779760"/>
          </a:xfrm>
          <a:custGeom>
            <a:avLst/>
            <a:gdLst>
              <a:gd name="textAreaLeft" fmla="*/ 0 w 393480"/>
              <a:gd name="textAreaRight" fmla="*/ 393840 w 393480"/>
              <a:gd name="textAreaTop" fmla="*/ 0 h 779760"/>
              <a:gd name="textAreaBottom" fmla="*/ 780120 h 779760"/>
            </a:gdLst>
            <a:ahLst/>
            <a:rect l="textAreaLeft" t="textAreaTop" r="textAreaRight" b="textAreaBottom"/>
            <a:pathLst>
              <a:path w="394319" h="778840">
                <a:moveTo>
                  <a:pt x="392652" y="318299"/>
                </a:moveTo>
                <a:cubicBezTo>
                  <a:pt x="392652" y="318299"/>
                  <a:pt x="324834" y="56514"/>
                  <a:pt x="313658" y="29463"/>
                </a:cubicBezTo>
                <a:cubicBezTo>
                  <a:pt x="302482" y="2285"/>
                  <a:pt x="273018" y="0"/>
                  <a:pt x="273018" y="0"/>
                </a:cubicBezTo>
                <a:lnTo>
                  <a:pt x="198723" y="0"/>
                </a:lnTo>
                <a:lnTo>
                  <a:pt x="195675" y="0"/>
                </a:lnTo>
                <a:lnTo>
                  <a:pt x="121253" y="0"/>
                </a:lnTo>
                <a:cubicBezTo>
                  <a:pt x="121253" y="0"/>
                  <a:pt x="91789" y="2285"/>
                  <a:pt x="80613" y="29463"/>
                </a:cubicBezTo>
                <a:cubicBezTo>
                  <a:pt x="69310" y="56514"/>
                  <a:pt x="1619" y="318299"/>
                  <a:pt x="1619" y="318299"/>
                </a:cubicBezTo>
                <a:cubicBezTo>
                  <a:pt x="1619" y="318299"/>
                  <a:pt x="-4984" y="340728"/>
                  <a:pt x="8477" y="347535"/>
                </a:cubicBezTo>
                <a:cubicBezTo>
                  <a:pt x="21939" y="354431"/>
                  <a:pt x="37687" y="340728"/>
                  <a:pt x="46831" y="322745"/>
                </a:cubicBezTo>
                <a:cubicBezTo>
                  <a:pt x="55721" y="304710"/>
                  <a:pt x="109823" y="135635"/>
                  <a:pt x="109823" y="135635"/>
                </a:cubicBezTo>
                <a:lnTo>
                  <a:pt x="100933" y="361200"/>
                </a:lnTo>
                <a:lnTo>
                  <a:pt x="67151" y="753922"/>
                </a:lnTo>
                <a:cubicBezTo>
                  <a:pt x="67151" y="753922"/>
                  <a:pt x="82899" y="780922"/>
                  <a:pt x="100933" y="778840"/>
                </a:cubicBezTo>
                <a:cubicBezTo>
                  <a:pt x="118967" y="776554"/>
                  <a:pt x="130270" y="774319"/>
                  <a:pt x="134588" y="753922"/>
                </a:cubicBezTo>
                <a:cubicBezTo>
                  <a:pt x="138906" y="734948"/>
                  <a:pt x="190214" y="410362"/>
                  <a:pt x="197199" y="366280"/>
                </a:cubicBezTo>
                <a:cubicBezTo>
                  <a:pt x="196691" y="363054"/>
                  <a:pt x="196310" y="361200"/>
                  <a:pt x="196310" y="361200"/>
                </a:cubicBezTo>
                <a:lnTo>
                  <a:pt x="197961" y="361200"/>
                </a:lnTo>
                <a:cubicBezTo>
                  <a:pt x="197961" y="361200"/>
                  <a:pt x="197707" y="363054"/>
                  <a:pt x="197199" y="366280"/>
                </a:cubicBezTo>
                <a:cubicBezTo>
                  <a:pt x="204057" y="410362"/>
                  <a:pt x="255238" y="734948"/>
                  <a:pt x="259429" y="753922"/>
                </a:cubicBezTo>
                <a:cubicBezTo>
                  <a:pt x="264001" y="774319"/>
                  <a:pt x="275304" y="776554"/>
                  <a:pt x="293211" y="778840"/>
                </a:cubicBezTo>
                <a:cubicBezTo>
                  <a:pt x="311245" y="780922"/>
                  <a:pt x="327247" y="753922"/>
                  <a:pt x="327247" y="753922"/>
                </a:cubicBezTo>
                <a:lnTo>
                  <a:pt x="293211" y="361200"/>
                </a:lnTo>
                <a:lnTo>
                  <a:pt x="284321" y="135635"/>
                </a:lnTo>
                <a:cubicBezTo>
                  <a:pt x="284321" y="135635"/>
                  <a:pt x="338423" y="304710"/>
                  <a:pt x="347567" y="322745"/>
                </a:cubicBezTo>
                <a:cubicBezTo>
                  <a:pt x="356584" y="340728"/>
                  <a:pt x="372332" y="354431"/>
                  <a:pt x="385794" y="347535"/>
                </a:cubicBezTo>
                <a:cubicBezTo>
                  <a:pt x="399383" y="340728"/>
                  <a:pt x="392652" y="318299"/>
                  <a:pt x="392652" y="318299"/>
                </a:cubicBezTo>
              </a:path>
            </a:pathLst>
          </a:cu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3"/>
          <p:cNvSpPr/>
          <p:nvPr/>
        </p:nvSpPr>
        <p:spPr>
          <a:xfrm>
            <a:off x="4476600" y="5156280"/>
            <a:ext cx="133560" cy="150840"/>
          </a:xfrm>
          <a:custGeom>
            <a:avLst/>
            <a:gdLst>
              <a:gd name="textAreaLeft" fmla="*/ 0 w 133560"/>
              <a:gd name="textAreaRight" fmla="*/ 133920 w 13356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32334" h="150367">
                <a:moveTo>
                  <a:pt x="132334" y="70739"/>
                </a:moveTo>
                <a:cubicBezTo>
                  <a:pt x="133858" y="9016"/>
                  <a:pt x="67564" y="0"/>
                  <a:pt x="67564" y="0"/>
                </a:cubicBezTo>
                <a:lnTo>
                  <a:pt x="64642" y="0"/>
                </a:lnTo>
                <a:cubicBezTo>
                  <a:pt x="64642" y="0"/>
                  <a:pt x="-1651" y="9016"/>
                  <a:pt x="0" y="70739"/>
                </a:cubicBezTo>
                <a:cubicBezTo>
                  <a:pt x="2921" y="102234"/>
                  <a:pt x="40640" y="150367"/>
                  <a:pt x="64642" y="150367"/>
                </a:cubicBezTo>
                <a:lnTo>
                  <a:pt x="67564" y="150367"/>
                </a:lnTo>
                <a:cubicBezTo>
                  <a:pt x="91694" y="150367"/>
                  <a:pt x="129285" y="102234"/>
                  <a:pt x="132334" y="70739"/>
                </a:cubicBezTo>
              </a:path>
            </a:pathLst>
          </a:cu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3"/>
          <p:cNvSpPr/>
          <p:nvPr/>
        </p:nvSpPr>
        <p:spPr>
          <a:xfrm>
            <a:off x="3197160" y="5238720"/>
            <a:ext cx="393840" cy="777960"/>
          </a:xfrm>
          <a:custGeom>
            <a:avLst/>
            <a:gdLst>
              <a:gd name="textAreaLeft" fmla="*/ 0 w 393840"/>
              <a:gd name="textAreaRight" fmla="*/ 394200 w 39384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94335" h="778789">
                <a:moveTo>
                  <a:pt x="392652" y="318261"/>
                </a:moveTo>
                <a:cubicBezTo>
                  <a:pt x="392652" y="318261"/>
                  <a:pt x="324961" y="56388"/>
                  <a:pt x="313658" y="29336"/>
                </a:cubicBezTo>
                <a:cubicBezTo>
                  <a:pt x="302482" y="2159"/>
                  <a:pt x="273018" y="0"/>
                  <a:pt x="273018" y="0"/>
                </a:cubicBezTo>
                <a:lnTo>
                  <a:pt x="198723" y="0"/>
                </a:lnTo>
                <a:lnTo>
                  <a:pt x="195802" y="0"/>
                </a:lnTo>
                <a:lnTo>
                  <a:pt x="121253" y="0"/>
                </a:lnTo>
                <a:cubicBezTo>
                  <a:pt x="121253" y="0"/>
                  <a:pt x="91789" y="2159"/>
                  <a:pt x="80740" y="29336"/>
                </a:cubicBezTo>
                <a:cubicBezTo>
                  <a:pt x="69310" y="56388"/>
                  <a:pt x="1619" y="318261"/>
                  <a:pt x="1619" y="318261"/>
                </a:cubicBezTo>
                <a:cubicBezTo>
                  <a:pt x="1619" y="318261"/>
                  <a:pt x="-4984" y="340614"/>
                  <a:pt x="8477" y="347471"/>
                </a:cubicBezTo>
                <a:cubicBezTo>
                  <a:pt x="21939" y="354380"/>
                  <a:pt x="37687" y="340614"/>
                  <a:pt x="46831" y="322707"/>
                </a:cubicBezTo>
                <a:cubicBezTo>
                  <a:pt x="55848" y="304672"/>
                  <a:pt x="109823" y="135509"/>
                  <a:pt x="109823" y="135509"/>
                </a:cubicBezTo>
                <a:lnTo>
                  <a:pt x="101060" y="361150"/>
                </a:lnTo>
                <a:lnTo>
                  <a:pt x="67151" y="753871"/>
                </a:lnTo>
                <a:cubicBezTo>
                  <a:pt x="67151" y="753871"/>
                  <a:pt x="82899" y="780872"/>
                  <a:pt x="101060" y="778789"/>
                </a:cubicBezTo>
                <a:cubicBezTo>
                  <a:pt x="119094" y="776503"/>
                  <a:pt x="130270" y="774268"/>
                  <a:pt x="134715" y="753871"/>
                </a:cubicBezTo>
                <a:cubicBezTo>
                  <a:pt x="139033" y="734898"/>
                  <a:pt x="190214" y="410311"/>
                  <a:pt x="197199" y="366229"/>
                </a:cubicBezTo>
                <a:cubicBezTo>
                  <a:pt x="196691" y="363004"/>
                  <a:pt x="196437" y="361150"/>
                  <a:pt x="196437" y="361150"/>
                </a:cubicBezTo>
                <a:lnTo>
                  <a:pt x="197961" y="361150"/>
                </a:lnTo>
                <a:cubicBezTo>
                  <a:pt x="197961" y="361150"/>
                  <a:pt x="197707" y="363004"/>
                  <a:pt x="197199" y="366229"/>
                </a:cubicBezTo>
                <a:cubicBezTo>
                  <a:pt x="204184" y="410311"/>
                  <a:pt x="255365" y="734898"/>
                  <a:pt x="259556" y="753871"/>
                </a:cubicBezTo>
                <a:cubicBezTo>
                  <a:pt x="264001" y="774268"/>
                  <a:pt x="275304" y="776503"/>
                  <a:pt x="293338" y="778789"/>
                </a:cubicBezTo>
                <a:cubicBezTo>
                  <a:pt x="311245" y="780872"/>
                  <a:pt x="327247" y="753871"/>
                  <a:pt x="327247" y="753871"/>
                </a:cubicBezTo>
                <a:lnTo>
                  <a:pt x="293338" y="361150"/>
                </a:lnTo>
                <a:lnTo>
                  <a:pt x="284321" y="135509"/>
                </a:lnTo>
                <a:cubicBezTo>
                  <a:pt x="284321" y="135509"/>
                  <a:pt x="338423" y="304672"/>
                  <a:pt x="347567" y="322707"/>
                </a:cubicBezTo>
                <a:cubicBezTo>
                  <a:pt x="356584" y="340614"/>
                  <a:pt x="372332" y="354380"/>
                  <a:pt x="385921" y="347471"/>
                </a:cubicBezTo>
                <a:cubicBezTo>
                  <a:pt x="399383" y="340614"/>
                  <a:pt x="392652" y="318261"/>
                  <a:pt x="392652" y="318261"/>
                </a:cubicBezTo>
              </a:path>
            </a:pathLst>
          </a:cu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3"/>
          <p:cNvSpPr/>
          <p:nvPr/>
        </p:nvSpPr>
        <p:spPr>
          <a:xfrm>
            <a:off x="3325680" y="5073480"/>
            <a:ext cx="131760" cy="150840"/>
          </a:xfrm>
          <a:custGeom>
            <a:avLst/>
            <a:gdLst>
              <a:gd name="textAreaLeft" fmla="*/ 0 w 131760"/>
              <a:gd name="textAreaRight" fmla="*/ 132120 w 13176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132333" h="150367">
                <a:moveTo>
                  <a:pt x="132333" y="70739"/>
                </a:moveTo>
                <a:cubicBezTo>
                  <a:pt x="133858" y="9016"/>
                  <a:pt x="67690" y="0"/>
                  <a:pt x="67690" y="0"/>
                </a:cubicBezTo>
                <a:lnTo>
                  <a:pt x="64642" y="0"/>
                </a:lnTo>
                <a:cubicBezTo>
                  <a:pt x="64642" y="0"/>
                  <a:pt x="-1651" y="9016"/>
                  <a:pt x="0" y="70739"/>
                </a:cubicBezTo>
                <a:cubicBezTo>
                  <a:pt x="2920" y="102108"/>
                  <a:pt x="40639" y="150367"/>
                  <a:pt x="64642" y="150367"/>
                </a:cubicBezTo>
                <a:lnTo>
                  <a:pt x="67690" y="150367"/>
                </a:lnTo>
                <a:cubicBezTo>
                  <a:pt x="91694" y="150367"/>
                  <a:pt x="129413" y="102108"/>
                  <a:pt x="132333" y="70739"/>
                </a:cubicBezTo>
              </a:path>
            </a:pathLst>
          </a:cu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3"/>
          <p:cNvSpPr/>
          <p:nvPr/>
        </p:nvSpPr>
        <p:spPr>
          <a:xfrm>
            <a:off x="1962000" y="5246640"/>
            <a:ext cx="395280" cy="777960"/>
          </a:xfrm>
          <a:custGeom>
            <a:avLst/>
            <a:gdLst>
              <a:gd name="textAreaLeft" fmla="*/ 0 w 395280"/>
              <a:gd name="textAreaRight" fmla="*/ 395640 w 395280"/>
              <a:gd name="textAreaTop" fmla="*/ 0 h 777960"/>
              <a:gd name="textAreaBottom" fmla="*/ 778320 h 777960"/>
            </a:gdLst>
            <a:ahLst/>
            <a:rect l="textAreaLeft" t="textAreaTop" r="textAreaRight" b="textAreaBottom"/>
            <a:pathLst>
              <a:path w="394382" h="778814">
                <a:moveTo>
                  <a:pt x="392715" y="318262"/>
                </a:moveTo>
                <a:cubicBezTo>
                  <a:pt x="392715" y="318262"/>
                  <a:pt x="324897" y="56515"/>
                  <a:pt x="313594" y="29337"/>
                </a:cubicBezTo>
                <a:cubicBezTo>
                  <a:pt x="302418" y="2286"/>
                  <a:pt x="273081" y="0"/>
                  <a:pt x="273081" y="0"/>
                </a:cubicBezTo>
                <a:lnTo>
                  <a:pt x="198786" y="0"/>
                </a:lnTo>
                <a:lnTo>
                  <a:pt x="195738" y="0"/>
                </a:lnTo>
                <a:lnTo>
                  <a:pt x="121316" y="0"/>
                </a:lnTo>
                <a:cubicBezTo>
                  <a:pt x="121316" y="0"/>
                  <a:pt x="91852" y="2286"/>
                  <a:pt x="80676" y="29337"/>
                </a:cubicBezTo>
                <a:cubicBezTo>
                  <a:pt x="69246" y="56515"/>
                  <a:pt x="1682" y="318262"/>
                  <a:pt x="1682" y="318262"/>
                </a:cubicBezTo>
                <a:cubicBezTo>
                  <a:pt x="1682" y="318262"/>
                  <a:pt x="-5048" y="340741"/>
                  <a:pt x="8413" y="347510"/>
                </a:cubicBezTo>
                <a:cubicBezTo>
                  <a:pt x="22002" y="354406"/>
                  <a:pt x="37750" y="340741"/>
                  <a:pt x="46894" y="322707"/>
                </a:cubicBezTo>
                <a:cubicBezTo>
                  <a:pt x="55784" y="304673"/>
                  <a:pt x="109886" y="135509"/>
                  <a:pt x="109886" y="135509"/>
                </a:cubicBezTo>
                <a:lnTo>
                  <a:pt x="100996" y="361175"/>
                </a:lnTo>
                <a:lnTo>
                  <a:pt x="67214" y="753897"/>
                </a:lnTo>
                <a:cubicBezTo>
                  <a:pt x="67214" y="753897"/>
                  <a:pt x="82962" y="780897"/>
                  <a:pt x="100996" y="778814"/>
                </a:cubicBezTo>
                <a:cubicBezTo>
                  <a:pt x="119030" y="776528"/>
                  <a:pt x="130333" y="774293"/>
                  <a:pt x="134651" y="753897"/>
                </a:cubicBezTo>
                <a:cubicBezTo>
                  <a:pt x="138969" y="734923"/>
                  <a:pt x="190277" y="410337"/>
                  <a:pt x="197262" y="366255"/>
                </a:cubicBezTo>
                <a:cubicBezTo>
                  <a:pt x="196754" y="363029"/>
                  <a:pt x="196373" y="361175"/>
                  <a:pt x="196373" y="361175"/>
                </a:cubicBezTo>
                <a:lnTo>
                  <a:pt x="198024" y="361175"/>
                </a:lnTo>
                <a:cubicBezTo>
                  <a:pt x="198024" y="361175"/>
                  <a:pt x="197770" y="363029"/>
                  <a:pt x="197262" y="366255"/>
                </a:cubicBezTo>
                <a:cubicBezTo>
                  <a:pt x="204120" y="410337"/>
                  <a:pt x="255301" y="734923"/>
                  <a:pt x="259492" y="753897"/>
                </a:cubicBezTo>
                <a:cubicBezTo>
                  <a:pt x="264064" y="774293"/>
                  <a:pt x="275367" y="776528"/>
                  <a:pt x="293274" y="778814"/>
                </a:cubicBezTo>
                <a:cubicBezTo>
                  <a:pt x="311308" y="780897"/>
                  <a:pt x="327310" y="753897"/>
                  <a:pt x="327310" y="753897"/>
                </a:cubicBezTo>
                <a:lnTo>
                  <a:pt x="293274" y="361175"/>
                </a:lnTo>
                <a:lnTo>
                  <a:pt x="284257" y="135509"/>
                </a:lnTo>
                <a:cubicBezTo>
                  <a:pt x="284257" y="135509"/>
                  <a:pt x="338486" y="304673"/>
                  <a:pt x="347630" y="322707"/>
                </a:cubicBezTo>
                <a:cubicBezTo>
                  <a:pt x="356647" y="340741"/>
                  <a:pt x="372395" y="354406"/>
                  <a:pt x="385857" y="347510"/>
                </a:cubicBezTo>
                <a:cubicBezTo>
                  <a:pt x="399446" y="340741"/>
                  <a:pt x="392715" y="318262"/>
                  <a:pt x="392715" y="318262"/>
                </a:cubicBezTo>
              </a:path>
            </a:pathLst>
          </a:cu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3"/>
          <p:cNvSpPr/>
          <p:nvPr/>
        </p:nvSpPr>
        <p:spPr>
          <a:xfrm>
            <a:off x="2090880" y="5081760"/>
            <a:ext cx="133200" cy="150480"/>
          </a:xfrm>
          <a:custGeom>
            <a:avLst/>
            <a:gdLst>
              <a:gd name="textAreaLeft" fmla="*/ 0 w 133200"/>
              <a:gd name="textAreaRight" fmla="*/ 133560 w 133200"/>
              <a:gd name="textAreaTop" fmla="*/ 0 h 150480"/>
              <a:gd name="textAreaBottom" fmla="*/ 150840 h 150480"/>
            </a:gdLst>
            <a:ahLst/>
            <a:rect l="textAreaLeft" t="textAreaTop" r="textAreaRight" b="textAreaBottom"/>
            <a:pathLst>
              <a:path w="132461" h="150367">
                <a:moveTo>
                  <a:pt x="132460" y="70738"/>
                </a:moveTo>
                <a:cubicBezTo>
                  <a:pt x="133984" y="9016"/>
                  <a:pt x="67691" y="0"/>
                  <a:pt x="67691" y="0"/>
                </a:cubicBezTo>
                <a:lnTo>
                  <a:pt x="64769" y="0"/>
                </a:lnTo>
                <a:cubicBezTo>
                  <a:pt x="64769" y="0"/>
                  <a:pt x="-1524" y="9016"/>
                  <a:pt x="0" y="70738"/>
                </a:cubicBezTo>
                <a:cubicBezTo>
                  <a:pt x="3047" y="102234"/>
                  <a:pt x="40766" y="150367"/>
                  <a:pt x="64769" y="150367"/>
                </a:cubicBezTo>
                <a:lnTo>
                  <a:pt x="67691" y="150367"/>
                </a:lnTo>
                <a:cubicBezTo>
                  <a:pt x="91820" y="150367"/>
                  <a:pt x="129413" y="102234"/>
                  <a:pt x="132460" y="70738"/>
                </a:cubicBezTo>
              </a:path>
            </a:pathLst>
          </a:custGeom>
          <a:solidFill>
            <a:srgbClr val="231f2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3"/>
          <p:cNvSpPr/>
          <p:nvPr/>
        </p:nvSpPr>
        <p:spPr>
          <a:xfrm>
            <a:off x="995400" y="5978520"/>
            <a:ext cx="3828960" cy="217440"/>
          </a:xfrm>
          <a:custGeom>
            <a:avLst/>
            <a:gdLst>
              <a:gd name="textAreaLeft" fmla="*/ 0 w 3828960"/>
              <a:gd name="textAreaRight" fmla="*/ 3829320 w 3828960"/>
              <a:gd name="textAreaTop" fmla="*/ 0 h 217440"/>
              <a:gd name="textAreaBottom" fmla="*/ 217800 h 217440"/>
            </a:gdLst>
            <a:ahLst/>
            <a:rect l="textAreaLeft" t="textAreaTop" r="textAreaRight" b="textAreaBottom"/>
            <a:pathLst>
              <a:path w="3828859" h="217608">
                <a:moveTo>
                  <a:pt x="6350" y="111741"/>
                </a:moveTo>
                <a:cubicBezTo>
                  <a:pt x="492061" y="61169"/>
                  <a:pt x="2727896" y="-145357"/>
                  <a:pt x="3822509" y="211258"/>
                </a:cubicBezTo>
              </a:path>
            </a:pathLst>
          </a:custGeom>
          <a:noFill/>
          <a:ln w="12600">
            <a:solidFill>
              <a:srgbClr val="231f2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3"/>
          <p:cNvSpPr/>
          <p:nvPr/>
        </p:nvSpPr>
        <p:spPr>
          <a:xfrm>
            <a:off x="4956120" y="6234120"/>
            <a:ext cx="2438280" cy="606240"/>
          </a:xfrm>
          <a:custGeom>
            <a:avLst/>
            <a:gdLst>
              <a:gd name="textAreaLeft" fmla="*/ 0 w 2438280"/>
              <a:gd name="textAreaRight" fmla="*/ 2438640 w 243828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2439289" h="606281">
                <a:moveTo>
                  <a:pt x="6350" y="6350"/>
                </a:moveTo>
                <a:cubicBezTo>
                  <a:pt x="1107313" y="392760"/>
                  <a:pt x="2087879" y="639242"/>
                  <a:pt x="2432938" y="595007"/>
                </a:cubicBezTo>
              </a:path>
            </a:pathLst>
          </a:custGeom>
          <a:noFill/>
          <a:ln w="12600">
            <a:solidFill>
              <a:srgbClr val="231f2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3"/>
          <p:cNvSpPr/>
          <p:nvPr/>
        </p:nvSpPr>
        <p:spPr>
          <a:xfrm>
            <a:off x="900000" y="6093000"/>
            <a:ext cx="32040" cy="14040"/>
          </a:xfrm>
          <a:custGeom>
            <a:avLst/>
            <a:gdLst>
              <a:gd name="textAreaLeft" fmla="*/ 0 w 32040"/>
              <a:gd name="textAreaRight" fmla="*/ 32400 w 32040"/>
              <a:gd name="textAreaTop" fmla="*/ 0 h 14040"/>
              <a:gd name="textAreaBottom" fmla="*/ 14400 h 14040"/>
            </a:gdLst>
            <a:ahLst/>
            <a:rect l="textAreaLeft" t="textAreaTop" r="textAreaRight" b="textAreaBottom"/>
            <a:pathLst>
              <a:path w="31559" h="14833">
                <a:moveTo>
                  <a:pt x="6350" y="8483"/>
                </a:moveTo>
                <a:cubicBezTo>
                  <a:pt x="6350" y="8483"/>
                  <a:pt x="12801" y="7721"/>
                  <a:pt x="25209" y="6350"/>
                </a:cubicBez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3"/>
          <p:cNvSpPr/>
          <p:nvPr/>
        </p:nvSpPr>
        <p:spPr>
          <a:xfrm>
            <a:off x="4846680" y="6195960"/>
            <a:ext cx="49320" cy="25560"/>
          </a:xfrm>
          <a:custGeom>
            <a:avLst/>
            <a:gdLst>
              <a:gd name="textAreaLeft" fmla="*/ 0 w 49320"/>
              <a:gd name="textAreaRight" fmla="*/ 49680 w 49320"/>
              <a:gd name="textAreaTop" fmla="*/ 0 h 25560"/>
              <a:gd name="textAreaBottom" fmla="*/ 25920 h 25560"/>
            </a:gdLst>
            <a:ahLst/>
            <a:rect l="textAreaLeft" t="textAreaTop" r="textAreaRight" b="textAreaBottom"/>
            <a:pathLst>
              <a:path w="48895" h="25476">
                <a:moveTo>
                  <a:pt x="6350" y="6350"/>
                </a:moveTo>
                <a:cubicBezTo>
                  <a:pt x="12446" y="8432"/>
                  <a:pt x="18414" y="10528"/>
                  <a:pt x="24257" y="12636"/>
                </a:cubicBezTo>
                <a:cubicBezTo>
                  <a:pt x="30352" y="14808"/>
                  <a:pt x="36448" y="16967"/>
                  <a:pt x="42545" y="19126"/>
                </a:cubicBez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3"/>
          <p:cNvSpPr/>
          <p:nvPr/>
        </p:nvSpPr>
        <p:spPr>
          <a:xfrm>
            <a:off x="7419960" y="6810480"/>
            <a:ext cx="31680" cy="19080"/>
          </a:xfrm>
          <a:custGeom>
            <a:avLst/>
            <a:gdLst>
              <a:gd name="textAreaLeft" fmla="*/ 0 w 31680"/>
              <a:gd name="textAreaRight" fmla="*/ 32040 w 3168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31496" h="17691">
                <a:moveTo>
                  <a:pt x="6350" y="11341"/>
                </a:moveTo>
                <a:cubicBezTo>
                  <a:pt x="12953" y="9828"/>
                  <a:pt x="19177" y="8166"/>
                  <a:pt x="25145" y="6350"/>
                </a:cubicBezTo>
              </a:path>
            </a:pathLst>
          </a:custGeom>
          <a:noFill/>
          <a:ln w="12600">
            <a:solidFill>
              <a:srgbClr val="231f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"/>
          <p:cNvPicPr/>
          <p:nvPr/>
        </p:nvPicPr>
        <p:blipFill>
          <a:blip r:embed="rId2"/>
          <a:stretch/>
        </p:blipFill>
        <p:spPr>
          <a:xfrm>
            <a:off x="6413400" y="2324160"/>
            <a:ext cx="1079640" cy="558720"/>
          </a:xfrm>
          <a:prstGeom prst="rect">
            <a:avLst/>
          </a:prstGeom>
          <a:ln w="0">
            <a:noFill/>
          </a:ln>
        </p:spPr>
      </p:pic>
      <p:sp>
        <p:nvSpPr>
          <p:cNvPr id="83" name="TextBox 1"/>
          <p:cNvSpPr/>
          <p:nvPr/>
        </p:nvSpPr>
        <p:spPr>
          <a:xfrm>
            <a:off x="1444320" y="2286000"/>
            <a:ext cx="4741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54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Generation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微软雅黑"/>
              </a:rPr>
              <a:t>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2375280" y="2921040"/>
            <a:ext cx="2810520" cy="3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这是群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8090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后，热衷数字生活，乐于分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"/>
          <p:cNvSpPr/>
          <p:nvPr/>
        </p:nvSpPr>
        <p:spPr>
          <a:xfrm>
            <a:off x="2571480" y="3327480"/>
            <a:ext cx="277848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他们个性鲜明，敢亍表达自我，丌愿被束缚，追求平衡自由的高品质生活方式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1"/>
          <p:cNvSpPr/>
          <p:nvPr/>
        </p:nvSpPr>
        <p:spPr>
          <a:xfrm>
            <a:off x="2774520" y="3645000"/>
            <a:ext cx="3312000" cy="5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他们在意设计美感，也注重方便易用，懂得通过最新的科技，让生活更精彩，让工作更高效；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•</a:t>
            </a: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微软雅黑"/>
              </a:rPr>
              <a:t>亏联网是其生活的延伸，在上面获取资讯、享受影音娱乐，并通过社会化媒体不好友保持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814320" y="266760"/>
            <a:ext cx="8236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目标受众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7DC3-B8C5-473B-8AE7-2E49B3193B6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Freeform 3"/>
          <p:cNvSpPr/>
          <p:nvPr/>
        </p:nvSpPr>
        <p:spPr>
          <a:xfrm>
            <a:off x="6227640" y="907920"/>
            <a:ext cx="2089440" cy="2089440"/>
          </a:xfrm>
          <a:custGeom>
            <a:avLst/>
            <a:gdLst>
              <a:gd name="textAreaLeft" fmla="*/ 0 w 2089440"/>
              <a:gd name="textAreaRight" fmla="*/ 2089800 w 2089440"/>
              <a:gd name="textAreaTop" fmla="*/ 0 h 2089440"/>
              <a:gd name="textAreaBottom" fmla="*/ 2089800 h 2089440"/>
            </a:gdLst>
            <a:ahLst/>
            <a:rect l="textAreaLeft" t="textAreaTop" r="textAreaRight" b="textAreaBottom"/>
            <a:pathLst>
              <a:path w="2088260" h="2088261">
                <a:moveTo>
                  <a:pt x="0" y="1044194"/>
                </a:moveTo>
                <a:cubicBezTo>
                  <a:pt x="0" y="467486"/>
                  <a:pt x="467486" y="0"/>
                  <a:pt x="1044066" y="0"/>
                </a:cubicBezTo>
                <a:cubicBezTo>
                  <a:pt x="1620774" y="0"/>
                  <a:pt x="2088261" y="467486"/>
                  <a:pt x="2088261" y="1044194"/>
                </a:cubicBezTo>
                <a:cubicBezTo>
                  <a:pt x="2088261" y="1620773"/>
                  <a:pt x="1620774" y="2088260"/>
                  <a:pt x="1044066" y="2088260"/>
                </a:cubicBezTo>
                <a:cubicBezTo>
                  <a:pt x="467486" y="2088260"/>
                  <a:pt x="0" y="1620773"/>
                  <a:pt x="0" y="1044194"/>
                </a:cubicBezTo>
              </a:path>
            </a:pathLst>
          </a:custGeom>
          <a:solidFill>
            <a:srgbClr val="e9e9e9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Freeform 3"/>
          <p:cNvSpPr/>
          <p:nvPr/>
        </p:nvSpPr>
        <p:spPr>
          <a:xfrm>
            <a:off x="466560" y="907920"/>
            <a:ext cx="5400720" cy="5400720"/>
          </a:xfrm>
          <a:custGeom>
            <a:avLst/>
            <a:gdLst>
              <a:gd name="textAreaLeft" fmla="*/ 0 w 5400720"/>
              <a:gd name="textAreaRight" fmla="*/ 5401080 w 5400720"/>
              <a:gd name="textAreaTop" fmla="*/ 0 h 5400720"/>
              <a:gd name="textAreaBottom" fmla="*/ 5401080 h 5400720"/>
            </a:gdLst>
            <a:ahLst/>
            <a:rect l="textAreaLeft" t="textAreaTop" r="textAreaRight" b="textAreaBottom"/>
            <a:pathLst>
              <a:path w="5400624" h="5400637">
                <a:moveTo>
                  <a:pt x="0" y="2700274"/>
                </a:moveTo>
                <a:cubicBezTo>
                  <a:pt x="0" y="1209039"/>
                  <a:pt x="1208989" y="0"/>
                  <a:pt x="2700350" y="0"/>
                </a:cubicBezTo>
                <a:cubicBezTo>
                  <a:pt x="4191584" y="0"/>
                  <a:pt x="5400624" y="1209039"/>
                  <a:pt x="5400624" y="2700274"/>
                </a:cubicBezTo>
                <a:cubicBezTo>
                  <a:pt x="5400624" y="4191635"/>
                  <a:pt x="4191584" y="5400636"/>
                  <a:pt x="2700350" y="5400636"/>
                </a:cubicBezTo>
                <a:cubicBezTo>
                  <a:pt x="1208989" y="5400636"/>
                  <a:pt x="0" y="4191635"/>
                  <a:pt x="0" y="2700274"/>
                </a:cubicBez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3" descr=""/>
          <p:cNvPicPr/>
          <p:nvPr/>
        </p:nvPicPr>
        <p:blipFill>
          <a:blip r:embed="rId1"/>
          <a:stretch/>
        </p:blipFill>
        <p:spPr>
          <a:xfrm>
            <a:off x="2260440" y="2844720"/>
            <a:ext cx="736920" cy="736560"/>
          </a:xfrm>
          <a:prstGeom prst="rect">
            <a:avLst/>
          </a:prstGeom>
          <a:ln w="0">
            <a:noFill/>
          </a:ln>
        </p:spPr>
      </p:pic>
      <p:sp>
        <p:nvSpPr>
          <p:cNvPr id="608" name="TextBox 1"/>
          <p:cNvSpPr/>
          <p:nvPr/>
        </p:nvSpPr>
        <p:spPr>
          <a:xfrm>
            <a:off x="1468800" y="2057400"/>
            <a:ext cx="3425040" cy="32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399"/>
              </a:lnSpc>
              <a:tabLst>
                <a:tab algn="l" pos="0"/>
                <a:tab algn="l" pos="10152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2600" spc="-1" strike="noStrike">
                <a:solidFill>
                  <a:srgbClr val="00b0f0"/>
                </a:solidFill>
                <a:latin typeface="Arial"/>
                <a:ea typeface="微软雅黑"/>
              </a:rPr>
              <a:t>戴尔™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2600" spc="-1" strike="noStrike">
                <a:solidFill>
                  <a:srgbClr val="00b0f0"/>
                </a:solidFill>
                <a:latin typeface="Arial"/>
                <a:ea typeface="微软雅黑"/>
              </a:rPr>
              <a:t>Streak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2600" spc="-1" strike="noStrike">
                <a:solidFill>
                  <a:srgbClr val="00b0f0"/>
                </a:solidFill>
                <a:latin typeface="Arial"/>
                <a:ea typeface="微软雅黑"/>
              </a:rPr>
              <a:t>10</a:t>
            </a:r>
            <a:r>
              <a:rPr b="0" lang="zh-CN" sz="26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2600" spc="-1" strike="noStrike">
                <a:solidFill>
                  <a:srgbClr val="00b0f0"/>
                </a:solidFill>
                <a:latin typeface="Arial"/>
                <a:ea typeface="微软雅黑"/>
              </a:rPr>
              <a:t>P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799"/>
              </a:lnSpc>
              <a:tabLst>
                <a:tab algn="l" pos="0"/>
                <a:tab algn="l" pos="10152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900" spc="-1" strike="noStrike">
                <a:solidFill>
                  <a:srgbClr val="f2f2f2"/>
                </a:solidFill>
                <a:latin typeface="Arial"/>
                <a:ea typeface="微软雅黑"/>
              </a:rPr>
              <a:t>S</a:t>
            </a:r>
            <a:r>
              <a:rPr b="0" lang="zh-CN" sz="9900" spc="-1" strike="noStrike">
                <a:solidFill>
                  <a:srgbClr val="000000"/>
                </a:solidFill>
                <a:latin typeface="Arial"/>
                <a:ea typeface="微软雅黑"/>
              </a:rPr>
              <a:t>  </a:t>
            </a:r>
            <a:r>
              <a:rPr b="0" lang="zh-CN" sz="9900" spc="-1" strike="noStrike">
                <a:solidFill>
                  <a:srgbClr val="f2f2f2"/>
                </a:solidFill>
                <a:latin typeface="Arial"/>
                <a:ea typeface="微软雅黑"/>
              </a:rPr>
              <a:t>cial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8700"/>
              </a:lnSpc>
              <a:tabLst>
                <a:tab algn="l" pos="0"/>
                <a:tab algn="l" pos="10152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900" spc="-1" strike="noStrike">
                <a:solidFill>
                  <a:srgbClr val="f2f2f2"/>
                </a:solidFill>
                <a:latin typeface="Arial"/>
                <a:ea typeface="微软雅黑"/>
              </a:rPr>
              <a:t>Media</a:t>
            </a:r>
            <a:endParaRPr b="0" lang="en-US" sz="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498"/>
              </a:lnSpc>
              <a:tabLst>
                <a:tab algn="l" pos="0"/>
                <a:tab algn="l" pos="101520"/>
                <a:tab algn="l" pos="114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4400" spc="-1" strike="noStrike">
                <a:solidFill>
                  <a:srgbClr val="f2f2f2"/>
                </a:solidFill>
                <a:latin typeface="Arial"/>
                <a:ea typeface="微软雅黑"/>
              </a:rPr>
              <a:t>For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4400" spc="-1" strike="noStrike">
                <a:solidFill>
                  <a:srgbClr val="f2f2f2"/>
                </a:solidFill>
                <a:latin typeface="Arial"/>
                <a:ea typeface="微软雅黑"/>
              </a:rPr>
              <a:t>Busin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1"/>
          <p:cNvSpPr/>
          <p:nvPr/>
        </p:nvSpPr>
        <p:spPr>
          <a:xfrm>
            <a:off x="6733440" y="1701720"/>
            <a:ext cx="97596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41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感谢聆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42BE0-8F2E-44C1-81E8-087671226F1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3"/>
          <p:cNvSpPr/>
          <p:nvPr/>
        </p:nvSpPr>
        <p:spPr>
          <a:xfrm>
            <a:off x="1719360" y="1552680"/>
            <a:ext cx="4281480" cy="2120760"/>
          </a:xfrm>
          <a:custGeom>
            <a:avLst/>
            <a:gdLst>
              <a:gd name="textAreaLeft" fmla="*/ 0 w 4281480"/>
              <a:gd name="textAreaRight" fmla="*/ 4281840 w 4281480"/>
              <a:gd name="textAreaTop" fmla="*/ 0 h 2120760"/>
              <a:gd name="textAreaBottom" fmla="*/ 2121120 h 2120760"/>
            </a:gdLst>
            <a:ahLst/>
            <a:rect l="textAreaLeft" t="textAreaTop" r="textAreaRight" b="textAreaBottom"/>
            <a:pathLst>
              <a:path w="4281805" h="2121076">
                <a:moveTo>
                  <a:pt x="4265294" y="1176369"/>
                </a:moveTo>
                <a:cubicBezTo>
                  <a:pt x="4250055" y="1149191"/>
                  <a:pt x="4225670" y="1122267"/>
                  <a:pt x="4194301" y="1097121"/>
                </a:cubicBezTo>
                <a:cubicBezTo>
                  <a:pt x="4163568" y="1072356"/>
                  <a:pt x="4125849" y="1049242"/>
                  <a:pt x="4083304" y="1029049"/>
                </a:cubicBezTo>
                <a:cubicBezTo>
                  <a:pt x="4041394" y="1009237"/>
                  <a:pt x="3994276" y="992219"/>
                  <a:pt x="3943857" y="979265"/>
                </a:cubicBezTo>
                <a:cubicBezTo>
                  <a:pt x="3894455" y="966565"/>
                  <a:pt x="3845941" y="958818"/>
                  <a:pt x="3800475" y="955770"/>
                </a:cubicBezTo>
                <a:cubicBezTo>
                  <a:pt x="3755008" y="952722"/>
                  <a:pt x="3712082" y="954373"/>
                  <a:pt x="3673856" y="960215"/>
                </a:cubicBezTo>
                <a:cubicBezTo>
                  <a:pt x="3635501" y="966057"/>
                  <a:pt x="3601466" y="976217"/>
                  <a:pt x="3574161" y="990441"/>
                </a:cubicBezTo>
                <a:cubicBezTo>
                  <a:pt x="3546475" y="1004919"/>
                  <a:pt x="3525393" y="1023588"/>
                  <a:pt x="3513327" y="1046321"/>
                </a:cubicBezTo>
                <a:lnTo>
                  <a:pt x="2681858" y="820515"/>
                </a:lnTo>
                <a:cubicBezTo>
                  <a:pt x="2695067" y="804640"/>
                  <a:pt x="2704845" y="788003"/>
                  <a:pt x="2711323" y="771112"/>
                </a:cubicBezTo>
                <a:cubicBezTo>
                  <a:pt x="2717545" y="754475"/>
                  <a:pt x="2720594" y="737330"/>
                  <a:pt x="2720086" y="720058"/>
                </a:cubicBezTo>
                <a:cubicBezTo>
                  <a:pt x="2719577" y="703040"/>
                  <a:pt x="2715641" y="685895"/>
                  <a:pt x="2708275" y="668750"/>
                </a:cubicBezTo>
                <a:cubicBezTo>
                  <a:pt x="2701036" y="651986"/>
                  <a:pt x="2690368" y="635095"/>
                  <a:pt x="2676144" y="618585"/>
                </a:cubicBezTo>
                <a:lnTo>
                  <a:pt x="3352164" y="533495"/>
                </a:lnTo>
                <a:cubicBezTo>
                  <a:pt x="3373755" y="551148"/>
                  <a:pt x="3401822" y="567150"/>
                  <a:pt x="3434206" y="581120"/>
                </a:cubicBezTo>
                <a:cubicBezTo>
                  <a:pt x="3466845" y="595090"/>
                  <a:pt x="3503802" y="607028"/>
                  <a:pt x="3542664" y="615918"/>
                </a:cubicBezTo>
                <a:cubicBezTo>
                  <a:pt x="3581781" y="625062"/>
                  <a:pt x="3622675" y="631158"/>
                  <a:pt x="3662933" y="633825"/>
                </a:cubicBezTo>
                <a:cubicBezTo>
                  <a:pt x="3703193" y="636492"/>
                  <a:pt x="3742562" y="635603"/>
                  <a:pt x="3778504" y="630650"/>
                </a:cubicBezTo>
                <a:cubicBezTo>
                  <a:pt x="3796664" y="628237"/>
                  <a:pt x="3813048" y="624808"/>
                  <a:pt x="3827525" y="620617"/>
                </a:cubicBezTo>
                <a:cubicBezTo>
                  <a:pt x="3842131" y="616553"/>
                  <a:pt x="3854704" y="611600"/>
                  <a:pt x="3865499" y="606139"/>
                </a:cubicBezTo>
                <a:cubicBezTo>
                  <a:pt x="3876294" y="600551"/>
                  <a:pt x="3885183" y="594455"/>
                  <a:pt x="3892169" y="587724"/>
                </a:cubicBezTo>
                <a:cubicBezTo>
                  <a:pt x="3899154" y="581120"/>
                  <a:pt x="3904233" y="574008"/>
                  <a:pt x="3907408" y="566515"/>
                </a:cubicBezTo>
                <a:cubicBezTo>
                  <a:pt x="3910583" y="559022"/>
                  <a:pt x="3911854" y="551148"/>
                  <a:pt x="3911092" y="543147"/>
                </a:cubicBezTo>
                <a:cubicBezTo>
                  <a:pt x="3910456" y="535146"/>
                  <a:pt x="3907917" y="526891"/>
                  <a:pt x="3903344" y="518382"/>
                </a:cubicBezTo>
                <a:cubicBezTo>
                  <a:pt x="3898900" y="510127"/>
                  <a:pt x="3892550" y="501618"/>
                  <a:pt x="3884294" y="493109"/>
                </a:cubicBezTo>
                <a:cubicBezTo>
                  <a:pt x="3876167" y="484600"/>
                  <a:pt x="3866006" y="476218"/>
                  <a:pt x="3853942" y="467836"/>
                </a:cubicBezTo>
                <a:cubicBezTo>
                  <a:pt x="3830193" y="451199"/>
                  <a:pt x="3801110" y="436340"/>
                  <a:pt x="3768979" y="423767"/>
                </a:cubicBezTo>
                <a:cubicBezTo>
                  <a:pt x="3737101" y="411321"/>
                  <a:pt x="3702050" y="401034"/>
                  <a:pt x="3665855" y="393287"/>
                </a:cubicBezTo>
                <a:cubicBezTo>
                  <a:pt x="3629913" y="385667"/>
                  <a:pt x="3592830" y="380333"/>
                  <a:pt x="3556254" y="378047"/>
                </a:cubicBezTo>
                <a:cubicBezTo>
                  <a:pt x="3519931" y="375761"/>
                  <a:pt x="3483991" y="376269"/>
                  <a:pt x="3450589" y="380206"/>
                </a:cubicBezTo>
                <a:cubicBezTo>
                  <a:pt x="3433825" y="382111"/>
                  <a:pt x="3418458" y="384778"/>
                  <a:pt x="3404616" y="388207"/>
                </a:cubicBezTo>
                <a:cubicBezTo>
                  <a:pt x="3390519" y="391509"/>
                  <a:pt x="3378073" y="395573"/>
                  <a:pt x="3367024" y="400145"/>
                </a:cubicBezTo>
                <a:cubicBezTo>
                  <a:pt x="3355975" y="404844"/>
                  <a:pt x="3346323" y="410051"/>
                  <a:pt x="3338322" y="415766"/>
                </a:cubicBezTo>
                <a:cubicBezTo>
                  <a:pt x="3330320" y="421608"/>
                  <a:pt x="3323844" y="427831"/>
                  <a:pt x="3319018" y="434562"/>
                </a:cubicBezTo>
                <a:cubicBezTo>
                  <a:pt x="3314319" y="441166"/>
                  <a:pt x="3311270" y="448151"/>
                  <a:pt x="3309874" y="455517"/>
                </a:cubicBezTo>
                <a:cubicBezTo>
                  <a:pt x="3308476" y="462883"/>
                  <a:pt x="3308731" y="470503"/>
                  <a:pt x="3310889" y="478504"/>
                </a:cubicBezTo>
                <a:cubicBezTo>
                  <a:pt x="3313049" y="486505"/>
                  <a:pt x="3316986" y="494760"/>
                  <a:pt x="3322827" y="503142"/>
                </a:cubicBezTo>
                <a:cubicBezTo>
                  <a:pt x="3328797" y="511524"/>
                  <a:pt x="3336670" y="520160"/>
                  <a:pt x="3346576" y="528796"/>
                </a:cubicBezTo>
                <a:lnTo>
                  <a:pt x="2671699" y="613505"/>
                </a:lnTo>
                <a:cubicBezTo>
                  <a:pt x="2657094" y="597249"/>
                  <a:pt x="2639694" y="582136"/>
                  <a:pt x="2620010" y="567912"/>
                </a:cubicBezTo>
                <a:cubicBezTo>
                  <a:pt x="2600579" y="553942"/>
                  <a:pt x="2578862" y="540988"/>
                  <a:pt x="2555367" y="529050"/>
                </a:cubicBezTo>
                <a:cubicBezTo>
                  <a:pt x="2532125" y="517239"/>
                  <a:pt x="2506852" y="506571"/>
                  <a:pt x="2480310" y="496919"/>
                </a:cubicBezTo>
                <a:cubicBezTo>
                  <a:pt x="2453894" y="487394"/>
                  <a:pt x="2426081" y="478885"/>
                  <a:pt x="2396998" y="471519"/>
                </a:cubicBezTo>
                <a:lnTo>
                  <a:pt x="2667381" y="229076"/>
                </a:lnTo>
                <a:cubicBezTo>
                  <a:pt x="2700781" y="236188"/>
                  <a:pt x="2735325" y="240506"/>
                  <a:pt x="2768981" y="242284"/>
                </a:cubicBezTo>
                <a:cubicBezTo>
                  <a:pt x="2802889" y="244062"/>
                  <a:pt x="2835656" y="243173"/>
                  <a:pt x="2865755" y="239998"/>
                </a:cubicBezTo>
                <a:cubicBezTo>
                  <a:pt x="2895726" y="236823"/>
                  <a:pt x="2922777" y="231235"/>
                  <a:pt x="2945256" y="223615"/>
                </a:cubicBezTo>
                <a:cubicBezTo>
                  <a:pt x="2967481" y="215995"/>
                  <a:pt x="2985007" y="206216"/>
                  <a:pt x="2996056" y="194659"/>
                </a:cubicBezTo>
                <a:cubicBezTo>
                  <a:pt x="3007232" y="183102"/>
                  <a:pt x="3011043" y="170910"/>
                  <a:pt x="3008249" y="158591"/>
                </a:cubicBezTo>
                <a:cubicBezTo>
                  <a:pt x="3005581" y="146526"/>
                  <a:pt x="2996692" y="134334"/>
                  <a:pt x="2982341" y="122904"/>
                </a:cubicBezTo>
                <a:cubicBezTo>
                  <a:pt x="2968244" y="111474"/>
                  <a:pt x="2948939" y="100806"/>
                  <a:pt x="2925191" y="91408"/>
                </a:cubicBezTo>
                <a:cubicBezTo>
                  <a:pt x="2901695" y="82010"/>
                  <a:pt x="2873882" y="73882"/>
                  <a:pt x="2842513" y="67532"/>
                </a:cubicBezTo>
                <a:cubicBezTo>
                  <a:pt x="2811144" y="61182"/>
                  <a:pt x="2779268" y="57372"/>
                  <a:pt x="2748025" y="55594"/>
                </a:cubicBezTo>
                <a:cubicBezTo>
                  <a:pt x="2716911" y="53816"/>
                  <a:pt x="2686431" y="54324"/>
                  <a:pt x="2658237" y="56864"/>
                </a:cubicBezTo>
                <a:cubicBezTo>
                  <a:pt x="2629916" y="59404"/>
                  <a:pt x="2603754" y="63976"/>
                  <a:pt x="2581401" y="70580"/>
                </a:cubicBezTo>
                <a:cubicBezTo>
                  <a:pt x="2558795" y="77184"/>
                  <a:pt x="2540000" y="85693"/>
                  <a:pt x="2526664" y="96234"/>
                </a:cubicBezTo>
                <a:cubicBezTo>
                  <a:pt x="2513202" y="106775"/>
                  <a:pt x="2506599" y="118205"/>
                  <a:pt x="2506091" y="130016"/>
                </a:cubicBezTo>
                <a:cubicBezTo>
                  <a:pt x="2505582" y="141827"/>
                  <a:pt x="2511425" y="154019"/>
                  <a:pt x="2522855" y="165957"/>
                </a:cubicBezTo>
                <a:cubicBezTo>
                  <a:pt x="2534538" y="177895"/>
                  <a:pt x="2552064" y="189452"/>
                  <a:pt x="2574798" y="199866"/>
                </a:cubicBezTo>
                <a:cubicBezTo>
                  <a:pt x="2597657" y="210407"/>
                  <a:pt x="2625851" y="219805"/>
                  <a:pt x="2658491" y="227171"/>
                </a:cubicBezTo>
                <a:lnTo>
                  <a:pt x="2387345" y="469233"/>
                </a:lnTo>
                <a:cubicBezTo>
                  <a:pt x="2358262" y="462121"/>
                  <a:pt x="2328163" y="456279"/>
                  <a:pt x="2297302" y="451707"/>
                </a:cubicBezTo>
                <a:cubicBezTo>
                  <a:pt x="2266569" y="447008"/>
                  <a:pt x="2234945" y="443706"/>
                  <a:pt x="2202942" y="441547"/>
                </a:cubicBezTo>
                <a:cubicBezTo>
                  <a:pt x="2170937" y="439388"/>
                  <a:pt x="2138552" y="438626"/>
                  <a:pt x="2105787" y="439134"/>
                </a:cubicBezTo>
                <a:cubicBezTo>
                  <a:pt x="2073148" y="439769"/>
                  <a:pt x="2040127" y="441674"/>
                  <a:pt x="2007235" y="445103"/>
                </a:cubicBezTo>
                <a:lnTo>
                  <a:pt x="1830577" y="177514"/>
                </a:lnTo>
                <a:cubicBezTo>
                  <a:pt x="1847342" y="175863"/>
                  <a:pt x="1863217" y="173577"/>
                  <a:pt x="1878202" y="170783"/>
                </a:cubicBezTo>
                <a:cubicBezTo>
                  <a:pt x="1893062" y="168116"/>
                  <a:pt x="1906905" y="164814"/>
                  <a:pt x="1919605" y="161131"/>
                </a:cubicBezTo>
                <a:cubicBezTo>
                  <a:pt x="1932305" y="157321"/>
                  <a:pt x="1943862" y="153257"/>
                  <a:pt x="1954275" y="148812"/>
                </a:cubicBezTo>
                <a:cubicBezTo>
                  <a:pt x="1964562" y="144367"/>
                  <a:pt x="1973580" y="139541"/>
                  <a:pt x="1981326" y="134588"/>
                </a:cubicBezTo>
                <a:cubicBezTo>
                  <a:pt x="1989200" y="129381"/>
                  <a:pt x="1995677" y="124047"/>
                  <a:pt x="2000631" y="118459"/>
                </a:cubicBezTo>
                <a:cubicBezTo>
                  <a:pt x="2005583" y="112871"/>
                  <a:pt x="2009139" y="107156"/>
                  <a:pt x="2011044" y="101187"/>
                </a:cubicBezTo>
                <a:cubicBezTo>
                  <a:pt x="2012950" y="95472"/>
                  <a:pt x="2013204" y="89503"/>
                  <a:pt x="2011933" y="83534"/>
                </a:cubicBezTo>
                <a:cubicBezTo>
                  <a:pt x="2010663" y="77565"/>
                  <a:pt x="2007743" y="71596"/>
                  <a:pt x="2003044" y="65754"/>
                </a:cubicBezTo>
                <a:cubicBezTo>
                  <a:pt x="1993900" y="53943"/>
                  <a:pt x="1978787" y="43402"/>
                  <a:pt x="1959229" y="34512"/>
                </a:cubicBezTo>
                <a:cubicBezTo>
                  <a:pt x="1939925" y="25622"/>
                  <a:pt x="1916430" y="18129"/>
                  <a:pt x="1890013" y="12541"/>
                </a:cubicBezTo>
                <a:cubicBezTo>
                  <a:pt x="1863851" y="6826"/>
                  <a:pt x="1834769" y="3016"/>
                  <a:pt x="1804416" y="1111"/>
                </a:cubicBezTo>
                <a:cubicBezTo>
                  <a:pt x="1774062" y="-666"/>
                  <a:pt x="1742186" y="-412"/>
                  <a:pt x="1710308" y="2127"/>
                </a:cubicBezTo>
                <a:cubicBezTo>
                  <a:pt x="1694306" y="3397"/>
                  <a:pt x="1679067" y="5175"/>
                  <a:pt x="1664588" y="7588"/>
                </a:cubicBezTo>
                <a:cubicBezTo>
                  <a:pt x="1649983" y="9874"/>
                  <a:pt x="1636268" y="12668"/>
                  <a:pt x="1623568" y="15843"/>
                </a:cubicBezTo>
                <a:cubicBezTo>
                  <a:pt x="1610741" y="19018"/>
                  <a:pt x="1598802" y="22701"/>
                  <a:pt x="1588007" y="26638"/>
                </a:cubicBezTo>
                <a:cubicBezTo>
                  <a:pt x="1577086" y="30702"/>
                  <a:pt x="1567306" y="35020"/>
                  <a:pt x="1558670" y="39719"/>
                </a:cubicBezTo>
                <a:cubicBezTo>
                  <a:pt x="1549907" y="44418"/>
                  <a:pt x="1542414" y="49498"/>
                  <a:pt x="1536319" y="54705"/>
                </a:cubicBezTo>
                <a:cubicBezTo>
                  <a:pt x="1530095" y="60039"/>
                  <a:pt x="1525270" y="65500"/>
                  <a:pt x="1521967" y="71215"/>
                </a:cubicBezTo>
                <a:cubicBezTo>
                  <a:pt x="1518539" y="76930"/>
                  <a:pt x="1516633" y="82772"/>
                  <a:pt x="1516507" y="88868"/>
                </a:cubicBezTo>
                <a:cubicBezTo>
                  <a:pt x="1516252" y="94837"/>
                  <a:pt x="1517650" y="101060"/>
                  <a:pt x="1520951" y="107283"/>
                </a:cubicBezTo>
                <a:cubicBezTo>
                  <a:pt x="1527555" y="119602"/>
                  <a:pt x="1540763" y="130905"/>
                  <a:pt x="1559051" y="140811"/>
                </a:cubicBezTo>
                <a:cubicBezTo>
                  <a:pt x="1577594" y="150844"/>
                  <a:pt x="1601216" y="159226"/>
                  <a:pt x="1628520" y="165830"/>
                </a:cubicBezTo>
                <a:cubicBezTo>
                  <a:pt x="1655952" y="172434"/>
                  <a:pt x="1686941" y="177006"/>
                  <a:pt x="1719706" y="179165"/>
                </a:cubicBezTo>
                <a:cubicBezTo>
                  <a:pt x="1752600" y="181451"/>
                  <a:pt x="1787017" y="181324"/>
                  <a:pt x="1821433" y="178403"/>
                </a:cubicBezTo>
                <a:lnTo>
                  <a:pt x="1996948" y="446246"/>
                </a:lnTo>
                <a:cubicBezTo>
                  <a:pt x="1964055" y="450056"/>
                  <a:pt x="1932686" y="455136"/>
                  <a:pt x="1902968" y="461486"/>
                </a:cubicBezTo>
                <a:cubicBezTo>
                  <a:pt x="1873250" y="467836"/>
                  <a:pt x="1845056" y="475456"/>
                  <a:pt x="1818767" y="484092"/>
                </a:cubicBezTo>
                <a:cubicBezTo>
                  <a:pt x="1792350" y="492855"/>
                  <a:pt x="1767712" y="502761"/>
                  <a:pt x="1745233" y="513683"/>
                </a:cubicBezTo>
                <a:cubicBezTo>
                  <a:pt x="1722627" y="524605"/>
                  <a:pt x="1702054" y="536543"/>
                  <a:pt x="1683893" y="549370"/>
                </a:cubicBezTo>
                <a:lnTo>
                  <a:pt x="1080389" y="385413"/>
                </a:lnTo>
                <a:cubicBezTo>
                  <a:pt x="1104773" y="371316"/>
                  <a:pt x="1121410" y="356330"/>
                  <a:pt x="1130680" y="341344"/>
                </a:cubicBezTo>
                <a:cubicBezTo>
                  <a:pt x="1139951" y="326612"/>
                  <a:pt x="1141983" y="312007"/>
                  <a:pt x="1137411" y="298164"/>
                </a:cubicBezTo>
                <a:cubicBezTo>
                  <a:pt x="1132967" y="284575"/>
                  <a:pt x="1121791" y="271748"/>
                  <a:pt x="1104519" y="260445"/>
                </a:cubicBezTo>
                <a:cubicBezTo>
                  <a:pt x="1087373" y="249269"/>
                  <a:pt x="1064133" y="239617"/>
                  <a:pt x="1034923" y="232124"/>
                </a:cubicBezTo>
                <a:cubicBezTo>
                  <a:pt x="1005586" y="224504"/>
                  <a:pt x="972820" y="219932"/>
                  <a:pt x="938657" y="217900"/>
                </a:cubicBezTo>
                <a:cubicBezTo>
                  <a:pt x="904620" y="215868"/>
                  <a:pt x="868933" y="216630"/>
                  <a:pt x="833627" y="219678"/>
                </a:cubicBezTo>
                <a:cubicBezTo>
                  <a:pt x="798195" y="222853"/>
                  <a:pt x="763016" y="228568"/>
                  <a:pt x="730123" y="236569"/>
                </a:cubicBezTo>
                <a:cubicBezTo>
                  <a:pt x="696848" y="244697"/>
                  <a:pt x="665607" y="255238"/>
                  <a:pt x="638683" y="268192"/>
                </a:cubicBezTo>
                <a:cubicBezTo>
                  <a:pt x="611505" y="281146"/>
                  <a:pt x="591058" y="295370"/>
                  <a:pt x="577595" y="309975"/>
                </a:cubicBezTo>
                <a:cubicBezTo>
                  <a:pt x="563880" y="324707"/>
                  <a:pt x="557402" y="339820"/>
                  <a:pt x="558038" y="354552"/>
                </a:cubicBezTo>
                <a:cubicBezTo>
                  <a:pt x="558673" y="369411"/>
                  <a:pt x="566801" y="383635"/>
                  <a:pt x="582422" y="396589"/>
                </a:cubicBezTo>
                <a:cubicBezTo>
                  <a:pt x="598297" y="409543"/>
                  <a:pt x="621664" y="420973"/>
                  <a:pt x="652526" y="429990"/>
                </a:cubicBezTo>
                <a:cubicBezTo>
                  <a:pt x="683386" y="438880"/>
                  <a:pt x="718692" y="444468"/>
                  <a:pt x="756030" y="446754"/>
                </a:cubicBezTo>
                <a:cubicBezTo>
                  <a:pt x="793369" y="449167"/>
                  <a:pt x="832611" y="448278"/>
                  <a:pt x="871220" y="444468"/>
                </a:cubicBezTo>
                <a:cubicBezTo>
                  <a:pt x="909827" y="440658"/>
                  <a:pt x="947547" y="433927"/>
                  <a:pt x="982217" y="424529"/>
                </a:cubicBezTo>
                <a:cubicBezTo>
                  <a:pt x="1016635" y="415258"/>
                  <a:pt x="1047876" y="403320"/>
                  <a:pt x="1073658" y="389223"/>
                </a:cubicBezTo>
                <a:lnTo>
                  <a:pt x="1677797" y="553688"/>
                </a:lnTo>
                <a:cubicBezTo>
                  <a:pt x="1660017" y="566896"/>
                  <a:pt x="1644650" y="580993"/>
                  <a:pt x="1631950" y="595725"/>
                </a:cubicBezTo>
                <a:cubicBezTo>
                  <a:pt x="1619250" y="610584"/>
                  <a:pt x="1609217" y="626332"/>
                  <a:pt x="1602486" y="642588"/>
                </a:cubicBezTo>
                <a:cubicBezTo>
                  <a:pt x="1595500" y="658971"/>
                  <a:pt x="1591818" y="675989"/>
                  <a:pt x="1591691" y="693515"/>
                </a:cubicBezTo>
                <a:cubicBezTo>
                  <a:pt x="1591563" y="711168"/>
                  <a:pt x="1594993" y="729329"/>
                  <a:pt x="1602612" y="747617"/>
                </a:cubicBezTo>
                <a:lnTo>
                  <a:pt x="753872" y="854043"/>
                </a:lnTo>
                <a:cubicBezTo>
                  <a:pt x="750442" y="831056"/>
                  <a:pt x="737616" y="810736"/>
                  <a:pt x="717295" y="793591"/>
                </a:cubicBezTo>
                <a:cubicBezTo>
                  <a:pt x="697357" y="776573"/>
                  <a:pt x="670051" y="762730"/>
                  <a:pt x="637286" y="752316"/>
                </a:cubicBezTo>
                <a:cubicBezTo>
                  <a:pt x="604773" y="741902"/>
                  <a:pt x="566801" y="735044"/>
                  <a:pt x="525017" y="732123"/>
                </a:cubicBezTo>
                <a:cubicBezTo>
                  <a:pt x="483235" y="729202"/>
                  <a:pt x="437388" y="730218"/>
                  <a:pt x="389127" y="735806"/>
                </a:cubicBezTo>
                <a:cubicBezTo>
                  <a:pt x="364617" y="738727"/>
                  <a:pt x="340614" y="742537"/>
                  <a:pt x="317245" y="747363"/>
                </a:cubicBezTo>
                <a:cubicBezTo>
                  <a:pt x="293751" y="752189"/>
                  <a:pt x="271017" y="758031"/>
                  <a:pt x="249173" y="764635"/>
                </a:cubicBezTo>
                <a:cubicBezTo>
                  <a:pt x="227076" y="771239"/>
                  <a:pt x="205994" y="778732"/>
                  <a:pt x="185927" y="786860"/>
                </a:cubicBezTo>
                <a:cubicBezTo>
                  <a:pt x="165861" y="795115"/>
                  <a:pt x="146811" y="804005"/>
                  <a:pt x="129158" y="813657"/>
                </a:cubicBezTo>
                <a:cubicBezTo>
                  <a:pt x="111379" y="823182"/>
                  <a:pt x="94995" y="833469"/>
                  <a:pt x="80391" y="844137"/>
                </a:cubicBezTo>
                <a:cubicBezTo>
                  <a:pt x="65532" y="854932"/>
                  <a:pt x="52323" y="866235"/>
                  <a:pt x="41148" y="877919"/>
                </a:cubicBezTo>
                <a:cubicBezTo>
                  <a:pt x="29845" y="889603"/>
                  <a:pt x="20573" y="901795"/>
                  <a:pt x="13716" y="914114"/>
                </a:cubicBezTo>
                <a:cubicBezTo>
                  <a:pt x="6604" y="926560"/>
                  <a:pt x="1905" y="939260"/>
                  <a:pt x="0" y="951960"/>
                </a:cubicBezTo>
                <a:cubicBezTo>
                  <a:pt x="-4063" y="977741"/>
                  <a:pt x="3175" y="1001363"/>
                  <a:pt x="19939" y="1021937"/>
                </a:cubicBezTo>
                <a:cubicBezTo>
                  <a:pt x="37083" y="1042638"/>
                  <a:pt x="63880" y="1060164"/>
                  <a:pt x="98425" y="1073372"/>
                </a:cubicBezTo>
                <a:cubicBezTo>
                  <a:pt x="133223" y="1086707"/>
                  <a:pt x="175767" y="1095724"/>
                  <a:pt x="223773" y="1099407"/>
                </a:cubicBezTo>
                <a:cubicBezTo>
                  <a:pt x="271780" y="1103217"/>
                  <a:pt x="324866" y="1101566"/>
                  <a:pt x="380619" y="1093946"/>
                </a:cubicBezTo>
                <a:cubicBezTo>
                  <a:pt x="408432" y="1090263"/>
                  <a:pt x="435355" y="1085183"/>
                  <a:pt x="461391" y="1078960"/>
                </a:cubicBezTo>
                <a:cubicBezTo>
                  <a:pt x="487298" y="1072737"/>
                  <a:pt x="512064" y="1065371"/>
                  <a:pt x="535558" y="1057243"/>
                </a:cubicBezTo>
                <a:cubicBezTo>
                  <a:pt x="558800" y="1048988"/>
                  <a:pt x="580770" y="1039971"/>
                  <a:pt x="601217" y="1030192"/>
                </a:cubicBezTo>
                <a:cubicBezTo>
                  <a:pt x="621411" y="1020413"/>
                  <a:pt x="640080" y="1009999"/>
                  <a:pt x="656844" y="999077"/>
                </a:cubicBezTo>
                <a:cubicBezTo>
                  <a:pt x="673100" y="988409"/>
                  <a:pt x="687577" y="977360"/>
                  <a:pt x="700151" y="965930"/>
                </a:cubicBezTo>
                <a:cubicBezTo>
                  <a:pt x="712597" y="954500"/>
                  <a:pt x="723138" y="942943"/>
                  <a:pt x="731520" y="931132"/>
                </a:cubicBezTo>
                <a:cubicBezTo>
                  <a:pt x="739775" y="919321"/>
                  <a:pt x="745998" y="907510"/>
                  <a:pt x="749935" y="895572"/>
                </a:cubicBezTo>
                <a:cubicBezTo>
                  <a:pt x="753745" y="883888"/>
                  <a:pt x="755395" y="872077"/>
                  <a:pt x="754507" y="860393"/>
                </a:cubicBezTo>
                <a:lnTo>
                  <a:pt x="1605025" y="753332"/>
                </a:lnTo>
                <a:cubicBezTo>
                  <a:pt x="1613535" y="771874"/>
                  <a:pt x="1625726" y="789781"/>
                  <a:pt x="1641220" y="806799"/>
                </a:cubicBezTo>
                <a:cubicBezTo>
                  <a:pt x="1657095" y="824071"/>
                  <a:pt x="1676273" y="840454"/>
                  <a:pt x="1698498" y="855694"/>
                </a:cubicBezTo>
                <a:cubicBezTo>
                  <a:pt x="1720976" y="871188"/>
                  <a:pt x="1746504" y="885539"/>
                  <a:pt x="1774570" y="898493"/>
                </a:cubicBezTo>
                <a:cubicBezTo>
                  <a:pt x="1802892" y="911701"/>
                  <a:pt x="1833880" y="923512"/>
                  <a:pt x="1866900" y="933799"/>
                </a:cubicBezTo>
                <a:lnTo>
                  <a:pt x="1346454" y="1398365"/>
                </a:lnTo>
                <a:cubicBezTo>
                  <a:pt x="1299717" y="1381982"/>
                  <a:pt x="1248917" y="1372330"/>
                  <a:pt x="1196720" y="1369028"/>
                </a:cubicBezTo>
                <a:cubicBezTo>
                  <a:pt x="1144397" y="1365726"/>
                  <a:pt x="1090422" y="1368647"/>
                  <a:pt x="1037336" y="1377410"/>
                </a:cubicBezTo>
                <a:cubicBezTo>
                  <a:pt x="983869" y="1386046"/>
                  <a:pt x="931036" y="1400651"/>
                  <a:pt x="881633" y="1420844"/>
                </a:cubicBezTo>
                <a:cubicBezTo>
                  <a:pt x="831469" y="1441291"/>
                  <a:pt x="784733" y="1467580"/>
                  <a:pt x="744220" y="1499457"/>
                </a:cubicBezTo>
                <a:cubicBezTo>
                  <a:pt x="702436" y="1532350"/>
                  <a:pt x="671195" y="1568164"/>
                  <a:pt x="650748" y="1604994"/>
                </a:cubicBezTo>
                <a:cubicBezTo>
                  <a:pt x="629792" y="1642586"/>
                  <a:pt x="620141" y="1681321"/>
                  <a:pt x="621792" y="1718786"/>
                </a:cubicBezTo>
                <a:cubicBezTo>
                  <a:pt x="623570" y="1757013"/>
                  <a:pt x="637413" y="1793970"/>
                  <a:pt x="663320" y="1827117"/>
                </a:cubicBezTo>
                <a:cubicBezTo>
                  <a:pt x="689610" y="1860899"/>
                  <a:pt x="728472" y="1890490"/>
                  <a:pt x="779652" y="1913350"/>
                </a:cubicBezTo>
                <a:cubicBezTo>
                  <a:pt x="831342" y="1936337"/>
                  <a:pt x="890397" y="1950053"/>
                  <a:pt x="952500" y="1954879"/>
                </a:cubicBezTo>
                <a:cubicBezTo>
                  <a:pt x="1014602" y="1959832"/>
                  <a:pt x="1079373" y="1955768"/>
                  <a:pt x="1142364" y="1943576"/>
                </a:cubicBezTo>
                <a:cubicBezTo>
                  <a:pt x="1204976" y="1931511"/>
                  <a:pt x="1265427" y="1911572"/>
                  <a:pt x="1319657" y="1884648"/>
                </a:cubicBezTo>
                <a:cubicBezTo>
                  <a:pt x="1373123" y="1858232"/>
                  <a:pt x="1420367" y="1825212"/>
                  <a:pt x="1457579" y="1786604"/>
                </a:cubicBezTo>
                <a:cubicBezTo>
                  <a:pt x="1493773" y="1749266"/>
                  <a:pt x="1517014" y="1710277"/>
                  <a:pt x="1528698" y="1672050"/>
                </a:cubicBezTo>
                <a:cubicBezTo>
                  <a:pt x="1540001" y="1634458"/>
                  <a:pt x="1540129" y="1597501"/>
                  <a:pt x="1529842" y="1563084"/>
                </a:cubicBezTo>
                <a:cubicBezTo>
                  <a:pt x="1519936" y="1529429"/>
                  <a:pt x="1499997" y="1497933"/>
                  <a:pt x="1470914" y="1470628"/>
                </a:cubicBezTo>
                <a:cubicBezTo>
                  <a:pt x="1442339" y="1443704"/>
                  <a:pt x="1404747" y="1420590"/>
                  <a:pt x="1358773" y="1402937"/>
                </a:cubicBezTo>
                <a:lnTo>
                  <a:pt x="1877949" y="937228"/>
                </a:lnTo>
                <a:cubicBezTo>
                  <a:pt x="1911731" y="947134"/>
                  <a:pt x="1947418" y="955643"/>
                  <a:pt x="1984501" y="962247"/>
                </a:cubicBezTo>
                <a:cubicBezTo>
                  <a:pt x="2021839" y="968851"/>
                  <a:pt x="2060448" y="973804"/>
                  <a:pt x="2099818" y="976725"/>
                </a:cubicBezTo>
                <a:cubicBezTo>
                  <a:pt x="2139314" y="979646"/>
                  <a:pt x="2179447" y="980535"/>
                  <a:pt x="2219706" y="979392"/>
                </a:cubicBezTo>
                <a:cubicBezTo>
                  <a:pt x="2259964" y="978122"/>
                  <a:pt x="2300097" y="974947"/>
                  <a:pt x="2339720" y="969359"/>
                </a:cubicBezTo>
                <a:lnTo>
                  <a:pt x="2690494" y="1504410"/>
                </a:lnTo>
                <a:cubicBezTo>
                  <a:pt x="2664460" y="1509490"/>
                  <a:pt x="2640075" y="1516221"/>
                  <a:pt x="2617469" y="1524476"/>
                </a:cubicBezTo>
                <a:cubicBezTo>
                  <a:pt x="2594737" y="1532604"/>
                  <a:pt x="2573781" y="1542256"/>
                  <a:pt x="2554731" y="1553178"/>
                </a:cubicBezTo>
                <a:cubicBezTo>
                  <a:pt x="2535427" y="1564227"/>
                  <a:pt x="2518156" y="1576546"/>
                  <a:pt x="2502788" y="1590008"/>
                </a:cubicBezTo>
                <a:cubicBezTo>
                  <a:pt x="2487422" y="1603470"/>
                  <a:pt x="2473960" y="1618202"/>
                  <a:pt x="2462783" y="1633823"/>
                </a:cubicBezTo>
                <a:cubicBezTo>
                  <a:pt x="2451354" y="1649952"/>
                  <a:pt x="2442210" y="1667097"/>
                  <a:pt x="2435606" y="1685131"/>
                </a:cubicBezTo>
                <a:cubicBezTo>
                  <a:pt x="2428875" y="1703292"/>
                  <a:pt x="2424811" y="1722342"/>
                  <a:pt x="2423541" y="1741900"/>
                </a:cubicBezTo>
                <a:cubicBezTo>
                  <a:pt x="2422398" y="1761712"/>
                  <a:pt x="2424049" y="1782286"/>
                  <a:pt x="2428875" y="1803114"/>
                </a:cubicBezTo>
                <a:cubicBezTo>
                  <a:pt x="2433700" y="1824196"/>
                  <a:pt x="2441701" y="1845786"/>
                  <a:pt x="2453131" y="1867376"/>
                </a:cubicBezTo>
                <a:cubicBezTo>
                  <a:pt x="2476500" y="1911445"/>
                  <a:pt x="2511806" y="1951831"/>
                  <a:pt x="2555748" y="1986756"/>
                </a:cubicBezTo>
                <a:cubicBezTo>
                  <a:pt x="2600579" y="2022443"/>
                  <a:pt x="2654173" y="2052288"/>
                  <a:pt x="2712974" y="2074894"/>
                </a:cubicBezTo>
                <a:cubicBezTo>
                  <a:pt x="2772410" y="2097627"/>
                  <a:pt x="2836672" y="2112613"/>
                  <a:pt x="2901823" y="2118455"/>
                </a:cubicBezTo>
                <a:cubicBezTo>
                  <a:pt x="2967100" y="2124297"/>
                  <a:pt x="3032760" y="2120868"/>
                  <a:pt x="3094481" y="2106771"/>
                </a:cubicBezTo>
                <a:cubicBezTo>
                  <a:pt x="3125216" y="2099659"/>
                  <a:pt x="3153282" y="2090388"/>
                  <a:pt x="3178810" y="2079212"/>
                </a:cubicBezTo>
                <a:cubicBezTo>
                  <a:pt x="3204210" y="2068036"/>
                  <a:pt x="3226816" y="2055082"/>
                  <a:pt x="3246627" y="2040477"/>
                </a:cubicBezTo>
                <a:cubicBezTo>
                  <a:pt x="3266312" y="2025872"/>
                  <a:pt x="3283204" y="2009997"/>
                  <a:pt x="3297174" y="1992725"/>
                </a:cubicBezTo>
                <a:cubicBezTo>
                  <a:pt x="3311017" y="1975707"/>
                  <a:pt x="3321938" y="1957546"/>
                  <a:pt x="3329939" y="1938623"/>
                </a:cubicBezTo>
                <a:cubicBezTo>
                  <a:pt x="3337813" y="1919827"/>
                  <a:pt x="3342894" y="1900269"/>
                  <a:pt x="3344925" y="1880076"/>
                </a:cubicBezTo>
                <a:cubicBezTo>
                  <a:pt x="3346831" y="1860264"/>
                  <a:pt x="3345942" y="1839944"/>
                  <a:pt x="3342005" y="1819370"/>
                </a:cubicBezTo>
                <a:cubicBezTo>
                  <a:pt x="3338194" y="1799050"/>
                  <a:pt x="3331463" y="1778603"/>
                  <a:pt x="3321685" y="1758156"/>
                </a:cubicBezTo>
                <a:cubicBezTo>
                  <a:pt x="3312032" y="1737963"/>
                  <a:pt x="3299460" y="1717770"/>
                  <a:pt x="3283838" y="1697958"/>
                </a:cubicBezTo>
                <a:cubicBezTo>
                  <a:pt x="3253612" y="1659477"/>
                  <a:pt x="3214750" y="1625568"/>
                  <a:pt x="3170555" y="1597120"/>
                </a:cubicBezTo>
                <a:cubicBezTo>
                  <a:pt x="3126994" y="1569053"/>
                  <a:pt x="3077972" y="1546193"/>
                  <a:pt x="3026410" y="1529048"/>
                </a:cubicBezTo>
                <a:cubicBezTo>
                  <a:pt x="2975229" y="1512157"/>
                  <a:pt x="2921126" y="1500854"/>
                  <a:pt x="2866770" y="1496028"/>
                </a:cubicBezTo>
                <a:cubicBezTo>
                  <a:pt x="2812542" y="1491202"/>
                  <a:pt x="2757677" y="1492853"/>
                  <a:pt x="2704592" y="1501870"/>
                </a:cubicBezTo>
                <a:lnTo>
                  <a:pt x="2352039" y="967581"/>
                </a:lnTo>
                <a:cubicBezTo>
                  <a:pt x="2391029" y="961739"/>
                  <a:pt x="2427605" y="953865"/>
                  <a:pt x="2461260" y="944340"/>
                </a:cubicBezTo>
                <a:cubicBezTo>
                  <a:pt x="2494787" y="934942"/>
                  <a:pt x="2525268" y="923893"/>
                  <a:pt x="2552826" y="911574"/>
                </a:cubicBezTo>
                <a:cubicBezTo>
                  <a:pt x="2580005" y="899382"/>
                  <a:pt x="2604262" y="885920"/>
                  <a:pt x="2625089" y="871442"/>
                </a:cubicBezTo>
                <a:cubicBezTo>
                  <a:pt x="2645791" y="857091"/>
                  <a:pt x="2663189" y="841851"/>
                  <a:pt x="2677287" y="825849"/>
                </a:cubicBezTo>
                <a:lnTo>
                  <a:pt x="3510280" y="1052671"/>
                </a:lnTo>
                <a:cubicBezTo>
                  <a:pt x="3499612" y="1076293"/>
                  <a:pt x="3499357" y="1102074"/>
                  <a:pt x="3508375" y="1128363"/>
                </a:cubicBezTo>
                <a:cubicBezTo>
                  <a:pt x="3517519" y="1155160"/>
                  <a:pt x="3536061" y="1182592"/>
                  <a:pt x="3562985" y="1209008"/>
                </a:cubicBezTo>
                <a:cubicBezTo>
                  <a:pt x="3590289" y="1236059"/>
                  <a:pt x="3625976" y="1261967"/>
                  <a:pt x="3668649" y="1285208"/>
                </a:cubicBezTo>
                <a:cubicBezTo>
                  <a:pt x="3712082" y="1308830"/>
                  <a:pt x="3762248" y="1329531"/>
                  <a:pt x="3817747" y="1345660"/>
                </a:cubicBezTo>
                <a:cubicBezTo>
                  <a:pt x="3874388" y="1362043"/>
                  <a:pt x="3930650" y="1371822"/>
                  <a:pt x="3983608" y="1375505"/>
                </a:cubicBezTo>
                <a:cubicBezTo>
                  <a:pt x="4036568" y="1379188"/>
                  <a:pt x="4085844" y="1376648"/>
                  <a:pt x="4128516" y="1368393"/>
                </a:cubicBezTo>
                <a:cubicBezTo>
                  <a:pt x="4171061" y="1360138"/>
                  <a:pt x="4206748" y="1346422"/>
                  <a:pt x="4233291" y="1327753"/>
                </a:cubicBezTo>
                <a:cubicBezTo>
                  <a:pt x="4259452" y="1309338"/>
                  <a:pt x="4276344" y="1286097"/>
                  <a:pt x="4281805" y="1258919"/>
                </a:cubicBezTo>
                <a:cubicBezTo>
                  <a:pt x="4287138" y="1232249"/>
                  <a:pt x="4280916" y="1204182"/>
                  <a:pt x="4265294" y="1176369"/>
                </a:cubicBezTo>
              </a:path>
            </a:pathLst>
          </a:custGeom>
          <a:solidFill>
            <a:srgbClr val="ffffff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3"/>
          <p:cNvSpPr/>
          <p:nvPr/>
        </p:nvSpPr>
        <p:spPr>
          <a:xfrm>
            <a:off x="3754440" y="1123920"/>
            <a:ext cx="182520" cy="209520"/>
          </a:xfrm>
          <a:custGeom>
            <a:avLst/>
            <a:gdLst>
              <a:gd name="textAreaLeft" fmla="*/ 0 w 182520"/>
              <a:gd name="textAreaRight" fmla="*/ 182880 w 18252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83388" h="208280">
                <a:moveTo>
                  <a:pt x="183388" y="97916"/>
                </a:moveTo>
                <a:cubicBezTo>
                  <a:pt x="185547" y="12446"/>
                  <a:pt x="93726" y="0"/>
                  <a:pt x="93726" y="0"/>
                </a:cubicBezTo>
                <a:lnTo>
                  <a:pt x="89661" y="0"/>
                </a:lnTo>
                <a:cubicBezTo>
                  <a:pt x="89661" y="0"/>
                  <a:pt x="-2158" y="12446"/>
                  <a:pt x="0" y="97916"/>
                </a:cubicBezTo>
                <a:cubicBezTo>
                  <a:pt x="4191" y="141477"/>
                  <a:pt x="56388" y="208280"/>
                  <a:pt x="89661" y="208280"/>
                </a:cubicBezTo>
                <a:lnTo>
                  <a:pt x="93726" y="208280"/>
                </a:lnTo>
                <a:cubicBezTo>
                  <a:pt x="127127" y="208280"/>
                  <a:pt x="179197" y="141477"/>
                  <a:pt x="183388" y="97916"/>
                </a:cubicBezTo>
              </a:path>
            </a:pathLst>
          </a:custGeom>
          <a:solidFill>
            <a:srgbClr val="262626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3"/>
          <p:cNvSpPr/>
          <p:nvPr/>
        </p:nvSpPr>
        <p:spPr>
          <a:xfrm>
            <a:off x="3576600" y="1352520"/>
            <a:ext cx="546120" cy="1077840"/>
          </a:xfrm>
          <a:custGeom>
            <a:avLst/>
            <a:gdLst>
              <a:gd name="textAreaLeft" fmla="*/ 0 w 546120"/>
              <a:gd name="textAreaRight" fmla="*/ 546480 w 546120"/>
              <a:gd name="textAreaTop" fmla="*/ 0 h 1077840"/>
              <a:gd name="textAreaBottom" fmla="*/ 1078200 h 1077840"/>
            </a:gdLst>
            <a:ahLst/>
            <a:rect l="textAreaLeft" t="textAreaTop" r="textAreaRight" b="textAreaBottom"/>
            <a:pathLst>
              <a:path w="546115" h="1078484">
                <a:moveTo>
                  <a:pt x="543829" y="440690"/>
                </a:moveTo>
                <a:cubicBezTo>
                  <a:pt x="543829" y="440690"/>
                  <a:pt x="449976" y="78232"/>
                  <a:pt x="434355" y="40767"/>
                </a:cubicBezTo>
                <a:cubicBezTo>
                  <a:pt x="418861" y="3048"/>
                  <a:pt x="378094" y="0"/>
                  <a:pt x="378094" y="0"/>
                </a:cubicBezTo>
                <a:lnTo>
                  <a:pt x="275224" y="0"/>
                </a:lnTo>
                <a:lnTo>
                  <a:pt x="271033" y="0"/>
                </a:lnTo>
                <a:lnTo>
                  <a:pt x="168036" y="0"/>
                </a:lnTo>
                <a:cubicBezTo>
                  <a:pt x="168036" y="0"/>
                  <a:pt x="127143" y="3048"/>
                  <a:pt x="111775" y="40767"/>
                </a:cubicBezTo>
                <a:cubicBezTo>
                  <a:pt x="95900" y="78232"/>
                  <a:pt x="2301" y="440690"/>
                  <a:pt x="2301" y="440690"/>
                </a:cubicBezTo>
                <a:cubicBezTo>
                  <a:pt x="2301" y="440690"/>
                  <a:pt x="-6969" y="471805"/>
                  <a:pt x="11699" y="481203"/>
                </a:cubicBezTo>
                <a:cubicBezTo>
                  <a:pt x="30368" y="490728"/>
                  <a:pt x="52212" y="471805"/>
                  <a:pt x="64912" y="446913"/>
                </a:cubicBezTo>
                <a:cubicBezTo>
                  <a:pt x="77231" y="421894"/>
                  <a:pt x="152161" y="187706"/>
                  <a:pt x="152161" y="187706"/>
                </a:cubicBezTo>
                <a:lnTo>
                  <a:pt x="139843" y="500125"/>
                </a:lnTo>
                <a:lnTo>
                  <a:pt x="92979" y="1043940"/>
                </a:lnTo>
                <a:cubicBezTo>
                  <a:pt x="92979" y="1043940"/>
                  <a:pt x="114823" y="1081405"/>
                  <a:pt x="139843" y="1078484"/>
                </a:cubicBezTo>
                <a:cubicBezTo>
                  <a:pt x="164861" y="1075309"/>
                  <a:pt x="180482" y="1072261"/>
                  <a:pt x="186451" y="1043940"/>
                </a:cubicBezTo>
                <a:cubicBezTo>
                  <a:pt x="192420" y="1017650"/>
                  <a:pt x="263413" y="568197"/>
                  <a:pt x="273065" y="507238"/>
                </a:cubicBezTo>
                <a:cubicBezTo>
                  <a:pt x="272303" y="502666"/>
                  <a:pt x="271922" y="500125"/>
                  <a:pt x="271922" y="500125"/>
                </a:cubicBezTo>
                <a:lnTo>
                  <a:pt x="274208" y="500125"/>
                </a:lnTo>
                <a:cubicBezTo>
                  <a:pt x="274208" y="500125"/>
                  <a:pt x="273700" y="502666"/>
                  <a:pt x="273065" y="507238"/>
                </a:cubicBezTo>
                <a:cubicBezTo>
                  <a:pt x="282718" y="568197"/>
                  <a:pt x="353583" y="1017650"/>
                  <a:pt x="359425" y="1043940"/>
                </a:cubicBezTo>
                <a:cubicBezTo>
                  <a:pt x="365648" y="1072261"/>
                  <a:pt x="381269" y="1075309"/>
                  <a:pt x="406161" y="1078484"/>
                </a:cubicBezTo>
                <a:cubicBezTo>
                  <a:pt x="431053" y="1081405"/>
                  <a:pt x="453151" y="1043940"/>
                  <a:pt x="453151" y="1043940"/>
                </a:cubicBezTo>
                <a:lnTo>
                  <a:pt x="406161" y="500125"/>
                </a:lnTo>
                <a:lnTo>
                  <a:pt x="393715" y="187706"/>
                </a:lnTo>
                <a:cubicBezTo>
                  <a:pt x="393715" y="187706"/>
                  <a:pt x="468772" y="421894"/>
                  <a:pt x="481345" y="446913"/>
                </a:cubicBezTo>
                <a:cubicBezTo>
                  <a:pt x="493791" y="471805"/>
                  <a:pt x="515635" y="490728"/>
                  <a:pt x="534304" y="481203"/>
                </a:cubicBezTo>
                <a:cubicBezTo>
                  <a:pt x="553100" y="471805"/>
                  <a:pt x="543829" y="440690"/>
                  <a:pt x="543829" y="440690"/>
                </a:cubicBezTo>
              </a:path>
            </a:pathLst>
          </a:custGeom>
          <a:solidFill>
            <a:srgbClr val="262626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3"/>
          <p:cNvSpPr/>
          <p:nvPr/>
        </p:nvSpPr>
        <p:spPr>
          <a:xfrm>
            <a:off x="6775560" y="2971800"/>
            <a:ext cx="1403280" cy="1674720"/>
          </a:xfrm>
          <a:custGeom>
            <a:avLst/>
            <a:gdLst>
              <a:gd name="textAreaLeft" fmla="*/ 0 w 1403280"/>
              <a:gd name="textAreaRight" fmla="*/ 1403640 w 1403280"/>
              <a:gd name="textAreaTop" fmla="*/ 0 h 1674720"/>
              <a:gd name="textAreaBottom" fmla="*/ 1675080 h 1674720"/>
            </a:gdLst>
            <a:ahLst/>
            <a:rect l="textAreaLeft" t="textAreaTop" r="textAreaRight" b="textAreaBottom"/>
            <a:pathLst>
              <a:path w="1402333" h="1675129">
                <a:moveTo>
                  <a:pt x="566293" y="1675129"/>
                </a:moveTo>
                <a:cubicBezTo>
                  <a:pt x="565277" y="1639442"/>
                  <a:pt x="564769" y="1612772"/>
                  <a:pt x="564769" y="1594992"/>
                </a:cubicBezTo>
                <a:cubicBezTo>
                  <a:pt x="564769" y="1490217"/>
                  <a:pt x="579628" y="1399921"/>
                  <a:pt x="609219" y="1323721"/>
                </a:cubicBezTo>
                <a:cubicBezTo>
                  <a:pt x="631063" y="1266444"/>
                  <a:pt x="666115" y="1208659"/>
                  <a:pt x="714502" y="1150366"/>
                </a:cubicBezTo>
                <a:cubicBezTo>
                  <a:pt x="750061" y="1107821"/>
                  <a:pt x="814070" y="1045845"/>
                  <a:pt x="906526" y="964310"/>
                </a:cubicBezTo>
                <a:cubicBezTo>
                  <a:pt x="998855" y="882777"/>
                  <a:pt x="1058926" y="817753"/>
                  <a:pt x="1086611" y="769366"/>
                </a:cubicBezTo>
                <a:cubicBezTo>
                  <a:pt x="1114297" y="720979"/>
                  <a:pt x="1128141" y="668020"/>
                  <a:pt x="1128141" y="610742"/>
                </a:cubicBezTo>
                <a:cubicBezTo>
                  <a:pt x="1128141" y="506984"/>
                  <a:pt x="1087628" y="415797"/>
                  <a:pt x="1006602" y="337311"/>
                </a:cubicBezTo>
                <a:cubicBezTo>
                  <a:pt x="925448" y="258699"/>
                  <a:pt x="826134" y="219455"/>
                  <a:pt x="708532" y="219455"/>
                </a:cubicBezTo>
                <a:cubicBezTo>
                  <a:pt x="594995" y="219455"/>
                  <a:pt x="500126" y="255016"/>
                  <a:pt x="423926" y="326135"/>
                </a:cubicBezTo>
                <a:cubicBezTo>
                  <a:pt x="347853" y="397255"/>
                  <a:pt x="297942" y="508508"/>
                  <a:pt x="274320" y="659638"/>
                </a:cubicBezTo>
                <a:lnTo>
                  <a:pt x="0" y="627126"/>
                </a:lnTo>
                <a:cubicBezTo>
                  <a:pt x="24765" y="424434"/>
                  <a:pt x="98171" y="269366"/>
                  <a:pt x="220217" y="161671"/>
                </a:cubicBezTo>
                <a:cubicBezTo>
                  <a:pt x="342265" y="53848"/>
                  <a:pt x="503555" y="0"/>
                  <a:pt x="704088" y="0"/>
                </a:cubicBezTo>
                <a:cubicBezTo>
                  <a:pt x="916558" y="0"/>
                  <a:pt x="1086104" y="57911"/>
                  <a:pt x="1212595" y="173482"/>
                </a:cubicBezTo>
                <a:cubicBezTo>
                  <a:pt x="1339088" y="289052"/>
                  <a:pt x="1402333" y="428879"/>
                  <a:pt x="1402333" y="592963"/>
                </a:cubicBezTo>
                <a:cubicBezTo>
                  <a:pt x="1402333" y="687832"/>
                  <a:pt x="1380108" y="775335"/>
                  <a:pt x="1335658" y="855345"/>
                </a:cubicBezTo>
                <a:cubicBezTo>
                  <a:pt x="1291208" y="935354"/>
                  <a:pt x="1204214" y="1032764"/>
                  <a:pt x="1074673" y="1147317"/>
                </a:cubicBezTo>
                <a:cubicBezTo>
                  <a:pt x="987806" y="1224407"/>
                  <a:pt x="930909" y="1281303"/>
                  <a:pt x="904240" y="1317879"/>
                </a:cubicBezTo>
                <a:cubicBezTo>
                  <a:pt x="877570" y="1354454"/>
                  <a:pt x="857757" y="1396365"/>
                  <a:pt x="844931" y="1443863"/>
                </a:cubicBezTo>
                <a:cubicBezTo>
                  <a:pt x="832104" y="1491234"/>
                  <a:pt x="824738" y="1568322"/>
                  <a:pt x="822706" y="1675129"/>
                </a:cubicBezTo>
                <a:lnTo>
                  <a:pt x="566293" y="1675129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3"/>
          <p:cNvSpPr/>
          <p:nvPr/>
        </p:nvSpPr>
        <p:spPr>
          <a:xfrm>
            <a:off x="7324560" y="4800600"/>
            <a:ext cx="304920" cy="304920"/>
          </a:xfrm>
          <a:custGeom>
            <a:avLst/>
            <a:gdLst>
              <a:gd name="textAreaLeft" fmla="*/ 0 w 304920"/>
              <a:gd name="textAreaRight" fmla="*/ 305280 w 304920"/>
              <a:gd name="textAreaTop" fmla="*/ 0 h 304920"/>
              <a:gd name="textAreaBottom" fmla="*/ 305280 h 304920"/>
            </a:gdLst>
            <a:ahLst/>
            <a:rect l="textAreaLeft" t="textAreaTop" r="textAreaRight" b="textAreaBottom"/>
            <a:pathLst>
              <a:path w="303783" h="303910">
                <a:moveTo>
                  <a:pt x="0" y="303910"/>
                </a:moveTo>
                <a:lnTo>
                  <a:pt x="0" y="0"/>
                </a:lnTo>
                <a:lnTo>
                  <a:pt x="303783" y="0"/>
                </a:lnTo>
                <a:lnTo>
                  <a:pt x="303783" y="303910"/>
                </a:lnTo>
                <a:lnTo>
                  <a:pt x="0" y="303910"/>
                </a:lnTo>
              </a:path>
            </a:pathLst>
          </a:custGeom>
          <a:solidFill>
            <a:srgbClr val="000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1676520" y="1549440"/>
            <a:ext cx="1536480" cy="1968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3" descr=""/>
          <p:cNvPicPr/>
          <p:nvPr/>
        </p:nvPicPr>
        <p:blipFill>
          <a:blip r:embed="rId2"/>
          <a:stretch/>
        </p:blipFill>
        <p:spPr>
          <a:xfrm>
            <a:off x="3276720" y="1333440"/>
            <a:ext cx="444240" cy="457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3" descr=""/>
          <p:cNvPicPr/>
          <p:nvPr/>
        </p:nvPicPr>
        <p:blipFill>
          <a:blip r:embed="rId3"/>
          <a:stretch/>
        </p:blipFill>
        <p:spPr>
          <a:xfrm>
            <a:off x="4229280" y="1371600"/>
            <a:ext cx="495000" cy="482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3" descr=""/>
          <p:cNvPicPr/>
          <p:nvPr/>
        </p:nvPicPr>
        <p:blipFill>
          <a:blip r:embed="rId4"/>
          <a:stretch/>
        </p:blipFill>
        <p:spPr>
          <a:xfrm>
            <a:off x="4140360" y="2857680"/>
            <a:ext cx="901440" cy="8888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3" descr=""/>
          <p:cNvPicPr/>
          <p:nvPr/>
        </p:nvPicPr>
        <p:blipFill>
          <a:blip r:embed="rId5"/>
          <a:stretch/>
        </p:blipFill>
        <p:spPr>
          <a:xfrm>
            <a:off x="5105520" y="1727280"/>
            <a:ext cx="482400" cy="4824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3" descr=""/>
          <p:cNvPicPr/>
          <p:nvPr/>
        </p:nvPicPr>
        <p:blipFill>
          <a:blip r:embed="rId6"/>
          <a:stretch/>
        </p:blipFill>
        <p:spPr>
          <a:xfrm>
            <a:off x="5283360" y="2222640"/>
            <a:ext cx="736560" cy="74916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"/>
          <p:cNvSpPr/>
          <p:nvPr/>
        </p:nvSpPr>
        <p:spPr>
          <a:xfrm>
            <a:off x="1825200" y="3797280"/>
            <a:ext cx="4128120" cy="59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前有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iPad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，后有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GALAXY</a:t>
            </a:r>
            <a:r>
              <a:rPr b="0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TAB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等各类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Android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系统平板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,</a:t>
            </a: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作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微软雅黑"/>
              </a:rPr>
              <a:t>为一款全新的主打产品，我们该如何通过微博打动他们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Box 1"/>
          <p:cNvSpPr/>
          <p:nvPr/>
        </p:nvSpPr>
        <p:spPr>
          <a:xfrm>
            <a:off x="1161000" y="4373640"/>
            <a:ext cx="5423040" cy="9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7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微软雅黑"/>
              </a:rPr>
              <a:t>How to do It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CFC37-12D9-4012-AD06-482A7CACE27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TextBox 1"/>
          <p:cNvSpPr/>
          <p:nvPr/>
        </p:nvSpPr>
        <p:spPr>
          <a:xfrm>
            <a:off x="2198520" y="2362320"/>
            <a:ext cx="873720" cy="22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5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项目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微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博诊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传播策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推广服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25C8-36C2-4E76-BAB7-DFFDE4E0A6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Freeform 3"/>
          <p:cNvSpPr/>
          <p:nvPr/>
        </p:nvSpPr>
        <p:spPr>
          <a:xfrm>
            <a:off x="1474920" y="1343160"/>
            <a:ext cx="6465600" cy="3519360"/>
          </a:xfrm>
          <a:custGeom>
            <a:avLst/>
            <a:gdLst>
              <a:gd name="textAreaLeft" fmla="*/ 0 w 6465600"/>
              <a:gd name="textAreaRight" fmla="*/ 6465960 w 6465600"/>
              <a:gd name="textAreaTop" fmla="*/ 0 h 3519360"/>
              <a:gd name="textAreaBottom" fmla="*/ 3519720 h 3519360"/>
            </a:gdLst>
            <a:ahLst/>
            <a:rect l="textAreaLeft" t="textAreaTop" r="textAreaRight" b="textAreaBottom"/>
            <a:pathLst>
              <a:path w="6465315" h="3519423">
                <a:moveTo>
                  <a:pt x="6350" y="3513074"/>
                </a:moveTo>
                <a:lnTo>
                  <a:pt x="6458965" y="3513074"/>
                </a:lnTo>
                <a:lnTo>
                  <a:pt x="6458965" y="6350"/>
                </a:lnTo>
                <a:lnTo>
                  <a:pt x="6350" y="6350"/>
                </a:lnTo>
                <a:lnTo>
                  <a:pt x="6350" y="3513074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Freeform 3"/>
          <p:cNvSpPr/>
          <p:nvPr/>
        </p:nvSpPr>
        <p:spPr>
          <a:xfrm>
            <a:off x="1474920" y="1343160"/>
            <a:ext cx="21960" cy="3519360"/>
          </a:xfrm>
          <a:custGeom>
            <a:avLst/>
            <a:gdLst>
              <a:gd name="textAreaLeft" fmla="*/ 0 w 21960"/>
              <a:gd name="textAreaRight" fmla="*/ 22320 w 21960"/>
              <a:gd name="textAreaTop" fmla="*/ 0 h 3519360"/>
              <a:gd name="textAreaBottom" fmla="*/ 3519720 h 3519360"/>
            </a:gdLst>
            <a:ahLst/>
            <a:rect l="textAreaLeft" t="textAreaTop" r="textAreaRight" b="textAreaBottom"/>
            <a:pathLst>
              <a:path w="21844" h="3519423">
                <a:moveTo>
                  <a:pt x="6350" y="3513074"/>
                </a:moveTo>
                <a:lnTo>
                  <a:pt x="6350" y="63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reeform 3"/>
          <p:cNvSpPr/>
          <p:nvPr/>
        </p:nvSpPr>
        <p:spPr>
          <a:xfrm>
            <a:off x="1430280" y="4851360"/>
            <a:ext cx="57240" cy="20520"/>
          </a:xfrm>
          <a:custGeom>
            <a:avLst/>
            <a:gdLst>
              <a:gd name="textAreaLeft" fmla="*/ 0 w 57240"/>
              <a:gd name="textAreaRight" fmla="*/ 57600 w 572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56896" h="21844">
                <a:moveTo>
                  <a:pt x="6350" y="6350"/>
                </a:moveTo>
                <a:lnTo>
                  <a:pt x="50545" y="63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reeform 3"/>
          <p:cNvSpPr/>
          <p:nvPr/>
        </p:nvSpPr>
        <p:spPr>
          <a:xfrm>
            <a:off x="1430280" y="4267080"/>
            <a:ext cx="57240" cy="22320"/>
          </a:xfrm>
          <a:custGeom>
            <a:avLst/>
            <a:gdLst>
              <a:gd name="textAreaLeft" fmla="*/ 0 w 57240"/>
              <a:gd name="textAreaRight" fmla="*/ 57600 w 572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6896" h="21844">
                <a:moveTo>
                  <a:pt x="6350" y="6350"/>
                </a:moveTo>
                <a:lnTo>
                  <a:pt x="50545" y="63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Freeform 3"/>
          <p:cNvSpPr/>
          <p:nvPr/>
        </p:nvSpPr>
        <p:spPr>
          <a:xfrm>
            <a:off x="1430280" y="3681360"/>
            <a:ext cx="57240" cy="22320"/>
          </a:xfrm>
          <a:custGeom>
            <a:avLst/>
            <a:gdLst>
              <a:gd name="textAreaLeft" fmla="*/ 0 w 57240"/>
              <a:gd name="textAreaRight" fmla="*/ 57600 w 572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6896" h="21844">
                <a:moveTo>
                  <a:pt x="6350" y="6350"/>
                </a:moveTo>
                <a:lnTo>
                  <a:pt x="50545" y="63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Freeform 3"/>
          <p:cNvSpPr/>
          <p:nvPr/>
        </p:nvSpPr>
        <p:spPr>
          <a:xfrm>
            <a:off x="1430280" y="3095640"/>
            <a:ext cx="57240" cy="22320"/>
          </a:xfrm>
          <a:custGeom>
            <a:avLst/>
            <a:gdLst>
              <a:gd name="textAreaLeft" fmla="*/ 0 w 57240"/>
              <a:gd name="textAreaRight" fmla="*/ 57600 w 572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6896" h="21844">
                <a:moveTo>
                  <a:pt x="6350" y="6350"/>
                </a:moveTo>
                <a:lnTo>
                  <a:pt x="50545" y="63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reeform 3"/>
          <p:cNvSpPr/>
          <p:nvPr/>
        </p:nvSpPr>
        <p:spPr>
          <a:xfrm>
            <a:off x="1430280" y="2513160"/>
            <a:ext cx="57240" cy="20520"/>
          </a:xfrm>
          <a:custGeom>
            <a:avLst/>
            <a:gdLst>
              <a:gd name="textAreaLeft" fmla="*/ 0 w 57240"/>
              <a:gd name="textAreaRight" fmla="*/ 57600 w 57240"/>
              <a:gd name="textAreaTop" fmla="*/ 0 h 20520"/>
              <a:gd name="textAreaBottom" fmla="*/ 20880 h 20520"/>
            </a:gdLst>
            <a:ahLst/>
            <a:rect l="textAreaLeft" t="textAreaTop" r="textAreaRight" b="textAreaBottom"/>
            <a:pathLst>
              <a:path w="56896" h="21844">
                <a:moveTo>
                  <a:pt x="6350" y="6350"/>
                </a:moveTo>
                <a:lnTo>
                  <a:pt x="50545" y="63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3"/>
          <p:cNvSpPr/>
          <p:nvPr/>
        </p:nvSpPr>
        <p:spPr>
          <a:xfrm>
            <a:off x="1430280" y="1927080"/>
            <a:ext cx="57240" cy="22320"/>
          </a:xfrm>
          <a:custGeom>
            <a:avLst/>
            <a:gdLst>
              <a:gd name="textAreaLeft" fmla="*/ 0 w 57240"/>
              <a:gd name="textAreaRight" fmla="*/ 57600 w 5724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6896" h="21844">
                <a:moveTo>
                  <a:pt x="6350" y="6350"/>
                </a:moveTo>
                <a:lnTo>
                  <a:pt x="50545" y="63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Freeform 3"/>
          <p:cNvSpPr/>
          <p:nvPr/>
        </p:nvSpPr>
        <p:spPr>
          <a:xfrm>
            <a:off x="1430280" y="1343160"/>
            <a:ext cx="57240" cy="21960"/>
          </a:xfrm>
          <a:custGeom>
            <a:avLst/>
            <a:gdLst>
              <a:gd name="textAreaLeft" fmla="*/ 0 w 57240"/>
              <a:gd name="textAreaRight" fmla="*/ 57600 w 57240"/>
              <a:gd name="textAreaTop" fmla="*/ 0 h 21960"/>
              <a:gd name="textAreaBottom" fmla="*/ 22320 h 21960"/>
            </a:gdLst>
            <a:ahLst/>
            <a:rect l="textAreaLeft" t="textAreaTop" r="textAreaRight" b="textAreaBottom"/>
            <a:pathLst>
              <a:path w="56896" h="21844">
                <a:moveTo>
                  <a:pt x="6350" y="6350"/>
                </a:moveTo>
                <a:lnTo>
                  <a:pt x="50545" y="6350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Freeform 3"/>
          <p:cNvSpPr/>
          <p:nvPr/>
        </p:nvSpPr>
        <p:spPr>
          <a:xfrm>
            <a:off x="4995720" y="2808360"/>
            <a:ext cx="800280" cy="799920"/>
          </a:xfrm>
          <a:custGeom>
            <a:avLst/>
            <a:gdLst>
              <a:gd name="textAreaLeft" fmla="*/ 0 w 800280"/>
              <a:gd name="textAreaRight" fmla="*/ 800640 w 800280"/>
              <a:gd name="textAreaTop" fmla="*/ 0 h 799920"/>
              <a:gd name="textAreaBottom" fmla="*/ 800280 h 799920"/>
            </a:gdLst>
            <a:ahLst/>
            <a:rect l="textAreaLeft" t="textAreaTop" r="textAreaRight" b="textAreaBottom"/>
            <a:pathLst>
              <a:path w="800100" h="800100">
                <a:moveTo>
                  <a:pt x="800100" y="400050"/>
                </a:moveTo>
                <a:cubicBezTo>
                  <a:pt x="800100" y="621029"/>
                  <a:pt x="621030" y="800100"/>
                  <a:pt x="400050" y="800100"/>
                </a:cubicBezTo>
                <a:cubicBezTo>
                  <a:pt x="179070" y="800100"/>
                  <a:pt x="0" y="621029"/>
                  <a:pt x="0" y="400050"/>
                </a:cubicBezTo>
                <a:cubicBezTo>
                  <a:pt x="0" y="179069"/>
                  <a:pt x="179070" y="0"/>
                  <a:pt x="400050" y="0"/>
                </a:cubicBezTo>
                <a:cubicBezTo>
                  <a:pt x="621030" y="0"/>
                  <a:pt x="800100" y="179069"/>
                  <a:pt x="800100" y="400050"/>
                </a:cubicBezTo>
              </a:path>
            </a:pathLst>
          </a:custGeom>
          <a:solidFill>
            <a:srgbClr val="ffd34d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reeform 3"/>
          <p:cNvSpPr/>
          <p:nvPr/>
        </p:nvSpPr>
        <p:spPr>
          <a:xfrm>
            <a:off x="2406600" y="1360440"/>
            <a:ext cx="860400" cy="860400"/>
          </a:xfrm>
          <a:custGeom>
            <a:avLst/>
            <a:gdLst>
              <a:gd name="textAreaLeft" fmla="*/ 0 w 860400"/>
              <a:gd name="textAreaRight" fmla="*/ 860760 w 860400"/>
              <a:gd name="textAreaTop" fmla="*/ 0 h 860400"/>
              <a:gd name="textAreaBottom" fmla="*/ 860760 h 860400"/>
            </a:gdLst>
            <a:ahLst/>
            <a:rect l="textAreaLeft" t="textAreaTop" r="textAreaRight" b="textAreaBottom"/>
            <a:pathLst>
              <a:path w="859536" h="859535">
                <a:moveTo>
                  <a:pt x="859536" y="429767"/>
                </a:moveTo>
                <a:cubicBezTo>
                  <a:pt x="859536" y="667130"/>
                  <a:pt x="667130" y="859535"/>
                  <a:pt x="429768" y="859535"/>
                </a:cubicBezTo>
                <a:cubicBezTo>
                  <a:pt x="192405" y="859535"/>
                  <a:pt x="0" y="667130"/>
                  <a:pt x="0" y="429767"/>
                </a:cubicBezTo>
                <a:cubicBezTo>
                  <a:pt x="0" y="192404"/>
                  <a:pt x="192405" y="0"/>
                  <a:pt x="429768" y="0"/>
                </a:cubicBezTo>
                <a:cubicBezTo>
                  <a:pt x="667130" y="0"/>
                  <a:pt x="859536" y="192404"/>
                  <a:pt x="859536" y="429767"/>
                </a:cubicBezTo>
              </a:path>
            </a:pathLst>
          </a:custGeom>
          <a:solidFill>
            <a:srgbClr val="61cef5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reeform 3"/>
          <p:cNvSpPr/>
          <p:nvPr/>
        </p:nvSpPr>
        <p:spPr>
          <a:xfrm>
            <a:off x="6575400" y="4167360"/>
            <a:ext cx="93600" cy="93600"/>
          </a:xfrm>
          <a:custGeom>
            <a:avLst/>
            <a:gdLst>
              <a:gd name="textAreaLeft" fmla="*/ 0 w 93600"/>
              <a:gd name="textAreaRight" fmla="*/ 93960 w 9360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94488" h="94488">
                <a:moveTo>
                  <a:pt x="94488" y="47244"/>
                </a:moveTo>
                <a:cubicBezTo>
                  <a:pt x="94488" y="73279"/>
                  <a:pt x="73279" y="94488"/>
                  <a:pt x="47244" y="94488"/>
                </a:cubicBezTo>
                <a:cubicBezTo>
                  <a:pt x="21208" y="94488"/>
                  <a:pt x="0" y="73279"/>
                  <a:pt x="0" y="47244"/>
                </a:cubicBezTo>
                <a:cubicBezTo>
                  <a:pt x="0" y="21209"/>
                  <a:pt x="21208" y="0"/>
                  <a:pt x="47244" y="0"/>
                </a:cubicBezTo>
                <a:cubicBezTo>
                  <a:pt x="73279" y="0"/>
                  <a:pt x="94488" y="21209"/>
                  <a:pt x="94488" y="47244"/>
                </a:cubicBezTo>
              </a:path>
            </a:pathLst>
          </a:custGeom>
          <a:solidFill>
            <a:srgbClr val="61cef5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3"/>
          <p:cNvSpPr/>
          <p:nvPr/>
        </p:nvSpPr>
        <p:spPr>
          <a:xfrm>
            <a:off x="1565280" y="3648240"/>
            <a:ext cx="4441680" cy="2520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4441825" h="25400">
                <a:moveTo>
                  <a:pt x="6350" y="6350"/>
                </a:moveTo>
                <a:lnTo>
                  <a:pt x="4435475" y="63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3"/>
          <p:cNvSpPr/>
          <p:nvPr/>
        </p:nvSpPr>
        <p:spPr>
          <a:xfrm>
            <a:off x="1565280" y="4791240"/>
            <a:ext cx="4441680" cy="25200"/>
          </a:xfrm>
          <a:custGeom>
            <a:avLst/>
            <a:gdLst>
              <a:gd name="textAreaLeft" fmla="*/ 0 w 4441680"/>
              <a:gd name="textAreaRight" fmla="*/ 4442040 w 4441680"/>
              <a:gd name="textAreaTop" fmla="*/ 0 h 25200"/>
              <a:gd name="textAreaBottom" fmla="*/ 25560 h 25200"/>
            </a:gdLst>
            <a:ahLst/>
            <a:rect l="textAreaLeft" t="textAreaTop" r="textAreaRight" b="textAreaBottom"/>
            <a:pathLst>
              <a:path w="4441825" h="25400">
                <a:moveTo>
                  <a:pt x="6350" y="6350"/>
                </a:moveTo>
                <a:lnTo>
                  <a:pt x="4435475" y="635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Freeform 3"/>
          <p:cNvSpPr/>
          <p:nvPr/>
        </p:nvSpPr>
        <p:spPr>
          <a:xfrm>
            <a:off x="714240" y="5464080"/>
            <a:ext cx="7747200" cy="739800"/>
          </a:xfrm>
          <a:custGeom>
            <a:avLst/>
            <a:gdLst>
              <a:gd name="textAreaLeft" fmla="*/ 0 w 7747200"/>
              <a:gd name="textAreaRight" fmla="*/ 7747560 w 774720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7746110" h="738670">
                <a:moveTo>
                  <a:pt x="0" y="738670"/>
                </a:moveTo>
                <a:lnTo>
                  <a:pt x="7746110" y="738670"/>
                </a:lnTo>
                <a:lnTo>
                  <a:pt x="7746110" y="0"/>
                </a:lnTo>
                <a:lnTo>
                  <a:pt x="0" y="0"/>
                </a:lnTo>
                <a:lnTo>
                  <a:pt x="0" y="738670"/>
                </a:ln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1"/>
          <p:cNvSpPr/>
          <p:nvPr/>
        </p:nvSpPr>
        <p:spPr>
          <a:xfrm>
            <a:off x="919080" y="266760"/>
            <a:ext cx="1490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微博诊断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竞品对比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1"/>
          <p:cNvSpPr/>
          <p:nvPr/>
        </p:nvSpPr>
        <p:spPr>
          <a:xfrm>
            <a:off x="6907320" y="4127400"/>
            <a:ext cx="7124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戴尔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streak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粉丝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"/>
          <p:cNvSpPr/>
          <p:nvPr/>
        </p:nvSpPr>
        <p:spPr>
          <a:xfrm>
            <a:off x="1035360" y="4178160"/>
            <a:ext cx="26784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-2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"/>
          <p:cNvSpPr/>
          <p:nvPr/>
        </p:nvSpPr>
        <p:spPr>
          <a:xfrm>
            <a:off x="1088640" y="3594240"/>
            <a:ext cx="1926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2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1"/>
          <p:cNvSpPr/>
          <p:nvPr/>
        </p:nvSpPr>
        <p:spPr>
          <a:xfrm>
            <a:off x="1146600" y="4940280"/>
            <a:ext cx="5767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2010/09/2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1"/>
          <p:cNvSpPr/>
          <p:nvPr/>
        </p:nvSpPr>
        <p:spPr>
          <a:xfrm>
            <a:off x="2226240" y="4940280"/>
            <a:ext cx="5767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2010/11/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1"/>
          <p:cNvSpPr/>
          <p:nvPr/>
        </p:nvSpPr>
        <p:spPr>
          <a:xfrm>
            <a:off x="3305880" y="4940280"/>
            <a:ext cx="5767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2011/01/0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"/>
          <p:cNvSpPr/>
          <p:nvPr/>
        </p:nvSpPr>
        <p:spPr>
          <a:xfrm>
            <a:off x="4372560" y="4940280"/>
            <a:ext cx="5767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2011/02/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"/>
          <p:cNvSpPr/>
          <p:nvPr/>
        </p:nvSpPr>
        <p:spPr>
          <a:xfrm>
            <a:off x="5452200" y="4940280"/>
            <a:ext cx="5767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2011/04/17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"/>
          <p:cNvSpPr/>
          <p:nvPr/>
        </p:nvSpPr>
        <p:spPr>
          <a:xfrm>
            <a:off x="6531480" y="4940280"/>
            <a:ext cx="5767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2011/06/0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"/>
          <p:cNvSpPr/>
          <p:nvPr/>
        </p:nvSpPr>
        <p:spPr>
          <a:xfrm>
            <a:off x="7611120" y="4940280"/>
            <a:ext cx="5767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2011/07/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"/>
          <p:cNvSpPr/>
          <p:nvPr/>
        </p:nvSpPr>
        <p:spPr>
          <a:xfrm>
            <a:off x="895680" y="1117440"/>
            <a:ext cx="395640" cy="20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0152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微博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1,0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0152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8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0152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6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0152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599"/>
              </a:lnSpc>
              <a:tabLst>
                <a:tab algn="l" pos="0"/>
                <a:tab algn="l" pos="101520"/>
                <a:tab algn="l" pos="203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40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1"/>
          <p:cNvSpPr/>
          <p:nvPr/>
        </p:nvSpPr>
        <p:spPr>
          <a:xfrm>
            <a:off x="2754360" y="965160"/>
            <a:ext cx="3689280" cy="23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2299"/>
              </a:lnSpc>
              <a:tabLst>
                <a:tab algn="l" pos="0"/>
                <a:tab algn="l" pos="7491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戴尔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streak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粉丝团微博及竞品微博概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698"/>
              </a:lnSpc>
              <a:tabLst>
                <a:tab algn="l" pos="0"/>
                <a:tab algn="l" pos="7491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惠普点亮激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7491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098"/>
              </a:lnSpc>
              <a:tabLst>
                <a:tab algn="l" pos="0"/>
                <a:tab algn="l" pos="749160"/>
                <a:tab algn="l" pos="32893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联想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Z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流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Box 1"/>
          <p:cNvSpPr/>
          <p:nvPr/>
        </p:nvSpPr>
        <p:spPr>
          <a:xfrm>
            <a:off x="6841080" y="1397160"/>
            <a:ext cx="73224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7f7f7f"/>
                </a:solidFill>
                <a:latin typeface="Arial"/>
                <a:ea typeface="微软雅黑"/>
              </a:rPr>
              <a:t>注：气泡大小表示粉丝规模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1740960" y="3772080"/>
            <a:ext cx="4122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品牌微博名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1"/>
          <p:cNvSpPr/>
          <p:nvPr/>
        </p:nvSpPr>
        <p:spPr>
          <a:xfrm>
            <a:off x="3176640" y="3772080"/>
            <a:ext cx="60300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创立时间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微软雅黑"/>
              </a:rPr>
              <a:t>    </a:t>
            </a:r>
            <a:r>
              <a:rPr b="1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微博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Box 1"/>
          <p:cNvSpPr/>
          <p:nvPr/>
        </p:nvSpPr>
        <p:spPr>
          <a:xfrm>
            <a:off x="4228920" y="3772080"/>
            <a:ext cx="2066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粉丝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1"/>
          <p:cNvSpPr/>
          <p:nvPr/>
        </p:nvSpPr>
        <p:spPr>
          <a:xfrm>
            <a:off x="4674960" y="3695760"/>
            <a:ext cx="397080" cy="36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活跃度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199"/>
              </a:lnSpc>
              <a:tabLst>
                <a:tab algn="l" pos="0"/>
                <a:tab algn="l" pos="190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（条</a:t>
            </a:r>
            <a:r>
              <a:rPr b="1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/</a:t>
            </a:r>
            <a:r>
              <a:rPr b="1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天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1"/>
          <p:cNvSpPr/>
          <p:nvPr/>
        </p:nvSpPr>
        <p:spPr>
          <a:xfrm>
            <a:off x="5334120" y="3772080"/>
            <a:ext cx="4993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粉丝数</a:t>
            </a:r>
            <a:r>
              <a:rPr b="1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/</a:t>
            </a:r>
            <a:r>
              <a:rPr b="1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微博数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1"/>
          <p:cNvSpPr/>
          <p:nvPr/>
        </p:nvSpPr>
        <p:spPr>
          <a:xfrm>
            <a:off x="1700280" y="4102200"/>
            <a:ext cx="712440" cy="6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惠普点亮激情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联想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Z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流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戴尔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streak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粉丝团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1"/>
          <p:cNvSpPr/>
          <p:nvPr/>
        </p:nvSpPr>
        <p:spPr>
          <a:xfrm>
            <a:off x="2784960" y="4102200"/>
            <a:ext cx="576720" cy="6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10/12/0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11/03/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11/05/2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"/>
          <p:cNvSpPr/>
          <p:nvPr/>
        </p:nvSpPr>
        <p:spPr>
          <a:xfrm>
            <a:off x="3740040" y="4102200"/>
            <a:ext cx="20520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84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36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76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2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"/>
          <p:cNvSpPr/>
          <p:nvPr/>
        </p:nvSpPr>
        <p:spPr>
          <a:xfrm>
            <a:off x="4124880" y="4102200"/>
            <a:ext cx="37044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30,42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26,28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36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"/>
          <p:cNvSpPr/>
          <p:nvPr/>
        </p:nvSpPr>
        <p:spPr>
          <a:xfrm>
            <a:off x="4973400" y="4102200"/>
            <a:ext cx="16092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4.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4.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1.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"/>
          <p:cNvSpPr/>
          <p:nvPr/>
        </p:nvSpPr>
        <p:spPr>
          <a:xfrm>
            <a:off x="5848200" y="4102200"/>
            <a:ext cx="128880" cy="6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36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7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1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1077480" y="5143680"/>
            <a:ext cx="7744680" cy="16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6235560"/>
                <a:tab algn="l" pos="6337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品牌微博创建时间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235560"/>
                <a:tab algn="l" pos="6337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798"/>
              </a:lnSpc>
              <a:tabLst>
                <a:tab algn="l" pos="0"/>
                <a:tab algn="l" pos="6235560"/>
                <a:tab algn="l" pos="6337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不竞品微博的表现对比来看，戴尔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ak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粉丝团微博，创建时间较短，粉丝觃模较小，丏微博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6235560"/>
                <a:tab algn="l" pos="6337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跃度较低，微博内容质量有待提高，明显低亍竞品水平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235560"/>
                <a:tab algn="l" pos="6337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235560"/>
                <a:tab algn="l" pos="6337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235560"/>
                <a:tab algn="l" pos="6337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6235560"/>
                <a:tab algn="l" pos="6337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6235560"/>
                <a:tab algn="l" pos="6337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Source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：新浪微博，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2011/06/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6F7A1-BE24-4231-A050-1BFA3BB01B6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3"/>
          <p:cNvSpPr/>
          <p:nvPr/>
        </p:nvSpPr>
        <p:spPr>
          <a:xfrm>
            <a:off x="4334040" y="3905280"/>
            <a:ext cx="18720" cy="615960"/>
          </a:xfrm>
          <a:custGeom>
            <a:avLst/>
            <a:gdLst>
              <a:gd name="textAreaLeft" fmla="*/ 0 w 18720"/>
              <a:gd name="textAreaRight" fmla="*/ 19080 w 1872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8288" h="615696">
                <a:moveTo>
                  <a:pt x="9144" y="0"/>
                </a:moveTo>
                <a:lnTo>
                  <a:pt x="9144" y="615696"/>
                </a:lnTo>
              </a:path>
            </a:pathLst>
          </a:custGeom>
          <a:noFill/>
          <a:ln w="12600">
            <a:solidFill>
              <a:srgbClr val="00b0f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3"/>
          <p:cNvSpPr/>
          <p:nvPr/>
        </p:nvSpPr>
        <p:spPr>
          <a:xfrm>
            <a:off x="4327560" y="3898800"/>
            <a:ext cx="31680" cy="628920"/>
          </a:xfrm>
          <a:custGeom>
            <a:avLst/>
            <a:gdLst>
              <a:gd name="textAreaLeft" fmla="*/ 0 w 31680"/>
              <a:gd name="textAreaRight" fmla="*/ 32040 w 31680"/>
              <a:gd name="textAreaTop" fmla="*/ 0 h 628920"/>
              <a:gd name="textAreaBottom" fmla="*/ 629280 h 628920"/>
            </a:gdLst>
            <a:ahLst/>
            <a:rect l="textAreaLeft" t="textAreaTop" r="textAreaRight" b="textAreaBottom"/>
            <a:pathLst>
              <a:path w="30988" h="628396">
                <a:moveTo>
                  <a:pt x="6350" y="622046"/>
                </a:moveTo>
                <a:lnTo>
                  <a:pt x="24638" y="622046"/>
                </a:lnTo>
                <a:lnTo>
                  <a:pt x="24638" y="6350"/>
                </a:lnTo>
                <a:lnTo>
                  <a:pt x="6350" y="6350"/>
                </a:lnTo>
                <a:lnTo>
                  <a:pt x="6350" y="62204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3"/>
          <p:cNvSpPr/>
          <p:nvPr/>
        </p:nvSpPr>
        <p:spPr>
          <a:xfrm>
            <a:off x="4334040" y="2859120"/>
            <a:ext cx="779400" cy="615960"/>
          </a:xfrm>
          <a:custGeom>
            <a:avLst/>
            <a:gdLst>
              <a:gd name="textAreaLeft" fmla="*/ 0 w 779400"/>
              <a:gd name="textAreaRight" fmla="*/ 779760 w 77940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778764" h="615696">
                <a:moveTo>
                  <a:pt x="0" y="615696"/>
                </a:moveTo>
                <a:lnTo>
                  <a:pt x="778764" y="615696"/>
                </a:lnTo>
                <a:lnTo>
                  <a:pt x="778764" y="0"/>
                </a:lnTo>
                <a:lnTo>
                  <a:pt x="0" y="0"/>
                </a:lnTo>
                <a:lnTo>
                  <a:pt x="0" y="615696"/>
                </a:lnTo>
              </a:path>
            </a:pathLst>
          </a:custGeom>
          <a:solidFill>
            <a:srgbClr val="00b0f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Freeform 3"/>
          <p:cNvSpPr/>
          <p:nvPr/>
        </p:nvSpPr>
        <p:spPr>
          <a:xfrm>
            <a:off x="4327560" y="2852640"/>
            <a:ext cx="792000" cy="628920"/>
          </a:xfrm>
          <a:custGeom>
            <a:avLst/>
            <a:gdLst>
              <a:gd name="textAreaLeft" fmla="*/ 0 w 792000"/>
              <a:gd name="textAreaRight" fmla="*/ 792360 w 792000"/>
              <a:gd name="textAreaTop" fmla="*/ 0 h 628920"/>
              <a:gd name="textAreaBottom" fmla="*/ 629280 h 628920"/>
            </a:gdLst>
            <a:ahLst/>
            <a:rect l="textAreaLeft" t="textAreaTop" r="textAreaRight" b="textAreaBottom"/>
            <a:pathLst>
              <a:path w="791464" h="628396">
                <a:moveTo>
                  <a:pt x="6350" y="622046"/>
                </a:moveTo>
                <a:lnTo>
                  <a:pt x="785114" y="622046"/>
                </a:lnTo>
                <a:lnTo>
                  <a:pt x="785114" y="6350"/>
                </a:lnTo>
                <a:lnTo>
                  <a:pt x="6350" y="6350"/>
                </a:lnTo>
                <a:lnTo>
                  <a:pt x="6350" y="62204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3"/>
          <p:cNvSpPr/>
          <p:nvPr/>
        </p:nvSpPr>
        <p:spPr>
          <a:xfrm>
            <a:off x="4334040" y="1812960"/>
            <a:ext cx="2163600" cy="615960"/>
          </a:xfrm>
          <a:custGeom>
            <a:avLst/>
            <a:gdLst>
              <a:gd name="textAreaLeft" fmla="*/ 0 w 2163600"/>
              <a:gd name="textAreaRight" fmla="*/ 2163960 w 216360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2162555" h="615696">
                <a:moveTo>
                  <a:pt x="0" y="615696"/>
                </a:moveTo>
                <a:lnTo>
                  <a:pt x="2162555" y="615696"/>
                </a:lnTo>
                <a:lnTo>
                  <a:pt x="2162555" y="0"/>
                </a:lnTo>
                <a:lnTo>
                  <a:pt x="0" y="0"/>
                </a:lnTo>
                <a:lnTo>
                  <a:pt x="0" y="615696"/>
                </a:lnTo>
              </a:path>
            </a:pathLst>
          </a:custGeom>
          <a:solidFill>
            <a:srgbClr val="00b0f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reeform 3"/>
          <p:cNvSpPr/>
          <p:nvPr/>
        </p:nvSpPr>
        <p:spPr>
          <a:xfrm>
            <a:off x="4327560" y="1806480"/>
            <a:ext cx="2176560" cy="628920"/>
          </a:xfrm>
          <a:custGeom>
            <a:avLst/>
            <a:gdLst>
              <a:gd name="textAreaLeft" fmla="*/ 0 w 2176560"/>
              <a:gd name="textAreaRight" fmla="*/ 2176920 w 2176560"/>
              <a:gd name="textAreaTop" fmla="*/ 0 h 628920"/>
              <a:gd name="textAreaBottom" fmla="*/ 629280 h 628920"/>
            </a:gdLst>
            <a:ahLst/>
            <a:rect l="textAreaLeft" t="textAreaTop" r="textAreaRight" b="textAreaBottom"/>
            <a:pathLst>
              <a:path w="2175255" h="628396">
                <a:moveTo>
                  <a:pt x="6350" y="622046"/>
                </a:moveTo>
                <a:lnTo>
                  <a:pt x="2168905" y="622046"/>
                </a:lnTo>
                <a:lnTo>
                  <a:pt x="2168905" y="6350"/>
                </a:lnTo>
                <a:lnTo>
                  <a:pt x="6350" y="6350"/>
                </a:lnTo>
                <a:lnTo>
                  <a:pt x="6350" y="62204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reeform 3"/>
          <p:cNvSpPr/>
          <p:nvPr/>
        </p:nvSpPr>
        <p:spPr>
          <a:xfrm>
            <a:off x="4346640" y="3468600"/>
            <a:ext cx="772920" cy="443160"/>
          </a:xfrm>
          <a:custGeom>
            <a:avLst/>
            <a:gdLst>
              <a:gd name="textAreaLeft" fmla="*/ 0 w 772920"/>
              <a:gd name="textAreaRight" fmla="*/ 773280 w 77292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773176" h="442468">
                <a:moveTo>
                  <a:pt x="766826" y="6350"/>
                </a:moveTo>
                <a:lnTo>
                  <a:pt x="6350" y="436117"/>
                </a:lnTo>
              </a:path>
            </a:pathLst>
          </a:custGeom>
          <a:noFill/>
          <a:ln w="12600">
            <a:solidFill>
              <a:srgbClr val="d9d9d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Freeform 3"/>
          <p:cNvSpPr/>
          <p:nvPr/>
        </p:nvSpPr>
        <p:spPr>
          <a:xfrm>
            <a:off x="5106960" y="2421000"/>
            <a:ext cx="1395360" cy="444600"/>
          </a:xfrm>
          <a:custGeom>
            <a:avLst/>
            <a:gdLst>
              <a:gd name="textAreaLeft" fmla="*/ 0 w 1395360"/>
              <a:gd name="textAreaRight" fmla="*/ 1395720 w 139536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1396491" h="443991">
                <a:moveTo>
                  <a:pt x="1390141" y="6350"/>
                </a:moveTo>
                <a:lnTo>
                  <a:pt x="6350" y="437641"/>
                </a:lnTo>
              </a:path>
            </a:pathLst>
          </a:custGeom>
          <a:noFill/>
          <a:ln w="12600">
            <a:solidFill>
              <a:srgbClr val="d9d9d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Freeform 3"/>
          <p:cNvSpPr/>
          <p:nvPr/>
        </p:nvSpPr>
        <p:spPr>
          <a:xfrm>
            <a:off x="4308480" y="3905280"/>
            <a:ext cx="25560" cy="615960"/>
          </a:xfrm>
          <a:custGeom>
            <a:avLst/>
            <a:gdLst>
              <a:gd name="textAreaLeft" fmla="*/ 0 w 25560"/>
              <a:gd name="textAreaRight" fmla="*/ 25920 w 255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25908" h="615696">
                <a:moveTo>
                  <a:pt x="12954" y="0"/>
                </a:moveTo>
                <a:lnTo>
                  <a:pt x="12954" y="615696"/>
                </a:lnTo>
              </a:path>
            </a:pathLst>
          </a:custGeom>
          <a:noFill/>
          <a:ln w="2556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Freeform 3"/>
          <p:cNvSpPr/>
          <p:nvPr/>
        </p:nvSpPr>
        <p:spPr>
          <a:xfrm>
            <a:off x="4302000" y="3898800"/>
            <a:ext cx="38160" cy="628920"/>
          </a:xfrm>
          <a:custGeom>
            <a:avLst/>
            <a:gdLst>
              <a:gd name="textAreaLeft" fmla="*/ 0 w 38160"/>
              <a:gd name="textAreaRight" fmla="*/ 38160 w 38160"/>
              <a:gd name="textAreaTop" fmla="*/ 0 h 628920"/>
              <a:gd name="textAreaBottom" fmla="*/ 629280 h 628920"/>
            </a:gdLst>
            <a:ahLst/>
            <a:rect l="textAreaLeft" t="textAreaTop" r="textAreaRight" b="textAreaBottom"/>
            <a:pathLst>
              <a:path w="38608" h="628396">
                <a:moveTo>
                  <a:pt x="6350" y="622046"/>
                </a:moveTo>
                <a:lnTo>
                  <a:pt x="32258" y="622046"/>
                </a:lnTo>
                <a:lnTo>
                  <a:pt x="32258" y="6350"/>
                </a:lnTo>
                <a:lnTo>
                  <a:pt x="6350" y="6350"/>
                </a:lnTo>
                <a:lnTo>
                  <a:pt x="6350" y="62204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3"/>
          <p:cNvSpPr/>
          <p:nvPr/>
        </p:nvSpPr>
        <p:spPr>
          <a:xfrm>
            <a:off x="4175280" y="2859120"/>
            <a:ext cx="158760" cy="615960"/>
          </a:xfrm>
          <a:custGeom>
            <a:avLst/>
            <a:gdLst>
              <a:gd name="textAreaLeft" fmla="*/ 0 w 158760"/>
              <a:gd name="textAreaRight" fmla="*/ 159120 w 15876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58496" h="615696">
                <a:moveTo>
                  <a:pt x="0" y="615696"/>
                </a:moveTo>
                <a:lnTo>
                  <a:pt x="158496" y="615696"/>
                </a:lnTo>
                <a:lnTo>
                  <a:pt x="158496" y="0"/>
                </a:lnTo>
                <a:lnTo>
                  <a:pt x="0" y="0"/>
                </a:lnTo>
                <a:lnTo>
                  <a:pt x="0" y="615696"/>
                </a:lnTo>
              </a:path>
            </a:pathLst>
          </a:cu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3"/>
          <p:cNvSpPr/>
          <p:nvPr/>
        </p:nvSpPr>
        <p:spPr>
          <a:xfrm>
            <a:off x="4168800" y="2852640"/>
            <a:ext cx="171360" cy="628920"/>
          </a:xfrm>
          <a:custGeom>
            <a:avLst/>
            <a:gdLst>
              <a:gd name="textAreaLeft" fmla="*/ 0 w 171360"/>
              <a:gd name="textAreaRight" fmla="*/ 171720 w 171360"/>
              <a:gd name="textAreaTop" fmla="*/ 0 h 628920"/>
              <a:gd name="textAreaBottom" fmla="*/ 629280 h 628920"/>
            </a:gdLst>
            <a:ahLst/>
            <a:rect l="textAreaLeft" t="textAreaTop" r="textAreaRight" b="textAreaBottom"/>
            <a:pathLst>
              <a:path w="171196" h="628396">
                <a:moveTo>
                  <a:pt x="6350" y="622046"/>
                </a:moveTo>
                <a:lnTo>
                  <a:pt x="164846" y="622046"/>
                </a:lnTo>
                <a:lnTo>
                  <a:pt x="164846" y="6350"/>
                </a:lnTo>
                <a:lnTo>
                  <a:pt x="6350" y="6350"/>
                </a:lnTo>
                <a:lnTo>
                  <a:pt x="6350" y="62204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Freeform 3"/>
          <p:cNvSpPr/>
          <p:nvPr/>
        </p:nvSpPr>
        <p:spPr>
          <a:xfrm>
            <a:off x="2625840" y="1812960"/>
            <a:ext cx="1708200" cy="615960"/>
          </a:xfrm>
          <a:custGeom>
            <a:avLst/>
            <a:gdLst>
              <a:gd name="textAreaLeft" fmla="*/ 0 w 1708200"/>
              <a:gd name="textAreaRight" fmla="*/ 1708560 w 170820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w="1708404" h="615696">
                <a:moveTo>
                  <a:pt x="0" y="615696"/>
                </a:moveTo>
                <a:lnTo>
                  <a:pt x="1708404" y="615696"/>
                </a:lnTo>
                <a:lnTo>
                  <a:pt x="1708404" y="0"/>
                </a:lnTo>
                <a:lnTo>
                  <a:pt x="0" y="0"/>
                </a:lnTo>
                <a:lnTo>
                  <a:pt x="0" y="615696"/>
                </a:lnTo>
              </a:path>
            </a:pathLst>
          </a:custGeom>
          <a:solidFill>
            <a:srgbClr val="ffc0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Freeform 3"/>
          <p:cNvSpPr/>
          <p:nvPr/>
        </p:nvSpPr>
        <p:spPr>
          <a:xfrm>
            <a:off x="2619360" y="1806480"/>
            <a:ext cx="1720800" cy="628920"/>
          </a:xfrm>
          <a:custGeom>
            <a:avLst/>
            <a:gdLst>
              <a:gd name="textAreaLeft" fmla="*/ 0 w 1720800"/>
              <a:gd name="textAreaRight" fmla="*/ 1721160 w 1720800"/>
              <a:gd name="textAreaTop" fmla="*/ 0 h 628920"/>
              <a:gd name="textAreaBottom" fmla="*/ 629280 h 628920"/>
            </a:gdLst>
            <a:ahLst/>
            <a:rect l="textAreaLeft" t="textAreaTop" r="textAreaRight" b="textAreaBottom"/>
            <a:pathLst>
              <a:path w="1721104" h="628396">
                <a:moveTo>
                  <a:pt x="6350" y="622046"/>
                </a:moveTo>
                <a:lnTo>
                  <a:pt x="1714754" y="622046"/>
                </a:lnTo>
                <a:lnTo>
                  <a:pt x="1714754" y="6350"/>
                </a:lnTo>
                <a:lnTo>
                  <a:pt x="6350" y="6350"/>
                </a:lnTo>
                <a:lnTo>
                  <a:pt x="6350" y="622046"/>
                </a:lnTo>
              </a:path>
            </a:pathLst>
          </a:custGeom>
          <a:noFill/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reeform 3"/>
          <p:cNvSpPr/>
          <p:nvPr/>
        </p:nvSpPr>
        <p:spPr>
          <a:xfrm>
            <a:off x="4168800" y="3468600"/>
            <a:ext cx="146160" cy="443160"/>
          </a:xfrm>
          <a:custGeom>
            <a:avLst/>
            <a:gdLst>
              <a:gd name="textAreaLeft" fmla="*/ 0 w 146160"/>
              <a:gd name="textAreaRight" fmla="*/ 146520 w 146160"/>
              <a:gd name="textAreaTop" fmla="*/ 0 h 443160"/>
              <a:gd name="textAreaBottom" fmla="*/ 443520 h 443160"/>
            </a:gdLst>
            <a:ahLst/>
            <a:rect l="textAreaLeft" t="textAreaTop" r="textAreaRight" b="textAreaBottom"/>
            <a:pathLst>
              <a:path w="145287" h="442468">
                <a:moveTo>
                  <a:pt x="6350" y="6350"/>
                </a:moveTo>
                <a:lnTo>
                  <a:pt x="138938" y="436117"/>
                </a:lnTo>
              </a:path>
            </a:pathLst>
          </a:custGeom>
          <a:noFill/>
          <a:ln w="12600">
            <a:solidFill>
              <a:srgbClr val="d9d9d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3"/>
          <p:cNvSpPr/>
          <p:nvPr/>
        </p:nvSpPr>
        <p:spPr>
          <a:xfrm>
            <a:off x="2619360" y="2421000"/>
            <a:ext cx="1562040" cy="444600"/>
          </a:xfrm>
          <a:custGeom>
            <a:avLst/>
            <a:gdLst>
              <a:gd name="textAreaLeft" fmla="*/ 0 w 1562040"/>
              <a:gd name="textAreaRight" fmla="*/ 1562400 w 1562040"/>
              <a:gd name="textAreaTop" fmla="*/ 0 h 444600"/>
              <a:gd name="textAreaBottom" fmla="*/ 444960 h 444600"/>
            </a:gdLst>
            <a:ahLst/>
            <a:rect l="textAreaLeft" t="textAreaTop" r="textAreaRight" b="textAreaBottom"/>
            <a:pathLst>
              <a:path w="1562608" h="443991">
                <a:moveTo>
                  <a:pt x="6350" y="6350"/>
                </a:moveTo>
                <a:lnTo>
                  <a:pt x="1556257" y="437641"/>
                </a:lnTo>
              </a:path>
            </a:pathLst>
          </a:custGeom>
          <a:noFill/>
          <a:ln w="12600">
            <a:solidFill>
              <a:srgbClr val="d9d9d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3"/>
          <p:cNvSpPr/>
          <p:nvPr/>
        </p:nvSpPr>
        <p:spPr>
          <a:xfrm>
            <a:off x="4327560" y="1590840"/>
            <a:ext cx="22320" cy="3151080"/>
          </a:xfrm>
          <a:custGeom>
            <a:avLst/>
            <a:gdLst>
              <a:gd name="textAreaLeft" fmla="*/ 0 w 22320"/>
              <a:gd name="textAreaRight" fmla="*/ 22680 w 22320"/>
              <a:gd name="textAreaTop" fmla="*/ 0 h 3151080"/>
              <a:gd name="textAreaBottom" fmla="*/ 3151440 h 3151080"/>
            </a:gdLst>
            <a:ahLst/>
            <a:rect l="textAreaLeft" t="textAreaTop" r="textAreaRight" b="textAreaBottom"/>
            <a:pathLst>
              <a:path w="21844" h="3150616">
                <a:moveTo>
                  <a:pt x="6350" y="3144265"/>
                </a:moveTo>
                <a:lnTo>
                  <a:pt x="6350" y="6350"/>
                </a:lnTo>
              </a:path>
            </a:pathLst>
          </a:custGeom>
          <a:noFill/>
          <a:ln w="12600">
            <a:solidFill>
              <a:srgbClr val="d9d9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3"/>
          <p:cNvSpPr/>
          <p:nvPr/>
        </p:nvSpPr>
        <p:spPr>
          <a:xfrm>
            <a:off x="4559400" y="3038400"/>
            <a:ext cx="330120" cy="257400"/>
          </a:xfrm>
          <a:custGeom>
            <a:avLst/>
            <a:gdLst>
              <a:gd name="textAreaLeft" fmla="*/ 0 w 330120"/>
              <a:gd name="textAreaRight" fmla="*/ 330480 w 33012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w="330200" h="255968">
                <a:moveTo>
                  <a:pt x="0" y="255968"/>
                </a:moveTo>
                <a:lnTo>
                  <a:pt x="330200" y="255968"/>
                </a:lnTo>
                <a:lnTo>
                  <a:pt x="330200" y="0"/>
                </a:lnTo>
                <a:lnTo>
                  <a:pt x="0" y="0"/>
                </a:lnTo>
                <a:lnTo>
                  <a:pt x="0" y="255968"/>
                </a:lnTo>
              </a:path>
            </a:pathLst>
          </a:custGeom>
          <a:solidFill>
            <a:srgbClr val="00b0f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3"/>
          <p:cNvSpPr/>
          <p:nvPr/>
        </p:nvSpPr>
        <p:spPr>
          <a:xfrm>
            <a:off x="5251320" y="1992240"/>
            <a:ext cx="330480" cy="255600"/>
          </a:xfrm>
          <a:custGeom>
            <a:avLst/>
            <a:gdLst>
              <a:gd name="textAreaLeft" fmla="*/ 0 w 330480"/>
              <a:gd name="textAreaRight" fmla="*/ 330840 w 330480"/>
              <a:gd name="textAreaTop" fmla="*/ 0 h 255600"/>
              <a:gd name="textAreaBottom" fmla="*/ 255960 h 255600"/>
            </a:gdLst>
            <a:ahLst/>
            <a:rect l="textAreaLeft" t="textAreaTop" r="textAreaRight" b="textAreaBottom"/>
            <a:pathLst>
              <a:path w="330200" h="255968">
                <a:moveTo>
                  <a:pt x="0" y="255968"/>
                </a:moveTo>
                <a:lnTo>
                  <a:pt x="330200" y="255968"/>
                </a:lnTo>
                <a:lnTo>
                  <a:pt x="330200" y="0"/>
                </a:lnTo>
                <a:lnTo>
                  <a:pt x="0" y="0"/>
                </a:lnTo>
                <a:lnTo>
                  <a:pt x="0" y="255968"/>
                </a:lnTo>
              </a:path>
            </a:pathLst>
          </a:custGeom>
          <a:solidFill>
            <a:srgbClr val="00b0f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3"/>
          <p:cNvSpPr/>
          <p:nvPr/>
        </p:nvSpPr>
        <p:spPr>
          <a:xfrm>
            <a:off x="714240" y="5464080"/>
            <a:ext cx="7890120" cy="739800"/>
          </a:xfrm>
          <a:custGeom>
            <a:avLst/>
            <a:gdLst>
              <a:gd name="textAreaLeft" fmla="*/ 0 w 7890120"/>
              <a:gd name="textAreaRight" fmla="*/ 7890480 w 7890120"/>
              <a:gd name="textAreaTop" fmla="*/ 0 h 739800"/>
              <a:gd name="textAreaBottom" fmla="*/ 740160 h 739800"/>
            </a:gdLst>
            <a:ahLst/>
            <a:rect l="textAreaLeft" t="textAreaTop" r="textAreaRight" b="textAreaBottom"/>
            <a:pathLst>
              <a:path w="7890129" h="738670">
                <a:moveTo>
                  <a:pt x="0" y="738670"/>
                </a:moveTo>
                <a:lnTo>
                  <a:pt x="7890129" y="738670"/>
                </a:lnTo>
                <a:lnTo>
                  <a:pt x="7890129" y="0"/>
                </a:lnTo>
                <a:lnTo>
                  <a:pt x="0" y="0"/>
                </a:lnTo>
                <a:lnTo>
                  <a:pt x="0" y="738670"/>
                </a:ln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3" descr=""/>
          <p:cNvPicPr/>
          <p:nvPr/>
        </p:nvPicPr>
        <p:blipFill>
          <a:blip r:embed="rId2"/>
          <a:stretch/>
        </p:blipFill>
        <p:spPr>
          <a:xfrm>
            <a:off x="6578640" y="1981080"/>
            <a:ext cx="1638360" cy="990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3" descr=""/>
          <p:cNvPicPr/>
          <p:nvPr/>
        </p:nvPicPr>
        <p:blipFill>
          <a:blip r:embed="rId3"/>
          <a:stretch/>
        </p:blipFill>
        <p:spPr>
          <a:xfrm>
            <a:off x="5765760" y="2997360"/>
            <a:ext cx="2895480" cy="1892160"/>
          </a:xfrm>
          <a:prstGeom prst="rect">
            <a:avLst/>
          </a:prstGeom>
          <a:ln w="0">
            <a:noFill/>
          </a:ln>
        </p:spPr>
      </p:pic>
      <p:sp>
        <p:nvSpPr>
          <p:cNvPr id="175" name="TextBox 1"/>
          <p:cNvSpPr/>
          <p:nvPr/>
        </p:nvSpPr>
        <p:spPr>
          <a:xfrm>
            <a:off x="919080" y="266760"/>
            <a:ext cx="1490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微博诊断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内容质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"/>
          <p:cNvSpPr/>
          <p:nvPr/>
        </p:nvSpPr>
        <p:spPr>
          <a:xfrm>
            <a:off x="4474080" y="3073320"/>
            <a:ext cx="35172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10.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127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b0f0"/>
                </a:solidFill>
                <a:latin typeface="Arial"/>
                <a:ea typeface="微软雅黑"/>
              </a:rPr>
              <a:t>0.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"/>
          <p:cNvSpPr/>
          <p:nvPr/>
        </p:nvSpPr>
        <p:spPr>
          <a:xfrm>
            <a:off x="5294520" y="2031840"/>
            <a:ext cx="2246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30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"/>
          <p:cNvSpPr/>
          <p:nvPr/>
        </p:nvSpPr>
        <p:spPr>
          <a:xfrm>
            <a:off x="4010400" y="3111480"/>
            <a:ext cx="160920" cy="121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2.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0.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"/>
          <p:cNvSpPr/>
          <p:nvPr/>
        </p:nvSpPr>
        <p:spPr>
          <a:xfrm>
            <a:off x="3364200" y="2031840"/>
            <a:ext cx="2246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Arial"/>
                <a:ea typeface="微软雅黑"/>
              </a:rPr>
              <a:t>23.8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936360" y="2006640"/>
            <a:ext cx="106560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31752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戴尔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streak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粉丝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31752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惠普点亮激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1752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200"/>
              </a:lnSpc>
              <a:tabLst>
                <a:tab algn="l" pos="0"/>
                <a:tab algn="l" pos="317520"/>
                <a:tab algn="l" pos="533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联想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Z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流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2889360" y="952560"/>
            <a:ext cx="2943000" cy="3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戴尔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streak</a:t>
            </a:r>
            <a:r>
              <a:rPr b="1" lang="zh-CN" sz="1500" spc="-1" strike="noStrike">
                <a:solidFill>
                  <a:srgbClr val="000000"/>
                </a:solidFill>
                <a:latin typeface="Arial"/>
                <a:ea typeface="微软雅黑"/>
              </a:rPr>
              <a:t>粉丝团微博及竞品新浪微博内容质量分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1"/>
          <p:cNvSpPr/>
          <p:nvPr/>
        </p:nvSpPr>
        <p:spPr>
          <a:xfrm>
            <a:off x="7020720" y="1117440"/>
            <a:ext cx="366480" cy="2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单位：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2933280" y="1371600"/>
            <a:ext cx="7628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平均每条微博被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转发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"/>
          <p:cNvSpPr/>
          <p:nvPr/>
        </p:nvSpPr>
        <p:spPr>
          <a:xfrm>
            <a:off x="4876200" y="1371600"/>
            <a:ext cx="76284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平均每条微博被</a:t>
            </a: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微软雅黑"/>
              </a:rPr>
              <a:t>评论数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1618560" y="4863960"/>
            <a:ext cx="669132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Arial"/>
                <a:ea typeface="微软雅黑"/>
              </a:rPr>
              <a:t>注：转发数呾评论数丌限亍粉丝，也包括非粉丝转发呾评论；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99"/>
              </a:lnSpc>
              <a:tabLst>
                <a:tab algn="l" pos="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从微博被转发呾评论角度来看，因近期有产品活动，戴尔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Streak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粉丝团微博转发不评论均超越竞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的微博。这说明活动能有效地促进微博粉丝的活跃度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998"/>
              </a:lnSpc>
              <a:tabLst>
                <a:tab algn="l" pos="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397"/>
              </a:lnSpc>
              <a:tabLst>
                <a:tab algn="l" pos="0"/>
                <a:tab algn="l" pos="3365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	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Source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：从戴尔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streak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粉丝团微博及竞品微博抽取近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条微博进行分析，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2011/06/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C86E8-F356-4483-B28E-12FC440EFE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Freeform 3"/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6858000"/>
              <a:gd name="textAreaBottom" fmla="*/ 6858360 h 6858000"/>
            </a:gdLst>
            <a:ahLst/>
            <a:rect l="textAreaLeft" t="textAreaTop" r="textAreaRight" b="textAreaBottom"/>
            <a:pathLst>
              <a:path w="9144000" h="6858000">
                <a:moveTo>
                  <a:pt x="0" y="6858000"/>
                </a:moveTo>
                <a:lnTo>
                  <a:pt x="9144000" y="6858000"/>
                </a:lnTo>
                <a:lnTo>
                  <a:pt x="9144000" y="0"/>
                </a:lnTo>
                <a:lnTo>
                  <a:pt x="0" y="0"/>
                </a:lnTo>
                <a:lnTo>
                  <a:pt x="0" y="6858000"/>
                </a:lnTo>
              </a:path>
            </a:pathLst>
          </a:custGeom>
          <a:solidFill>
            <a:srgbClr val="99cc00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Freeform 3"/>
          <p:cNvSpPr/>
          <p:nvPr/>
        </p:nvSpPr>
        <p:spPr>
          <a:xfrm>
            <a:off x="395280" y="5354640"/>
            <a:ext cx="8424720" cy="738360"/>
          </a:xfrm>
          <a:custGeom>
            <a:avLst/>
            <a:gdLst>
              <a:gd name="textAreaLeft" fmla="*/ 0 w 8424720"/>
              <a:gd name="textAreaRight" fmla="*/ 8425080 w 8424720"/>
              <a:gd name="textAreaTop" fmla="*/ 0 h 738360"/>
              <a:gd name="textAreaBottom" fmla="*/ 738720 h 738360"/>
            </a:gdLst>
            <a:ahLst/>
            <a:rect l="textAreaLeft" t="textAreaTop" r="textAreaRight" b="textAreaBottom"/>
            <a:pathLst>
              <a:path w="8425180" h="738670">
                <a:moveTo>
                  <a:pt x="0" y="738670"/>
                </a:moveTo>
                <a:lnTo>
                  <a:pt x="8425180" y="738670"/>
                </a:lnTo>
                <a:lnTo>
                  <a:pt x="8425180" y="0"/>
                </a:lnTo>
                <a:lnTo>
                  <a:pt x="0" y="0"/>
                </a:lnTo>
                <a:lnTo>
                  <a:pt x="0" y="738670"/>
                </a:lnTo>
              </a:path>
            </a:pathLst>
          </a:custGeom>
          <a:solidFill>
            <a:srgbClr val="4f6228"/>
          </a:solidFill>
          <a:ln w="12600">
            <a:solidFill>
              <a:srgbClr val="000000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3" descr=""/>
          <p:cNvPicPr/>
          <p:nvPr/>
        </p:nvPicPr>
        <p:blipFill>
          <a:blip r:embed="rId1"/>
          <a:stretch/>
        </p:blipFill>
        <p:spPr>
          <a:xfrm>
            <a:off x="254160" y="368280"/>
            <a:ext cx="266400" cy="27936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"/>
          <p:cNvPicPr/>
          <p:nvPr/>
        </p:nvPicPr>
        <p:blipFill>
          <a:blip r:embed="rId2"/>
          <a:stretch/>
        </p:blipFill>
        <p:spPr>
          <a:xfrm>
            <a:off x="343080" y="1549440"/>
            <a:ext cx="5841720" cy="53085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3" descr=""/>
          <p:cNvPicPr/>
          <p:nvPr/>
        </p:nvPicPr>
        <p:blipFill>
          <a:blip r:embed="rId3"/>
          <a:stretch/>
        </p:blipFill>
        <p:spPr>
          <a:xfrm>
            <a:off x="6197760" y="1549440"/>
            <a:ext cx="2641320" cy="5308560"/>
          </a:xfrm>
          <a:prstGeom prst="rect">
            <a:avLst/>
          </a:prstGeom>
          <a:ln w="0">
            <a:noFill/>
          </a:ln>
        </p:spPr>
      </p:pic>
      <p:sp>
        <p:nvSpPr>
          <p:cNvPr id="192" name="TextBox 1"/>
          <p:cNvSpPr/>
          <p:nvPr/>
        </p:nvSpPr>
        <p:spPr>
          <a:xfrm>
            <a:off x="919080" y="266760"/>
            <a:ext cx="14907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ffffff"/>
                </a:solidFill>
                <a:latin typeface="Arial"/>
                <a:ea typeface="微软雅黑"/>
              </a:rPr>
              <a:t>微博诊断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-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粉丝分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"/>
          <p:cNvSpPr/>
          <p:nvPr/>
        </p:nvSpPr>
        <p:spPr>
          <a:xfrm>
            <a:off x="3467520" y="6642000"/>
            <a:ext cx="4612320" cy="2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Source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：从惠普点亮激情、联想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Z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流行呾戴尔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streak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粉丝团微博分别抽取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3222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、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4460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呾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362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个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id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数据，</a:t>
            </a:r>
            <a:r>
              <a:rPr b="0" lang="zh-CN" sz="900" spc="-1" strike="noStrike">
                <a:solidFill>
                  <a:srgbClr val="595959"/>
                </a:solidFill>
                <a:latin typeface="Arial"/>
                <a:ea typeface="微软雅黑"/>
              </a:rPr>
              <a:t>2011/06/1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"/>
          <p:cNvSpPr/>
          <p:nvPr/>
        </p:nvSpPr>
        <p:spPr>
          <a:xfrm>
            <a:off x="4522320" y="5448240"/>
            <a:ext cx="178920" cy="59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各品牌微博的粉丝均集中亍北上广等沿海发达地匙，随着一线城市的微博用户饱呾，未来粉丝增长将更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5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  <a:ea typeface="微软雅黑"/>
              </a:rPr>
              <a:t>来自内陆城市。因此必须重规对二三线城市微博粉丝的吸引不维护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5T16:00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6:41:54Z</dcterms:modified>
  <cp:revision>1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