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gif" ContentType="image/gif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C1A7-7ECE-47FC-BA44-FD94C79F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638F-B8DB-40CF-9436-00CDCCFA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9C4E-A724-40D6-B18F-647BC6C3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B157-53AD-4645-98DB-BF0C5C25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455B-4E17-491D-959E-346B4008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75BC-BE7E-4A7E-8AEE-21E1C0F2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80DD-362F-4AB3-84C6-DE9C43E2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C159-B6C7-4308-B907-47575E31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6F21-B3BF-4508-8266-C5AC3F13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4E39-BCA9-4F7B-8AA6-2BB95628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9401-1B1D-463E-B5CB-403CFC27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E6FA-C484-4A13-A504-6BD4822D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1282-3E48-4EF8-9FA9-E6475C3F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06AD-F7D9-48B1-906F-1CDDC46C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BD42-92B0-4C50-B312-B03C68FF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711D-DACA-40E9-9635-09F64903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FCD8-4535-4143-BE31-FA64B0DB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B13-D8F9-495D-811D-62658566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38EC-4A5D-49CF-B145-8AA84E30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BDA3-ACB3-43A5-BAA7-50A7BFB5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7D20-21E0-45A2-87BB-734AECFF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415E-CA34-45C5-A59A-6A8E0A48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1085-9659-46A8-A904-0529D57C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FBD4-BA2B-4C82-B884-92859F2C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24C0-1B46-45D8-8353-F03F151E92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9A96-8563-4672-8E63-21758707F60D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2D4C-F955-46D6-B495-A2A657B47B0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5" descr="G:\余子静的文档\素材库\图片素材\边框\BJ1224.jpg"/>
          <p:cNvPicPr/>
          <p:nvPr/>
        </p:nvPicPr>
        <p:blipFill>
          <a:blip r:embed="rId2"/>
          <a:stretch/>
        </p:blipFill>
        <p:spPr>
          <a:xfrm>
            <a:off x="0" y="0"/>
            <a:ext cx="91915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1447920" y="19810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  <a:ea typeface="隶书"/>
              </a:rPr>
              <a:t>酸的和甜的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17课003"/>
          <p:cNvPicPr/>
          <p:nvPr/>
        </p:nvPicPr>
        <p:blipFill>
          <a:blip r:embed="rId1"/>
          <a:stretch/>
        </p:blipFill>
        <p:spPr>
          <a:xfrm>
            <a:off x="152280" y="0"/>
            <a:ext cx="4572000" cy="64008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5257800" y="380880"/>
            <a:ext cx="335268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这时，来了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只小猴子。他望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架上那一串串紫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色的葡萄，迫不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待地爬上葡萄架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摘下一串就要往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里送。小兔子连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说：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不能吃，不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吃，这葡萄是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的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17课004"/>
          <p:cNvPicPr/>
          <p:nvPr/>
        </p:nvPicPr>
        <p:blipFill>
          <a:blip r:embed="rId1"/>
          <a:stretch/>
        </p:blipFill>
        <p:spPr>
          <a:xfrm>
            <a:off x="4343400" y="195120"/>
            <a:ext cx="4495680" cy="64342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762120" y="457200"/>
            <a:ext cx="30477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小猴子笑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着问：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你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过吗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小兔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子摇摇头</a:t>
            </a: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说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我没吃过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可是小松鼠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葡萄很酸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8686800" y="6400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17课005"/>
          <p:cNvPicPr/>
          <p:nvPr/>
        </p:nvPicPr>
        <p:blipFill>
          <a:blip r:embed="rId1"/>
          <a:stretch/>
        </p:blipFill>
        <p:spPr>
          <a:xfrm>
            <a:off x="152280" y="228600"/>
            <a:ext cx="4419720" cy="64771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5181480" y="744480"/>
            <a:ext cx="30481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小猴子又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小松鼠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你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过吗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小松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也摇摇头，说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我没敢尝，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狸说这葡萄酸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很呢！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7课006"/>
          <p:cNvPicPr/>
          <p:nvPr/>
        </p:nvPicPr>
        <p:blipFill>
          <a:blip r:embed="rId1"/>
          <a:stretch/>
        </p:blipFill>
        <p:spPr>
          <a:xfrm>
            <a:off x="4191120" y="152280"/>
            <a:ext cx="4800600" cy="64771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685800" y="914400"/>
            <a:ext cx="30481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小猴子听了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大口大口地吃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萄来。小松鼠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小兔子见他吃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这么开心，也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了一颗。啊！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甜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8686800" y="6400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17课007"/>
          <p:cNvPicPr/>
          <p:nvPr/>
        </p:nvPicPr>
        <p:blipFill>
          <a:blip r:embed="rId1"/>
          <a:stretch/>
        </p:blipFill>
        <p:spPr>
          <a:xfrm>
            <a:off x="152280" y="0"/>
            <a:ext cx="4876920" cy="66294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5562720" y="609480"/>
            <a:ext cx="32004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小松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和小兔子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不明白，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狸为什么硬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说葡萄是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的呢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100000">
              <a:srgbClr val="0ff1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371600" y="879480"/>
            <a:ext cx="708660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隶书"/>
                <a:ea typeface="隶书"/>
              </a:rPr>
              <a:t>读读比比 </a:t>
            </a:r>
            <a:r>
              <a:rPr b="1" lang="en-US" sz="6000" spc="-1" strike="noStrike">
                <a:solidFill>
                  <a:srgbClr val="ff0066"/>
                </a:solidFill>
                <a:latin typeface="隶书"/>
                <a:ea typeface="隶书"/>
              </a:rPr>
              <a:t>(</a:t>
            </a:r>
            <a:r>
              <a:rPr b="1" lang="zh-CN" sz="6000" spc="-1" strike="noStrike">
                <a:solidFill>
                  <a:srgbClr val="ff0066"/>
                </a:solidFill>
                <a:latin typeface="隶书"/>
                <a:ea typeface="隶书"/>
              </a:rPr>
              <a:t>一</a:t>
            </a:r>
            <a:r>
              <a:rPr b="1" lang="en-US" sz="6000" spc="-1" strike="noStrike">
                <a:solidFill>
                  <a:srgbClr val="ff0066"/>
                </a:solidFill>
                <a:latin typeface="隶书"/>
                <a:ea typeface="隶书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小猴子爬上葡萄架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小猴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迫不及待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地爬上葡萄架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228600" y="64008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50000">
              <a:srgbClr val="fff1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p24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914400" y="1440000"/>
            <a:ext cx="7315200" cy="31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隶书"/>
              </a:rPr>
              <a:t>读读比比（二）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小猴子吃起葡萄来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小猴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大口大口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地吃起葡萄来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52280" y="64771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6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4"/>
          <p:cNvSpPr/>
          <p:nvPr/>
        </p:nvSpPr>
        <p:spPr>
          <a:xfrm>
            <a:off x="1600200" y="11224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2" descr="G:\余子静的文档\素材库\图片素材\边框\FR6061.JPG"/>
          <p:cNvPicPr/>
          <p:nvPr/>
        </p:nvPicPr>
        <p:blipFill>
          <a:blip r:embed="rId1"/>
          <a:stretch/>
        </p:blipFill>
        <p:spPr>
          <a:xfrm>
            <a:off x="-23760" y="-30240"/>
            <a:ext cx="9167760" cy="6856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K:\葡萄.gif"/>
          <p:cNvPicPr/>
          <p:nvPr/>
        </p:nvPicPr>
        <p:blipFill>
          <a:blip r:embed="rId2"/>
          <a:stretch/>
        </p:blipFill>
        <p:spPr>
          <a:xfrm>
            <a:off x="3611520" y="2940120"/>
            <a:ext cx="1874880" cy="1098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K:\葡萄.gif"/>
          <p:cNvPicPr/>
          <p:nvPr/>
        </p:nvPicPr>
        <p:blipFill>
          <a:blip r:embed="rId3"/>
          <a:stretch/>
        </p:blipFill>
        <p:spPr>
          <a:xfrm>
            <a:off x="2743200" y="4336920"/>
            <a:ext cx="2743200" cy="1606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K:\葡萄.gif"/>
          <p:cNvPicPr/>
          <p:nvPr/>
        </p:nvPicPr>
        <p:blipFill>
          <a:blip r:embed="rId4"/>
          <a:stretch/>
        </p:blipFill>
        <p:spPr>
          <a:xfrm>
            <a:off x="6400800" y="3048120"/>
            <a:ext cx="1463760" cy="857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K:\葡萄.gif"/>
          <p:cNvPicPr/>
          <p:nvPr/>
        </p:nvPicPr>
        <p:blipFill>
          <a:blip r:embed="rId5"/>
          <a:stretch/>
        </p:blipFill>
        <p:spPr>
          <a:xfrm>
            <a:off x="3200400" y="1371600"/>
            <a:ext cx="1463760" cy="857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K:\葡萄.gif"/>
          <p:cNvPicPr/>
          <p:nvPr/>
        </p:nvPicPr>
        <p:blipFill>
          <a:blip r:embed="rId6"/>
          <a:stretch/>
        </p:blipFill>
        <p:spPr>
          <a:xfrm>
            <a:off x="1295280" y="3048120"/>
            <a:ext cx="1463760" cy="857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K:\葡萄.gif"/>
          <p:cNvPicPr/>
          <p:nvPr/>
        </p:nvPicPr>
        <p:blipFill>
          <a:blip r:embed="rId7"/>
          <a:stretch/>
        </p:blipFill>
        <p:spPr>
          <a:xfrm>
            <a:off x="6248520" y="1352520"/>
            <a:ext cx="1463400" cy="857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3543480" y="990720"/>
            <a:ext cx="3742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uān                                       p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ú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ta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酸的          葡萄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1955880" y="2666880"/>
            <a:ext cx="527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ú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     li                            chu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n                         y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ì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狐狸     一串串      硬说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2919240" y="4114800"/>
            <a:ext cx="2282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pò                         d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迫不及待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26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6477120" cy="48006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027"/>
          <p:cNvSpPr/>
          <p:nvPr/>
        </p:nvSpPr>
        <p:spPr>
          <a:xfrm>
            <a:off x="-1539720" y="360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1028"/>
          <p:cNvSpPr/>
          <p:nvPr/>
        </p:nvSpPr>
        <p:spPr>
          <a:xfrm>
            <a:off x="685800" y="457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起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1029"/>
          <p:cNvSpPr/>
          <p:nvPr/>
        </p:nvSpPr>
        <p:spPr>
          <a:xfrm>
            <a:off x="6781680" y="5334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终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WordArt 1030"/>
          <p:cNvSpPr txBox="1"/>
          <p:nvPr/>
        </p:nvSpPr>
        <p:spPr>
          <a:xfrm>
            <a:off x="6705720" y="609480"/>
            <a:ext cx="17431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走迷宫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7" name="Text Box 1031"/>
          <p:cNvSpPr/>
          <p:nvPr/>
        </p:nvSpPr>
        <p:spPr>
          <a:xfrm>
            <a:off x="1600200" y="15238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1032"/>
          <p:cNvSpPr/>
          <p:nvPr/>
        </p:nvSpPr>
        <p:spPr>
          <a:xfrm>
            <a:off x="2666880" y="213372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葡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1033"/>
          <p:cNvSpPr/>
          <p:nvPr/>
        </p:nvSpPr>
        <p:spPr>
          <a:xfrm>
            <a:off x="3962520" y="17524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1034"/>
          <p:cNvSpPr/>
          <p:nvPr/>
        </p:nvSpPr>
        <p:spPr>
          <a:xfrm>
            <a:off x="4952880" y="22860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狐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1035"/>
          <p:cNvSpPr/>
          <p:nvPr/>
        </p:nvSpPr>
        <p:spPr>
          <a:xfrm>
            <a:off x="3809880" y="29718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迫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1036"/>
          <p:cNvSpPr/>
          <p:nvPr/>
        </p:nvSpPr>
        <p:spPr>
          <a:xfrm>
            <a:off x="1447920" y="34974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萄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1037"/>
          <p:cNvSpPr/>
          <p:nvPr/>
        </p:nvSpPr>
        <p:spPr>
          <a:xfrm>
            <a:off x="2895480" y="419112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1038"/>
          <p:cNvSpPr/>
          <p:nvPr/>
        </p:nvSpPr>
        <p:spPr>
          <a:xfrm>
            <a:off x="5029200" y="36576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硬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1039"/>
          <p:cNvSpPr/>
          <p:nvPr/>
        </p:nvSpPr>
        <p:spPr>
          <a:xfrm>
            <a:off x="6324480" y="44956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待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042"/>
          <p:cNvSpPr/>
          <p:nvPr/>
        </p:nvSpPr>
        <p:spPr>
          <a:xfrm>
            <a:off x="7391520" y="5257800"/>
            <a:ext cx="1904760" cy="1593720"/>
          </a:xfrm>
          <a:prstGeom prst="irregularSeal2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WordArt 1043"/>
          <p:cNvSpPr txBox="1"/>
          <p:nvPr/>
        </p:nvSpPr>
        <p:spPr>
          <a:xfrm>
            <a:off x="7543800" y="5867280"/>
            <a:ext cx="1371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</a:rPr>
              <a:t>你真棒</a:t>
            </a:r>
            <a:endParaRPr b="0" lang="en-US" sz="6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026"/>
          <p:cNvSpPr/>
          <p:nvPr/>
        </p:nvSpPr>
        <p:spPr>
          <a:xfrm>
            <a:off x="914400" y="144792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  <a:ea typeface="隶书"/>
              </a:rPr>
              <a:t>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葡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架下有一只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狐狸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，他吃不着葡萄就说葡萄是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酸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的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小猴子看着架上一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串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串紫红色的葡萄，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迫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不及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待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地摘下一串就往嘴里送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小松鼠和小白兔真不明白，为什么狐狸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硬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说葡萄是酸的呢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0"/>
          <p:cNvSpPr/>
          <p:nvPr/>
        </p:nvSpPr>
        <p:spPr>
          <a:xfrm>
            <a:off x="1676520" y="2438280"/>
            <a:ext cx="62481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故事里有哪些动物？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故事讲了一件什么事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WordArt 14"/>
          <p:cNvSpPr txBox="1"/>
          <p:nvPr/>
        </p:nvSpPr>
        <p:spPr>
          <a:xfrm>
            <a:off x="1295280" y="838080"/>
            <a:ext cx="2819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想一想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17课"/>
          <p:cNvPicPr/>
          <p:nvPr/>
        </p:nvPicPr>
        <p:blipFill>
          <a:blip r:embed="rId1"/>
          <a:stretch/>
        </p:blipFill>
        <p:spPr>
          <a:xfrm>
            <a:off x="127080" y="0"/>
            <a:ext cx="4825800" cy="66294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5257800" y="457200"/>
            <a:ext cx="30481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葡萄架下，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一只狐狸。他一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儿转来转去，一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儿跳起来摘葡萄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可是一颗也没摘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。于是，他指着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上的葡萄，说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这葡萄是酸的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不能吃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17课001"/>
          <p:cNvPicPr/>
          <p:nvPr/>
        </p:nvPicPr>
        <p:blipFill>
          <a:blip r:embed="rId1"/>
          <a:stretch/>
        </p:blipFill>
        <p:spPr>
          <a:xfrm>
            <a:off x="3809880" y="228600"/>
            <a:ext cx="5029200" cy="6172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457200" y="1219320"/>
            <a:ext cx="35812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树上的小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鼠听了，心里想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狐狸很聪明，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说葡萄不能吃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那一定是很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4582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26" descr="17课002"/>
          <p:cNvPicPr/>
          <p:nvPr/>
        </p:nvPicPr>
        <p:blipFill>
          <a:blip r:embed="rId1"/>
          <a:stretch/>
        </p:blipFill>
        <p:spPr>
          <a:xfrm>
            <a:off x="304920" y="152280"/>
            <a:ext cx="4800600" cy="65534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27"/>
          <p:cNvSpPr/>
          <p:nvPr/>
        </p:nvSpPr>
        <p:spPr>
          <a:xfrm>
            <a:off x="5334120" y="685800"/>
            <a:ext cx="3429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小松鼠把狐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说的话告诉了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兔子。小兔子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听，心里想：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狸和小松鼠都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葡萄是酸的，那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一定不能吃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030"/>
          <p:cNvSpPr/>
          <p:nvPr/>
        </p:nvSpPr>
        <p:spPr>
          <a:xfrm>
            <a:off x="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0" descr="G:\余子静的文档\素材库\图片素材\边框\BIZ00017.T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9"/>
          <p:cNvSpPr/>
          <p:nvPr/>
        </p:nvSpPr>
        <p:spPr>
          <a:xfrm>
            <a:off x="1906560" y="15228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ff0000"/>
                </a:solidFill>
                <a:latin typeface="Tahoma"/>
                <a:ea typeface="楷体_GB2312"/>
              </a:rPr>
              <a:t>狐</a:t>
            </a:r>
            <a:endParaRPr b="0" lang="en-US" sz="1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4465800" y="120348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ff0000"/>
                </a:solidFill>
                <a:latin typeface="Tahoma"/>
                <a:ea typeface="楷体_GB2312"/>
              </a:rPr>
              <a:t>狸</a:t>
            </a:r>
            <a:endParaRPr b="0" lang="en-US" sz="15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2" name="Group 21"/>
          <p:cNvGrpSpPr/>
          <p:nvPr/>
        </p:nvGrpSpPr>
        <p:grpSpPr>
          <a:xfrm>
            <a:off x="1295280" y="228600"/>
            <a:ext cx="2362320" cy="2354400"/>
            <a:chOff x="1295280" y="228600"/>
            <a:chExt cx="2362320" cy="2354400"/>
          </a:xfrm>
        </p:grpSpPr>
        <p:sp>
          <p:nvSpPr>
            <p:cNvPr id="133" name="Rectangle 22"/>
            <p:cNvSpPr/>
            <p:nvPr/>
          </p:nvSpPr>
          <p:spPr>
            <a:xfrm>
              <a:off x="1295280" y="228600"/>
              <a:ext cx="2362320" cy="235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1295280" y="136764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>
              <a:off x="2446200" y="228600"/>
              <a:ext cx="0" cy="235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6" name="Group 51"/>
          <p:cNvGrpSpPr/>
          <p:nvPr/>
        </p:nvGrpSpPr>
        <p:grpSpPr>
          <a:xfrm>
            <a:off x="3962520" y="1371600"/>
            <a:ext cx="2361960" cy="2354400"/>
            <a:chOff x="3962520" y="1371600"/>
            <a:chExt cx="2361960" cy="2354400"/>
          </a:xfrm>
        </p:grpSpPr>
        <p:sp>
          <p:nvSpPr>
            <p:cNvPr id="137" name="Rectangle 52"/>
            <p:cNvSpPr/>
            <p:nvPr/>
          </p:nvSpPr>
          <p:spPr>
            <a:xfrm>
              <a:off x="3962520" y="1371600"/>
              <a:ext cx="2361960" cy="235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Line 53"/>
            <p:cNvSpPr/>
            <p:nvPr/>
          </p:nvSpPr>
          <p:spPr>
            <a:xfrm>
              <a:off x="3962520" y="251064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Line 54"/>
            <p:cNvSpPr/>
            <p:nvPr/>
          </p:nvSpPr>
          <p:spPr>
            <a:xfrm>
              <a:off x="5113080" y="1371600"/>
              <a:ext cx="0" cy="235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0" name="Group 55"/>
          <p:cNvGrpSpPr/>
          <p:nvPr/>
        </p:nvGrpSpPr>
        <p:grpSpPr>
          <a:xfrm>
            <a:off x="6553080" y="3200400"/>
            <a:ext cx="2362320" cy="2354400"/>
            <a:chOff x="6553080" y="3200400"/>
            <a:chExt cx="2362320" cy="2354400"/>
          </a:xfrm>
        </p:grpSpPr>
        <p:sp>
          <p:nvSpPr>
            <p:cNvPr id="141" name="Rectangle 56"/>
            <p:cNvSpPr/>
            <p:nvPr/>
          </p:nvSpPr>
          <p:spPr>
            <a:xfrm>
              <a:off x="6553080" y="3200400"/>
              <a:ext cx="2362320" cy="235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Line 57"/>
            <p:cNvSpPr/>
            <p:nvPr/>
          </p:nvSpPr>
          <p:spPr>
            <a:xfrm>
              <a:off x="6553080" y="433944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Line 58"/>
            <p:cNvSpPr/>
            <p:nvPr/>
          </p:nvSpPr>
          <p:spPr>
            <a:xfrm>
              <a:off x="7704000" y="3200400"/>
              <a:ext cx="0" cy="235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4" name="Text Box 59"/>
          <p:cNvSpPr/>
          <p:nvPr/>
        </p:nvSpPr>
        <p:spPr>
          <a:xfrm>
            <a:off x="7240680" y="289548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ff0000"/>
                </a:solidFill>
                <a:latin typeface="Tahoma"/>
                <a:ea typeface="楷体_GB2312"/>
              </a:rPr>
              <a:t>猴</a:t>
            </a:r>
            <a:endParaRPr b="0" lang="en-US" sz="1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07:14:37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52:48Z</dcterms:modified>
  <cp:revision>2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