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3-5.png"/>
          <p:cNvPicPr/>
          <p:nvPr/>
        </p:nvPicPr>
        <p:blipFill>
          <a:blip r:embed="rId3"/>
          <a:stretch/>
        </p:blipFill>
        <p:spPr>
          <a:xfrm>
            <a:off x="-69840" y="-69840"/>
            <a:ext cx="2427120" cy="11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4648320" y="1635120"/>
            <a:ext cx="2200680" cy="2203920"/>
            <a:chOff x="4648320" y="1635120"/>
            <a:chExt cx="2200680" cy="2203920"/>
          </a:xfrm>
        </p:grpSpPr>
        <p:grpSp>
          <p:nvGrpSpPr>
            <p:cNvPr id="40" name="Group 3"/>
            <p:cNvGrpSpPr/>
            <p:nvPr/>
          </p:nvGrpSpPr>
          <p:grpSpPr>
            <a:xfrm>
              <a:off x="4648320" y="1635120"/>
              <a:ext cx="2200680" cy="2203920"/>
              <a:chOff x="4648320" y="1635120"/>
              <a:chExt cx="2200680" cy="2203920"/>
            </a:xfrm>
          </p:grpSpPr>
          <p:pic>
            <p:nvPicPr>
              <p:cNvPr id="41" name="矩形 1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48320" y="1635120"/>
                <a:ext cx="2200320" cy="22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Text Box 5"/>
              <p:cNvSpPr/>
              <p:nvPr/>
            </p:nvSpPr>
            <p:spPr>
              <a:xfrm rot="925200">
                <a:off x="4956120" y="1888920"/>
                <a:ext cx="1630800" cy="163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矩形 11"/>
            <p:cNvSpPr/>
            <p:nvPr/>
          </p:nvSpPr>
          <p:spPr>
            <a:xfrm rot="925800">
              <a:off x="5037480" y="2067120"/>
              <a:ext cx="1455480" cy="1297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2525760" y="1645920"/>
            <a:ext cx="2408400" cy="2410200"/>
            <a:chOff x="2525760" y="1645920"/>
            <a:chExt cx="2408400" cy="2410200"/>
          </a:xfrm>
        </p:grpSpPr>
        <p:grpSp>
          <p:nvGrpSpPr>
            <p:cNvPr id="45" name="Group 8"/>
            <p:cNvGrpSpPr/>
            <p:nvPr/>
          </p:nvGrpSpPr>
          <p:grpSpPr>
            <a:xfrm>
              <a:off x="2525760" y="1645920"/>
              <a:ext cx="2408400" cy="2410200"/>
              <a:chOff x="2525760" y="1645920"/>
              <a:chExt cx="2408400" cy="2410200"/>
            </a:xfrm>
          </p:grpSpPr>
          <p:pic>
            <p:nvPicPr>
              <p:cNvPr id="46" name="矩形 13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2525760" y="1645920"/>
                <a:ext cx="2408040" cy="24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Text Box 10"/>
              <p:cNvSpPr/>
              <p:nvPr/>
            </p:nvSpPr>
            <p:spPr>
              <a:xfrm rot="20980200">
                <a:off x="2748240" y="1850040"/>
                <a:ext cx="1910520" cy="19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矩形 14"/>
            <p:cNvSpPr/>
            <p:nvPr/>
          </p:nvSpPr>
          <p:spPr>
            <a:xfrm rot="20980200">
              <a:off x="2833560" y="2024280"/>
              <a:ext cx="1742760" cy="151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5" descr="3-2.png"/>
          <p:cNvPicPr/>
          <p:nvPr/>
        </p:nvPicPr>
        <p:blipFill>
          <a:blip r:embed="rId7"/>
          <a:stretch/>
        </p:blipFill>
        <p:spPr>
          <a:xfrm>
            <a:off x="6311880" y="1714680"/>
            <a:ext cx="82404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3-1.png"/>
          <p:cNvPicPr/>
          <p:nvPr/>
        </p:nvPicPr>
        <p:blipFill>
          <a:blip r:embed="rId8"/>
          <a:stretch/>
        </p:blipFill>
        <p:spPr>
          <a:xfrm>
            <a:off x="3541680" y="3516480"/>
            <a:ext cx="2621160" cy="169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57160" y="2214720"/>
            <a:ext cx="542952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eace and joy wrap you in blankets of love, where hope has b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may your kind and gentle ways, be blessed with happy, peaceful day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oming more beautiful with every thought, like every flake the earth has caug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6143760" y="2286360"/>
            <a:ext cx="2668320" cy="2858400"/>
            <a:chOff x="6143760" y="2286360"/>
            <a:chExt cx="2668320" cy="2858400"/>
          </a:xfrm>
        </p:grpSpPr>
        <p:sp>
          <p:nvSpPr>
            <p:cNvPr id="92" name="矩形 6"/>
            <p:cNvSpPr/>
            <p:nvPr/>
          </p:nvSpPr>
          <p:spPr>
            <a:xfrm rot="1015800">
              <a:off x="6441840" y="2536560"/>
              <a:ext cx="2071440" cy="2357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13500000"/>
            </a:gradFill>
            <a:ln w="0">
              <a:noFill/>
            </a:ln>
            <a:effectLst>
              <a:outerShdw dist="76184" dir="4206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7"/>
            <p:cNvSpPr/>
            <p:nvPr/>
          </p:nvSpPr>
          <p:spPr>
            <a:xfrm rot="1015800">
              <a:off x="6481440" y="2677680"/>
              <a:ext cx="2000160" cy="2035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图片 9" descr="3-7.png"/>
          <p:cNvPicPr/>
          <p:nvPr/>
        </p:nvPicPr>
        <p:blipFill>
          <a:blip r:embed="rId6"/>
          <a:stretch/>
        </p:blipFill>
        <p:spPr>
          <a:xfrm>
            <a:off x="6643800" y="46432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3-4.png"/>
          <p:cNvPicPr/>
          <p:nvPr/>
        </p:nvPicPr>
        <p:blipFill>
          <a:blip r:embed="rId7"/>
          <a:stretch/>
        </p:blipFill>
        <p:spPr>
          <a:xfrm>
            <a:off x="8001000" y="2571840"/>
            <a:ext cx="826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56800" y="2214720"/>
            <a:ext cx="735804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y peace and joy wrap you in blankets of love, where hope has be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may your kind and gentle ways, be blessed with happy, peaceful days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oming more beautiful with every thought, like every flake the earth has cau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15" descr="free-merry-christmas-screensaver.jpg"/>
          <p:cNvPicPr/>
          <p:nvPr/>
        </p:nvPicPr>
        <p:blipFill>
          <a:blip r:embed="rId2"/>
          <a:stretch/>
        </p:blipFill>
        <p:spPr>
          <a:xfrm>
            <a:off x="2143080" y="2000160"/>
            <a:ext cx="4996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标题 3" descr=""/>
          <p:cNvPicPr/>
          <p:nvPr/>
        </p:nvPicPr>
        <p:blipFill>
          <a:blip r:embed="rId2"/>
          <a:stretch/>
        </p:blipFill>
        <p:spPr>
          <a:xfrm>
            <a:off x="1859040" y="5413320"/>
            <a:ext cx="5700600" cy="7192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 rot="21041400">
            <a:off x="3634920" y="1608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52:0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1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