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chimes.wav" ContentType="audio/x-wav"/>
  <Override PartName="/ppt/media/image16.png" ContentType="image/pn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camera.wav" ContentType="audio/x-wav"/>
  <Override PartName="/ppt/media/image21.jpeg" ContentType="image/jpeg"/>
  <Override PartName="/ppt/media/image5.jpeg" ContentType="image/jpeg"/>
  <Override PartName="/ppt/media/image23.jpeg" ContentType="image/jpeg"/>
  <Override PartName="/ppt/media/image19.jpeg" ContentType="image/jpeg"/>
  <Override PartName="/ppt/media/image1.gif" ContentType="image/gif"/>
  <Override PartName="/ppt/media/image17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7C4-BB5C-4CF0-BFBB-F947BC6F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0D0-4FA1-4653-906C-27DBFA9F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828-F134-4E2A-9904-4F77E7BB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810-89F0-4E38-B9AA-00E83E61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E40D-AF0D-4492-AC38-8D04A3AF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0950-1470-4279-A33E-8275C214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3056-C5E2-4B7E-B8D5-1182A329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A3FF-80DE-4B1B-B76C-88864A02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582F-BE73-44A1-9E21-0D65F5C9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F024-0C30-4AB6-8392-BB90C7F9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8EB8-1A5A-40D4-A35A-E47182E3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372-5DD1-4DF8-A156-FBD045DD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9404-0A5C-4E86-870F-6244B1C0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D595-83E4-4FF2-9E27-17B809D2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5C8F-B5B8-4BF2-B59D-119129FE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632A-96A1-4689-9370-9F99999F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3690-E864-425C-9685-10C31206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C87-862B-460B-AC44-7B433D10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02D-7480-4D44-80AE-B34A42E8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C4BB-F443-42A9-8A7B-4DC9D0EE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D1F-8326-4140-AC4C-772CAA02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8EC-E689-4C38-B053-AC3E8B95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DF7-47F2-4455-9DDD-152C34F6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5B4-D4C9-47EA-BA4A-55638E8C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285F-B931-4F79-B47D-046749FC9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4C7D-73ED-49CF-95AB-91EEF78B51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C88F-D866-405B-9D25-D51F89B7C8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file:///tmp/home/.config/libreoffice/4/user/gallery/projctor.wav" TargetMode="External"/><Relationship Id="rId3" Type="http://schemas.microsoft.com/office/2007/relationships/media" Target="file:///tmp/home/.config/libreoffice/4/user/gallery/projctor.wav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2"/>
          <p:cNvSpPr/>
          <p:nvPr/>
        </p:nvSpPr>
        <p:spPr>
          <a:xfrm>
            <a:off x="228600" y="1143000"/>
            <a:ext cx="6400800" cy="0"/>
          </a:xfrm>
          <a:prstGeom prst="line">
            <a:avLst/>
          </a:prstGeom>
          <a:ln w="572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4920" y="609480"/>
            <a:ext cx="6095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义务教育课程标准实验教科书小学语文一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 flipV="1">
            <a:off x="8675640" y="7001280"/>
            <a:ext cx="192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714840" y="5373720"/>
            <a:ext cx="5429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33"/>
                </a:solidFill>
                <a:latin typeface="隶书"/>
                <a:ea typeface="隶书"/>
              </a:rPr>
              <a:t>授课教师</a:t>
            </a:r>
            <a:r>
              <a:rPr b="0" lang="en-US" sz="4000" spc="-1" strike="noStrike">
                <a:solidFill>
                  <a:srgbClr val="66ff33"/>
                </a:solidFill>
                <a:latin typeface="隶书"/>
                <a:ea typeface="隶书"/>
              </a:rPr>
              <a:t>:</a:t>
            </a:r>
            <a:r>
              <a:rPr b="0" lang="zh-CN" sz="4000" spc="-1" strike="noStrike">
                <a:solidFill>
                  <a:srgbClr val="66ff33"/>
                </a:solidFill>
                <a:latin typeface="隶书"/>
                <a:ea typeface="隶书"/>
              </a:rPr>
              <a:t>王丽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258920" y="2205000"/>
            <a:ext cx="460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AG00370_"/>
          <p:cNvPicPr/>
          <p:nvPr/>
        </p:nvPicPr>
        <p:blipFill>
          <a:blip r:embed="rId1"/>
          <a:stretch/>
        </p:blipFill>
        <p:spPr>
          <a:xfrm>
            <a:off x="762120" y="5257800"/>
            <a:ext cx="1485720" cy="1165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2987640" y="2492280"/>
            <a:ext cx="3600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1979640" y="2133720"/>
            <a:ext cx="5329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彩云"/>
              </a:rPr>
              <a:t>四个太阳</a:t>
            </a:r>
            <a:endParaRPr b="1" lang="en-US" sz="1800" spc="-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00000"/>
          <p:cNvPicPr/>
          <p:nvPr/>
        </p:nvPicPr>
        <p:blipFill>
          <a:blip r:embed="rId1"/>
          <a:stretch/>
        </p:blipFill>
        <p:spPr>
          <a:xfrm>
            <a:off x="611280" y="0"/>
            <a:ext cx="763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000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0000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939680" y="233280"/>
            <a:ext cx="505764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果园里，果子熟了。金黄的落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忙着邀请小伙伴，请他们尝尝水果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香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344240" y="1523880"/>
            <a:ext cx="414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828800" y="1523880"/>
            <a:ext cx="5112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392000" y="1447920"/>
            <a:ext cx="414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大象333"/>
          <p:cNvPicPr/>
          <p:nvPr/>
        </p:nvPicPr>
        <p:blipFill>
          <a:blip r:embed="rId1"/>
          <a:stretch/>
        </p:blipFill>
        <p:spPr>
          <a:xfrm>
            <a:off x="533520" y="4038480"/>
            <a:ext cx="146340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鼠33"/>
          <p:cNvPicPr/>
          <p:nvPr/>
        </p:nvPicPr>
        <p:blipFill>
          <a:blip r:embed="rId2"/>
          <a:stretch/>
        </p:blipFill>
        <p:spPr>
          <a:xfrm>
            <a:off x="2590920" y="4038480"/>
            <a:ext cx="1463400" cy="1463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鱼"/>
          <p:cNvPicPr/>
          <p:nvPr/>
        </p:nvPicPr>
        <p:blipFill>
          <a:blip r:embed="rId3"/>
          <a:stretch/>
        </p:blipFill>
        <p:spPr>
          <a:xfrm>
            <a:off x="4724280" y="40384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老虎333"/>
          <p:cNvPicPr/>
          <p:nvPr/>
        </p:nvPicPr>
        <p:blipFill>
          <a:blip r:embed="rId4"/>
          <a:stretch/>
        </p:blipFill>
        <p:spPr>
          <a:xfrm>
            <a:off x="6858000" y="40384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0[1]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05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87708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27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012000" y="558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22"/>
          <p:cNvPicPr/>
          <p:nvPr/>
        </p:nvPicPr>
        <p:blipFill>
          <a:blip r:embed="rId5"/>
          <a:stretch/>
        </p:blipFill>
        <p:spPr>
          <a:xfrm>
            <a:off x="2268360" y="1989000"/>
            <a:ext cx="27766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63165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2124000" y="2205000"/>
            <a:ext cx="583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e1"/>
          <p:cNvPicPr/>
          <p:nvPr/>
        </p:nvPicPr>
        <p:blipFill>
          <a:blip r:embed="rId2"/>
          <a:stretch/>
        </p:blipFill>
        <p:spPr>
          <a:xfrm>
            <a:off x="2050920" y="907920"/>
            <a:ext cx="48135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图片3"/>
          <p:cNvPicPr/>
          <p:nvPr/>
        </p:nvPicPr>
        <p:blipFill>
          <a:blip r:embed="rId1"/>
          <a:srcRect l="0" t="0" r="17" b="-37"/>
          <a:stretch/>
        </p:blipFill>
        <p:spPr>
          <a:xfrm>
            <a:off x="-76320" y="-457200"/>
            <a:ext cx="9220320" cy="73152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b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-541440" y="0"/>
            <a:ext cx="69343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我画了个绿绿的太阳，</a:t>
            </a: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挂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在夏天的天空。高山、田野、</a:t>
            </a: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街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道、校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到处一片清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3203640" y="692280"/>
            <a:ext cx="10666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539640" y="2997360"/>
            <a:ext cx="2057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0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187280" y="128520"/>
            <a:ext cx="7201080" cy="67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1:46:4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4:5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