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4.png" ContentType="image/png"/>
  <Override PartName="/ppt/media/image20.jpeg" ContentType="image/jpeg"/>
  <Override PartName="/ppt/media/image12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6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250-738E-4026-8964-07F97DF5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832-00B8-442A-BE85-1B2D1274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F2C-CC31-499C-95E9-6C65AE79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374-80E9-424F-8EEE-8830BFE0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9C3-F36D-478B-A015-124E0D30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24E-1C0E-4789-B982-A2B2FE4B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019-E658-4131-A50A-CC3E083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4E1-9EE4-4682-B980-75901842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122-0F66-4E65-9141-AD9B887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893-1ED3-4520-B461-5B8D0D97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9FC-B1D6-4707-996B-A561691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2D4-DF86-472C-A7BF-334A293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37B-A2A3-45F1-B12D-4E7AF9FC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61,24,&#24187;&#28783;&#29255; 24" TargetMode="External"/><Relationship Id="rId5" Type="http://schemas.openxmlformats.org/officeDocument/2006/relationships/hyperlink" Target="261,24,&#24187;&#28783;&#29255; 24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86,25,&#24187;&#28783;&#29255; 25" TargetMode="External"/><Relationship Id="rId5" Type="http://schemas.openxmlformats.org/officeDocument/2006/relationships/hyperlink" Target="286,25,&#24187;&#28783;&#29255; 25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hyperlink" Target="http://www.eeppt.com/moban/shangwu/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0311.oo16t.com/new_view.asp?id=21598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0311.oo16t.com/new_view.asp?id=21598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0311.oo16t.com/new_view.asp?id=21598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零碎的水珠背景 [转换]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aper Envelope3 [转换]"/>
          <p:cNvPicPr/>
          <p:nvPr/>
        </p:nvPicPr>
        <p:blipFill>
          <a:blip r:embed="rId2"/>
          <a:stretch/>
        </p:blipFill>
        <p:spPr>
          <a:xfrm>
            <a:off x="1979640" y="2570040"/>
            <a:ext cx="7164360" cy="4287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836720" y="10922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汉仪长美黑简"/>
                <a:ea typeface="汉仪长美黑简"/>
              </a:rPr>
              <a:t>礼仪与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627280" y="1916280"/>
            <a:ext cx="6769080" cy="642600"/>
            <a:chOff x="2627280" y="1916280"/>
            <a:chExt cx="6769080" cy="642600"/>
          </a:xfrm>
        </p:grpSpPr>
        <p:sp>
          <p:nvSpPr>
            <p:cNvPr id="46" name="Text Box 8"/>
            <p:cNvSpPr/>
            <p:nvPr/>
          </p:nvSpPr>
          <p:spPr>
            <a:xfrm>
              <a:off x="2627280" y="1916280"/>
              <a:ext cx="676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常交际  迎来送往</a:t>
              </a:r>
              <a:r>
                <a:rPr b="1" lang="zh-CN" sz="36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392800" y="2190600"/>
              <a:ext cx="144360" cy="1440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同心圆 9"/>
          <p:cNvSpPr/>
          <p:nvPr/>
        </p:nvSpPr>
        <p:spPr>
          <a:xfrm>
            <a:off x="6372360" y="2825640"/>
            <a:ext cx="730080" cy="730440"/>
          </a:xfrm>
          <a:custGeom>
            <a:avLst/>
            <a:gdLst/>
            <a:ahLst/>
            <a:rect l="l" t="t" r="r" b="b"/>
            <a:pathLst>
              <a:path w="730250" h="730250">
                <a:moveTo>
                  <a:pt x="0" y="365125"/>
                </a:moveTo>
                <a:cubicBezTo>
                  <a:pt x="0" y="163472"/>
                  <a:pt x="163472" y="0"/>
                  <a:pt x="365125" y="0"/>
                </a:cubicBezTo>
                <a:cubicBezTo>
                  <a:pt x="566778" y="0"/>
                  <a:pt x="730250" y="163472"/>
                  <a:pt x="730250" y="365125"/>
                </a:cubicBezTo>
                <a:cubicBezTo>
                  <a:pt x="730250" y="566778"/>
                  <a:pt x="566778" y="730250"/>
                  <a:pt x="365125" y="730250"/>
                </a:cubicBezTo>
                <a:cubicBezTo>
                  <a:pt x="163472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199705" y="664644"/>
                  <a:pt x="365125" y="664644"/>
                </a:cubicBezTo>
                <a:cubicBezTo>
                  <a:pt x="530545" y="664644"/>
                  <a:pt x="664644" y="530545"/>
                  <a:pt x="664644" y="365125"/>
                </a:cubicBezTo>
                <a:cubicBezTo>
                  <a:pt x="664644" y="199705"/>
                  <a:pt x="530545" y="65606"/>
                  <a:pt x="365125" y="65606"/>
                </a:cubicBezTo>
                <a:cubicBezTo>
                  <a:pt x="199705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心圆 15"/>
          <p:cNvSpPr/>
          <p:nvPr/>
        </p:nvSpPr>
        <p:spPr>
          <a:xfrm>
            <a:off x="6943680" y="2330280"/>
            <a:ext cx="450720" cy="451080"/>
          </a:xfrm>
          <a:custGeom>
            <a:avLst/>
            <a:gdLst/>
            <a:ahLst/>
            <a:rect l="l" t="t" r="r" b="b"/>
            <a:pathLst>
              <a:path w="450850" h="450850">
                <a:moveTo>
                  <a:pt x="0" y="225425"/>
                </a:moveTo>
                <a:cubicBezTo>
                  <a:pt x="0" y="100926"/>
                  <a:pt x="100926" y="0"/>
                  <a:pt x="225425" y="0"/>
                </a:cubicBezTo>
                <a:cubicBezTo>
                  <a:pt x="349924" y="0"/>
                  <a:pt x="450850" y="100926"/>
                  <a:pt x="450850" y="225425"/>
                </a:cubicBezTo>
                <a:cubicBezTo>
                  <a:pt x="450850" y="349924"/>
                  <a:pt x="349924" y="450850"/>
                  <a:pt x="225425" y="450850"/>
                </a:cubicBezTo>
                <a:cubicBezTo>
                  <a:pt x="100926" y="450850"/>
                  <a:pt x="0" y="349924"/>
                  <a:pt x="0" y="225425"/>
                </a:cubicBezTo>
                <a:close/>
                <a:moveTo>
                  <a:pt x="40504" y="225425"/>
                </a:moveTo>
                <a:cubicBezTo>
                  <a:pt x="40504" y="327554"/>
                  <a:pt x="123296" y="410346"/>
                  <a:pt x="225425" y="410346"/>
                </a:cubicBezTo>
                <a:cubicBezTo>
                  <a:pt x="327554" y="410346"/>
                  <a:pt x="410346" y="327554"/>
                  <a:pt x="410346" y="225425"/>
                </a:cubicBezTo>
                <a:cubicBezTo>
                  <a:pt x="410346" y="123296"/>
                  <a:pt x="327554" y="40504"/>
                  <a:pt x="225425" y="40504"/>
                </a:cubicBezTo>
                <a:cubicBezTo>
                  <a:pt x="123296" y="40504"/>
                  <a:pt x="40504" y="123296"/>
                  <a:pt x="40504" y="2254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同心圆 18"/>
          <p:cNvSpPr/>
          <p:nvPr/>
        </p:nvSpPr>
        <p:spPr>
          <a:xfrm>
            <a:off x="7596360" y="1700280"/>
            <a:ext cx="441000" cy="441360"/>
          </a:xfrm>
          <a:custGeom>
            <a:avLst/>
            <a:gdLst/>
            <a:ahLst/>
            <a:rect l="l" t="t" r="r" b="b"/>
            <a:pathLst>
              <a:path w="441325" h="441325">
                <a:moveTo>
                  <a:pt x="0" y="220663"/>
                </a:moveTo>
                <a:cubicBezTo>
                  <a:pt x="0" y="98794"/>
                  <a:pt x="98794" y="0"/>
                  <a:pt x="220663" y="0"/>
                </a:cubicBezTo>
                <a:cubicBezTo>
                  <a:pt x="342532" y="0"/>
                  <a:pt x="441326" y="98794"/>
                  <a:pt x="441326" y="220663"/>
                </a:cubicBezTo>
                <a:cubicBezTo>
                  <a:pt x="441326" y="342532"/>
                  <a:pt x="342532" y="441326"/>
                  <a:pt x="220663" y="441326"/>
                </a:cubicBezTo>
                <a:cubicBezTo>
                  <a:pt x="98794" y="441326"/>
                  <a:pt x="0" y="342532"/>
                  <a:pt x="0" y="220663"/>
                </a:cubicBezTo>
                <a:close/>
                <a:moveTo>
                  <a:pt x="39649" y="220663"/>
                </a:moveTo>
                <a:cubicBezTo>
                  <a:pt x="39649" y="320634"/>
                  <a:pt x="120692" y="401677"/>
                  <a:pt x="220663" y="401677"/>
                </a:cubicBezTo>
                <a:cubicBezTo>
                  <a:pt x="320634" y="401677"/>
                  <a:pt x="401677" y="320634"/>
                  <a:pt x="401677" y="220663"/>
                </a:cubicBezTo>
                <a:cubicBezTo>
                  <a:pt x="401677" y="120692"/>
                  <a:pt x="320634" y="39649"/>
                  <a:pt x="220663" y="39649"/>
                </a:cubicBezTo>
                <a:cubicBezTo>
                  <a:pt x="120692" y="39649"/>
                  <a:pt x="39649" y="120692"/>
                  <a:pt x="39649" y="220663"/>
                </a:cubicBezTo>
                <a:close/>
              </a:path>
            </a:pathLst>
          </a:custGeom>
          <a:solidFill>
            <a:srgbClr val="00b0f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4"/>
          <p:cNvSpPr/>
          <p:nvPr/>
        </p:nvSpPr>
        <p:spPr>
          <a:xfrm>
            <a:off x="395280" y="2505240"/>
            <a:ext cx="233280" cy="230040"/>
          </a:xfrm>
          <a:custGeom>
            <a:avLst/>
            <a:gdLst/>
            <a:ahLst/>
            <a:rect l="l" t="t" r="r" b="b"/>
            <a:pathLst>
              <a:path w="233362" h="230188">
                <a:moveTo>
                  <a:pt x="0" y="115094"/>
                </a:moveTo>
                <a:cubicBezTo>
                  <a:pt x="0" y="51529"/>
                  <a:pt x="52240" y="0"/>
                  <a:pt x="116681" y="0"/>
                </a:cubicBezTo>
                <a:cubicBezTo>
                  <a:pt x="181122" y="0"/>
                  <a:pt x="233362" y="51529"/>
                  <a:pt x="233362" y="115094"/>
                </a:cubicBezTo>
                <a:cubicBezTo>
                  <a:pt x="233362" y="178659"/>
                  <a:pt x="181122" y="230188"/>
                  <a:pt x="116681" y="230188"/>
                </a:cubicBezTo>
                <a:cubicBezTo>
                  <a:pt x="52240" y="230188"/>
                  <a:pt x="0" y="178659"/>
                  <a:pt x="0" y="115094"/>
                </a:cubicBezTo>
                <a:close/>
                <a:moveTo>
                  <a:pt x="20680" y="115094"/>
                </a:moveTo>
                <a:cubicBezTo>
                  <a:pt x="20680" y="167237"/>
                  <a:pt x="63661" y="209508"/>
                  <a:pt x="116681" y="209508"/>
                </a:cubicBezTo>
                <a:cubicBezTo>
                  <a:pt x="169701" y="209508"/>
                  <a:pt x="212682" y="167237"/>
                  <a:pt x="212682" y="115094"/>
                </a:cubicBezTo>
                <a:cubicBezTo>
                  <a:pt x="212682" y="62951"/>
                  <a:pt x="169701" y="20680"/>
                  <a:pt x="116681" y="20680"/>
                </a:cubicBezTo>
                <a:cubicBezTo>
                  <a:pt x="63661" y="20680"/>
                  <a:pt x="20680" y="62951"/>
                  <a:pt x="20680" y="115094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5"/>
          <p:cNvSpPr/>
          <p:nvPr/>
        </p:nvSpPr>
        <p:spPr>
          <a:xfrm>
            <a:off x="1112760" y="2017800"/>
            <a:ext cx="290520" cy="287280"/>
          </a:xfrm>
          <a:custGeom>
            <a:avLst/>
            <a:gdLst/>
            <a:ahLst/>
            <a:rect l="l" t="t" r="r" b="b"/>
            <a:pathLst>
              <a:path w="290512" h="287337">
                <a:moveTo>
                  <a:pt x="0" y="143669"/>
                </a:moveTo>
                <a:cubicBezTo>
                  <a:pt x="0" y="64323"/>
                  <a:pt x="65033" y="0"/>
                  <a:pt x="145256" y="0"/>
                </a:cubicBezTo>
                <a:cubicBezTo>
                  <a:pt x="225479" y="0"/>
                  <a:pt x="290512" y="64323"/>
                  <a:pt x="290512" y="143669"/>
                </a:cubicBezTo>
                <a:cubicBezTo>
                  <a:pt x="290512" y="223015"/>
                  <a:pt x="225479" y="287338"/>
                  <a:pt x="145256" y="287338"/>
                </a:cubicBezTo>
                <a:cubicBezTo>
                  <a:pt x="65033" y="287338"/>
                  <a:pt x="0" y="223015"/>
                  <a:pt x="0" y="143669"/>
                </a:cubicBezTo>
                <a:close/>
                <a:moveTo>
                  <a:pt x="25814" y="143669"/>
                </a:moveTo>
                <a:cubicBezTo>
                  <a:pt x="25814" y="208758"/>
                  <a:pt x="79290" y="261523"/>
                  <a:pt x="145256" y="261523"/>
                </a:cubicBezTo>
                <a:cubicBezTo>
                  <a:pt x="211222" y="261523"/>
                  <a:pt x="264698" y="208758"/>
                  <a:pt x="264698" y="143669"/>
                </a:cubicBezTo>
                <a:cubicBezTo>
                  <a:pt x="264698" y="78580"/>
                  <a:pt x="211222" y="25815"/>
                  <a:pt x="145256" y="25815"/>
                </a:cubicBezTo>
                <a:cubicBezTo>
                  <a:pt x="79290" y="25815"/>
                  <a:pt x="25814" y="78580"/>
                  <a:pt x="25814" y="143669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3"/>
          <p:cNvSpPr/>
          <p:nvPr/>
        </p:nvSpPr>
        <p:spPr>
          <a:xfrm>
            <a:off x="1905120" y="3505320"/>
            <a:ext cx="287280" cy="284040"/>
          </a:xfrm>
          <a:custGeom>
            <a:avLst/>
            <a:gdLst/>
            <a:ahLst/>
            <a:rect l="l" t="t" r="r" b="b"/>
            <a:pathLst>
              <a:path w="287338" h="284163">
                <a:moveTo>
                  <a:pt x="0" y="142082"/>
                </a:moveTo>
                <a:cubicBezTo>
                  <a:pt x="0" y="63612"/>
                  <a:pt x="64323" y="0"/>
                  <a:pt x="143669" y="0"/>
                </a:cubicBezTo>
                <a:cubicBezTo>
                  <a:pt x="223015" y="0"/>
                  <a:pt x="287338" y="63612"/>
                  <a:pt x="287338" y="142082"/>
                </a:cubicBezTo>
                <a:cubicBezTo>
                  <a:pt x="287338" y="220552"/>
                  <a:pt x="223015" y="284164"/>
                  <a:pt x="143669" y="284164"/>
                </a:cubicBezTo>
                <a:cubicBezTo>
                  <a:pt x="64323" y="284164"/>
                  <a:pt x="0" y="220552"/>
                  <a:pt x="0" y="142082"/>
                </a:cubicBezTo>
                <a:close/>
                <a:moveTo>
                  <a:pt x="25529" y="142082"/>
                </a:moveTo>
                <a:cubicBezTo>
                  <a:pt x="25529" y="206452"/>
                  <a:pt x="78422" y="258634"/>
                  <a:pt x="143669" y="258634"/>
                </a:cubicBezTo>
                <a:cubicBezTo>
                  <a:pt x="208916" y="258634"/>
                  <a:pt x="261809" y="206452"/>
                  <a:pt x="261809" y="142082"/>
                </a:cubicBezTo>
                <a:cubicBezTo>
                  <a:pt x="261809" y="77712"/>
                  <a:pt x="208916" y="25530"/>
                  <a:pt x="143669" y="25530"/>
                </a:cubicBezTo>
                <a:cubicBezTo>
                  <a:pt x="78422" y="25530"/>
                  <a:pt x="25529" y="77712"/>
                  <a:pt x="25529" y="142082"/>
                </a:cubicBezTo>
                <a:close/>
              </a:path>
            </a:pathLst>
          </a:custGeom>
          <a:solidFill>
            <a:srgbClr val="00b0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4"/>
          <p:cNvSpPr/>
          <p:nvPr/>
        </p:nvSpPr>
        <p:spPr>
          <a:xfrm>
            <a:off x="2262240" y="3505320"/>
            <a:ext cx="71280" cy="69840"/>
          </a:xfrm>
          <a:custGeom>
            <a:avLst/>
            <a:gdLst/>
            <a:ahLst/>
            <a:rect l="l" t="t" r="r" b="b"/>
            <a:pathLst>
              <a:path w="71437" h="69850">
                <a:moveTo>
                  <a:pt x="0" y="34925"/>
                </a:moveTo>
                <a:cubicBezTo>
                  <a:pt x="0" y="15636"/>
                  <a:pt x="15992" y="0"/>
                  <a:pt x="35719" y="0"/>
                </a:cubicBezTo>
                <a:cubicBezTo>
                  <a:pt x="55446" y="0"/>
                  <a:pt x="71438" y="15636"/>
                  <a:pt x="71438" y="34925"/>
                </a:cubicBezTo>
                <a:cubicBezTo>
                  <a:pt x="71438" y="54214"/>
                  <a:pt x="55446" y="69850"/>
                  <a:pt x="35719" y="69850"/>
                </a:cubicBezTo>
                <a:cubicBezTo>
                  <a:pt x="15992" y="69850"/>
                  <a:pt x="0" y="54214"/>
                  <a:pt x="0" y="34925"/>
                </a:cubicBezTo>
                <a:close/>
                <a:moveTo>
                  <a:pt x="6275" y="34925"/>
                </a:moveTo>
                <a:cubicBezTo>
                  <a:pt x="6275" y="50748"/>
                  <a:pt x="19457" y="63575"/>
                  <a:pt x="35718" y="63575"/>
                </a:cubicBezTo>
                <a:cubicBezTo>
                  <a:pt x="51979" y="63575"/>
                  <a:pt x="65161" y="50748"/>
                  <a:pt x="65161" y="34925"/>
                </a:cubicBezTo>
                <a:cubicBezTo>
                  <a:pt x="65161" y="19102"/>
                  <a:pt x="51979" y="6275"/>
                  <a:pt x="35718" y="6275"/>
                </a:cubicBezTo>
                <a:cubicBezTo>
                  <a:pt x="19457" y="6275"/>
                  <a:pt x="6275" y="19102"/>
                  <a:pt x="6275" y="34925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9" descr=""/>
          <p:cNvPicPr/>
          <p:nvPr/>
        </p:nvPicPr>
        <p:blipFill>
          <a:blip r:embed="rId3"/>
          <a:stretch/>
        </p:blipFill>
        <p:spPr>
          <a:xfrm>
            <a:off x="250920" y="5289480"/>
            <a:ext cx="3313080" cy="51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2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2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3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3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 Box 18"/>
          <p:cNvSpPr/>
          <p:nvPr/>
        </p:nvSpPr>
        <p:spPr>
          <a:xfrm>
            <a:off x="1476360" y="1984320"/>
            <a:ext cx="60483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的地点设在对方的办公区域，则应着正装或所在单位的制服，既代表了单位的形象，又传递出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你很重视这次拜访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的友好信息，使其愿意与你合作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623736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务礼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41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4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50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5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三）拜访的举止与要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18"/>
          <p:cNvSpPr/>
          <p:nvPr/>
        </p:nvSpPr>
        <p:spPr>
          <a:xfrm>
            <a:off x="1258920" y="1700280"/>
            <a:ext cx="47530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办公区域时的举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到达接待处，清晰、礼貌的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报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被带到接待处时安静等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见被访对象主动起身招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自我介绍，并对对方抽出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贵时间表示感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-1549440" y="31399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8" descr="图片1副本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59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6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68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70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18"/>
          <p:cNvSpPr/>
          <p:nvPr/>
        </p:nvSpPr>
        <p:spPr>
          <a:xfrm>
            <a:off x="2050920" y="2325600"/>
            <a:ext cx="36007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初次见面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人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事务性拜访中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拜访礼品赠送的礼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-1549440" y="313992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" descr="图片1副本"/>
          <p:cNvPicPr/>
          <p:nvPr/>
        </p:nvPicPr>
        <p:blipFill>
          <a:blip r:embed="rId4"/>
          <a:srcRect l="15129" t="0" r="15129" b="0"/>
          <a:stretch/>
        </p:blipFill>
        <p:spPr>
          <a:xfrm>
            <a:off x="5508720" y="2370240"/>
            <a:ext cx="2925720" cy="31464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24"/>
          <p:cNvGrpSpPr/>
          <p:nvPr/>
        </p:nvGrpSpPr>
        <p:grpSpPr>
          <a:xfrm>
            <a:off x="971640" y="2492280"/>
            <a:ext cx="1152000" cy="2448000"/>
            <a:chOff x="971640" y="2492280"/>
            <a:chExt cx="1152000" cy="2448000"/>
          </a:xfrm>
        </p:grpSpPr>
        <p:sp>
          <p:nvSpPr>
            <p:cNvPr id="276" name="Rectangle 22"/>
            <p:cNvSpPr/>
            <p:nvPr/>
          </p:nvSpPr>
          <p:spPr>
            <a:xfrm>
              <a:off x="971640" y="3279600"/>
              <a:ext cx="62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礼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3"/>
            <p:cNvSpPr/>
            <p:nvPr/>
          </p:nvSpPr>
          <p:spPr>
            <a:xfrm>
              <a:off x="1680480" y="2492280"/>
              <a:ext cx="443160" cy="2448000"/>
            </a:xfrm>
            <a:custGeom>
              <a:avLst/>
              <a:gdLst>
                <a:gd name="textAreaLeft" fmla="*/ 283320 w 443160"/>
                <a:gd name="textAreaRight" fmla="*/ 443520 w 44316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80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8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89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9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25"/>
          <p:cNvSpPr/>
          <p:nvPr/>
        </p:nvSpPr>
        <p:spPr>
          <a:xfrm>
            <a:off x="1405080" y="2852640"/>
            <a:ext cx="5759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一次拜访的概括性夸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善于及时发现在上次拜访后的细小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若女主人接待，一定要给予适当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赞美一定要尽量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87280" y="1951200"/>
            <a:ext cx="3384720" cy="1251720"/>
            <a:chOff x="1187280" y="1951200"/>
            <a:chExt cx="3384720" cy="1251720"/>
          </a:xfrm>
        </p:grpSpPr>
        <p:sp>
          <p:nvSpPr>
            <p:cNvPr id="295" name="Rectangle 27"/>
            <p:cNvSpPr/>
            <p:nvPr/>
          </p:nvSpPr>
          <p:spPr>
            <a:xfrm>
              <a:off x="1788480" y="1951200"/>
              <a:ext cx="22028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次见面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1187280" y="2709720"/>
              <a:ext cx="3384720" cy="709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8"/>
          <p:cNvGrpSpPr/>
          <p:nvPr/>
        </p:nvGrpSpPr>
        <p:grpSpPr>
          <a:xfrm>
            <a:off x="1258920" y="3111480"/>
            <a:ext cx="163440" cy="1614600"/>
            <a:chOff x="1258920" y="3111480"/>
            <a:chExt cx="163440" cy="1614600"/>
          </a:xfrm>
        </p:grpSpPr>
        <p:pic>
          <p:nvPicPr>
            <p:cNvPr id="298" name="Picture 31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258920" y="311148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33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258920" y="3657600"/>
              <a:ext cx="14436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4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268280" y="4167000"/>
              <a:ext cx="144720" cy="12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35" descr="Molecular_compound3 [转换]"/>
            <p:cNvPicPr/>
            <p:nvPr/>
          </p:nvPicPr>
          <p:blipFill>
            <a:blip r:embed="rId7"/>
            <a:srcRect l="56555" t="0" r="0" b="0"/>
            <a:stretch/>
          </p:blipFill>
          <p:spPr>
            <a:xfrm>
              <a:off x="1278000" y="460548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0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0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1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1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Rectangle 18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要守时守约，若特殊情况不能前去，一定要提前通知对方，表示歉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讲究敲门的艺术：食指弯曲，指关节敲门，力度适中，间隔有序敲三下，等待回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门后，将随身带来的外套、雨具等放到主人指定的地点，不要随处乱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19" name="Rectangle 20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1114560" y="2924280"/>
            <a:ext cx="153360" cy="2082240"/>
            <a:chOff x="1114560" y="2924280"/>
            <a:chExt cx="153360" cy="2082240"/>
          </a:xfrm>
        </p:grpSpPr>
        <p:pic>
          <p:nvPicPr>
            <p:cNvPr id="322" name="Picture 23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114560" y="292428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4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114560" y="3873240"/>
              <a:ext cx="1440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5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123560" y="4885920"/>
              <a:ext cx="14436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2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3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3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3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Rectangle 18"/>
          <p:cNvSpPr/>
          <p:nvPr/>
        </p:nvSpPr>
        <p:spPr>
          <a:xfrm>
            <a:off x="1260360" y="2637000"/>
            <a:ext cx="698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没有提出就座不能随便坐下。主人认座之后一定要表示谢意，不能有不文明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跟主人谈话，语言要客气。注意掌握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道别：起身告辞，要向主人表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打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之意。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留步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再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！不要起身后一去不回头，让主人觉得很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9"/>
          <p:cNvGrpSpPr/>
          <p:nvPr/>
        </p:nvGrpSpPr>
        <p:grpSpPr>
          <a:xfrm>
            <a:off x="1042920" y="1735200"/>
            <a:ext cx="3384720" cy="1251720"/>
            <a:chOff x="1042920" y="1735200"/>
            <a:chExt cx="3384720" cy="1251720"/>
          </a:xfrm>
        </p:grpSpPr>
        <p:sp>
          <p:nvSpPr>
            <p:cNvPr id="342" name="Rectangle 20"/>
            <p:cNvSpPr/>
            <p:nvPr/>
          </p:nvSpPr>
          <p:spPr>
            <a:xfrm>
              <a:off x="1715040" y="1735200"/>
              <a:ext cx="24159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私人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1042920" y="249408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1116000" y="2924280"/>
            <a:ext cx="154080" cy="1632960"/>
            <a:chOff x="1116000" y="2924280"/>
            <a:chExt cx="154080" cy="1632960"/>
          </a:xfrm>
        </p:grpSpPr>
        <p:pic>
          <p:nvPicPr>
            <p:cNvPr id="345" name="Picture 23" descr="Molecular_compound3 [转换]"/>
            <p:cNvPicPr/>
            <p:nvPr/>
          </p:nvPicPr>
          <p:blipFill>
            <a:blip r:embed="rId4"/>
            <a:srcRect l="56555" t="0" r="0" b="0"/>
            <a:stretch/>
          </p:blipFill>
          <p:spPr>
            <a:xfrm>
              <a:off x="1116000" y="292428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4" descr="Molecular_compound3 [转换]"/>
            <p:cNvPicPr/>
            <p:nvPr/>
          </p:nvPicPr>
          <p:blipFill>
            <a:blip r:embed="rId5"/>
            <a:srcRect l="56555" t="0" r="0" b="0"/>
            <a:stretch/>
          </p:blipFill>
          <p:spPr>
            <a:xfrm>
              <a:off x="1116000" y="3873240"/>
              <a:ext cx="14436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25" descr="Molecular_compound3 [转换]"/>
            <p:cNvPicPr/>
            <p:nvPr/>
          </p:nvPicPr>
          <p:blipFill>
            <a:blip r:embed="rId6"/>
            <a:srcRect l="56555" t="0" r="0" b="0"/>
            <a:stretch/>
          </p:blipFill>
          <p:spPr>
            <a:xfrm>
              <a:off x="1125360" y="4436640"/>
              <a:ext cx="144720" cy="12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50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53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59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6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Rectangle 18"/>
          <p:cNvSpPr/>
          <p:nvPr/>
        </p:nvSpPr>
        <p:spPr>
          <a:xfrm>
            <a:off x="1187280" y="2565360"/>
            <a:ext cx="727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首要规则是准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到达时，告知对方接待人员你的名字和预约的时间，递上名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安静，耐心的等待，不要在中途打电话，或者看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被引到办公室时，如果是第一次见面先做自我介绍；如果认识，互相问候并握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9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65" name="Rectangle 20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事务性拜访中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23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04292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4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042920" y="3357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5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052640" y="4365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8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057320" y="530208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373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376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382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38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四）拜访的礼规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Rectangle 18"/>
          <p:cNvSpPr/>
          <p:nvPr/>
        </p:nvSpPr>
        <p:spPr>
          <a:xfrm>
            <a:off x="1476360" y="2565360"/>
            <a:ext cx="590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搞清楚对象，注重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抓准时机，注意场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挑选礼品要精心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1042920" y="1744560"/>
            <a:ext cx="3384720" cy="1251720"/>
            <a:chOff x="1042920" y="1744560"/>
            <a:chExt cx="3384720" cy="1251720"/>
          </a:xfrm>
        </p:grpSpPr>
        <p:sp>
          <p:nvSpPr>
            <p:cNvPr id="388" name="Rectangle 20"/>
            <p:cNvSpPr/>
            <p:nvPr/>
          </p:nvSpPr>
          <p:spPr>
            <a:xfrm>
              <a:off x="1786320" y="1744560"/>
              <a:ext cx="2629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9ff"/>
                  </a:solidFill>
                  <a:latin typeface="微软雅黑"/>
                  <a:ea typeface="微软雅黑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拜访礼品赠送的礼规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1042920" y="2503440"/>
              <a:ext cx="338472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332000" y="30924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3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332000" y="35956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4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332000" y="4149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397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403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405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二：宴会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408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1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1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2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2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Rectangle 18"/>
          <p:cNvSpPr/>
          <p:nvPr/>
        </p:nvSpPr>
        <p:spPr>
          <a:xfrm>
            <a:off x="1116000" y="2276640"/>
            <a:ext cx="72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对象    明确宴请主宾的身份、国籍、习俗、爱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等，以确定宴会的规格、主陪人、餐式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的    明确目的，便于安排宴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和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范围    原则：适、少、和、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形式    正式宴会、冷餐会、酒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茶会、工作餐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9"/>
          <p:cNvGrpSpPr/>
          <p:nvPr/>
        </p:nvGrpSpPr>
        <p:grpSpPr>
          <a:xfrm>
            <a:off x="900000" y="1844640"/>
            <a:ext cx="5526000" cy="825480"/>
            <a:chOff x="900000" y="1844640"/>
            <a:chExt cx="5526000" cy="825480"/>
          </a:xfrm>
        </p:grpSpPr>
        <p:sp>
          <p:nvSpPr>
            <p:cNvPr id="427" name="Rectangle 20"/>
            <p:cNvSpPr/>
            <p:nvPr/>
          </p:nvSpPr>
          <p:spPr>
            <a:xfrm>
              <a:off x="2143440" y="184464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一）明确宴请对象、目的、范围、形式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1"/>
            <p:cNvSpPr/>
            <p:nvPr/>
          </p:nvSpPr>
          <p:spPr>
            <a:xfrm>
              <a:off x="900000" y="2300400"/>
              <a:ext cx="5526000" cy="824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Oval 26"/>
          <p:cNvGrpSpPr/>
          <p:nvPr/>
        </p:nvGrpSpPr>
        <p:grpSpPr>
          <a:xfrm>
            <a:off x="6224760" y="3492360"/>
            <a:ext cx="2608200" cy="2616120"/>
            <a:chOff x="6224760" y="3492360"/>
            <a:chExt cx="2608200" cy="2616120"/>
          </a:xfrm>
        </p:grpSpPr>
        <p:pic>
          <p:nvPicPr>
            <p:cNvPr id="430" name="Oval 26" descr=""/>
            <p:cNvPicPr/>
            <p:nvPr/>
          </p:nvPicPr>
          <p:blipFill>
            <a:blip r:embed="rId4"/>
            <a:stretch/>
          </p:blipFill>
          <p:spPr>
            <a:xfrm>
              <a:off x="6224760" y="3492360"/>
              <a:ext cx="260820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597720" y="3870360"/>
              <a:ext cx="1781280" cy="17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395280" y="2852640"/>
            <a:ext cx="4537080" cy="1604160"/>
            <a:chOff x="395280" y="2852640"/>
            <a:chExt cx="4537080" cy="1604160"/>
          </a:xfrm>
        </p:grpSpPr>
        <p:grpSp>
          <p:nvGrpSpPr>
            <p:cNvPr id="58" name="Group 4"/>
            <p:cNvGrpSpPr/>
            <p:nvPr/>
          </p:nvGrpSpPr>
          <p:grpSpPr>
            <a:xfrm>
              <a:off x="482760" y="2852640"/>
              <a:ext cx="4449600" cy="1604160"/>
              <a:chOff x="482760" y="2852640"/>
              <a:chExt cx="4449600" cy="1604160"/>
            </a:xfrm>
          </p:grpSpPr>
          <p:sp>
            <p:nvSpPr>
              <p:cNvPr id="59" name="Rectangle 5"/>
              <p:cNvSpPr/>
              <p:nvPr/>
            </p:nvSpPr>
            <p:spPr>
              <a:xfrm>
                <a:off x="828720" y="2852640"/>
                <a:ext cx="4103640" cy="160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必备知识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拜访、家宴、礼品赠送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000000"/>
                    </a:solidFill>
                    <a:latin typeface="Arial"/>
                  </a:rPr>
                  <a:t>等礼仪要求 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6" descr="Molecular_compound3 [转换]"/>
              <p:cNvPicPr/>
              <p:nvPr/>
            </p:nvPicPr>
            <p:blipFill>
              <a:blip r:embed="rId2"/>
              <a:srcRect l="56552" t="0" r="0" b="0"/>
              <a:stretch/>
            </p:blipFill>
            <p:spPr>
              <a:xfrm>
                <a:off x="482760" y="2968560"/>
                <a:ext cx="360360" cy="30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" name="Oval 7"/>
            <p:cNvSpPr/>
            <p:nvPr/>
          </p:nvSpPr>
          <p:spPr>
            <a:xfrm>
              <a:off x="395280" y="3284280"/>
              <a:ext cx="338472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788000" y="4797360"/>
            <a:ext cx="4139280" cy="1092600"/>
            <a:chOff x="4788000" y="4797360"/>
            <a:chExt cx="4139280" cy="1092600"/>
          </a:xfrm>
        </p:grpSpPr>
        <p:grpSp>
          <p:nvGrpSpPr>
            <p:cNvPr id="63" name="Group 9"/>
            <p:cNvGrpSpPr/>
            <p:nvPr/>
          </p:nvGrpSpPr>
          <p:grpSpPr>
            <a:xfrm>
              <a:off x="4860720" y="4797360"/>
              <a:ext cx="4066560" cy="1092600"/>
              <a:chOff x="4860720" y="4797360"/>
              <a:chExt cx="4066560" cy="1092600"/>
            </a:xfrm>
          </p:grpSpPr>
          <p:sp>
            <p:nvSpPr>
              <p:cNvPr id="64" name="Rectangle 10"/>
              <p:cNvSpPr/>
              <p:nvPr/>
            </p:nvSpPr>
            <p:spPr>
              <a:xfrm>
                <a:off x="5255640" y="4797360"/>
                <a:ext cx="36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素质养成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礼貌、时间管理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Picture 11" descr="Molecular_compound3 [转换]"/>
              <p:cNvPicPr/>
              <p:nvPr/>
            </p:nvPicPr>
            <p:blipFill>
              <a:blip r:embed="rId3"/>
              <a:srcRect l="56552" t="0" r="0" b="0"/>
              <a:stretch/>
            </p:blipFill>
            <p:spPr>
              <a:xfrm>
                <a:off x="4860720" y="492768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Oval 12"/>
            <p:cNvSpPr/>
            <p:nvPr/>
          </p:nvSpPr>
          <p:spPr>
            <a:xfrm>
              <a:off x="4788000" y="5302080"/>
              <a:ext cx="3384360" cy="7164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3"/>
          <p:cNvGrpSpPr/>
          <p:nvPr/>
        </p:nvGrpSpPr>
        <p:grpSpPr>
          <a:xfrm>
            <a:off x="4896000" y="2276640"/>
            <a:ext cx="5147280" cy="1092600"/>
            <a:chOff x="4896000" y="2276640"/>
            <a:chExt cx="5147280" cy="1092600"/>
          </a:xfrm>
        </p:grpSpPr>
        <p:grpSp>
          <p:nvGrpSpPr>
            <p:cNvPr id="68" name="Group 14"/>
            <p:cNvGrpSpPr/>
            <p:nvPr/>
          </p:nvGrpSpPr>
          <p:grpSpPr>
            <a:xfrm>
              <a:off x="5111640" y="2276640"/>
              <a:ext cx="4931640" cy="1092600"/>
              <a:chOff x="5111640" y="2276640"/>
              <a:chExt cx="4931640" cy="1092600"/>
            </a:xfrm>
          </p:grpSpPr>
          <p:sp>
            <p:nvSpPr>
              <p:cNvPr id="69" name="Rectangle 15"/>
              <p:cNvSpPr/>
              <p:nvPr/>
            </p:nvSpPr>
            <p:spPr>
              <a:xfrm>
                <a:off x="5471640" y="2276640"/>
                <a:ext cx="4571640" cy="10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686"/>
                    </a:solidFill>
                    <a:latin typeface="Arial"/>
                    <a:ea typeface="黑体"/>
                  </a:rPr>
                  <a:t>核心技能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社交拜访能力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" name="Picture 16" descr="Molecular_compound3 [转换]"/>
              <p:cNvPicPr/>
              <p:nvPr/>
            </p:nvPicPr>
            <p:blipFill>
              <a:blip r:embed="rId4"/>
              <a:srcRect l="56552" t="0" r="0" b="0"/>
              <a:stretch/>
            </p:blipFill>
            <p:spPr>
              <a:xfrm>
                <a:off x="5111640" y="2420640"/>
                <a:ext cx="360000" cy="30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Oval 17"/>
            <p:cNvSpPr/>
            <p:nvPr/>
          </p:nvSpPr>
          <p:spPr>
            <a:xfrm>
              <a:off x="4896000" y="2784240"/>
              <a:ext cx="3384360" cy="71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18 C -8.33333E-007 0.01851 -0.00573 0.02453 -0.0125 0.02453 C -0.02031 0.02453 -0.02326 0.01805 -0.02465 0.01412 L -0.02569 0.00926 C -0.02708 0.00532 -0.03003 -0.0007 -0.03906 -0.0007 C -0.04479 -0.0007 -0.05121 0.00486 -0.05121 0.0118 C -0.05121 0.01851 -0.04479 0.02453 -0.03906 0.02453 C -0.03003 0.02453 -0.02708 0.01805 -0.02569 0.01412 L -0.02465 0.00926 C -0.02326 0.00532 -0.02031 -0.0007 -0.0125 -0.0007 C -0.00573 -0.0007 -8.33333E-007 0.00486 -8.33333E-007 0.0118 Z">
                                      <p:cBhvr>
                                        <p:cTn id="9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4.81481E-006 C -1.38889E-006 0.00718 0.00643 0.0132 0.01424 0.0132 C 0.02379 0.0132 0.02708 0.00649 0.02847 0.00255 L 0.03004 -0.00254 C 0.03143 -0.00671 0.03507 -0.01296 0.04566 -0.01296 C 0.05243 -0.01296 0.06024 -0.00717 0.06024 -4.81481E-006 C 0.06024 0.00718 0.05243 0.0132 0.04566 0.0132 C 0.03507 0.0132 0.03143 0.00649 0.03004 0.00255 L 0.02847 -0.00254 C 0.02708 -0.00671 0.02379 -0.01296 0.01424 -0.01296 C 0.00643 -0.01296 -1.38889E-006 -0.00717 -1.38889E-006 -4.81481E-006 Z">
                                      <p:cBhvr>
                                        <p:cTn id="14" dur="10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132 0.00532 C -0.04132 0.01665 -0.04896 0.02636 -0.05834 0.02636 C -0.06945 0.02636 -0.07327 0.01572 -0.075 0.00925 L -0.07674 0.00116 C -0.07848 -0.00508 -0.08282 -0.01549 -0.09497 -0.01549 C -0.10313 -0.01549 -0.11216 -0.00624 -0.11216 0.00532 C -0.11216 0.01665 -0.10313 0.02636 -0.09497 0.02636 C -0.08282 0.02636 -0.07848 0.01572 -0.07674 0.00925 L -0.075 0.00116 C -0.07327 -0.00508 -0.06945 -0.01549 -0.05834 -0.01549 C -0.04896 -0.01549 -0.04132 -0.00624 -0.04132 0.00532 Z">
                                      <p:cBhvr>
                                        <p:cTn id="19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3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3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4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4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Rectangle 18"/>
          <p:cNvSpPr/>
          <p:nvPr/>
        </p:nvSpPr>
        <p:spPr>
          <a:xfrm>
            <a:off x="1476360" y="421956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时间：不选重大节日、假日、或禁忌时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先和主宾协商，再发邀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点：环境幽雅，交通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900000" y="1844640"/>
            <a:ext cx="3672000" cy="825480"/>
            <a:chOff x="900000" y="1844640"/>
            <a:chExt cx="3672000" cy="825480"/>
          </a:xfrm>
        </p:grpSpPr>
        <p:sp>
          <p:nvSpPr>
            <p:cNvPr id="449" name="Rectangle 20"/>
            <p:cNvSpPr/>
            <p:nvPr/>
          </p:nvSpPr>
          <p:spPr>
            <a:xfrm>
              <a:off x="2499840" y="1844640"/>
              <a:ext cx="32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（二）选择时间、地点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1"/>
            <p:cNvSpPr/>
            <p:nvPr/>
          </p:nvSpPr>
          <p:spPr>
            <a:xfrm>
              <a:off x="900000" y="2276280"/>
              <a:ext cx="3672000" cy="828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28"/>
          <p:cNvGrpSpPr/>
          <p:nvPr/>
        </p:nvGrpSpPr>
        <p:grpSpPr>
          <a:xfrm>
            <a:off x="1042920" y="2444760"/>
            <a:ext cx="7058160" cy="2023920"/>
            <a:chOff x="1042920" y="2444760"/>
            <a:chExt cx="7058160" cy="2023920"/>
          </a:xfrm>
        </p:grpSpPr>
        <p:sp>
          <p:nvSpPr>
            <p:cNvPr id="452" name="Rectangle 25"/>
            <p:cNvSpPr/>
            <p:nvPr/>
          </p:nvSpPr>
          <p:spPr>
            <a:xfrm>
              <a:off x="1173240" y="2492280"/>
              <a:ext cx="6840360" cy="1944720"/>
            </a:xfrm>
            <a:prstGeom prst="rect">
              <a:avLst/>
            </a:prstGeom>
            <a:blipFill rotWithShape="0">
              <a:blip r:embed="rId4">
                <a:alphaModFix amt="65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24" descr=""/>
            <p:cNvPicPr/>
            <p:nvPr/>
          </p:nvPicPr>
          <p:blipFill>
            <a:blip r:embed="rId5"/>
            <a:stretch/>
          </p:blipFill>
          <p:spPr>
            <a:xfrm>
              <a:off x="1509480" y="2492280"/>
              <a:ext cx="612324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26"/>
            <p:cNvSpPr/>
            <p:nvPr/>
          </p:nvSpPr>
          <p:spPr>
            <a:xfrm>
              <a:off x="1042920" y="2452680"/>
              <a:ext cx="14436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7"/>
            <p:cNvSpPr/>
            <p:nvPr/>
          </p:nvSpPr>
          <p:spPr>
            <a:xfrm>
              <a:off x="7956360" y="2444760"/>
              <a:ext cx="144720" cy="2016000"/>
            </a:xfrm>
            <a:prstGeom prst="can">
              <a:avLst>
                <a:gd name="adj" fmla="val 2754"/>
              </a:avLst>
            </a:prstGeom>
            <a:solidFill>
              <a:srgbClr val="ffffff">
                <a:alpha val="88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58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6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6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6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Rectangle 18"/>
          <p:cNvSpPr/>
          <p:nvPr/>
        </p:nvSpPr>
        <p:spPr>
          <a:xfrm>
            <a:off x="1332000" y="5227560"/>
            <a:ext cx="64087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请柬应提前一至二周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0"/>
          <p:cNvSpPr/>
          <p:nvPr/>
        </p:nvSpPr>
        <p:spPr>
          <a:xfrm>
            <a:off x="2021760" y="1844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三）精心制作请柬，认真发送确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1"/>
          <p:cNvSpPr/>
          <p:nvPr/>
        </p:nvSpPr>
        <p:spPr>
          <a:xfrm>
            <a:off x="900000" y="2276640"/>
            <a:ext cx="504036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2" descr="OOOPIC_00cyl_20090818d24b9069b4eda021"/>
          <p:cNvPicPr/>
          <p:nvPr/>
        </p:nvPicPr>
        <p:blipFill>
          <a:blip r:embed="rId4"/>
          <a:stretch/>
        </p:blipFill>
        <p:spPr>
          <a:xfrm>
            <a:off x="1405080" y="27082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4" descr="20060909210854344"/>
          <p:cNvPicPr/>
          <p:nvPr/>
        </p:nvPicPr>
        <p:blipFill>
          <a:blip r:embed="rId5"/>
          <a:stretch/>
        </p:blipFill>
        <p:spPr>
          <a:xfrm>
            <a:off x="5003640" y="2708280"/>
            <a:ext cx="24480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37"/>
          <p:cNvGrpSpPr/>
          <p:nvPr/>
        </p:nvGrpSpPr>
        <p:grpSpPr>
          <a:xfrm>
            <a:off x="3530520" y="2443320"/>
            <a:ext cx="2779560" cy="2900160"/>
            <a:chOff x="3530520" y="2443320"/>
            <a:chExt cx="2779560" cy="2900160"/>
          </a:xfrm>
        </p:grpSpPr>
        <p:sp>
          <p:nvSpPr>
            <p:cNvPr id="477" name="Oval 36"/>
            <p:cNvSpPr/>
            <p:nvPr/>
          </p:nvSpPr>
          <p:spPr>
            <a:xfrm rot="2527800">
              <a:off x="3925440" y="3643560"/>
              <a:ext cx="158436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5"/>
            <p:cNvSpPr/>
            <p:nvPr/>
          </p:nvSpPr>
          <p:spPr>
            <a:xfrm rot="2527800">
              <a:off x="3998520" y="3282840"/>
              <a:ext cx="1727280" cy="86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1"/>
            <p:cNvGrpSpPr/>
            <p:nvPr/>
          </p:nvGrpSpPr>
          <p:grpSpPr>
            <a:xfrm>
              <a:off x="3530520" y="2443320"/>
              <a:ext cx="2779560" cy="2900160"/>
              <a:chOff x="3530520" y="2443320"/>
              <a:chExt cx="2779560" cy="2900160"/>
            </a:xfrm>
          </p:grpSpPr>
          <p:pic>
            <p:nvPicPr>
              <p:cNvPr id="480" name="Picture 29" descr="OOOPIC_vipvip4_2008091208321085c42ac0697de34a14"/>
              <p:cNvPicPr/>
              <p:nvPr/>
            </p:nvPicPr>
            <p:blipFill>
              <a:blip r:embed="rId6"/>
              <a:srcRect l="38387" t="0" r="19767" b="80825"/>
              <a:stretch/>
            </p:blipFill>
            <p:spPr>
              <a:xfrm rot="18669600">
                <a:off x="3691080" y="2745720"/>
                <a:ext cx="1015560" cy="46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30" descr="OOOPIC_vipvip4_2008091208321085c42ac0697de34a14"/>
              <p:cNvPicPr/>
              <p:nvPr/>
            </p:nvPicPr>
            <p:blipFill>
              <a:blip r:embed="rId7"/>
              <a:srcRect l="12238" t="13970" r="12238" b="0"/>
              <a:stretch/>
            </p:blipFill>
            <p:spPr>
              <a:xfrm rot="18669600">
                <a:off x="4003200" y="2921040"/>
                <a:ext cx="1833480" cy="208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48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48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49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49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8"/>
          <p:cNvSpPr/>
          <p:nvPr/>
        </p:nvSpPr>
        <p:spPr>
          <a:xfrm>
            <a:off x="1042920" y="2060640"/>
            <a:ext cx="71294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1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桌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决定餐桌高低次序的原则是：主桌排定之后，其余桌次的高低以离主桌的远近而定，近者为高，远者为低；平行者以右桌为高，左桌为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常见的排列方法参见图示： 图中的座号就是桌次的高低序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1471320" y="18446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四）安排席位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0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50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50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51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51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Rectangle 18"/>
          <p:cNvSpPr/>
          <p:nvPr/>
        </p:nvSpPr>
        <p:spPr>
          <a:xfrm>
            <a:off x="900000" y="1486080"/>
            <a:ext cx="76327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4"/>
              </a:rPr>
              <a:t>2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5"/>
              </a:rPr>
              <a:t>、中餐席位次排列（图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一：主人在主桌面对正门之位就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二：多桌宴请时，每桌都要有一位主人的代表在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位置一般和主桌主人同向，有时也可以面向主桌主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三：各桌位次的尊卑，以距离该桌主人的远近而定，以近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，以远为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方法四：各桌距离该桌主人相同的位次，讲究以右为尊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主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身份高于主人，为表示尊重，也可以安排在主人位子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座，而请主人坐在主宾的位子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2"/>
          <p:cNvSpPr/>
          <p:nvPr/>
        </p:nvSpPr>
        <p:spPr>
          <a:xfrm>
            <a:off x="324000" y="77796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622520" y="150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5"/>
          <p:cNvSpPr/>
          <p:nvPr/>
        </p:nvSpPr>
        <p:spPr>
          <a:xfrm>
            <a:off x="7239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6"/>
          <p:cNvSpPr/>
          <p:nvPr/>
        </p:nvSpPr>
        <p:spPr>
          <a:xfrm flipH="1">
            <a:off x="1835280" y="19638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7"/>
          <p:cNvSpPr/>
          <p:nvPr/>
        </p:nvSpPr>
        <p:spPr>
          <a:xfrm>
            <a:off x="952560" y="133668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1962000" y="13302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1476360" y="210672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Line 30"/>
          <p:cNvSpPr/>
          <p:nvPr/>
        </p:nvSpPr>
        <p:spPr>
          <a:xfrm>
            <a:off x="369576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1"/>
          <p:cNvSpPr/>
          <p:nvPr/>
        </p:nvSpPr>
        <p:spPr>
          <a:xfrm flipH="1">
            <a:off x="483840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WordArt 32"/>
          <p:cNvSpPr txBox="1"/>
          <p:nvPr/>
        </p:nvSpPr>
        <p:spPr>
          <a:xfrm>
            <a:off x="44578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Oval 33"/>
          <p:cNvSpPr/>
          <p:nvPr/>
        </p:nvSpPr>
        <p:spPr>
          <a:xfrm>
            <a:off x="4381560" y="13366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4"/>
          <p:cNvSpPr/>
          <p:nvPr/>
        </p:nvSpPr>
        <p:spPr>
          <a:xfrm>
            <a:off x="723960" y="4917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5"/>
          <p:cNvSpPr/>
          <p:nvPr/>
        </p:nvSpPr>
        <p:spPr>
          <a:xfrm flipH="1">
            <a:off x="186660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1333440" y="3699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7"/>
          <p:cNvSpPr/>
          <p:nvPr/>
        </p:nvSpPr>
        <p:spPr>
          <a:xfrm>
            <a:off x="9525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8"/>
          <p:cNvSpPr/>
          <p:nvPr/>
        </p:nvSpPr>
        <p:spPr>
          <a:xfrm>
            <a:off x="1866960" y="415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9"/>
          <p:cNvSpPr/>
          <p:nvPr/>
        </p:nvSpPr>
        <p:spPr>
          <a:xfrm>
            <a:off x="9525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0"/>
          <p:cNvSpPr/>
          <p:nvPr/>
        </p:nvSpPr>
        <p:spPr>
          <a:xfrm>
            <a:off x="1866960" y="461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41"/>
          <p:cNvSpPr txBox="1"/>
          <p:nvPr/>
        </p:nvSpPr>
        <p:spPr>
          <a:xfrm>
            <a:off x="148608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10414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3"/>
          <p:cNvSpPr/>
          <p:nvPr/>
        </p:nvSpPr>
        <p:spPr>
          <a:xfrm>
            <a:off x="4013280" y="2790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1361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五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5"/>
          <p:cNvSpPr/>
          <p:nvPr/>
        </p:nvSpPr>
        <p:spPr>
          <a:xfrm>
            <a:off x="6210360" y="1946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7353000" y="19461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47"/>
          <p:cNvSpPr txBox="1"/>
          <p:nvPr/>
        </p:nvSpPr>
        <p:spPr>
          <a:xfrm>
            <a:off x="6972480" y="20988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6972480" y="9558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49"/>
          <p:cNvSpPr/>
          <p:nvPr/>
        </p:nvSpPr>
        <p:spPr>
          <a:xfrm>
            <a:off x="6438960" y="1413000"/>
            <a:ext cx="457200" cy="4572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50"/>
          <p:cNvSpPr/>
          <p:nvPr/>
        </p:nvSpPr>
        <p:spPr>
          <a:xfrm>
            <a:off x="7429680" y="14130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3619440" y="5146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 flipH="1">
            <a:off x="4762080" y="51465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53"/>
          <p:cNvSpPr/>
          <p:nvPr/>
        </p:nvSpPr>
        <p:spPr>
          <a:xfrm>
            <a:off x="438156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4"/>
          <p:cNvSpPr/>
          <p:nvPr/>
        </p:nvSpPr>
        <p:spPr>
          <a:xfrm>
            <a:off x="377208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5"/>
          <p:cNvSpPr/>
          <p:nvPr/>
        </p:nvSpPr>
        <p:spPr>
          <a:xfrm>
            <a:off x="4991040" y="3927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6"/>
          <p:cNvSpPr/>
          <p:nvPr/>
        </p:nvSpPr>
        <p:spPr>
          <a:xfrm>
            <a:off x="43815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57"/>
          <p:cNvSpPr/>
          <p:nvPr/>
        </p:nvSpPr>
        <p:spPr>
          <a:xfrm>
            <a:off x="3772080" y="453708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8"/>
          <p:cNvSpPr/>
          <p:nvPr/>
        </p:nvSpPr>
        <p:spPr>
          <a:xfrm>
            <a:off x="50673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59"/>
          <p:cNvSpPr txBox="1"/>
          <p:nvPr/>
        </p:nvSpPr>
        <p:spPr>
          <a:xfrm>
            <a:off x="4381560" y="529920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4" name="Text Box 60"/>
          <p:cNvSpPr/>
          <p:nvPr/>
        </p:nvSpPr>
        <p:spPr>
          <a:xfrm>
            <a:off x="6603840" y="2755800"/>
            <a:ext cx="16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桌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1"/>
          <p:cNvSpPr/>
          <p:nvPr/>
        </p:nvSpPr>
        <p:spPr>
          <a:xfrm>
            <a:off x="418104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六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62"/>
          <p:cNvSpPr/>
          <p:nvPr/>
        </p:nvSpPr>
        <p:spPr>
          <a:xfrm>
            <a:off x="6515280" y="50706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63"/>
          <p:cNvSpPr/>
          <p:nvPr/>
        </p:nvSpPr>
        <p:spPr>
          <a:xfrm flipH="1">
            <a:off x="7658280" y="50706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64"/>
          <p:cNvSpPr/>
          <p:nvPr/>
        </p:nvSpPr>
        <p:spPr>
          <a:xfrm>
            <a:off x="72770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5"/>
          <p:cNvSpPr/>
          <p:nvPr/>
        </p:nvSpPr>
        <p:spPr>
          <a:xfrm>
            <a:off x="659124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66"/>
          <p:cNvSpPr/>
          <p:nvPr/>
        </p:nvSpPr>
        <p:spPr>
          <a:xfrm>
            <a:off x="7886880" y="40798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67"/>
          <p:cNvSpPr/>
          <p:nvPr/>
        </p:nvSpPr>
        <p:spPr>
          <a:xfrm>
            <a:off x="6896160" y="35463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68"/>
          <p:cNvSpPr/>
          <p:nvPr/>
        </p:nvSpPr>
        <p:spPr>
          <a:xfrm>
            <a:off x="7581960" y="3546360"/>
            <a:ext cx="38088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69"/>
          <p:cNvSpPr/>
          <p:nvPr/>
        </p:nvSpPr>
        <p:spPr>
          <a:xfrm>
            <a:off x="689616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70"/>
          <p:cNvSpPr txBox="1"/>
          <p:nvPr/>
        </p:nvSpPr>
        <p:spPr>
          <a:xfrm>
            <a:off x="7277040" y="5222880"/>
            <a:ext cx="461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Oval 71"/>
          <p:cNvSpPr/>
          <p:nvPr/>
        </p:nvSpPr>
        <p:spPr>
          <a:xfrm>
            <a:off x="7658280" y="453708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2"/>
          <p:cNvSpPr/>
          <p:nvPr/>
        </p:nvSpPr>
        <p:spPr>
          <a:xfrm>
            <a:off x="7076520" y="58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七桌横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75"/>
          <p:cNvSpPr/>
          <p:nvPr/>
        </p:nvSpPr>
        <p:spPr>
          <a:xfrm>
            <a:off x="4379760" y="77796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6"/>
          <p:cNvSpPr/>
          <p:nvPr/>
        </p:nvSpPr>
        <p:spPr>
          <a:xfrm>
            <a:off x="0" y="3403440"/>
            <a:ext cx="8712360" cy="71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77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78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10"/>
          <p:cNvSpPr/>
          <p:nvPr/>
        </p:nvSpPr>
        <p:spPr>
          <a:xfrm>
            <a:off x="611280" y="476280"/>
            <a:ext cx="7921440" cy="593100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24000" y="476280"/>
            <a:ext cx="74880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85"/>
          <p:cNvGrpSpPr/>
          <p:nvPr/>
        </p:nvGrpSpPr>
        <p:grpSpPr>
          <a:xfrm>
            <a:off x="1028880" y="1844640"/>
            <a:ext cx="7086600" cy="3313080"/>
            <a:chOff x="1028880" y="1844640"/>
            <a:chExt cx="7086600" cy="3313080"/>
          </a:xfrm>
        </p:grpSpPr>
        <p:sp>
          <p:nvSpPr>
            <p:cNvPr id="574" name="Oval 57"/>
            <p:cNvSpPr/>
            <p:nvPr/>
          </p:nvSpPr>
          <p:spPr>
            <a:xfrm>
              <a:off x="1590840" y="2508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6383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59"/>
            <p:cNvSpPr/>
            <p:nvPr/>
          </p:nvSpPr>
          <p:spPr>
            <a:xfrm>
              <a:off x="3086280" y="22255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0"/>
            <p:cNvSpPr/>
            <p:nvPr/>
          </p:nvSpPr>
          <p:spPr>
            <a:xfrm>
              <a:off x="110520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61"/>
            <p:cNvSpPr/>
            <p:nvPr/>
          </p:nvSpPr>
          <p:spPr>
            <a:xfrm>
              <a:off x="3619800" y="29113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62"/>
            <p:cNvSpPr/>
            <p:nvPr/>
          </p:nvSpPr>
          <p:spPr>
            <a:xfrm>
              <a:off x="10288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63"/>
            <p:cNvSpPr/>
            <p:nvPr/>
          </p:nvSpPr>
          <p:spPr>
            <a:xfrm>
              <a:off x="3619800" y="36734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4"/>
            <p:cNvSpPr/>
            <p:nvPr/>
          </p:nvSpPr>
          <p:spPr>
            <a:xfrm>
              <a:off x="14097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65"/>
            <p:cNvSpPr/>
            <p:nvPr/>
          </p:nvSpPr>
          <p:spPr>
            <a:xfrm>
              <a:off x="2324160" y="1920960"/>
              <a:ext cx="533520" cy="533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66"/>
            <p:cNvSpPr/>
            <p:nvPr/>
          </p:nvSpPr>
          <p:spPr>
            <a:xfrm>
              <a:off x="3238560" y="4359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7"/>
            <p:cNvSpPr/>
            <p:nvPr/>
          </p:nvSpPr>
          <p:spPr>
            <a:xfrm>
              <a:off x="2324160" y="45878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68"/>
            <p:cNvSpPr/>
            <p:nvPr/>
          </p:nvSpPr>
          <p:spPr>
            <a:xfrm>
              <a:off x="5600880" y="2454120"/>
              <a:ext cx="1981080" cy="198144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69"/>
            <p:cNvSpPr/>
            <p:nvPr/>
          </p:nvSpPr>
          <p:spPr>
            <a:xfrm>
              <a:off x="5600880" y="20732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70"/>
            <p:cNvSpPr/>
            <p:nvPr/>
          </p:nvSpPr>
          <p:spPr>
            <a:xfrm>
              <a:off x="7124760" y="21495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71"/>
            <p:cNvSpPr/>
            <p:nvPr/>
          </p:nvSpPr>
          <p:spPr>
            <a:xfrm>
              <a:off x="5143680" y="275904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72"/>
            <p:cNvSpPr/>
            <p:nvPr/>
          </p:nvSpPr>
          <p:spPr>
            <a:xfrm>
              <a:off x="7658280" y="28353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73"/>
            <p:cNvSpPr/>
            <p:nvPr/>
          </p:nvSpPr>
          <p:spPr>
            <a:xfrm>
              <a:off x="4991400" y="352116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74"/>
            <p:cNvSpPr/>
            <p:nvPr/>
          </p:nvSpPr>
          <p:spPr>
            <a:xfrm>
              <a:off x="7658280" y="35971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75"/>
            <p:cNvSpPr/>
            <p:nvPr/>
          </p:nvSpPr>
          <p:spPr>
            <a:xfrm>
              <a:off x="54486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76"/>
            <p:cNvSpPr/>
            <p:nvPr/>
          </p:nvSpPr>
          <p:spPr>
            <a:xfrm>
              <a:off x="6363000" y="1844640"/>
              <a:ext cx="533160" cy="533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77"/>
            <p:cNvSpPr/>
            <p:nvPr/>
          </p:nvSpPr>
          <p:spPr>
            <a:xfrm>
              <a:off x="7277400" y="4282920"/>
              <a:ext cx="457200" cy="45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78"/>
            <p:cNvSpPr/>
            <p:nvPr/>
          </p:nvSpPr>
          <p:spPr>
            <a:xfrm>
              <a:off x="6339240" y="4548240"/>
              <a:ext cx="609480" cy="60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79"/>
            <p:cNvSpPr/>
            <p:nvPr/>
          </p:nvSpPr>
          <p:spPr>
            <a:xfrm>
              <a:off x="6363000" y="4581360"/>
              <a:ext cx="65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第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66"/>
                  </a:solidFill>
                  <a:latin typeface="Times New Roman"/>
                </a:rPr>
                <a:t>主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80"/>
          <p:cNvSpPr/>
          <p:nvPr/>
        </p:nvSpPr>
        <p:spPr>
          <a:xfrm>
            <a:off x="2409840" y="535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1"/>
          <p:cNvSpPr/>
          <p:nvPr/>
        </p:nvSpPr>
        <p:spPr>
          <a:xfrm>
            <a:off x="5838840" y="535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个主位时的位次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3"/>
          <p:cNvSpPr/>
          <p:nvPr/>
        </p:nvSpPr>
        <p:spPr>
          <a:xfrm>
            <a:off x="3419640" y="981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微软雅黑"/>
              </a:rPr>
              <a:t>位次排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86"/>
          <p:cNvSpPr/>
          <p:nvPr/>
        </p:nvSpPr>
        <p:spPr>
          <a:xfrm>
            <a:off x="3635280" y="85680"/>
            <a:ext cx="1944720" cy="60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微软雅黑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87"/>
          <p:cNvSpPr/>
          <p:nvPr/>
        </p:nvSpPr>
        <p:spPr>
          <a:xfrm>
            <a:off x="3600360" y="0"/>
            <a:ext cx="1943280" cy="6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0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0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1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1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宴请组织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Rectangle 18"/>
          <p:cNvSpPr/>
          <p:nvPr/>
        </p:nvSpPr>
        <p:spPr>
          <a:xfrm>
            <a:off x="1258920" y="2565360"/>
            <a:ext cx="7129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：精致可口、赏心悦目、特色突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尊重客人饮食习惯、禁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注意冷热  、甜咸、色香味搭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酒精含量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1042920" y="1844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（五）拟订菜单和用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20"/>
          <p:cNvSpPr/>
          <p:nvPr/>
        </p:nvSpPr>
        <p:spPr>
          <a:xfrm>
            <a:off x="900000" y="2276640"/>
            <a:ext cx="3456000" cy="727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2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2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3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3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宴请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18"/>
          <p:cNvSpPr/>
          <p:nvPr/>
        </p:nvSpPr>
        <p:spPr>
          <a:xfrm>
            <a:off x="971640" y="1917720"/>
            <a:ext cx="712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一）迎宾    主人应站在大厅门口迎接客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二）引导入席   主人陪主宾进入宴会厅主桌，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待人员引导其他客人入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三）致词、祝酒  言简意赅、热情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四）用餐   融洽气氛，掌握进餐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（五）送别   热情相送，感谢光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38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41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4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49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Rectangle 18"/>
          <p:cNvSpPr/>
          <p:nvPr/>
        </p:nvSpPr>
        <p:spPr>
          <a:xfrm>
            <a:off x="2733840" y="1700280"/>
            <a:ext cx="48625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邀请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应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尽早答复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度修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符合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适时到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早不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1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2843280" y="314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2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2833560" y="367668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3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2833560" y="423072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5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6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6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Rectangle 18"/>
          <p:cNvSpPr/>
          <p:nvPr/>
        </p:nvSpPr>
        <p:spPr>
          <a:xfrm>
            <a:off x="1476360" y="1484280"/>
            <a:ext cx="58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上礼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进餐动作文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餐具不慎碰掉，不必拾起，也无需向服务员道歉。做到不动声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张嘴剔牙。用牙签时用一只手遮住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60360" y="338760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453240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3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77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4" name="AutoShape 14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" name="Rectangle 18"/>
          <p:cNvSpPr/>
          <p:nvPr/>
        </p:nvSpPr>
        <p:spPr>
          <a:xfrm>
            <a:off x="971640" y="1844640"/>
            <a:ext cx="72007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19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年，周总理到西郊机场为西哈努克和夫人送行。亲王的飞机刚一起飞，我国参加欢送的人群便自行散开，准备返回，而周总理这时却依然笔直地站在原地未动，并要工作人员立即把那些离去的同志请回来。这次总理发了脾气，他严厉起来了，狠狠地批评道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你们怎么搞的，没有一点礼貌！各国外交使节站在那里，飞机还没有飞远，你们倒先走了。大国这样对小国客人不是搞大国主义吗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当天下午，周总理就把外交部礼宾司和国务院机关事务管理局的负责同志找去，要他们立即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礼宾工作条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上加上一条，即今后到机场为贵宾送行，须等到飞机起飞，绕场一周，双翼摆动三次表示谢意后，送行者方可离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1680"/>
            <a:ext cx="9144000" cy="682488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7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7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685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68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Rectangle 18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祝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敬酒顺序按身份高低或座次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碰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与主宾先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人多时可同时举杯不需逐一碰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男士举杯应略低于女士酒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祝辞时暂停进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694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69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6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0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8" name="Rectangle 18"/>
          <p:cNvSpPr/>
          <p:nvPr/>
        </p:nvSpPr>
        <p:spPr>
          <a:xfrm>
            <a:off x="1476360" y="148428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席间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人主动提出交谈话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只同个别人交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言不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大声说话或哈哈大笑、窃窃私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一边说话一边进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7008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521172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6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258920" y="4005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7" descr="Molecular_compound3 [转换]"/>
          <p:cNvPicPr/>
          <p:nvPr/>
        </p:nvPicPr>
        <p:blipFill>
          <a:blip r:embed="rId8"/>
          <a:srcRect l="56555" t="0" r="0" b="0"/>
          <a:stretch/>
        </p:blipFill>
        <p:spPr>
          <a:xfrm>
            <a:off x="1258920" y="46213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1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1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1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25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27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赴宴的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Rectangle 18"/>
          <p:cNvSpPr/>
          <p:nvPr/>
        </p:nvSpPr>
        <p:spPr>
          <a:xfrm>
            <a:off x="1187280" y="1484280"/>
            <a:ext cx="741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宴会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结束信号：主人把餐巾放在桌上，或从餐桌旁站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桌礼节：把椅子放回原位。男士应帮助身边的女士移开座椅，并帮其放回原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宴会顺序：身份高者、年长者或女士先走。一般情况下贵宾是第一告辞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离开时对主人表示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982800" y="28526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971640" y="345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1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971640" y="561348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2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971640" y="4581360"/>
            <a:ext cx="144360" cy="1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738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744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746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三：礼品赠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749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20"/>
          <p:cNvSpPr/>
          <p:nvPr/>
        </p:nvSpPr>
        <p:spPr>
          <a:xfrm>
            <a:off x="-3203640" y="2565360"/>
            <a:ext cx="6912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5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5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5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6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6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、东方西方送礼的不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Rectangle 18"/>
          <p:cNvSpPr/>
          <p:nvPr/>
        </p:nvSpPr>
        <p:spPr>
          <a:xfrm>
            <a:off x="1258920" y="2133720"/>
            <a:ext cx="619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方人嘴巴说的是礼轻情意重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实总是看钱决定情意的多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方人给礼物是给一份惊喜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带来尖叫和赞赏才是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042920" y="242100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042920" y="366876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7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7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781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78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二、送礼场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8"/>
          <p:cNvSpPr/>
          <p:nvPr/>
        </p:nvSpPr>
        <p:spPr>
          <a:xfrm>
            <a:off x="1474920" y="2062080"/>
            <a:ext cx="47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节庆           各种纪念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场应酬           婚丧喜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际往来           表示爱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示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9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258920" y="234936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0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258920" y="359712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4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258920" y="29973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5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258920" y="422100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6" descr="Molecular_compound3 [转换]"/>
          <p:cNvPicPr/>
          <p:nvPr/>
        </p:nvPicPr>
        <p:blipFill>
          <a:blip r:embed="rId8"/>
          <a:srcRect l="56555" t="0" r="0" b="0"/>
          <a:stretch/>
        </p:blipFill>
        <p:spPr>
          <a:xfrm>
            <a:off x="3492360" y="302256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7" descr="Molecular_compound3 [转换]"/>
          <p:cNvPicPr/>
          <p:nvPr/>
        </p:nvPicPr>
        <p:blipFill>
          <a:blip r:embed="rId9"/>
          <a:srcRect l="56555" t="0" r="0" b="0"/>
          <a:stretch/>
        </p:blipFill>
        <p:spPr>
          <a:xfrm>
            <a:off x="3492360" y="2422440"/>
            <a:ext cx="144720" cy="1206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8" descr="Molecular_compound3 [转换]"/>
          <p:cNvPicPr/>
          <p:nvPr/>
        </p:nvPicPr>
        <p:blipFill>
          <a:blip r:embed="rId10"/>
          <a:srcRect l="56555" t="0" r="0" b="0"/>
          <a:stretch/>
        </p:blipFill>
        <p:spPr>
          <a:xfrm>
            <a:off x="3492360" y="3646440"/>
            <a:ext cx="14472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79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79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圆角矩形 10"/>
          <p:cNvSpPr/>
          <p:nvPr/>
        </p:nvSpPr>
        <p:spPr>
          <a:xfrm>
            <a:off x="684360" y="1125360"/>
            <a:ext cx="7632720" cy="547236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0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0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08" name=""/>
          <p:cNvGraphicFramePr/>
          <p:nvPr/>
        </p:nvGraphicFramePr>
        <p:xfrm>
          <a:off x="826920" y="1444680"/>
          <a:ext cx="7345440" cy="5010120"/>
        </p:xfrm>
        <a:graphic>
          <a:graphicData uri="http://schemas.openxmlformats.org/drawingml/2006/table">
            <a:tbl>
              <a:tblPr/>
              <a:tblGrid>
                <a:gridCol w="944640"/>
                <a:gridCol w="640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场   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花卉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婚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、香水百合（粉红色）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豆蔻，适合送色泽淡雅而富清香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可浓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为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温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清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伟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乔　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郁金香、盆栽、盆景，适合送稳重高贵的花木，表示隆重之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演奏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就　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剑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生　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诞生花最贴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另以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雏菊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亦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示永远祝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探　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适合送剑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兰花均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丧　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菊花、白百合、白玫瑰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迎　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、紫罗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寿　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玫瑰、兰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11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14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20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2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3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4" name="Picture 27" descr="01300000214331123451935247758"/>
          <p:cNvPicPr/>
          <p:nvPr/>
        </p:nvPicPr>
        <p:blipFill>
          <a:blip r:embed="rId4"/>
          <a:stretch/>
        </p:blipFill>
        <p:spPr>
          <a:xfrm>
            <a:off x="0" y="4757760"/>
            <a:ext cx="3708360" cy="210024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28"/>
          <p:cNvSpPr/>
          <p:nvPr/>
        </p:nvSpPr>
        <p:spPr>
          <a:xfrm>
            <a:off x="3492360" y="1936800"/>
            <a:ext cx="5185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玫瑰：热恋、热情、热爱着你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粉玫瑰：初恋、求爱、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特别的关怀 、永远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玫瑰：失恋、褪去的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橙玫瑰：富有青春气息、初恋心情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玫瑰：天真、纯洁 、纯纯的爱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1" descr=""/>
          <p:cNvPicPr/>
          <p:nvPr/>
        </p:nvPicPr>
        <p:blipFill>
          <a:blip r:embed="rId5"/>
          <a:stretch/>
        </p:blipFill>
        <p:spPr>
          <a:xfrm>
            <a:off x="1763640" y="3860640"/>
            <a:ext cx="1656000" cy="116856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51"/>
          <p:cNvSpPr/>
          <p:nvPr/>
        </p:nvSpPr>
        <p:spPr>
          <a:xfrm>
            <a:off x="3492360" y="213192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玫瑰：纯真简朴、青春长驻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紫玫瑰：忧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幻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做梦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玫瑰 ：你是恶魔，且为我所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红白玫瑰：战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玫瑰（捧花）：幸福之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55" descr="01300000214331123451935247758"/>
          <p:cNvPicPr/>
          <p:nvPr/>
        </p:nvPicPr>
        <p:blipFill>
          <a:blip r:embed="rId6"/>
          <a:stretch/>
        </p:blipFill>
        <p:spPr>
          <a:xfrm>
            <a:off x="3059280" y="4757760"/>
            <a:ext cx="3708360" cy="21002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6" descr="01300000214331123451935247758"/>
          <p:cNvPicPr/>
          <p:nvPr/>
        </p:nvPicPr>
        <p:blipFill>
          <a:blip r:embed="rId7"/>
          <a:stretch/>
        </p:blipFill>
        <p:spPr>
          <a:xfrm>
            <a:off x="6084720" y="4756320"/>
            <a:ext cx="3708720" cy="21002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7" descr="01300000214331123451935247758"/>
          <p:cNvPicPr/>
          <p:nvPr/>
        </p:nvPicPr>
        <p:blipFill>
          <a:blip r:embed="rId8"/>
          <a:stretch/>
        </p:blipFill>
        <p:spPr>
          <a:xfrm>
            <a:off x="2484360" y="5451480"/>
            <a:ext cx="2808360" cy="15908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8" descr="01300000214331123451935247758"/>
          <p:cNvPicPr/>
          <p:nvPr/>
        </p:nvPicPr>
        <p:blipFill>
          <a:blip r:embed="rId9"/>
          <a:stretch/>
        </p:blipFill>
        <p:spPr>
          <a:xfrm>
            <a:off x="5364000" y="5510160"/>
            <a:ext cx="2376720" cy="13464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64" descr=""/>
          <p:cNvPicPr/>
          <p:nvPr/>
        </p:nvPicPr>
        <p:blipFill>
          <a:blip r:embed="rId10"/>
          <a:srcRect l="0" t="0" r="1205" b="4521"/>
          <a:stretch/>
        </p:blipFill>
        <p:spPr>
          <a:xfrm>
            <a:off x="971640" y="1989000"/>
            <a:ext cx="2205000" cy="19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3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37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3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4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45" name="同心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50"/>
          <p:cNvGrpSpPr/>
          <p:nvPr/>
        </p:nvGrpSpPr>
        <p:grpSpPr>
          <a:xfrm>
            <a:off x="900000" y="4437000"/>
            <a:ext cx="1584360" cy="1555920"/>
            <a:chOff x="900000" y="4437000"/>
            <a:chExt cx="1584360" cy="1555920"/>
          </a:xfrm>
        </p:grpSpPr>
        <p:sp>
          <p:nvSpPr>
            <p:cNvPr id="849" name="AutoShape 30"/>
            <p:cNvSpPr/>
            <p:nvPr/>
          </p:nvSpPr>
          <p:spPr>
            <a:xfrm>
              <a:off x="900000" y="4437000"/>
              <a:ext cx="1407960" cy="1555920"/>
            </a:xfrm>
            <a:prstGeom prst="borderCallout1">
              <a:avLst>
                <a:gd name="adj1" fmla="val 18750"/>
                <a:gd name="adj2" fmla="val -8333"/>
                <a:gd name="adj3" fmla="val -20000"/>
                <a:gd name="adj4" fmla="val 1130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1"/>
            <p:cNvSpPr/>
            <p:nvPr/>
          </p:nvSpPr>
          <p:spPr>
            <a:xfrm>
              <a:off x="958680" y="4437000"/>
              <a:ext cx="1525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白色百合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纯洁庄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心相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百年好合</a:t>
              </a:r>
              <a:r>
                <a:rPr b="1" lang="zh-CN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46"/>
          <p:cNvGrpSpPr/>
          <p:nvPr/>
        </p:nvGrpSpPr>
        <p:grpSpPr>
          <a:xfrm>
            <a:off x="5724360" y="3645000"/>
            <a:ext cx="2808360" cy="2184480"/>
            <a:chOff x="5724360" y="3645000"/>
            <a:chExt cx="2808360" cy="2184480"/>
          </a:xfrm>
        </p:grpSpPr>
        <p:sp>
          <p:nvSpPr>
            <p:cNvPr id="852" name="Rectangle 38"/>
            <p:cNvSpPr/>
            <p:nvPr/>
          </p:nvSpPr>
          <p:spPr>
            <a:xfrm>
              <a:off x="5724360" y="3645000"/>
              <a:ext cx="2808360" cy="21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3" name="Picture 36" descr="012221041N1"/>
            <p:cNvPicPr/>
            <p:nvPr/>
          </p:nvPicPr>
          <p:blipFill>
            <a:blip r:embed="rId4"/>
            <a:stretch/>
          </p:blipFill>
          <p:spPr>
            <a:xfrm>
              <a:off x="5835600" y="3706560"/>
              <a:ext cx="2579760" cy="20948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4" name="Group 47"/>
          <p:cNvGrpSpPr/>
          <p:nvPr/>
        </p:nvGrpSpPr>
        <p:grpSpPr>
          <a:xfrm>
            <a:off x="3419640" y="2565360"/>
            <a:ext cx="3071520" cy="2335320"/>
            <a:chOff x="3419640" y="2565360"/>
            <a:chExt cx="3071520" cy="2335320"/>
          </a:xfrm>
        </p:grpSpPr>
        <p:sp>
          <p:nvSpPr>
            <p:cNvPr id="855" name="Rectangle 39"/>
            <p:cNvSpPr/>
            <p:nvPr/>
          </p:nvSpPr>
          <p:spPr>
            <a:xfrm>
              <a:off x="3419640" y="2565360"/>
              <a:ext cx="3071520" cy="23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Picture 32" descr="20100602100736"/>
            <p:cNvPicPr/>
            <p:nvPr/>
          </p:nvPicPr>
          <p:blipFill>
            <a:blip r:embed="rId5"/>
            <a:stretch/>
          </p:blipFill>
          <p:spPr>
            <a:xfrm>
              <a:off x="3529800" y="2668320"/>
              <a:ext cx="2865240" cy="21481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57" name="Group 43"/>
          <p:cNvGrpSpPr/>
          <p:nvPr/>
        </p:nvGrpSpPr>
        <p:grpSpPr>
          <a:xfrm>
            <a:off x="1116000" y="1773360"/>
            <a:ext cx="2808360" cy="2336760"/>
            <a:chOff x="1116000" y="1773360"/>
            <a:chExt cx="2808360" cy="2336760"/>
          </a:xfrm>
        </p:grpSpPr>
        <p:sp>
          <p:nvSpPr>
            <p:cNvPr id="858" name="Rectangle 40"/>
            <p:cNvSpPr/>
            <p:nvPr/>
          </p:nvSpPr>
          <p:spPr>
            <a:xfrm>
              <a:off x="1116000" y="1773360"/>
              <a:ext cx="280836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9" name="Picture 28" descr="20100602100611"/>
            <p:cNvPicPr/>
            <p:nvPr/>
          </p:nvPicPr>
          <p:blipFill>
            <a:blip r:embed="rId6"/>
            <a:stretch/>
          </p:blipFill>
          <p:spPr>
            <a:xfrm>
              <a:off x="1176120" y="1895760"/>
              <a:ext cx="2679480" cy="212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860" name="AutoShape 49"/>
          <p:cNvSpPr/>
          <p:nvPr/>
        </p:nvSpPr>
        <p:spPr>
          <a:xfrm>
            <a:off x="2928960" y="5334120"/>
            <a:ext cx="1512720" cy="763560"/>
          </a:xfrm>
          <a:prstGeom prst="borderCallout1">
            <a:avLst>
              <a:gd name="adj1" fmla="val 18750"/>
              <a:gd name="adj2" fmla="val -8333"/>
              <a:gd name="adj3" fmla="val -103740"/>
              <a:gd name="adj4" fmla="val 112694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百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富高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51"/>
          <p:cNvSpPr/>
          <p:nvPr/>
        </p:nvSpPr>
        <p:spPr>
          <a:xfrm>
            <a:off x="7236000" y="2492280"/>
            <a:ext cx="1258560" cy="763560"/>
          </a:xfrm>
          <a:prstGeom prst="borderCallout1">
            <a:avLst>
              <a:gd name="adj1" fmla="val 18750"/>
              <a:gd name="adj2" fmla="val -8333"/>
              <a:gd name="adj3" fmla="val 172763"/>
              <a:gd name="adj4" fmla="val -14499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百合： 喜气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640" y="6310440"/>
            <a:ext cx="6972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6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6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7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7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5364000" y="341316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心长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福禄康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40"/>
          <p:cNvGrpSpPr/>
          <p:nvPr/>
        </p:nvGrpSpPr>
        <p:grpSpPr>
          <a:xfrm>
            <a:off x="1367280" y="1941120"/>
            <a:ext cx="3221280" cy="3767760"/>
            <a:chOff x="1367280" y="1941120"/>
            <a:chExt cx="3221280" cy="3767760"/>
          </a:xfrm>
        </p:grpSpPr>
        <p:sp>
          <p:nvSpPr>
            <p:cNvPr id="880" name="Rectangle 41"/>
            <p:cNvSpPr/>
            <p:nvPr/>
          </p:nvSpPr>
          <p:spPr>
            <a:xfrm rot="900000">
              <a:off x="1744200" y="2205000"/>
              <a:ext cx="2466720" cy="3239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1" name="Picture 42" descr="ac50763e4b0e5dd33c6d97e0"/>
            <p:cNvPicPr/>
            <p:nvPr/>
          </p:nvPicPr>
          <p:blipFill>
            <a:blip r:embed="rId4"/>
            <a:stretch/>
          </p:blipFill>
          <p:spPr>
            <a:xfrm rot="900000">
              <a:off x="1860840" y="2336400"/>
              <a:ext cx="2251080" cy="3008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882" name="Group 32"/>
          <p:cNvGrpSpPr/>
          <p:nvPr/>
        </p:nvGrpSpPr>
        <p:grpSpPr>
          <a:xfrm>
            <a:off x="1307160" y="2023560"/>
            <a:ext cx="2928960" cy="3676320"/>
            <a:chOff x="1307160" y="2023560"/>
            <a:chExt cx="2928960" cy="3676320"/>
          </a:xfrm>
        </p:grpSpPr>
        <p:sp>
          <p:nvSpPr>
            <p:cNvPr id="883" name="Rectangle 31"/>
            <p:cNvSpPr/>
            <p:nvPr/>
          </p:nvSpPr>
          <p:spPr>
            <a:xfrm rot="21293400">
              <a:off x="1455480" y="2133720"/>
              <a:ext cx="2631600" cy="34556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4" name="Picture 18" descr="ac50763e4b0e5dd33c6d97e0"/>
            <p:cNvPicPr/>
            <p:nvPr/>
          </p:nvPicPr>
          <p:blipFill>
            <a:blip r:embed="rId5"/>
            <a:stretch/>
          </p:blipFill>
          <p:spPr>
            <a:xfrm rot="21293400">
              <a:off x="1585440" y="2269800"/>
              <a:ext cx="2401560" cy="3209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885" name="Picture 47" descr=""/>
          <p:cNvPicPr/>
          <p:nvPr/>
        </p:nvPicPr>
        <p:blipFill>
          <a:blip r:embed="rId6"/>
          <a:stretch/>
        </p:blipFill>
        <p:spPr>
          <a:xfrm>
            <a:off x="5149800" y="2060640"/>
            <a:ext cx="2590920" cy="146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94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01" name="AutoShape 14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0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情景引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Rectangle 18"/>
          <p:cNvSpPr/>
          <p:nvPr/>
        </p:nvSpPr>
        <p:spPr>
          <a:xfrm>
            <a:off x="1187280" y="2371680"/>
            <a:ext cx="72010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微软雅黑"/>
              </a:rPr>
              <a:t>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周总理为什么要发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在日常交往接待中，我们应遵循哪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待客礼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87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4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889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892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Group 11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896" name="AutoShape 12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89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6"/>
          <p:cNvGrpSpPr/>
          <p:nvPr/>
        </p:nvGrpSpPr>
        <p:grpSpPr>
          <a:xfrm>
            <a:off x="1063080" y="1964880"/>
            <a:ext cx="2986560" cy="3504240"/>
            <a:chOff x="1063080" y="1964880"/>
            <a:chExt cx="2986560" cy="3504240"/>
          </a:xfrm>
        </p:grpSpPr>
        <p:sp>
          <p:nvSpPr>
            <p:cNvPr id="902" name="Rectangle 37"/>
            <p:cNvSpPr/>
            <p:nvPr/>
          </p:nvSpPr>
          <p:spPr>
            <a:xfrm rot="870000">
              <a:off x="1404720" y="2205000"/>
              <a:ext cx="2302920" cy="3024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Picture 38" descr="237c007cccb6033529388ae0"/>
            <p:cNvPicPr/>
            <p:nvPr/>
          </p:nvPicPr>
          <p:blipFill>
            <a:blip r:embed="rId4">
              <a:grayscl/>
            </a:blip>
            <a:stretch/>
          </p:blipFill>
          <p:spPr>
            <a:xfrm rot="870000">
              <a:off x="1519560" y="2319840"/>
              <a:ext cx="2094480" cy="2791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04" name="Group 24"/>
          <p:cNvGrpSpPr/>
          <p:nvPr/>
        </p:nvGrpSpPr>
        <p:grpSpPr>
          <a:xfrm>
            <a:off x="942840" y="2006280"/>
            <a:ext cx="2758680" cy="3422880"/>
            <a:chOff x="942840" y="2006280"/>
            <a:chExt cx="2758680" cy="3422880"/>
          </a:xfrm>
        </p:grpSpPr>
        <p:sp>
          <p:nvSpPr>
            <p:cNvPr id="905" name="Rectangle 25"/>
            <p:cNvSpPr/>
            <p:nvPr/>
          </p:nvSpPr>
          <p:spPr>
            <a:xfrm rot="21206400">
              <a:off x="1115640" y="2133720"/>
              <a:ext cx="2412720" cy="316800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Picture 26" descr="237c007cccb6033529388ae0"/>
            <p:cNvPicPr/>
            <p:nvPr/>
          </p:nvPicPr>
          <p:blipFill>
            <a:blip r:embed="rId5"/>
            <a:stretch/>
          </p:blipFill>
          <p:spPr>
            <a:xfrm rot="21206400">
              <a:off x="1235160" y="2250720"/>
              <a:ext cx="2194200" cy="2924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07" name="Rectangle 39"/>
          <p:cNvSpPr/>
          <p:nvPr/>
        </p:nvSpPr>
        <p:spPr>
          <a:xfrm>
            <a:off x="4753080" y="2924280"/>
            <a:ext cx="4572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雄壮之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42" descr=""/>
          <p:cNvPicPr/>
          <p:nvPr/>
        </p:nvPicPr>
        <p:blipFill>
          <a:blip r:embed="rId6"/>
          <a:stretch/>
        </p:blipFill>
        <p:spPr>
          <a:xfrm>
            <a:off x="4716360" y="2205000"/>
            <a:ext cx="1871640" cy="11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1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4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12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15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6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7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1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19" name="AutoShape 12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21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2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三、送花的场合与花材搭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7"/>
          <p:cNvSpPr/>
          <p:nvPr/>
        </p:nvSpPr>
        <p:spPr>
          <a:xfrm>
            <a:off x="5148360" y="2708280"/>
            <a:ext cx="216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新婚祝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幸运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38"/>
          <p:cNvGrpSpPr/>
          <p:nvPr/>
        </p:nvGrpSpPr>
        <p:grpSpPr>
          <a:xfrm>
            <a:off x="826920" y="2276640"/>
            <a:ext cx="2521080" cy="1965240"/>
            <a:chOff x="826920" y="2276640"/>
            <a:chExt cx="2521080" cy="1965240"/>
          </a:xfrm>
        </p:grpSpPr>
        <p:sp>
          <p:nvSpPr>
            <p:cNvPr id="926" name="Rectangle 39"/>
            <p:cNvSpPr/>
            <p:nvPr/>
          </p:nvSpPr>
          <p:spPr>
            <a:xfrm>
              <a:off x="826920" y="2276640"/>
              <a:ext cx="2521080" cy="196524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Picture 40" descr="36eff18bdea683a9a5c272e7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907920" y="2371320"/>
              <a:ext cx="2374920" cy="17816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28" name="Group 41"/>
          <p:cNvGrpSpPr/>
          <p:nvPr/>
        </p:nvGrpSpPr>
        <p:grpSpPr>
          <a:xfrm>
            <a:off x="1979640" y="3357720"/>
            <a:ext cx="2592360" cy="2020680"/>
            <a:chOff x="1979640" y="3357720"/>
            <a:chExt cx="2592360" cy="2020680"/>
          </a:xfrm>
        </p:grpSpPr>
        <p:sp>
          <p:nvSpPr>
            <p:cNvPr id="929" name="Rectangle 42"/>
            <p:cNvSpPr/>
            <p:nvPr/>
          </p:nvSpPr>
          <p:spPr>
            <a:xfrm>
              <a:off x="1979640" y="3357720"/>
              <a:ext cx="2592360" cy="202068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0" name="Picture 43" descr="36eff18bdea683a9a5c272e7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063160" y="3455280"/>
              <a:ext cx="2441880" cy="1831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931" name="Group 21"/>
          <p:cNvGrpSpPr/>
          <p:nvPr/>
        </p:nvGrpSpPr>
        <p:grpSpPr>
          <a:xfrm>
            <a:off x="1116000" y="2565360"/>
            <a:ext cx="3203640" cy="2496960"/>
            <a:chOff x="1116000" y="2565360"/>
            <a:chExt cx="3203640" cy="2496960"/>
          </a:xfrm>
        </p:grpSpPr>
        <p:sp>
          <p:nvSpPr>
            <p:cNvPr id="932" name="Rectangle 22"/>
            <p:cNvSpPr/>
            <p:nvPr/>
          </p:nvSpPr>
          <p:spPr>
            <a:xfrm>
              <a:off x="1116000" y="2565360"/>
              <a:ext cx="3203640" cy="2496960"/>
            </a:xfrm>
            <a:prstGeom prst="rect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3" name="Picture 23" descr="36eff18bdea683a9a5c272e7"/>
            <p:cNvPicPr/>
            <p:nvPr/>
          </p:nvPicPr>
          <p:blipFill>
            <a:blip r:embed="rId6"/>
            <a:stretch/>
          </p:blipFill>
          <p:spPr>
            <a:xfrm>
              <a:off x="1219320" y="2685960"/>
              <a:ext cx="3017880" cy="2263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34" name="Picture 46" descr=""/>
          <p:cNvPicPr/>
          <p:nvPr/>
        </p:nvPicPr>
        <p:blipFill>
          <a:blip r:embed="rId7"/>
          <a:stretch/>
        </p:blipFill>
        <p:spPr>
          <a:xfrm>
            <a:off x="4932360" y="2421000"/>
            <a:ext cx="295272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36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37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40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46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4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9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四、送花的禁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0" name="Rectangle 19"/>
          <p:cNvSpPr/>
          <p:nvPr/>
        </p:nvSpPr>
        <p:spPr>
          <a:xfrm>
            <a:off x="1258920" y="184464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探病时避免送白、 蓝、 黄色或香味过浓的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丧礼的场合送白玫瑰、 白莲花或素花均可， 象征惋惜怀念之情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礼送花，适合送颜色鲜艳而富花语者佳， 可增进浪漫气氛， 表示甜蜜．</a:t>
            </a:r>
            <a:r>
              <a:rPr b="0" lang="zh-TW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人士，除了丧礼外，任何场合均应避免送白花．国内人士喜爱红花，表示喜气</a:t>
            </a:r>
            <a:r>
              <a:rPr b="1" lang="zh-TW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20" descr="Molecular_compound3 [转换]"/>
          <p:cNvPicPr/>
          <p:nvPr/>
        </p:nvPicPr>
        <p:blipFill>
          <a:blip r:embed="rId4"/>
          <a:srcRect l="56555" t="0" r="0" b="0"/>
          <a:stretch/>
        </p:blipFill>
        <p:spPr>
          <a:xfrm>
            <a:off x="1116000" y="2155680"/>
            <a:ext cx="144360" cy="120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21" descr="Molecular_compound3 [转换]"/>
          <p:cNvPicPr/>
          <p:nvPr/>
        </p:nvPicPr>
        <p:blipFill>
          <a:blip r:embed="rId5"/>
          <a:srcRect l="56555" t="0" r="0" b="0"/>
          <a:stretch/>
        </p:blipFill>
        <p:spPr>
          <a:xfrm>
            <a:off x="1114560" y="489276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22" descr="Molecular_compound3 [转换]"/>
          <p:cNvPicPr/>
          <p:nvPr/>
        </p:nvPicPr>
        <p:blipFill>
          <a:blip r:embed="rId6"/>
          <a:srcRect l="56555" t="0" r="0" b="0"/>
          <a:stretch/>
        </p:blipFill>
        <p:spPr>
          <a:xfrm>
            <a:off x="1114560" y="2732040"/>
            <a:ext cx="144360" cy="120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23" descr="Molecular_compound3 [转换]"/>
          <p:cNvPicPr/>
          <p:nvPr/>
        </p:nvPicPr>
        <p:blipFill>
          <a:blip r:embed="rId7"/>
          <a:srcRect l="56555" t="0" r="0" b="0"/>
          <a:stretch/>
        </p:blipFill>
        <p:spPr>
          <a:xfrm>
            <a:off x="1116000" y="3813120"/>
            <a:ext cx="144360" cy="12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959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965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967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8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970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973" name="Group 3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974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977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983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985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6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实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Rectangle 18"/>
          <p:cNvSpPr/>
          <p:nvPr/>
        </p:nvSpPr>
        <p:spPr>
          <a:xfrm>
            <a:off x="900000" y="1341360"/>
            <a:ext cx="7129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你去你的班主任老师家拜访，你会带上什么礼品？你会如何开始寒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资料信息：爱人喜欢电子元件；儿子初中，喜欢军事、科技；母亲热情、随和，做菜水平高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26"/>
          <p:cNvSpPr/>
          <p:nvPr/>
        </p:nvSpPr>
        <p:spPr>
          <a:xfrm>
            <a:off x="1260360" y="3522600"/>
            <a:ext cx="6840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微软雅黑"/>
                <a:ea typeface="微软雅黑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设是毕业后到班主任老师办公室拜访，邀请班主任去你公司做一场礼仪培训，你又该如何准备？要注意哪些礼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993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999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100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1004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Rectangle 19"/>
          <p:cNvSpPr/>
          <p:nvPr/>
        </p:nvSpPr>
        <p:spPr>
          <a:xfrm>
            <a:off x="-3203640" y="2565360"/>
            <a:ext cx="6912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矩形 2"/>
          <p:cNvSpPr/>
          <p:nvPr/>
        </p:nvSpPr>
        <p:spPr>
          <a:xfrm>
            <a:off x="2896200" y="3259080"/>
            <a:ext cx="33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9" name="Group 3"/>
          <p:cNvGrpSpPr/>
          <p:nvPr/>
        </p:nvGrpSpPr>
        <p:grpSpPr>
          <a:xfrm>
            <a:off x="1620720" y="836640"/>
            <a:ext cx="5759280" cy="791640"/>
            <a:chOff x="1620720" y="836640"/>
            <a:chExt cx="5759280" cy="791640"/>
          </a:xfrm>
        </p:grpSpPr>
        <p:sp>
          <p:nvSpPr>
            <p:cNvPr id="1010" name="AutoShape 4"/>
            <p:cNvSpPr/>
            <p:nvPr/>
          </p:nvSpPr>
          <p:spPr>
            <a:xfrm>
              <a:off x="1895760" y="836640"/>
              <a:ext cx="54842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AutoShape 3"/>
            <p:cNvGrpSpPr/>
            <p:nvPr/>
          </p:nvGrpSpPr>
          <p:grpSpPr>
            <a:xfrm>
              <a:off x="1620720" y="842400"/>
              <a:ext cx="5547960" cy="785880"/>
              <a:chOff x="1620720" y="842400"/>
              <a:chExt cx="5547960" cy="785880"/>
            </a:xfrm>
          </p:grpSpPr>
          <p:pic>
            <p:nvPicPr>
              <p:cNvPr id="1012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0720" y="842400"/>
                <a:ext cx="554796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3" name=""/>
              <p:cNvSpPr/>
              <p:nvPr/>
            </p:nvSpPr>
            <p:spPr>
              <a:xfrm>
                <a:off x="1713960" y="950040"/>
                <a:ext cx="53611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Rectangle 8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9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979640" y="162864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里士多德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说过：“人在社会生活中，是难以离开与其他人进行交往的。一个人如果不同其他人进行任何交往，那么他不是一位神，就是一只兽。”人际交往，礼尚往来，既体现对他人的尊重，也体现你自身的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7" descr="未标题1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29"/>
          <p:cNvSpPr/>
          <p:nvPr/>
        </p:nvSpPr>
        <p:spPr>
          <a:xfrm>
            <a:off x="1905120" y="1600200"/>
            <a:ext cx="5410080" cy="4191120"/>
          </a:xfrm>
          <a:prstGeom prst="foldedCorner">
            <a:avLst>
              <a:gd name="adj" fmla="val 12500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3"/>
          <p:cNvGrpSpPr/>
          <p:nvPr/>
        </p:nvGrpSpPr>
        <p:grpSpPr>
          <a:xfrm>
            <a:off x="1620720" y="836640"/>
            <a:ext cx="5759280" cy="791640"/>
            <a:chOff x="1620720" y="836640"/>
            <a:chExt cx="5759280" cy="791640"/>
          </a:xfrm>
        </p:grpSpPr>
        <p:sp>
          <p:nvSpPr>
            <p:cNvPr id="1020" name="AutoShape 4"/>
            <p:cNvSpPr/>
            <p:nvPr/>
          </p:nvSpPr>
          <p:spPr>
            <a:xfrm>
              <a:off x="1895760" y="836640"/>
              <a:ext cx="54842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AutoShape 3"/>
            <p:cNvGrpSpPr/>
            <p:nvPr/>
          </p:nvGrpSpPr>
          <p:grpSpPr>
            <a:xfrm>
              <a:off x="1620720" y="842400"/>
              <a:ext cx="5547960" cy="785880"/>
              <a:chOff x="1620720" y="842400"/>
              <a:chExt cx="5547960" cy="785880"/>
            </a:xfrm>
          </p:grpSpPr>
          <p:pic>
            <p:nvPicPr>
              <p:cNvPr id="1022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0720" y="842400"/>
                <a:ext cx="554796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"/>
              <p:cNvSpPr/>
              <p:nvPr/>
            </p:nvSpPr>
            <p:spPr>
              <a:xfrm>
                <a:off x="1713960" y="950040"/>
                <a:ext cx="536112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课堂寄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4" name="Rectangle 8"/>
          <p:cNvSpPr/>
          <p:nvPr/>
        </p:nvSpPr>
        <p:spPr>
          <a:xfrm>
            <a:off x="920880" y="1433520"/>
            <a:ext cx="352872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0"/>
          <p:cNvSpPr/>
          <p:nvPr/>
        </p:nvSpPr>
        <p:spPr>
          <a:xfrm>
            <a:off x="3203640" y="256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宴席上最让人开胃的就是主人的礼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3882960" y="396864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莎士比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0"/>
          <p:cNvSpPr/>
          <p:nvPr/>
        </p:nvSpPr>
        <p:spPr>
          <a:xfrm>
            <a:off x="1487520" y="5219640"/>
            <a:ext cx="6168960" cy="42552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1"/>
          <p:cNvSpPr/>
          <p:nvPr/>
        </p:nvSpPr>
        <p:spPr>
          <a:xfrm>
            <a:off x="3011400" y="4888080"/>
            <a:ext cx="3121200" cy="72540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652320" y="5322960"/>
            <a:ext cx="7839360" cy="33156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25"/>
          <p:cNvSpPr/>
          <p:nvPr/>
        </p:nvSpPr>
        <p:spPr>
          <a:xfrm>
            <a:off x="2184480" y="5019840"/>
            <a:ext cx="4775040" cy="606240"/>
          </a:xfrm>
          <a:prstGeom prst="rect">
            <a:avLst/>
          </a:prstGeom>
          <a:solidFill>
            <a:srgbClr val="00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等腰三角形 13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等腰三角形 1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等腰三角形 16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等腰三角形 17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等腰三角形 18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等腰三角形 19"/>
          <p:cNvSpPr/>
          <p:nvPr/>
        </p:nvSpPr>
        <p:spPr>
          <a:xfrm rot="5400000">
            <a:off x="2176560" y="2943720"/>
            <a:ext cx="1386000" cy="196920"/>
          </a:xfrm>
          <a:prstGeom prst="triangle">
            <a:avLst>
              <a:gd name="adj" fmla="val 50000"/>
            </a:avLst>
          </a:prstGeom>
          <a:solidFill>
            <a:srgbClr val="0099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等腰三角形 23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等腰三角形 24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等腰三角形 26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等腰三角形 27"/>
          <p:cNvSpPr/>
          <p:nvPr/>
        </p:nvSpPr>
        <p:spPr>
          <a:xfrm rot="16200000">
            <a:off x="5777640" y="2944080"/>
            <a:ext cx="1386000" cy="196560"/>
          </a:xfrm>
          <a:prstGeom prst="triangle">
            <a:avLst>
              <a:gd name="adj" fmla="val 50000"/>
            </a:avLst>
          </a:prstGeom>
          <a:solidFill>
            <a:srgbClr val="0099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7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 repeatCount="500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4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 repeatCount="5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 repeatCount="5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4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 repeatCount="500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4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00" autoRev="1" fill="hold"/>
                                        <p:tgtEl>
                                          <p:spTgt spid="1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心圆 13"/>
          <p:cNvSpPr/>
          <p:nvPr/>
        </p:nvSpPr>
        <p:spPr>
          <a:xfrm>
            <a:off x="1290600" y="4179960"/>
            <a:ext cx="1336680" cy="133668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心圆 14"/>
          <p:cNvSpPr/>
          <p:nvPr/>
        </p:nvSpPr>
        <p:spPr>
          <a:xfrm>
            <a:off x="-31680" y="1398600"/>
            <a:ext cx="976320" cy="974880"/>
          </a:xfrm>
          <a:custGeom>
            <a:avLst/>
            <a:gdLst/>
            <a:ahLst/>
            <a:rect l="l" t="t" r="r" b="b"/>
            <a:pathLst>
              <a:path w="976313" h="974725">
                <a:moveTo>
                  <a:pt x="0" y="487363"/>
                </a:moveTo>
                <a:cubicBezTo>
                  <a:pt x="0" y="218200"/>
                  <a:pt x="218555" y="0"/>
                  <a:pt x="488157" y="0"/>
                </a:cubicBezTo>
                <a:cubicBezTo>
                  <a:pt x="757759" y="0"/>
                  <a:pt x="976314" y="218200"/>
                  <a:pt x="976314" y="487363"/>
                </a:cubicBezTo>
                <a:cubicBezTo>
                  <a:pt x="976314" y="756526"/>
                  <a:pt x="757759" y="974726"/>
                  <a:pt x="488157" y="974726"/>
                </a:cubicBezTo>
                <a:cubicBezTo>
                  <a:pt x="218555" y="974726"/>
                  <a:pt x="0" y="756526"/>
                  <a:pt x="0" y="487363"/>
                </a:cubicBezTo>
                <a:close/>
                <a:moveTo>
                  <a:pt x="87569" y="487363"/>
                </a:moveTo>
                <a:cubicBezTo>
                  <a:pt x="87569" y="708163"/>
                  <a:pt x="266918" y="887156"/>
                  <a:pt x="488156" y="887156"/>
                </a:cubicBezTo>
                <a:cubicBezTo>
                  <a:pt x="709394" y="887156"/>
                  <a:pt x="888743" y="708163"/>
                  <a:pt x="888743" y="487363"/>
                </a:cubicBezTo>
                <a:cubicBezTo>
                  <a:pt x="888743" y="266563"/>
                  <a:pt x="709394" y="87570"/>
                  <a:pt x="488156" y="87570"/>
                </a:cubicBezTo>
                <a:cubicBezTo>
                  <a:pt x="266918" y="87570"/>
                  <a:pt x="87569" y="266563"/>
                  <a:pt x="87569" y="487363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15"/>
          <p:cNvSpPr/>
          <p:nvPr/>
        </p:nvSpPr>
        <p:spPr>
          <a:xfrm>
            <a:off x="1069920" y="4659480"/>
            <a:ext cx="731880" cy="730080"/>
          </a:xfrm>
          <a:custGeom>
            <a:avLst/>
            <a:gdLst/>
            <a:ahLst/>
            <a:rect l="l" t="t" r="r" b="b"/>
            <a:pathLst>
              <a:path w="731838" h="730250">
                <a:moveTo>
                  <a:pt x="0" y="365125"/>
                </a:moveTo>
                <a:cubicBezTo>
                  <a:pt x="0" y="163472"/>
                  <a:pt x="163828" y="0"/>
                  <a:pt x="365919" y="0"/>
                </a:cubicBezTo>
                <a:cubicBezTo>
                  <a:pt x="568010" y="0"/>
                  <a:pt x="731838" y="163472"/>
                  <a:pt x="731838" y="365125"/>
                </a:cubicBezTo>
                <a:cubicBezTo>
                  <a:pt x="731838" y="566778"/>
                  <a:pt x="568010" y="730250"/>
                  <a:pt x="365919" y="730250"/>
                </a:cubicBezTo>
                <a:cubicBezTo>
                  <a:pt x="163828" y="730250"/>
                  <a:pt x="0" y="566778"/>
                  <a:pt x="0" y="365125"/>
                </a:cubicBezTo>
                <a:close/>
                <a:moveTo>
                  <a:pt x="65606" y="365125"/>
                </a:moveTo>
                <a:cubicBezTo>
                  <a:pt x="65606" y="530545"/>
                  <a:pt x="200061" y="664644"/>
                  <a:pt x="365919" y="664644"/>
                </a:cubicBezTo>
                <a:cubicBezTo>
                  <a:pt x="531777" y="664644"/>
                  <a:pt x="666232" y="530545"/>
                  <a:pt x="666232" y="365125"/>
                </a:cubicBezTo>
                <a:cubicBezTo>
                  <a:pt x="666232" y="199705"/>
                  <a:pt x="531777" y="65606"/>
                  <a:pt x="365919" y="65606"/>
                </a:cubicBezTo>
                <a:cubicBezTo>
                  <a:pt x="200061" y="65606"/>
                  <a:pt x="65606" y="199705"/>
                  <a:pt x="65606" y="3651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同心圆 16"/>
          <p:cNvGrpSpPr/>
          <p:nvPr/>
        </p:nvGrpSpPr>
        <p:grpSpPr>
          <a:xfrm>
            <a:off x="1908000" y="2286000"/>
            <a:ext cx="433440" cy="433440"/>
            <a:chOff x="1908000" y="2286000"/>
            <a:chExt cx="433440" cy="433440"/>
          </a:xfrm>
        </p:grpSpPr>
        <p:pic>
          <p:nvPicPr>
            <p:cNvPr id="110" name="同心圆 16" descr=""/>
            <p:cNvPicPr/>
            <p:nvPr/>
          </p:nvPicPr>
          <p:blipFill>
            <a:blip r:embed="rId1"/>
            <a:stretch/>
          </p:blipFill>
          <p:spPr>
            <a:xfrm>
              <a:off x="1908000" y="2286000"/>
              <a:ext cx="4334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971360" y="2351160"/>
              <a:ext cx="30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同心圆 17"/>
          <p:cNvSpPr/>
          <p:nvPr/>
        </p:nvSpPr>
        <p:spPr>
          <a:xfrm>
            <a:off x="7804080" y="1282680"/>
            <a:ext cx="986040" cy="985680"/>
          </a:xfrm>
          <a:custGeom>
            <a:avLst/>
            <a:gdLst/>
            <a:ahLst/>
            <a:rect l="l" t="t" r="r" b="b"/>
            <a:pathLst>
              <a:path w="985838" h="985838">
                <a:moveTo>
                  <a:pt x="0" y="492919"/>
                </a:moveTo>
                <a:cubicBezTo>
                  <a:pt x="0" y="220687"/>
                  <a:pt x="220687" y="0"/>
                  <a:pt x="492919" y="0"/>
                </a:cubicBezTo>
                <a:cubicBezTo>
                  <a:pt x="765151" y="0"/>
                  <a:pt x="985838" y="220687"/>
                  <a:pt x="985838" y="492919"/>
                </a:cubicBezTo>
                <a:cubicBezTo>
                  <a:pt x="985838" y="765151"/>
                  <a:pt x="765151" y="985838"/>
                  <a:pt x="492919" y="985838"/>
                </a:cubicBezTo>
                <a:cubicBezTo>
                  <a:pt x="220687" y="985838"/>
                  <a:pt x="0" y="765151"/>
                  <a:pt x="0" y="492919"/>
                </a:cubicBezTo>
                <a:close/>
                <a:moveTo>
                  <a:pt x="88568" y="492919"/>
                </a:moveTo>
                <a:cubicBezTo>
                  <a:pt x="88568" y="716236"/>
                  <a:pt x="269602" y="897270"/>
                  <a:pt x="492919" y="897270"/>
                </a:cubicBezTo>
                <a:cubicBezTo>
                  <a:pt x="716236" y="897270"/>
                  <a:pt x="897270" y="716236"/>
                  <a:pt x="897270" y="492919"/>
                </a:cubicBezTo>
                <a:cubicBezTo>
                  <a:pt x="897270" y="269602"/>
                  <a:pt x="716236" y="88568"/>
                  <a:pt x="492919" y="88568"/>
                </a:cubicBezTo>
                <a:cubicBezTo>
                  <a:pt x="269602" y="88568"/>
                  <a:pt x="88568" y="269602"/>
                  <a:pt x="88568" y="492919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18"/>
          <p:cNvSpPr/>
          <p:nvPr/>
        </p:nvSpPr>
        <p:spPr>
          <a:xfrm>
            <a:off x="7215120" y="352440"/>
            <a:ext cx="741600" cy="741240"/>
          </a:xfrm>
          <a:custGeom>
            <a:avLst/>
            <a:gdLst/>
            <a:ahLst/>
            <a:rect l="l" t="t" r="r" b="b"/>
            <a:pathLst>
              <a:path w="741362" h="741363">
                <a:moveTo>
                  <a:pt x="0" y="370682"/>
                </a:moveTo>
                <a:cubicBezTo>
                  <a:pt x="0" y="165960"/>
                  <a:pt x="165960" y="0"/>
                  <a:pt x="370681" y="0"/>
                </a:cubicBezTo>
                <a:cubicBezTo>
                  <a:pt x="575402" y="0"/>
                  <a:pt x="741362" y="165960"/>
                  <a:pt x="741362" y="370682"/>
                </a:cubicBezTo>
                <a:cubicBezTo>
                  <a:pt x="741362" y="575404"/>
                  <a:pt x="575402" y="741364"/>
                  <a:pt x="370681" y="741364"/>
                </a:cubicBezTo>
                <a:cubicBezTo>
                  <a:pt x="165960" y="741364"/>
                  <a:pt x="0" y="575404"/>
                  <a:pt x="0" y="370682"/>
                </a:cubicBezTo>
                <a:close/>
                <a:moveTo>
                  <a:pt x="44526" y="370682"/>
                </a:moveTo>
                <a:cubicBezTo>
                  <a:pt x="44526" y="550812"/>
                  <a:pt x="190551" y="696837"/>
                  <a:pt x="370681" y="696837"/>
                </a:cubicBezTo>
                <a:cubicBezTo>
                  <a:pt x="550811" y="696837"/>
                  <a:pt x="696836" y="550812"/>
                  <a:pt x="696836" y="370682"/>
                </a:cubicBezTo>
                <a:cubicBezTo>
                  <a:pt x="696836" y="190552"/>
                  <a:pt x="550811" y="44527"/>
                  <a:pt x="370681" y="44527"/>
                </a:cubicBezTo>
                <a:cubicBezTo>
                  <a:pt x="190551" y="44527"/>
                  <a:pt x="44526" y="190552"/>
                  <a:pt x="44526" y="37068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19"/>
          <p:cNvSpPr/>
          <p:nvPr/>
        </p:nvSpPr>
        <p:spPr>
          <a:xfrm>
            <a:off x="8459640" y="1268280"/>
            <a:ext cx="789120" cy="789120"/>
          </a:xfrm>
          <a:custGeom>
            <a:avLst/>
            <a:gdLst/>
            <a:ahLst/>
            <a:rect l="l" t="t" r="r" b="b"/>
            <a:pathLst>
              <a:path w="788987" h="788987">
                <a:moveTo>
                  <a:pt x="0" y="394494"/>
                </a:moveTo>
                <a:cubicBezTo>
                  <a:pt x="0" y="176621"/>
                  <a:pt x="176621" y="0"/>
                  <a:pt x="394494" y="0"/>
                </a:cubicBezTo>
                <a:cubicBezTo>
                  <a:pt x="612367" y="0"/>
                  <a:pt x="788988" y="176621"/>
                  <a:pt x="788988" y="394494"/>
                </a:cubicBezTo>
                <a:cubicBezTo>
                  <a:pt x="788988" y="612367"/>
                  <a:pt x="612367" y="788988"/>
                  <a:pt x="394494" y="788988"/>
                </a:cubicBezTo>
                <a:cubicBezTo>
                  <a:pt x="176621" y="788988"/>
                  <a:pt x="0" y="612367"/>
                  <a:pt x="0" y="394494"/>
                </a:cubicBezTo>
                <a:close/>
                <a:moveTo>
                  <a:pt x="70883" y="394494"/>
                </a:moveTo>
                <a:cubicBezTo>
                  <a:pt x="70883" y="573219"/>
                  <a:pt x="215769" y="718105"/>
                  <a:pt x="394494" y="718105"/>
                </a:cubicBezTo>
                <a:cubicBezTo>
                  <a:pt x="573219" y="718105"/>
                  <a:pt x="718105" y="573219"/>
                  <a:pt x="718105" y="394494"/>
                </a:cubicBezTo>
                <a:cubicBezTo>
                  <a:pt x="718105" y="215769"/>
                  <a:pt x="573219" y="70883"/>
                  <a:pt x="394494" y="70883"/>
                </a:cubicBezTo>
                <a:cubicBezTo>
                  <a:pt x="215769" y="70883"/>
                  <a:pt x="70883" y="215769"/>
                  <a:pt x="70883" y="394494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246320" y="2997360"/>
            <a:ext cx="6710040" cy="791640"/>
            <a:chOff x="1246320" y="2997360"/>
            <a:chExt cx="6710040" cy="791640"/>
          </a:xfrm>
        </p:grpSpPr>
        <p:sp>
          <p:nvSpPr>
            <p:cNvPr id="116" name="AutoShape 12"/>
            <p:cNvSpPr/>
            <p:nvPr/>
          </p:nvSpPr>
          <p:spPr>
            <a:xfrm>
              <a:off x="1315080" y="2997360"/>
              <a:ext cx="6583680" cy="6458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AutoShape 3"/>
            <p:cNvGrpSpPr/>
            <p:nvPr/>
          </p:nvGrpSpPr>
          <p:grpSpPr>
            <a:xfrm>
              <a:off x="1246320" y="3000240"/>
              <a:ext cx="6710040" cy="788760"/>
              <a:chOff x="1246320" y="3000240"/>
              <a:chExt cx="6710040" cy="788760"/>
            </a:xfrm>
          </p:grpSpPr>
          <p:pic>
            <p:nvPicPr>
              <p:cNvPr id="11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6320" y="3000240"/>
                <a:ext cx="671004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336680" y="3105000"/>
                <a:ext cx="652572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任务一：拜访礼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同心圆 16"/>
          <p:cNvGrpSpPr/>
          <p:nvPr/>
        </p:nvGrpSpPr>
        <p:grpSpPr>
          <a:xfrm>
            <a:off x="1474920" y="4511520"/>
            <a:ext cx="287280" cy="285840"/>
            <a:chOff x="1474920" y="4511520"/>
            <a:chExt cx="287280" cy="285840"/>
          </a:xfrm>
        </p:grpSpPr>
        <p:pic>
          <p:nvPicPr>
            <p:cNvPr id="121" name="同心圆 16" descr=""/>
            <p:cNvPicPr/>
            <p:nvPr/>
          </p:nvPicPr>
          <p:blipFill>
            <a:blip r:embed="rId3"/>
            <a:stretch/>
          </p:blipFill>
          <p:spPr>
            <a:xfrm>
              <a:off x="1474920" y="451152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519200" y="454968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1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12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12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0"/>
          <p:cNvGrpSpPr/>
          <p:nvPr/>
        </p:nvGrpSpPr>
        <p:grpSpPr>
          <a:xfrm>
            <a:off x="8004240" y="1434960"/>
            <a:ext cx="1225440" cy="565200"/>
            <a:chOff x="8004240" y="1434960"/>
            <a:chExt cx="1225440" cy="565200"/>
          </a:xfrm>
        </p:grpSpPr>
        <p:sp>
          <p:nvSpPr>
            <p:cNvPr id="132" name="同心圆 7"/>
            <p:cNvSpPr/>
            <p:nvPr/>
          </p:nvSpPr>
          <p:spPr>
            <a:xfrm>
              <a:off x="8004240" y="1562040"/>
              <a:ext cx="438120" cy="438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39" y="0"/>
                    <a:pt x="5000" y="0"/>
                  </a:cubicBezTo>
                  <a:cubicBezTo>
                    <a:pt x="7761" y="0"/>
                    <a:pt x="10000" y="2239"/>
                    <a:pt x="10000" y="5000"/>
                  </a:cubicBezTo>
                  <a:cubicBezTo>
                    <a:pt x="10000" y="7761"/>
                    <a:pt x="7761" y="10000"/>
                    <a:pt x="5000" y="10000"/>
                  </a:cubicBezTo>
                  <a:cubicBezTo>
                    <a:pt x="2239" y="10000"/>
                    <a:pt x="0" y="7761"/>
                    <a:pt x="0" y="5000"/>
                  </a:cubicBezTo>
                  <a:close/>
                  <a:moveTo>
                    <a:pt x="906" y="5000"/>
                  </a:moveTo>
                  <a:cubicBezTo>
                    <a:pt x="906" y="7261"/>
                    <a:pt x="2739" y="9094"/>
                    <a:pt x="5000" y="9094"/>
                  </a:cubicBezTo>
                  <a:cubicBezTo>
                    <a:pt x="7261" y="9094"/>
                    <a:pt x="9094" y="7261"/>
                    <a:pt x="9094" y="5000"/>
                  </a:cubicBezTo>
                  <a:cubicBezTo>
                    <a:pt x="9094" y="2739"/>
                    <a:pt x="7261" y="906"/>
                    <a:pt x="5000" y="906"/>
                  </a:cubicBezTo>
                  <a:cubicBezTo>
                    <a:pt x="2739" y="906"/>
                    <a:pt x="906" y="2739"/>
                    <a:pt x="906" y="5000"/>
                  </a:cubicBezTo>
                  <a:close/>
                </a:path>
              </a:pathLst>
            </a:custGeom>
            <a:solidFill>
              <a:srgbClr val="00b0f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同心圆 9"/>
            <p:cNvSpPr/>
            <p:nvPr/>
          </p:nvSpPr>
          <p:spPr>
            <a:xfrm>
              <a:off x="8879040" y="1434960"/>
              <a:ext cx="350640" cy="3510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23"/>
                  </a:moveTo>
                  <a:cubicBezTo>
                    <a:pt x="0" y="2249"/>
                    <a:pt x="2249" y="0"/>
                    <a:pt x="5023" y="0"/>
                  </a:cubicBezTo>
                  <a:cubicBezTo>
                    <a:pt x="7797" y="0"/>
                    <a:pt x="10046" y="2249"/>
                    <a:pt x="10046" y="5023"/>
                  </a:cubicBezTo>
                  <a:cubicBezTo>
                    <a:pt x="10046" y="7797"/>
                    <a:pt x="7797" y="10046"/>
                    <a:pt x="5023" y="10046"/>
                  </a:cubicBezTo>
                  <a:cubicBezTo>
                    <a:pt x="2249" y="10046"/>
                    <a:pt x="0" y="7797"/>
                    <a:pt x="0" y="5023"/>
                  </a:cubicBezTo>
                  <a:close/>
                  <a:moveTo>
                    <a:pt x="905" y="5023"/>
                  </a:moveTo>
                  <a:cubicBezTo>
                    <a:pt x="905" y="7297"/>
                    <a:pt x="2749" y="9141"/>
                    <a:pt x="5023" y="9141"/>
                  </a:cubicBezTo>
                  <a:cubicBezTo>
                    <a:pt x="7297" y="9141"/>
                    <a:pt x="9141" y="7297"/>
                    <a:pt x="9141" y="5023"/>
                  </a:cubicBezTo>
                  <a:cubicBezTo>
                    <a:pt x="9141" y="2749"/>
                    <a:pt x="7297" y="905"/>
                    <a:pt x="5023" y="905"/>
                  </a:cubicBezTo>
                  <a:cubicBezTo>
                    <a:pt x="2749" y="905"/>
                    <a:pt x="905" y="2749"/>
                    <a:pt x="905" y="5023"/>
                  </a:cubicBezTo>
                  <a:close/>
                </a:path>
              </a:pathLst>
            </a:custGeom>
            <a:solidFill>
              <a:srgbClr val="00b0f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36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3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Rectangle 18"/>
          <p:cNvSpPr/>
          <p:nvPr/>
        </p:nvSpPr>
        <p:spPr>
          <a:xfrm>
            <a:off x="1187280" y="2349360"/>
            <a:ext cx="273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拜访预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2"/>
          <p:cNvGrpSpPr/>
          <p:nvPr/>
        </p:nvGrpSpPr>
        <p:grpSpPr>
          <a:xfrm>
            <a:off x="1793160" y="3125880"/>
            <a:ext cx="3319920" cy="1687320"/>
            <a:chOff x="1793160" y="3125880"/>
            <a:chExt cx="3319920" cy="1687320"/>
          </a:xfrm>
        </p:grpSpPr>
        <p:sp>
          <p:nvSpPr>
            <p:cNvPr id="142" name="AutoShape 22"/>
            <p:cNvSpPr/>
            <p:nvPr/>
          </p:nvSpPr>
          <p:spPr>
            <a:xfrm>
              <a:off x="2916000" y="342756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99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132000" y="31258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电话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3132000" y="42926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微软雅黑"/>
                </a:rPr>
                <a:t>信件预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1793160" y="373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预约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5420880" y="1818720"/>
            <a:ext cx="3256560" cy="4244040"/>
            <a:chOff x="5420880" y="1818720"/>
            <a:chExt cx="3256560" cy="4244040"/>
          </a:xfrm>
        </p:grpSpPr>
        <p:sp>
          <p:nvSpPr>
            <p:cNvPr id="147" name="AutoShape 38"/>
            <p:cNvSpPr/>
            <p:nvPr/>
          </p:nvSpPr>
          <p:spPr>
            <a:xfrm rot="900000">
              <a:off x="5867280" y="2060280"/>
              <a:ext cx="2363760" cy="376056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560"/>
                <a:gd name="textAreaBottom" fmla="*/ 3645360 h 3760560"/>
              </a:gdLst>
              <a:ahLst/>
              <a:rect l="textAreaLeft" t="textAreaTop" r="textAreaRight" b="textAreaBottom"/>
              <a:pathLst>
                <a:path w="21600" h="34362">
                  <a:moveTo>
                    <a:pt x="3600" y="0"/>
                  </a:moveTo>
                  <a:arcTo wR="3600" hR="3600" stAng="16200000" swAng="-5400000"/>
                  <a:lnTo>
                    <a:pt x="0" y="30762"/>
                  </a:lnTo>
                  <a:arcTo wR="3600" hR="3600" stAng="10800000" swAng="-5400000"/>
                  <a:lnTo>
                    <a:pt x="18000" y="343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39" descr="untitled"/>
            <p:cNvPicPr/>
            <p:nvPr/>
          </p:nvPicPr>
          <p:blipFill>
            <a:blip r:embed="rId4"/>
            <a:srcRect l="12610" t="0" r="5052" b="0"/>
            <a:stretch/>
          </p:blipFill>
          <p:spPr>
            <a:xfrm rot="900000">
              <a:off x="6049440" y="2284920"/>
              <a:ext cx="1980000" cy="33055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49" name="Group 36"/>
          <p:cNvGrpSpPr/>
          <p:nvPr/>
        </p:nvGrpSpPr>
        <p:grpSpPr>
          <a:xfrm>
            <a:off x="5580000" y="1973160"/>
            <a:ext cx="2363760" cy="3760920"/>
            <a:chOff x="5580000" y="1973160"/>
            <a:chExt cx="2363760" cy="3760920"/>
          </a:xfrm>
        </p:grpSpPr>
        <p:sp>
          <p:nvSpPr>
            <p:cNvPr id="150" name="AutoShape 35"/>
            <p:cNvSpPr/>
            <p:nvPr/>
          </p:nvSpPr>
          <p:spPr>
            <a:xfrm>
              <a:off x="5580000" y="1973160"/>
              <a:ext cx="2363760" cy="3760920"/>
            </a:xfrm>
            <a:custGeom>
              <a:avLst/>
              <a:gdLst>
                <a:gd name="textAreaLeft" fmla="*/ 115200 w 2363760"/>
                <a:gd name="textAreaRight" fmla="*/ 2248560 w 2363760"/>
                <a:gd name="textAreaTop" fmla="*/ 115200 h 3760920"/>
                <a:gd name="textAreaBottom" fmla="*/ 3645720 h 3760920"/>
              </a:gdLst>
              <a:ahLst/>
              <a:rect l="textAreaLeft" t="textAreaTop" r="textAreaRight" b="textAreaBottom"/>
              <a:pathLst>
                <a:path w="21600" h="34365">
                  <a:moveTo>
                    <a:pt x="3600" y="0"/>
                  </a:moveTo>
                  <a:arcTo wR="3600" hR="3600" stAng="16200000" swAng="-5400000"/>
                  <a:lnTo>
                    <a:pt x="0" y="30765"/>
                  </a:lnTo>
                  <a:arcTo wR="3600" hR="3600" stAng="10800000" swAng="-5400000"/>
                  <a:lnTo>
                    <a:pt x="18000" y="34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33" descr="untitled"/>
            <p:cNvPicPr/>
            <p:nvPr/>
          </p:nvPicPr>
          <p:blipFill>
            <a:blip r:embed="rId5"/>
            <a:srcRect l="12610" t="0" r="5052" b="0"/>
            <a:stretch/>
          </p:blipFill>
          <p:spPr>
            <a:xfrm>
              <a:off x="5761800" y="2200320"/>
              <a:ext cx="1980000" cy="3305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52" name="AutoShape 29"/>
          <p:cNvSpPr/>
          <p:nvPr/>
        </p:nvSpPr>
        <p:spPr>
          <a:xfrm>
            <a:off x="5651640" y="2349360"/>
            <a:ext cx="2376360" cy="1511280"/>
          </a:xfrm>
          <a:solidFill>
            <a:srgbClr val="ffffff">
              <a:alpha val="84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切忌搞“突然袭击”，做“不速之客”！不得已时提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打个电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54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1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156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159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同心圆 7"/>
          <p:cNvSpPr/>
          <p:nvPr/>
        </p:nvSpPr>
        <p:spPr>
          <a:xfrm>
            <a:off x="8004240" y="1562040"/>
            <a:ext cx="438120" cy="438120"/>
          </a:xfrm>
          <a:custGeom>
            <a:avLst/>
            <a:gdLst/>
            <a:ahLst/>
            <a:rect l="l" t="t" r="r" b="b"/>
            <a:pathLst>
              <a:path w="438150" h="438150">
                <a:moveTo>
                  <a:pt x="0" y="219075"/>
                </a:moveTo>
                <a:cubicBezTo>
                  <a:pt x="0" y="98083"/>
                  <a:pt x="98083" y="0"/>
                  <a:pt x="219075" y="0"/>
                </a:cubicBezTo>
                <a:cubicBezTo>
                  <a:pt x="340067" y="0"/>
                  <a:pt x="438150" y="98083"/>
                  <a:pt x="438150" y="219075"/>
                </a:cubicBezTo>
                <a:cubicBezTo>
                  <a:pt x="438150" y="340067"/>
                  <a:pt x="340067" y="438150"/>
                  <a:pt x="219075" y="438150"/>
                </a:cubicBezTo>
                <a:cubicBezTo>
                  <a:pt x="98083" y="438150"/>
                  <a:pt x="0" y="340067"/>
                  <a:pt x="0" y="219075"/>
                </a:cubicBezTo>
                <a:close/>
                <a:moveTo>
                  <a:pt x="39363" y="219075"/>
                </a:moveTo>
                <a:cubicBezTo>
                  <a:pt x="39363" y="318327"/>
                  <a:pt x="119823" y="398787"/>
                  <a:pt x="219075" y="398787"/>
                </a:cubicBezTo>
                <a:cubicBezTo>
                  <a:pt x="318327" y="398787"/>
                  <a:pt x="398787" y="318327"/>
                  <a:pt x="398787" y="219075"/>
                </a:cubicBezTo>
                <a:cubicBezTo>
                  <a:pt x="398787" y="119823"/>
                  <a:pt x="318327" y="39363"/>
                  <a:pt x="219075" y="39363"/>
                </a:cubicBezTo>
                <a:cubicBezTo>
                  <a:pt x="119823" y="39363"/>
                  <a:pt x="39363" y="119823"/>
                  <a:pt x="39363" y="219075"/>
                </a:cubicBezTo>
                <a:close/>
              </a:path>
            </a:pathLst>
          </a:custGeom>
          <a:solidFill>
            <a:srgbClr val="00b0f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66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6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Rectangle 19"/>
          <p:cNvSpPr/>
          <p:nvPr/>
        </p:nvSpPr>
        <p:spPr>
          <a:xfrm>
            <a:off x="1187280" y="2278080"/>
            <a:ext cx="64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预约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1835280" y="263844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2124000" y="233532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私宅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2124000" y="377496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字楼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3851280" y="2133720"/>
            <a:ext cx="2952360" cy="942480"/>
            <a:chOff x="3851280" y="2133720"/>
            <a:chExt cx="2952360" cy="942480"/>
          </a:xfrm>
        </p:grpSpPr>
        <p:sp>
          <p:nvSpPr>
            <p:cNvPr id="175" name="AutoShape 24"/>
            <p:cNvSpPr/>
            <p:nvPr/>
          </p:nvSpPr>
          <p:spPr>
            <a:xfrm>
              <a:off x="3851280" y="2133720"/>
              <a:ext cx="2711880" cy="83772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5"/>
            <p:cNvSpPr/>
            <p:nvPr/>
          </p:nvSpPr>
          <p:spPr>
            <a:xfrm>
              <a:off x="4156560" y="2133720"/>
              <a:ext cx="26470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晚上</a:t>
              </a:r>
              <a:r>
                <a:rPr b="1" lang="en-US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7:30~8: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节假日前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4211640" y="3502080"/>
            <a:ext cx="3513240" cy="942480"/>
            <a:chOff x="4211640" y="3502080"/>
            <a:chExt cx="3513240" cy="942480"/>
          </a:xfrm>
        </p:grpSpPr>
        <p:sp>
          <p:nvSpPr>
            <p:cNvPr id="178" name="AutoShape 27"/>
            <p:cNvSpPr/>
            <p:nvPr/>
          </p:nvSpPr>
          <p:spPr>
            <a:xfrm>
              <a:off x="4211640" y="3573360"/>
              <a:ext cx="3513240" cy="863640"/>
            </a:xfrm>
            <a:prstGeom prst="bracketPair">
              <a:avLst>
                <a:gd name="adj" fmla="val 16666"/>
              </a:avLst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8"/>
            <p:cNvSpPr/>
            <p:nvPr/>
          </p:nvSpPr>
          <p:spPr>
            <a:xfrm>
              <a:off x="4356000" y="3502080"/>
              <a:ext cx="32767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最好不要在星期一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微软雅黑"/>
                  <a:ea typeface="微软雅黑"/>
                </a:rPr>
                <a:t>或工作日的上下班时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30"/>
          <p:cNvSpPr/>
          <p:nvPr/>
        </p:nvSpPr>
        <p:spPr>
          <a:xfrm>
            <a:off x="1187280" y="4869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则上必须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但在现实生活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办公区域拜访应提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到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2" name="同心圆 3"/>
          <p:cNvSpPr/>
          <p:nvPr/>
        </p:nvSpPr>
        <p:spPr>
          <a:xfrm>
            <a:off x="357120" y="2857680"/>
            <a:ext cx="2643120" cy="2643120"/>
          </a:xfrm>
          <a:prstGeom prst="pie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同心圆 4"/>
          <p:cNvSpPr/>
          <p:nvPr/>
        </p:nvSpPr>
        <p:spPr>
          <a:xfrm>
            <a:off x="-274680" y="1393920"/>
            <a:ext cx="965160" cy="963360"/>
          </a:xfrm>
          <a:custGeom>
            <a:avLst/>
            <a:gdLst/>
            <a:ahLst/>
            <a:rect l="l" t="t" r="r" b="b"/>
            <a:pathLst>
              <a:path w="965201" h="963613">
                <a:moveTo>
                  <a:pt x="0" y="481807"/>
                </a:moveTo>
                <a:cubicBezTo>
                  <a:pt x="0" y="215712"/>
                  <a:pt x="216068" y="0"/>
                  <a:pt x="482601" y="0"/>
                </a:cubicBezTo>
                <a:cubicBezTo>
                  <a:pt x="749134" y="0"/>
                  <a:pt x="965202" y="215712"/>
                  <a:pt x="965202" y="481807"/>
                </a:cubicBezTo>
                <a:cubicBezTo>
                  <a:pt x="965202" y="747902"/>
                  <a:pt x="749134" y="963614"/>
                  <a:pt x="482601" y="963614"/>
                </a:cubicBezTo>
                <a:cubicBezTo>
                  <a:pt x="216068" y="963614"/>
                  <a:pt x="0" y="747902"/>
                  <a:pt x="0" y="481807"/>
                </a:cubicBezTo>
                <a:close/>
                <a:moveTo>
                  <a:pt x="86571" y="481807"/>
                </a:moveTo>
                <a:cubicBezTo>
                  <a:pt x="86571" y="700090"/>
                  <a:pt x="263880" y="877043"/>
                  <a:pt x="482601" y="877043"/>
                </a:cubicBezTo>
                <a:cubicBezTo>
                  <a:pt x="701322" y="877043"/>
                  <a:pt x="878631" y="700090"/>
                  <a:pt x="878631" y="481807"/>
                </a:cubicBezTo>
                <a:cubicBezTo>
                  <a:pt x="878631" y="263524"/>
                  <a:pt x="701322" y="86571"/>
                  <a:pt x="482601" y="86571"/>
                </a:cubicBezTo>
                <a:cubicBezTo>
                  <a:pt x="263880" y="86571"/>
                  <a:pt x="86571" y="263524"/>
                  <a:pt x="86571" y="481807"/>
                </a:cubicBezTo>
                <a:close/>
              </a:path>
            </a:pathLst>
          </a:custGeom>
          <a:solidFill>
            <a:srgbClr val="00b0f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同心圆 5"/>
          <p:cNvSpPr/>
          <p:nvPr/>
        </p:nvSpPr>
        <p:spPr>
          <a:xfrm>
            <a:off x="-181080" y="5807160"/>
            <a:ext cx="503280" cy="501480"/>
          </a:xfrm>
          <a:custGeom>
            <a:avLst/>
            <a:gdLst/>
            <a:ahLst/>
            <a:rect l="l" t="t" r="r" b="b"/>
            <a:pathLst>
              <a:path w="503238" h="501650">
                <a:moveTo>
                  <a:pt x="0" y="250825"/>
                </a:moveTo>
                <a:cubicBezTo>
                  <a:pt x="0" y="112298"/>
                  <a:pt x="112654" y="0"/>
                  <a:pt x="251619" y="0"/>
                </a:cubicBezTo>
                <a:cubicBezTo>
                  <a:pt x="390584" y="0"/>
                  <a:pt x="503238" y="112298"/>
                  <a:pt x="503238" y="250825"/>
                </a:cubicBezTo>
                <a:cubicBezTo>
                  <a:pt x="503238" y="389352"/>
                  <a:pt x="390584" y="501650"/>
                  <a:pt x="251619" y="501650"/>
                </a:cubicBezTo>
                <a:cubicBezTo>
                  <a:pt x="112654" y="501650"/>
                  <a:pt x="0" y="389352"/>
                  <a:pt x="0" y="250825"/>
                </a:cubicBezTo>
                <a:close/>
                <a:moveTo>
                  <a:pt x="45068" y="250825"/>
                </a:moveTo>
                <a:cubicBezTo>
                  <a:pt x="45068" y="364461"/>
                  <a:pt x="137544" y="456582"/>
                  <a:pt x="251619" y="456582"/>
                </a:cubicBezTo>
                <a:cubicBezTo>
                  <a:pt x="365694" y="456582"/>
                  <a:pt x="458170" y="364461"/>
                  <a:pt x="458170" y="250825"/>
                </a:cubicBezTo>
                <a:cubicBezTo>
                  <a:pt x="458170" y="137189"/>
                  <a:pt x="365694" y="45068"/>
                  <a:pt x="251619" y="45068"/>
                </a:cubicBezTo>
                <a:cubicBezTo>
                  <a:pt x="137544" y="45068"/>
                  <a:pt x="45068" y="137189"/>
                  <a:pt x="45068" y="250825"/>
                </a:cubicBezTo>
                <a:close/>
              </a:path>
            </a:pathLst>
          </a:custGeom>
          <a:solidFill>
            <a:srgbClr val="00b0f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同心圆 6"/>
          <p:cNvGrpSpPr/>
          <p:nvPr/>
        </p:nvGrpSpPr>
        <p:grpSpPr>
          <a:xfrm>
            <a:off x="396720" y="2494080"/>
            <a:ext cx="431640" cy="431640"/>
            <a:chOff x="396720" y="2494080"/>
            <a:chExt cx="431640" cy="431640"/>
          </a:xfrm>
        </p:grpSpPr>
        <p:pic>
          <p:nvPicPr>
            <p:cNvPr id="186" name="同心圆 6" descr=""/>
            <p:cNvPicPr/>
            <p:nvPr/>
          </p:nvPicPr>
          <p:blipFill>
            <a:blip r:embed="rId2"/>
            <a:stretch/>
          </p:blipFill>
          <p:spPr>
            <a:xfrm>
              <a:off x="396720" y="249408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8640" y="2556000"/>
              <a:ext cx="306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192" name="AutoShape 14"/>
            <p:cNvSpPr/>
            <p:nvPr/>
          </p:nvSpPr>
          <p:spPr>
            <a:xfrm>
              <a:off x="1172160" y="699120"/>
              <a:ext cx="6584040" cy="64332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194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1193760" y="807120"/>
                <a:ext cx="6525720" cy="42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(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一）拜访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33"/>
          <p:cNvSpPr/>
          <p:nvPr/>
        </p:nvSpPr>
        <p:spPr>
          <a:xfrm>
            <a:off x="111600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办公区域的预约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4"/>
          <p:cNvGrpSpPr/>
          <p:nvPr/>
        </p:nvGrpSpPr>
        <p:grpSpPr>
          <a:xfrm>
            <a:off x="1393920" y="2781360"/>
            <a:ext cx="2890800" cy="2874240"/>
            <a:chOff x="1393920" y="2781360"/>
            <a:chExt cx="2890800" cy="2874240"/>
          </a:xfrm>
        </p:grpSpPr>
        <p:sp>
          <p:nvSpPr>
            <p:cNvPr id="198" name="Text Box 39"/>
            <p:cNvSpPr/>
            <p:nvPr/>
          </p:nvSpPr>
          <p:spPr>
            <a:xfrm>
              <a:off x="1393920" y="2781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制定拜访目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1405080" y="3395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准备好名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1393920" y="4000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资料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2"/>
            <p:cNvSpPr/>
            <p:nvPr/>
          </p:nvSpPr>
          <p:spPr>
            <a:xfrm>
              <a:off x="1393920" y="4533840"/>
              <a:ext cx="289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适宜的礼品准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3"/>
            <p:cNvSpPr/>
            <p:nvPr/>
          </p:nvSpPr>
          <p:spPr>
            <a:xfrm>
              <a:off x="140508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熟悉交通路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零碎的水珠背景"/>
          <p:cNvPicPr/>
          <p:nvPr/>
        </p:nvPicPr>
        <p:blipFill>
          <a:blip r:embed="rId1"/>
          <a:srcRect l="0" t="3436" r="55419" b="0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0"/>
          <p:cNvGrpSpPr/>
          <p:nvPr/>
        </p:nvGrpSpPr>
        <p:grpSpPr>
          <a:xfrm>
            <a:off x="-274680" y="1393920"/>
            <a:ext cx="1101240" cy="4914360"/>
            <a:chOff x="-274680" y="1393920"/>
            <a:chExt cx="1101240" cy="4914360"/>
          </a:xfrm>
        </p:grpSpPr>
        <p:sp>
          <p:nvSpPr>
            <p:cNvPr id="205" name="同心圆 4"/>
            <p:cNvSpPr/>
            <p:nvPr/>
          </p:nvSpPr>
          <p:spPr>
            <a:xfrm>
              <a:off x="-274680" y="1393920"/>
              <a:ext cx="962280" cy="9633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8"/>
                  </a:moveTo>
                  <a:cubicBezTo>
                    <a:pt x="0" y="2242"/>
                    <a:pt x="2239" y="0"/>
                    <a:pt x="5000" y="0"/>
                  </a:cubicBezTo>
                  <a:cubicBezTo>
                    <a:pt x="7761" y="0"/>
                    <a:pt x="10000" y="2242"/>
                    <a:pt x="10000" y="5008"/>
                  </a:cubicBezTo>
                  <a:cubicBezTo>
                    <a:pt x="10000" y="7774"/>
                    <a:pt x="7761" y="10016"/>
                    <a:pt x="5000" y="10016"/>
                  </a:cubicBezTo>
                  <a:cubicBezTo>
                    <a:pt x="2239" y="10016"/>
                    <a:pt x="0" y="7774"/>
                    <a:pt x="0" y="5008"/>
                  </a:cubicBezTo>
                  <a:close/>
                  <a:moveTo>
                    <a:pt x="905" y="5008"/>
                  </a:moveTo>
                  <a:cubicBezTo>
                    <a:pt x="905" y="7273"/>
                    <a:pt x="2738" y="9110"/>
                    <a:pt x="5000" y="9110"/>
                  </a:cubicBezTo>
                  <a:cubicBezTo>
                    <a:pt x="7262" y="9110"/>
                    <a:pt x="9095" y="7273"/>
                    <a:pt x="9095" y="5008"/>
                  </a:cubicBezTo>
                  <a:cubicBezTo>
                    <a:pt x="9095" y="2743"/>
                    <a:pt x="7262" y="906"/>
                    <a:pt x="5000" y="906"/>
                  </a:cubicBezTo>
                  <a:cubicBezTo>
                    <a:pt x="2738" y="906"/>
                    <a:pt x="905" y="2743"/>
                    <a:pt x="905" y="5008"/>
                  </a:cubicBezTo>
                  <a:close/>
                </a:path>
              </a:pathLst>
            </a:custGeom>
            <a:solidFill>
              <a:srgbClr val="00b0f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同心圆 5"/>
            <p:cNvSpPr/>
            <p:nvPr/>
          </p:nvSpPr>
          <p:spPr>
            <a:xfrm>
              <a:off x="-181080" y="5806800"/>
              <a:ext cx="501480" cy="501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5000"/>
                  </a:moveTo>
                  <a:cubicBezTo>
                    <a:pt x="0" y="2239"/>
                    <a:pt x="2246" y="0"/>
                    <a:pt x="5016" y="0"/>
                  </a:cubicBezTo>
                  <a:cubicBezTo>
                    <a:pt x="7786" y="0"/>
                    <a:pt x="10032" y="2239"/>
                    <a:pt x="10032" y="5000"/>
                  </a:cubicBezTo>
                  <a:cubicBezTo>
                    <a:pt x="10032" y="7761"/>
                    <a:pt x="7786" y="10000"/>
                    <a:pt x="5016" y="10000"/>
                  </a:cubicBezTo>
                  <a:cubicBezTo>
                    <a:pt x="2246" y="10000"/>
                    <a:pt x="0" y="7761"/>
                    <a:pt x="0" y="5000"/>
                  </a:cubicBezTo>
                  <a:close/>
                  <a:moveTo>
                    <a:pt x="883" y="5000"/>
                  </a:moveTo>
                  <a:cubicBezTo>
                    <a:pt x="883" y="7272"/>
                    <a:pt x="2719" y="9114"/>
                    <a:pt x="4984" y="9114"/>
                  </a:cubicBezTo>
                  <a:cubicBezTo>
                    <a:pt x="7249" y="9114"/>
                    <a:pt x="9085" y="7272"/>
                    <a:pt x="9085" y="5000"/>
                  </a:cubicBezTo>
                  <a:cubicBezTo>
                    <a:pt x="9085" y="2728"/>
                    <a:pt x="7249" y="886"/>
                    <a:pt x="4984" y="886"/>
                  </a:cubicBezTo>
                  <a:cubicBezTo>
                    <a:pt x="2719" y="886"/>
                    <a:pt x="883" y="2728"/>
                    <a:pt x="883" y="5000"/>
                  </a:cubicBezTo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同心圆 6"/>
            <p:cNvGrpSpPr/>
            <p:nvPr/>
          </p:nvGrpSpPr>
          <p:grpSpPr>
            <a:xfrm>
              <a:off x="394560" y="2493720"/>
              <a:ext cx="432000" cy="433080"/>
              <a:chOff x="394560" y="2493720"/>
              <a:chExt cx="432000" cy="433080"/>
            </a:xfrm>
          </p:grpSpPr>
          <p:pic>
            <p:nvPicPr>
              <p:cNvPr id="208" name="同心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560" y="2493720"/>
                <a:ext cx="432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456840" y="2556000"/>
                <a:ext cx="306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同心圆 8"/>
          <p:cNvSpPr/>
          <p:nvPr/>
        </p:nvSpPr>
        <p:spPr>
          <a:xfrm>
            <a:off x="7093080" y="6620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215900"/>
                </a:moveTo>
                <a:cubicBezTo>
                  <a:pt x="0" y="96662"/>
                  <a:pt x="96662" y="0"/>
                  <a:pt x="215900" y="0"/>
                </a:cubicBezTo>
                <a:cubicBezTo>
                  <a:pt x="335138" y="0"/>
                  <a:pt x="431800" y="96662"/>
                  <a:pt x="431800" y="215900"/>
                </a:cubicBezTo>
                <a:cubicBezTo>
                  <a:pt x="431800" y="335138"/>
                  <a:pt x="335138" y="431800"/>
                  <a:pt x="215900" y="431800"/>
                </a:cubicBezTo>
                <a:cubicBezTo>
                  <a:pt x="96662" y="431800"/>
                  <a:pt x="0" y="335138"/>
                  <a:pt x="0" y="215900"/>
                </a:cubicBezTo>
                <a:close/>
                <a:moveTo>
                  <a:pt x="25934" y="215900"/>
                </a:moveTo>
                <a:cubicBezTo>
                  <a:pt x="25934" y="320815"/>
                  <a:pt x="110985" y="405866"/>
                  <a:pt x="215900" y="405866"/>
                </a:cubicBezTo>
                <a:cubicBezTo>
                  <a:pt x="320815" y="405866"/>
                  <a:pt x="405866" y="320815"/>
                  <a:pt x="405866" y="215900"/>
                </a:cubicBezTo>
                <a:cubicBezTo>
                  <a:pt x="405866" y="110985"/>
                  <a:pt x="320815" y="25934"/>
                  <a:pt x="215900" y="25934"/>
                </a:cubicBezTo>
                <a:cubicBezTo>
                  <a:pt x="110985" y="25934"/>
                  <a:pt x="25934" y="110985"/>
                  <a:pt x="25934" y="21590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同心圆 9"/>
          <p:cNvSpPr/>
          <p:nvPr/>
        </p:nvSpPr>
        <p:spPr>
          <a:xfrm>
            <a:off x="8879040" y="1434960"/>
            <a:ext cx="350640" cy="351000"/>
          </a:xfrm>
          <a:custGeom>
            <a:avLst/>
            <a:gdLst/>
            <a:ahLst/>
            <a:rect l="l" t="t" r="r" b="b"/>
            <a:pathLst>
              <a:path w="350837" h="350838">
                <a:moveTo>
                  <a:pt x="0" y="175419"/>
                </a:moveTo>
                <a:cubicBezTo>
                  <a:pt x="0" y="78538"/>
                  <a:pt x="78538" y="0"/>
                  <a:pt x="175419" y="0"/>
                </a:cubicBezTo>
                <a:cubicBezTo>
                  <a:pt x="272300" y="0"/>
                  <a:pt x="350838" y="78538"/>
                  <a:pt x="350838" y="175419"/>
                </a:cubicBezTo>
                <a:cubicBezTo>
                  <a:pt x="350838" y="272300"/>
                  <a:pt x="272300" y="350838"/>
                  <a:pt x="175419" y="350838"/>
                </a:cubicBezTo>
                <a:cubicBezTo>
                  <a:pt x="78538" y="350838"/>
                  <a:pt x="0" y="272300"/>
                  <a:pt x="0" y="175419"/>
                </a:cubicBezTo>
                <a:close/>
                <a:moveTo>
                  <a:pt x="31519" y="175419"/>
                </a:moveTo>
                <a:cubicBezTo>
                  <a:pt x="31519" y="254893"/>
                  <a:pt x="95945" y="319319"/>
                  <a:pt x="175418" y="319319"/>
                </a:cubicBezTo>
                <a:cubicBezTo>
                  <a:pt x="254891" y="319319"/>
                  <a:pt x="319317" y="254893"/>
                  <a:pt x="319317" y="175419"/>
                </a:cubicBezTo>
                <a:cubicBezTo>
                  <a:pt x="319317" y="95945"/>
                  <a:pt x="254891" y="31519"/>
                  <a:pt x="175418" y="31519"/>
                </a:cubicBezTo>
                <a:cubicBezTo>
                  <a:pt x="95945" y="31519"/>
                  <a:pt x="31519" y="95945"/>
                  <a:pt x="31519" y="175419"/>
                </a:cubicBezTo>
                <a:close/>
              </a:path>
            </a:pathLst>
          </a:custGeom>
          <a:solidFill>
            <a:srgbClr val="00b0f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0"/>
          <p:cNvSpPr/>
          <p:nvPr/>
        </p:nvSpPr>
        <p:spPr>
          <a:xfrm>
            <a:off x="755640" y="1125360"/>
            <a:ext cx="7632720" cy="4967640"/>
          </a:xfrm>
          <a:prstGeom prst="roundRect">
            <a:avLst>
              <a:gd name="adj" fmla="val 4347"/>
            </a:avLst>
          </a:prstGeom>
          <a:solidFill>
            <a:srgbClr val="0099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1101600" y="692280"/>
            <a:ext cx="6710040" cy="792000"/>
            <a:chOff x="1101600" y="692280"/>
            <a:chExt cx="6710040" cy="792000"/>
          </a:xfrm>
        </p:grpSpPr>
        <p:sp>
          <p:nvSpPr>
            <p:cNvPr id="214" name="AutoShape 13"/>
            <p:cNvSpPr/>
            <p:nvPr/>
          </p:nvSpPr>
          <p:spPr>
            <a:xfrm>
              <a:off x="1172160" y="693360"/>
              <a:ext cx="6584040" cy="64800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AutoShape 3"/>
            <p:cNvGrpSpPr/>
            <p:nvPr/>
          </p:nvGrpSpPr>
          <p:grpSpPr>
            <a:xfrm>
              <a:off x="1101600" y="692280"/>
              <a:ext cx="6710040" cy="792000"/>
              <a:chOff x="1101600" y="692280"/>
              <a:chExt cx="6710040" cy="792000"/>
            </a:xfrm>
          </p:grpSpPr>
          <p:pic>
            <p:nvPicPr>
              <p:cNvPr id="216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1600" y="692280"/>
                <a:ext cx="67100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1193760" y="802440"/>
                <a:ext cx="652572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（二）着装准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18"/>
          <p:cNvSpPr/>
          <p:nvPr/>
        </p:nvSpPr>
        <p:spPr>
          <a:xfrm>
            <a:off x="4500720" y="2220840"/>
            <a:ext cx="374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出门拜访之前，应根据访问的对象、目的等，将自己的衣物、容貌适当的加以修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可以形象的反映出你对被访者的尊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7" descr="2007320132929294">
            <a:hlinkClick r:id="rId4"/>
          </p:cNvPr>
          <p:cNvPicPr/>
          <p:nvPr/>
        </p:nvPicPr>
        <p:blipFill>
          <a:blip r:embed="rId5"/>
          <a:srcRect l="67095" t="0" r="0" b="0"/>
          <a:stretch/>
        </p:blipFill>
        <p:spPr>
          <a:xfrm>
            <a:off x="2916360" y="2492280"/>
            <a:ext cx="139680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" name="Picture 28" descr="2007320132929294">
            <a:hlinkClick r:id="rId6"/>
          </p:cNvPr>
          <p:cNvPicPr/>
          <p:nvPr/>
        </p:nvPicPr>
        <p:blipFill>
          <a:blip r:embed="rId7"/>
          <a:srcRect l="33411" t="0" r="33449" b="0"/>
          <a:stretch/>
        </p:blipFill>
        <p:spPr>
          <a:xfrm>
            <a:off x="971640" y="1968480"/>
            <a:ext cx="1577880" cy="333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1" name="Picture 29" descr="2007320132929294">
            <a:hlinkClick r:id="rId8"/>
          </p:cNvPr>
          <p:cNvPicPr/>
          <p:nvPr/>
        </p:nvPicPr>
        <p:blipFill>
          <a:blip r:embed="rId9"/>
          <a:srcRect l="0" t="0" r="67095" b="0"/>
          <a:stretch/>
        </p:blipFill>
        <p:spPr>
          <a:xfrm>
            <a:off x="1979640" y="3214800"/>
            <a:ext cx="1285920" cy="273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0:08:1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2:2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