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jpeg" ContentType="image/jpeg"/>
  <Override PartName="/ppt/media/image7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C41BE-3C7B-48B1-AD9D-BF879B036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C4E02-DDCD-46FF-B245-744A0A8F8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39235-4D2A-4A06-ACF6-D73DC2164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CE8D8-FB9A-4EBB-BC41-95C53EB18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A95E6-73C2-440E-9825-A75485714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FD129-9EFB-4071-ADBC-AB4EDD81C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4EB66-C519-4B78-B0EB-8E6DEC9A1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4722B-504A-4C16-B83C-F44F08748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35880-523E-44BF-BB69-9E0391EBC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7D87C-F0AB-404B-833B-5E8378EF4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40A78-2E3A-486C-9D2C-980ED91F3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40F52-6CAC-4FD4-9583-EAA305685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13A4F-3DE6-4C5E-ACBC-224E8A590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3FC02-B04F-46CD-BECA-98BBE2F0C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40355-1BB2-486E-8324-37C631320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03DCF-B022-4A6D-B268-99ABFD06D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B51E0-7A6E-4369-9FDE-33F642E31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777AF1-9492-4A2D-9E13-7AFE11814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E5F3B1-2F82-479E-B1C9-17870FD89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54A05D-CF1E-43CF-8AD6-EA9C19A3A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103909-59F3-47B3-B2E8-AD91B6153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FFD5F7-D495-44C5-8D75-4952675B9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418A8-46A1-44AE-BFB8-242AB2D24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3DDC39-22C6-4B25-8B4D-E17268193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4CAD30-43C5-43B1-A5EC-CC55C3C49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0F725B-4041-4D55-872C-C62E67622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5031C2-652D-4809-8DB8-2AD62DF5A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7ECA65-0371-4F6D-9DE0-A3001AF91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C9980C-F8A1-4641-91F3-47FC11204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3E312D-B9CF-49E1-BE57-062E7773A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5B721-98BA-4EFF-B318-28BED2E5B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CFB8C-12C7-4BC2-92B4-96FC3618A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C336B-C293-4AF1-8C1D-E63B41199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E3104-B687-4C6E-8FD3-CC2336179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9C231-73D7-44BB-900D-60793A357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00588-AC19-451D-AC38-B6BBFB4B5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9673B-6C3A-4BBD-B311-C08D2D1BFD70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39B16-85B1-4CC8-88A7-2ED80161E32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67FFC-9D6A-43F0-A515-6ED950B05412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940DB-C2AC-4DBC-BFE3-E7E78CA9A9E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8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67652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识 字 </a:t>
            </a:r>
            <a:r>
              <a:rPr b="0" lang="en-US" sz="6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7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3581280" y="5867280"/>
            <a:ext cx="56390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ccff"/>
                </a:solidFill>
                <a:latin typeface="Times New Roman"/>
                <a:ea typeface="黑体"/>
              </a:rPr>
              <a:t>人教课标版小学语文一年级下册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矩形 12"/>
          <p:cNvSpPr/>
          <p:nvPr/>
        </p:nvSpPr>
        <p:spPr>
          <a:xfrm>
            <a:off x="3132000" y="314496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hangye/ </a:t>
            </a:r>
            <a:endParaRPr b="0" lang="en-US" sz="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ucai/</a:t>
            </a:r>
            <a:endParaRPr b="0" lang="en-US" sz="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tubiao/      </a:t>
            </a:r>
            <a:endParaRPr b="0" lang="en-US" sz="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powerpoint/      </a:t>
            </a:r>
            <a:endParaRPr b="0" lang="en-US" sz="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excel/  </a:t>
            </a:r>
            <a:endParaRPr b="0" lang="en-US" sz="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kejian/ </a:t>
            </a:r>
            <a:endParaRPr b="0" lang="en-US" sz="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hiti/  </a:t>
            </a:r>
            <a:endParaRPr b="0" lang="en-US" sz="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aoan/  </a:t>
            </a:r>
            <a:endParaRPr b="0" lang="en-US" sz="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识 字 </a:t>
            </a:r>
            <a:r>
              <a:rPr b="0" lang="en-US" sz="54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7</a:t>
            </a:r>
            <a:endParaRPr b="0" lang="en-US" sz="5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7" name="AutoShape 26"/>
          <p:cNvSpPr/>
          <p:nvPr/>
        </p:nvSpPr>
        <p:spPr>
          <a:xfrm>
            <a:off x="152280" y="5562720"/>
            <a:ext cx="2210040" cy="838080"/>
          </a:xfrm>
          <a:prstGeom prst="cloudCallout">
            <a:avLst>
              <a:gd name="adj1" fmla="val 32759"/>
              <a:gd name="adj2" fmla="val -109282"/>
            </a:avLst>
          </a:prstGeom>
          <a:solidFill>
            <a:srgbClr val="ff9900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读一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AutoShape 27"/>
          <p:cNvSpPr/>
          <p:nvPr/>
        </p:nvSpPr>
        <p:spPr>
          <a:xfrm>
            <a:off x="2209680" y="5562720"/>
            <a:ext cx="2210040" cy="838080"/>
          </a:xfrm>
          <a:prstGeom prst="cloudCallout">
            <a:avLst>
              <a:gd name="adj1" fmla="val 9624"/>
              <a:gd name="adj2" fmla="val -111550"/>
            </a:avLst>
          </a:prstGeom>
          <a:solidFill>
            <a:srgbClr val="ff9900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学一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AutoShape 28"/>
          <p:cNvSpPr/>
          <p:nvPr/>
        </p:nvSpPr>
        <p:spPr>
          <a:xfrm>
            <a:off x="4267080" y="5562720"/>
            <a:ext cx="2514600" cy="838080"/>
          </a:xfrm>
          <a:prstGeom prst="cloudCallout">
            <a:avLst>
              <a:gd name="adj1" fmla="val -16541"/>
              <a:gd name="adj2" fmla="val -105490"/>
            </a:avLst>
          </a:prstGeom>
          <a:solidFill>
            <a:srgbClr val="ff9900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Times New Roman"/>
                <a:ea typeface="黑体"/>
              </a:rPr>
              <a:t>课文诵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AutoShape 29"/>
          <p:cNvSpPr/>
          <p:nvPr/>
        </p:nvSpPr>
        <p:spPr>
          <a:xfrm>
            <a:off x="6629400" y="5562720"/>
            <a:ext cx="2438280" cy="838080"/>
          </a:xfrm>
          <a:prstGeom prst="cloudCallout">
            <a:avLst>
              <a:gd name="adj1" fmla="val -44337"/>
              <a:gd name="adj2" fmla="val -110796"/>
            </a:avLst>
          </a:prstGeom>
          <a:solidFill>
            <a:srgbClr val="ff9900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Times New Roman"/>
                <a:ea typeface="黑体"/>
              </a:rPr>
              <a:t>故事欣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AutoShape 30">
            <a:hlinkClick r:id="" action="ppaction://hlinkshowjump?jump=lastslide"/>
          </p:cNvPr>
          <p:cNvSpPr/>
          <p:nvPr/>
        </p:nvSpPr>
        <p:spPr>
          <a:xfrm>
            <a:off x="8305920" y="4648320"/>
            <a:ext cx="685800" cy="533160"/>
          </a:xfrm>
          <a:custGeom>
            <a:avLst/>
            <a:gdLst>
              <a:gd name="textAreaLeft" fmla="*/ 33120 w 685800"/>
              <a:gd name="textAreaRight" fmla="*/ 652680 w 685800"/>
              <a:gd name="textAreaTop" fmla="*/ 33120 h 533160"/>
              <a:gd name="textAreaBottom" fmla="*/ 500040 h 533160"/>
            </a:gdLst>
            <a:ahLst/>
            <a:rect l="textAreaLeft" t="textAreaTop" r="textAreaRight" b="textAreaBottom"/>
            <a:pathLst>
              <a:path w="27780" h="21600">
                <a:moveTo>
                  <a:pt x="0" y="0"/>
                </a:moveTo>
                <a:lnTo>
                  <a:pt x="27780" y="0"/>
                </a:lnTo>
                <a:lnTo>
                  <a:pt x="27780" y="21600"/>
                </a:lnTo>
                <a:lnTo>
                  <a:pt x="0" y="21600"/>
                </a:lnTo>
                <a:close/>
              </a:path>
              <a:path fill="lightenLess" w="27780" h="21600">
                <a:moveTo>
                  <a:pt x="0" y="0"/>
                </a:moveTo>
                <a:lnTo>
                  <a:pt x="27780" y="0"/>
                </a:lnTo>
                <a:lnTo>
                  <a:pt x="26430" y="1350"/>
                </a:lnTo>
                <a:lnTo>
                  <a:pt x="1350" y="1350"/>
                </a:lnTo>
                <a:close/>
              </a:path>
              <a:path fill="darken" w="27780" h="21600">
                <a:moveTo>
                  <a:pt x="27780" y="0"/>
                </a:moveTo>
                <a:lnTo>
                  <a:pt x="27780" y="21600"/>
                </a:lnTo>
                <a:lnTo>
                  <a:pt x="26430" y="20250"/>
                </a:lnTo>
                <a:lnTo>
                  <a:pt x="26430" y="1350"/>
                </a:lnTo>
                <a:close/>
              </a:path>
              <a:path fill="darkenLess" w="27780" h="21600">
                <a:moveTo>
                  <a:pt x="27780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6430" y="20250"/>
                </a:lnTo>
                <a:close/>
              </a:path>
              <a:path fill="lighten" w="27780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7780" h="21600">
                <a:moveTo>
                  <a:pt x="17407" y="10800"/>
                </a:moveTo>
                <a:lnTo>
                  <a:pt x="6846" y="17844"/>
                </a:lnTo>
                <a:lnTo>
                  <a:pt x="6846" y="3756"/>
                </a:lnTo>
                <a:close/>
              </a:path>
              <a:path fill="darken" w="27780" h="21600">
                <a:moveTo>
                  <a:pt x="19262" y="3756"/>
                </a:moveTo>
                <a:lnTo>
                  <a:pt x="19262" y="17844"/>
                </a:lnTo>
                <a:lnTo>
                  <a:pt x="20934" y="17844"/>
                </a:lnTo>
                <a:lnTo>
                  <a:pt x="20934" y="3756"/>
                </a:lnTo>
                <a:close/>
              </a:path>
            </a:pathLst>
          </a:custGeom>
          <a:solidFill>
            <a:srgbClr val="ff9900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2" name="Picture 43" descr="猜一猜1"/>
          <p:cNvPicPr/>
          <p:nvPr/>
        </p:nvPicPr>
        <p:blipFill>
          <a:blip r:embed="rId2"/>
          <a:stretch/>
        </p:blipFill>
        <p:spPr>
          <a:xfrm>
            <a:off x="1295280" y="1643040"/>
            <a:ext cx="6426360" cy="323388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读一读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09120" y="2895480"/>
            <a:ext cx="80010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0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虚 心    骄  傲    诚  实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20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赢 得    招 来    赞   嫌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20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Text Box 5"/>
          <p:cNvSpPr/>
          <p:nvPr/>
        </p:nvSpPr>
        <p:spPr>
          <a:xfrm>
            <a:off x="1676520" y="236700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zypyyb"/>
                <a:ea typeface="zypyyb"/>
              </a:rPr>
              <a:t>x&amp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Rectangle 12"/>
          <p:cNvSpPr/>
          <p:nvPr/>
        </p:nvSpPr>
        <p:spPr>
          <a:xfrm>
            <a:off x="1219320" y="1906560"/>
            <a:ext cx="6781680" cy="745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AutoShape 13"/>
          <p:cNvSpPr/>
          <p:nvPr/>
        </p:nvSpPr>
        <p:spPr>
          <a:xfrm>
            <a:off x="8458200" y="6095880"/>
            <a:ext cx="533520" cy="533520"/>
          </a:xfrm>
          <a:custGeom>
            <a:avLst/>
            <a:gdLst>
              <a:gd name="textAreaLeft" fmla="*/ 33120 w 533520"/>
              <a:gd name="textAreaRight" fmla="*/ 500400 w 533520"/>
              <a:gd name="textAreaTop" fmla="*/ 33120 h 533520"/>
              <a:gd name="textAreaBottom" fmla="*/ 50040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50" y="1350"/>
                </a:lnTo>
                <a:lnTo>
                  <a:pt x="1350" y="135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50" y="20250"/>
                </a:lnTo>
                <a:lnTo>
                  <a:pt x="20250" y="135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0250" y="2025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1600" h="21600">
                <a:moveTo>
                  <a:pt x="3756" y="7475"/>
                </a:moveTo>
                <a:lnTo>
                  <a:pt x="7283" y="7475"/>
                </a:lnTo>
                <a:lnTo>
                  <a:pt x="7283" y="12839"/>
                </a:lnTo>
                <a:cubicBezTo>
                  <a:pt x="7283" y="13766"/>
                  <a:pt x="8088" y="14501"/>
                  <a:pt x="9129" y="14501"/>
                </a:cubicBezTo>
                <a:lnTo>
                  <a:pt x="10800" y="14501"/>
                </a:lnTo>
                <a:cubicBezTo>
                  <a:pt x="11841" y="14501"/>
                  <a:pt x="12646" y="13766"/>
                  <a:pt x="12646" y="12839"/>
                </a:cubicBezTo>
                <a:lnTo>
                  <a:pt x="12646" y="7475"/>
                </a:lnTo>
                <a:lnTo>
                  <a:pt x="10800" y="7475"/>
                </a:lnTo>
                <a:lnTo>
                  <a:pt x="14326" y="3949"/>
                </a:lnTo>
                <a:lnTo>
                  <a:pt x="18019" y="7475"/>
                </a:lnTo>
                <a:lnTo>
                  <a:pt x="16173" y="7475"/>
                </a:lnTo>
                <a:lnTo>
                  <a:pt x="16173" y="12839"/>
                </a:lnTo>
                <a:cubicBezTo>
                  <a:pt x="16173" y="15621"/>
                  <a:pt x="13583" y="18194"/>
                  <a:pt x="10800" y="18194"/>
                </a:cubicBezTo>
                <a:lnTo>
                  <a:pt x="9129" y="18194"/>
                </a:lnTo>
                <a:cubicBezTo>
                  <a:pt x="6346" y="18194"/>
                  <a:pt x="3756" y="15621"/>
                  <a:pt x="3756" y="12839"/>
                </a:cubicBezTo>
                <a:close/>
              </a:path>
            </a:pathLst>
          </a:custGeom>
          <a:solidFill>
            <a:srgbClr val="ff9900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Text Box 16"/>
          <p:cNvSpPr/>
          <p:nvPr/>
        </p:nvSpPr>
        <p:spPr>
          <a:xfrm>
            <a:off x="3581280" y="3809880"/>
            <a:ext cx="106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zypyyb"/>
                <a:ea typeface="zypyyb"/>
              </a:rPr>
              <a:t>zh1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Text Box 23"/>
          <p:cNvSpPr/>
          <p:nvPr/>
        </p:nvSpPr>
        <p:spPr>
          <a:xfrm>
            <a:off x="1523880" y="3809880"/>
            <a:ext cx="99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zypyyb"/>
                <a:ea typeface="zypyyb"/>
              </a:rPr>
              <a:t>y0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Text Box 29"/>
          <p:cNvSpPr/>
          <p:nvPr/>
        </p:nvSpPr>
        <p:spPr>
          <a:xfrm>
            <a:off x="3581280" y="236700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zypyyb"/>
                <a:ea typeface="zypyyb"/>
              </a:rPr>
              <a:t>ji1o  4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Text Box 32"/>
          <p:cNvSpPr/>
          <p:nvPr/>
        </p:nvSpPr>
        <p:spPr>
          <a:xfrm>
            <a:off x="6781680" y="380988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zypyyb"/>
                <a:ea typeface="zypyyb"/>
              </a:rPr>
              <a:t>xi2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Text Box 33"/>
          <p:cNvSpPr/>
          <p:nvPr/>
        </p:nvSpPr>
        <p:spPr>
          <a:xfrm>
            <a:off x="5791320" y="236232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zypyyb"/>
                <a:ea typeface="zypyyb"/>
              </a:rPr>
              <a:t>ch6ng sh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Text Box 34"/>
          <p:cNvSpPr/>
          <p:nvPr/>
        </p:nvSpPr>
        <p:spPr>
          <a:xfrm>
            <a:off x="5715000" y="3809880"/>
            <a:ext cx="95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zypyyb"/>
                <a:ea typeface="zypyyb"/>
              </a:rPr>
              <a:t>z4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r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读一读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09120" y="2895480"/>
            <a:ext cx="80010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0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虚 心    骄  傲    诚  实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20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赢 得    招 来    赞   嫌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20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Text Box 102"/>
          <p:cNvSpPr/>
          <p:nvPr/>
        </p:nvSpPr>
        <p:spPr>
          <a:xfrm>
            <a:off x="1676520" y="236700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zypyyb"/>
                <a:ea typeface="zypyyb"/>
              </a:rPr>
              <a:t>x&amp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Rectangle 103"/>
          <p:cNvSpPr/>
          <p:nvPr/>
        </p:nvSpPr>
        <p:spPr>
          <a:xfrm>
            <a:off x="1219320" y="1906560"/>
            <a:ext cx="6781680" cy="745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AutoShape 104"/>
          <p:cNvSpPr/>
          <p:nvPr/>
        </p:nvSpPr>
        <p:spPr>
          <a:xfrm>
            <a:off x="8458200" y="6095880"/>
            <a:ext cx="533520" cy="533520"/>
          </a:xfrm>
          <a:custGeom>
            <a:avLst/>
            <a:gdLst>
              <a:gd name="textAreaLeft" fmla="*/ 33120 w 533520"/>
              <a:gd name="textAreaRight" fmla="*/ 500400 w 533520"/>
              <a:gd name="textAreaTop" fmla="*/ 33120 h 533520"/>
              <a:gd name="textAreaBottom" fmla="*/ 50040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50" y="1350"/>
                </a:lnTo>
                <a:lnTo>
                  <a:pt x="1350" y="135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50" y="20250"/>
                </a:lnTo>
                <a:lnTo>
                  <a:pt x="20250" y="135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0250" y="2025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1600" h="21600">
                <a:moveTo>
                  <a:pt x="3756" y="7475"/>
                </a:moveTo>
                <a:lnTo>
                  <a:pt x="7283" y="7475"/>
                </a:lnTo>
                <a:lnTo>
                  <a:pt x="7283" y="12839"/>
                </a:lnTo>
                <a:cubicBezTo>
                  <a:pt x="7283" y="13766"/>
                  <a:pt x="8088" y="14501"/>
                  <a:pt x="9129" y="14501"/>
                </a:cubicBezTo>
                <a:lnTo>
                  <a:pt x="10800" y="14501"/>
                </a:lnTo>
                <a:cubicBezTo>
                  <a:pt x="11841" y="14501"/>
                  <a:pt x="12646" y="13766"/>
                  <a:pt x="12646" y="12839"/>
                </a:cubicBezTo>
                <a:lnTo>
                  <a:pt x="12646" y="7475"/>
                </a:lnTo>
                <a:lnTo>
                  <a:pt x="10800" y="7475"/>
                </a:lnTo>
                <a:lnTo>
                  <a:pt x="14326" y="3949"/>
                </a:lnTo>
                <a:lnTo>
                  <a:pt x="18019" y="7475"/>
                </a:lnTo>
                <a:lnTo>
                  <a:pt x="16173" y="7475"/>
                </a:lnTo>
                <a:lnTo>
                  <a:pt x="16173" y="12839"/>
                </a:lnTo>
                <a:cubicBezTo>
                  <a:pt x="16173" y="15621"/>
                  <a:pt x="13583" y="18194"/>
                  <a:pt x="10800" y="18194"/>
                </a:cubicBezTo>
                <a:lnTo>
                  <a:pt x="9129" y="18194"/>
                </a:lnTo>
                <a:cubicBezTo>
                  <a:pt x="6346" y="18194"/>
                  <a:pt x="3756" y="15621"/>
                  <a:pt x="3756" y="12839"/>
                </a:cubicBezTo>
                <a:close/>
              </a:path>
            </a:pathLst>
          </a:custGeom>
          <a:solidFill>
            <a:srgbClr val="ff9900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Text Box 105"/>
          <p:cNvSpPr/>
          <p:nvPr/>
        </p:nvSpPr>
        <p:spPr>
          <a:xfrm>
            <a:off x="3581280" y="3809880"/>
            <a:ext cx="106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zypyyb"/>
                <a:ea typeface="zypyyb"/>
              </a:rPr>
              <a:t>zh1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Text Box 106"/>
          <p:cNvSpPr/>
          <p:nvPr/>
        </p:nvSpPr>
        <p:spPr>
          <a:xfrm>
            <a:off x="1523880" y="3809880"/>
            <a:ext cx="99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zypyyb"/>
                <a:ea typeface="zypyyb"/>
              </a:rPr>
              <a:t>y0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Text Box 107"/>
          <p:cNvSpPr/>
          <p:nvPr/>
        </p:nvSpPr>
        <p:spPr>
          <a:xfrm>
            <a:off x="3581280" y="236700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zypyyb"/>
                <a:ea typeface="zypyyb"/>
              </a:rPr>
              <a:t>ji1o  4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Text Box 108"/>
          <p:cNvSpPr/>
          <p:nvPr/>
        </p:nvSpPr>
        <p:spPr>
          <a:xfrm>
            <a:off x="6781680" y="380988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zypyyb"/>
                <a:ea typeface="zypyyb"/>
              </a:rPr>
              <a:t>xi2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Text Box 109"/>
          <p:cNvSpPr/>
          <p:nvPr/>
        </p:nvSpPr>
        <p:spPr>
          <a:xfrm>
            <a:off x="5791320" y="236232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zypyyb"/>
                <a:ea typeface="zypyyb"/>
              </a:rPr>
              <a:t>ch6ng sh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Text Box 110"/>
          <p:cNvSpPr/>
          <p:nvPr/>
        </p:nvSpPr>
        <p:spPr>
          <a:xfrm>
            <a:off x="5715000" y="3809880"/>
            <a:ext cx="95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zypyyb"/>
                <a:ea typeface="zypyyb"/>
              </a:rPr>
              <a:t>z4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00"/>
                </a:solidFill>
                <a:latin typeface="方正卡通简体"/>
                <a:ea typeface="方正卡通简体"/>
              </a:rPr>
              <a:t>趣联巧对</a:t>
            </a:r>
            <a:endParaRPr b="0" lang="en-US" sz="5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6" name="Rectangle 4"/>
          <p:cNvSpPr/>
          <p:nvPr/>
        </p:nvSpPr>
        <p:spPr>
          <a:xfrm>
            <a:off x="1181160" y="1525680"/>
            <a:ext cx="6781680" cy="745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AutoShape 5"/>
          <p:cNvSpPr/>
          <p:nvPr/>
        </p:nvSpPr>
        <p:spPr>
          <a:xfrm>
            <a:off x="8305920" y="6019920"/>
            <a:ext cx="533160" cy="533160"/>
          </a:xfrm>
          <a:custGeom>
            <a:avLst/>
            <a:gdLst>
              <a:gd name="textAreaLeft" fmla="*/ 33120 w 533160"/>
              <a:gd name="textAreaRight" fmla="*/ 500040 w 533160"/>
              <a:gd name="textAreaTop" fmla="*/ 33120 h 533160"/>
              <a:gd name="textAreaBottom" fmla="*/ 50004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50" y="1350"/>
                </a:lnTo>
                <a:lnTo>
                  <a:pt x="1350" y="135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50" y="20250"/>
                </a:lnTo>
                <a:lnTo>
                  <a:pt x="20250" y="135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0250" y="2025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1600" h="21600">
                <a:moveTo>
                  <a:pt x="3756" y="7475"/>
                </a:moveTo>
                <a:lnTo>
                  <a:pt x="7283" y="7475"/>
                </a:lnTo>
                <a:lnTo>
                  <a:pt x="7283" y="12839"/>
                </a:lnTo>
                <a:cubicBezTo>
                  <a:pt x="7283" y="13766"/>
                  <a:pt x="8088" y="14501"/>
                  <a:pt x="9129" y="14501"/>
                </a:cubicBezTo>
                <a:lnTo>
                  <a:pt x="10800" y="14501"/>
                </a:lnTo>
                <a:cubicBezTo>
                  <a:pt x="11841" y="14501"/>
                  <a:pt x="12646" y="13766"/>
                  <a:pt x="12646" y="12839"/>
                </a:cubicBezTo>
                <a:lnTo>
                  <a:pt x="12646" y="7475"/>
                </a:lnTo>
                <a:lnTo>
                  <a:pt x="10800" y="7475"/>
                </a:lnTo>
                <a:lnTo>
                  <a:pt x="14326" y="3949"/>
                </a:lnTo>
                <a:lnTo>
                  <a:pt x="18019" y="7475"/>
                </a:lnTo>
                <a:lnTo>
                  <a:pt x="16173" y="7475"/>
                </a:lnTo>
                <a:lnTo>
                  <a:pt x="16173" y="12839"/>
                </a:lnTo>
                <a:cubicBezTo>
                  <a:pt x="16173" y="15621"/>
                  <a:pt x="13583" y="18194"/>
                  <a:pt x="10800" y="18194"/>
                </a:cubicBezTo>
                <a:lnTo>
                  <a:pt x="9129" y="18194"/>
                </a:lnTo>
                <a:cubicBezTo>
                  <a:pt x="6346" y="18194"/>
                  <a:pt x="3756" y="15621"/>
                  <a:pt x="3756" y="12839"/>
                </a:cubicBezTo>
                <a:close/>
              </a:path>
            </a:pathLst>
          </a:custGeom>
          <a:solidFill>
            <a:srgbClr val="ff9900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8" name="Picture 101" descr="大家编故事1"/>
          <p:cNvPicPr/>
          <p:nvPr/>
        </p:nvPicPr>
        <p:blipFill>
          <a:blip r:embed="rId2"/>
          <a:stretch/>
        </p:blipFill>
        <p:spPr>
          <a:xfrm>
            <a:off x="1600200" y="2104920"/>
            <a:ext cx="5969160" cy="4219560"/>
          </a:xfrm>
          <a:prstGeom prst="rect">
            <a:avLst/>
          </a:prstGeom>
          <a:ln w="0">
            <a:noFill/>
          </a:ln>
        </p:spPr>
      </p:pic>
      <p:pic>
        <p:nvPicPr>
          <p:cNvPr id="159" name="趣联巧对.mp3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8" dur="1" fill="hold"/>
                                        <p:tgtEl>
                                          <p:spTgt spid="1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3886200" y="3733920"/>
            <a:ext cx="17524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2004.1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imes New Roman"/>
              </a:rPr>
              <a:t>站点介绍</a:t>
            </a:r>
            <a:r>
              <a:rPr b="1" lang="en-US" sz="1800" spc="-1" strike="noStrike">
                <a:solidFill>
                  <a:srgbClr val="ededed"/>
                </a:solidFill>
                <a:latin typeface="Times New Roman"/>
              </a:rPr>
              <a:t>：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en-US" sz="16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en-US" sz="16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en-US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en-US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en-US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en-US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en-US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en-US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en-US" sz="16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en-US" sz="16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en-US" sz="16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en-US" sz="16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en-US" sz="1600" spc="-1" strike="noStrike">
                <a:solidFill>
                  <a:srgbClr val="e8eff7"/>
                </a:solidFill>
                <a:latin typeface="Times New Roman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助</a:t>
            </a:r>
            <a:r>
              <a:rPr b="1" lang="en-US" sz="1600" spc="-1" strike="noStrike">
                <a:solidFill>
                  <a:srgbClr val="e8eff7"/>
                </a:solidFill>
                <a:latin typeface="Times New Roman"/>
              </a:rPr>
              <a:t>您轻松制作出精美</a:t>
            </a:r>
            <a:r>
              <a:rPr b="1" lang="en-US" sz="16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en-US" sz="16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收集于网络，</a:t>
            </a:r>
            <a:r>
              <a:rPr b="1" lang="en-US" sz="1600" spc="-1" strike="noStrike">
                <a:solidFill>
                  <a:srgbClr val="ededed"/>
                </a:solidFill>
                <a:latin typeface="Times New Roman"/>
              </a:rPr>
              <a:t>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imes New Roman"/>
              </a:rPr>
              <a:t>栏目推荐</a:t>
            </a:r>
            <a:r>
              <a:rPr b="1" lang="en-US" sz="1800" spc="-1" strike="noStrike">
                <a:solidFill>
                  <a:srgbClr val="ededed"/>
                </a:solidFill>
                <a:latin typeface="Times New Roman"/>
              </a:rPr>
              <a:t>：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en-US" sz="16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en-US" sz="16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4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65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en-US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en-US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en-US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66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en-US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en-US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20T13:52:21Z</dcterms:created>
  <dc:creator>www.eeppt.com</dc:creator>
  <dc:description>ppt模板下载网站 http://www.eeppt.com</dc:description>
  <cp:keywords>ppt模板下载网站 http:/www.eeppt.com</cp:keywords>
  <dc:language>en-US</dc:language>
  <cp:lastModifiedBy/>
  <dcterms:modified xsi:type="dcterms:W3CDTF">2015-05-20T13:52:22Z</dcterms:modified>
  <cp:revision>143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