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5A5-8C6B-4986-ABC5-3B95A36F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D9F-4965-4F1F-8AEF-20E88C55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F4F-5525-4BA1-94EF-5148CDD9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4FB-8480-4934-9EB1-64A72AB7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4B9F-25F0-43C2-91E3-B598975F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266-BC4D-4AF6-A3DE-5E5DDC65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F1E4-5899-436A-AF69-BB4AF13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6D36-CEC7-47B5-9E43-1E385562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4D32-F31C-44CF-AD5A-33757822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6A49-16B2-4E5F-9F37-951DED9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56F6-CF70-4187-8479-05D468E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99E-2B4B-4DB9-8632-45ED2306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861-FC60-43EE-BD05-69EF4E3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9C2A-829F-4AFE-B0A7-581D7F4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4EBA-AEF3-44F5-A5D0-C1C104D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8E0-8BD6-4D00-8768-00EE6E93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3AA9-732E-4F89-87CA-ACDCC584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F19-1E78-4EE8-90B7-1A69970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CC9-8866-4FC1-A54C-657791D2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15C-E27E-451A-A6C6-4EA5534D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0AB-C515-4128-ACF5-D3367B7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E84-B6C8-44E0-B855-0FB3ED18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7A7-6CBD-4B28-AE61-8A0575C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AC1-A92E-40FE-B23A-92E9779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B4E-1291-4372-BFEA-18F122969BBA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EEDD-345A-4CB1-806D-D7CA8C624471}" type="slidenum">
              <a:rPr b="0" lang="zh-CN" sz="1200" spc="-1" strike="noStrike">
                <a:solidFill>
                  <a:srgbClr val="898989"/>
                </a:solidFill>
                <a:latin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686880"/>
            <a:ext cx="8535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述职报告</a:t>
            </a: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6" name="副标题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655956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8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对角圆角矩形 5"/>
          <p:cNvSpPr/>
          <p:nvPr/>
        </p:nvSpPr>
        <p:spPr>
          <a:xfrm rot="21346800">
            <a:off x="1133640" y="1809360"/>
            <a:ext cx="6954840" cy="3879720"/>
          </a:xfrm>
          <a:custGeom>
            <a:avLst/>
            <a:gdLst>
              <a:gd name="textAreaLeft" fmla="*/ 144000 w 6954840"/>
              <a:gd name="textAreaRight" fmla="*/ 6810840 w 6954840"/>
              <a:gd name="textAreaTop" fmla="*/ 144000 h 3879720"/>
              <a:gd name="textAreaBottom" fmla="*/ 3735720 h 3879720"/>
            </a:gdLst>
            <a:ahLst/>
            <a:rect l="textAreaLeft" t="textAreaTop" r="textAreaRight" b="textAreaBottom"/>
            <a:pathLst>
              <a:path w="6954838" h="3879850">
                <a:moveTo>
                  <a:pt x="492043" y="0"/>
                </a:moveTo>
                <a:lnTo>
                  <a:pt x="6954838" y="0"/>
                </a:lnTo>
                <a:lnTo>
                  <a:pt x="6954838" y="3387807"/>
                </a:lnTo>
                <a:cubicBezTo>
                  <a:pt x="6954838" y="3659554"/>
                  <a:pt x="6734542" y="3879849"/>
                  <a:pt x="6462795" y="3879850"/>
                </a:cubicBezTo>
                <a:lnTo>
                  <a:pt x="0" y="3879850"/>
                </a:lnTo>
                <a:lnTo>
                  <a:pt x="0" y="492043"/>
                </a:lnTo>
                <a:cubicBezTo>
                  <a:pt x="0" y="220295"/>
                  <a:pt x="220295" y="0"/>
                  <a:pt x="492043" y="1"/>
                </a:cubicBezTo>
                <a:cubicBezTo>
                  <a:pt x="492043" y="1"/>
                  <a:pt x="492043" y="1"/>
                  <a:pt x="492043" y="1"/>
                </a:cubicBezTo>
                <a:lnTo>
                  <a:pt x="492043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3752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2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特宋简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4694400" y="2567160"/>
            <a:ext cx="3747960" cy="3528720"/>
            <a:chOff x="4694400" y="2567160"/>
            <a:chExt cx="3747960" cy="3528720"/>
          </a:xfrm>
        </p:grpSpPr>
        <p:pic>
          <p:nvPicPr>
            <p:cNvPr id="106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69440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492768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"/>
          <p:cNvGrpSpPr/>
          <p:nvPr/>
        </p:nvGrpSpPr>
        <p:grpSpPr>
          <a:xfrm>
            <a:off x="701640" y="2567160"/>
            <a:ext cx="3747960" cy="3528720"/>
            <a:chOff x="701640" y="2567160"/>
            <a:chExt cx="3747960" cy="3528720"/>
          </a:xfrm>
        </p:grpSpPr>
        <p:pic>
          <p:nvPicPr>
            <p:cNvPr id="109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0164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/>
            <p:cNvSpPr/>
            <p:nvPr/>
          </p:nvSpPr>
          <p:spPr>
            <a:xfrm>
              <a:off x="93492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44720" y="1566720"/>
            <a:ext cx="1262160" cy="247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37120" y="1554120"/>
            <a:ext cx="1262160" cy="2475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1"/>
          <p:cNvGrpSpPr/>
          <p:nvPr/>
        </p:nvGrpSpPr>
        <p:grpSpPr>
          <a:xfrm>
            <a:off x="719280" y="2567160"/>
            <a:ext cx="3730320" cy="3509640"/>
            <a:chOff x="719280" y="2567160"/>
            <a:chExt cx="3730320" cy="3509640"/>
          </a:xfrm>
        </p:grpSpPr>
        <p:pic>
          <p:nvPicPr>
            <p:cNvPr id="114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19280" y="2567160"/>
              <a:ext cx="373032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01360" y="2643120"/>
              <a:ext cx="357156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4681440" y="2567160"/>
            <a:ext cx="3730680" cy="3509640"/>
            <a:chOff x="4681440" y="2567160"/>
            <a:chExt cx="3730680" cy="3509640"/>
          </a:xfrm>
        </p:grpSpPr>
        <p:pic>
          <p:nvPicPr>
            <p:cNvPr id="117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81440" y="2567160"/>
              <a:ext cx="373068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4763880" y="2643120"/>
              <a:ext cx="357192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2720" y="117360"/>
            <a:ext cx="78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述职报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baog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3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994040" y="2073240"/>
            <a:ext cx="5155920" cy="3016080"/>
            <a:chOff x="1994040" y="2073240"/>
            <a:chExt cx="5155920" cy="3016080"/>
          </a:xfrm>
        </p:grpSpPr>
        <p:pic>
          <p:nvPicPr>
            <p:cNvPr id="125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1994040" y="2073240"/>
              <a:ext cx="5155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6"/>
            <p:cNvSpPr/>
            <p:nvPr/>
          </p:nvSpPr>
          <p:spPr>
            <a:xfrm>
              <a:off x="2071440" y="2152440"/>
              <a:ext cx="50004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经典特宋简"/>
                  <a:ea typeface="经典特宋简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493560" y="847800"/>
            <a:ext cx="6516720" cy="1230120"/>
            <a:chOff x="493560" y="847800"/>
            <a:chExt cx="6516720" cy="1230120"/>
          </a:xfrm>
        </p:grpSpPr>
        <p:pic>
          <p:nvPicPr>
            <p:cNvPr id="128" name="副标题 2" descr=""/>
            <p:cNvPicPr/>
            <p:nvPr/>
          </p:nvPicPr>
          <p:blipFill>
            <a:blip r:embed="rId1"/>
            <a:stretch/>
          </p:blipFill>
          <p:spPr>
            <a:xfrm>
              <a:off x="493560" y="847800"/>
              <a:ext cx="65167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4"/>
            <p:cNvSpPr/>
            <p:nvPr/>
          </p:nvSpPr>
          <p:spPr>
            <a:xfrm>
              <a:off x="571320" y="928440"/>
              <a:ext cx="635796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经典特宋简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经典特宋简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经典特宋简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97F2-E201-48A5-83D1-D7F749A728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4:49:4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0:47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