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10B-4E19-45F8-8CAC-6D4E7C36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8F8-2DAC-464F-BDB9-C1DADD45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3F0-2246-4E4B-8B36-67682723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DB1-4EBD-41E2-8E51-A8799481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5EFB-C9F5-4166-9488-AE2937CE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96A2-2D1B-4DBE-BFD5-FA675F91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2C11-E3B5-44A6-922D-5AA2F050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7DCD-90A1-4DD4-878E-AEB2B09D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B3DC-BEE4-4E22-A603-0C83AF53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CFC7-6E8C-471F-A7DB-E09C094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53BA-519B-4D3F-96E5-C413AEE4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CEB-B4FE-4476-8E5D-61254003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1AAA-9F32-4C0A-9DED-014AF70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3EBC-33D9-4DCE-9A8E-3319ECAC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D0E7-FB2F-4D83-844C-20B4C368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E2AB-A4E9-412D-BF3C-33582DCE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8F3E-84C6-4881-8DD4-90F182E6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4E3-A79C-464A-8A8C-2DDF8D2D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F2B-1F0D-4281-BFC3-58743E61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C65-F6BD-4B1C-B1F8-2220B210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940-F8B1-440D-817A-F7F841DC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B8C-78E5-4B03-A6FF-34C1652A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C0A-E472-441F-94C2-A697A0E1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8D2-D16B-417C-B14A-F96E551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FE04-B619-45A5-B68C-4B459E9E3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EB5C-8881-4AB7-8672-C139EBC3D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6.jpe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ordArt 10" descr=""/>
          <p:cNvPicPr/>
          <p:nvPr/>
        </p:nvPicPr>
        <p:blipFill>
          <a:blip r:embed="rId2"/>
          <a:stretch/>
        </p:blipFill>
        <p:spPr>
          <a:xfrm>
            <a:off x="1085760" y="878040"/>
            <a:ext cx="6637320" cy="223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WordArt 2" descr=""/>
          <p:cNvPicPr/>
          <p:nvPr/>
        </p:nvPicPr>
        <p:blipFill>
          <a:blip r:embed="rId2"/>
          <a:stretch/>
        </p:blipFill>
        <p:spPr>
          <a:xfrm>
            <a:off x="1609560" y="4584600"/>
            <a:ext cx="15242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28" descr="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1029"/>
          <p:cNvSpPr txBox="1"/>
          <p:nvPr/>
        </p:nvSpPr>
        <p:spPr>
          <a:xfrm>
            <a:off x="990720" y="106668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落叶</a:t>
            </a:r>
            <a:endParaRPr b="0" lang="en-US" sz="2400" spc="-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3"/>
          <p:cNvSpPr txBox="1"/>
          <p:nvPr/>
        </p:nvSpPr>
        <p:spPr>
          <a:xfrm>
            <a:off x="4267080" y="2400480"/>
            <a:ext cx="914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花</a:t>
            </a:r>
            <a:endParaRPr b="0" lang="en-US" sz="2400" spc="-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WordArt 4" descr=""/>
          <p:cNvPicPr/>
          <p:nvPr/>
        </p:nvPicPr>
        <p:blipFill>
          <a:blip r:embed="rId2"/>
          <a:stretch/>
        </p:blipFill>
        <p:spPr>
          <a:xfrm>
            <a:off x="3114720" y="755640"/>
            <a:ext cx="32558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457200"/>
            <a:ext cx="52578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古桥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老朋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树林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知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山泉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姐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溪流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妹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白云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大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瀑布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大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悬崖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爷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云雀</a:t>
            </a:r>
            <a:r>
              <a:rPr b="1" lang="en-US" sz="2400" spc="-1" strike="noStrike">
                <a:solidFill>
                  <a:srgbClr val="cc66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弟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石头、落叶、小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阵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老柏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蚂蚁小弟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WordArt 8"/>
          <p:cNvSpPr txBox="1"/>
          <p:nvPr/>
        </p:nvSpPr>
        <p:spPr>
          <a:xfrm rot="5400000">
            <a:off x="168840" y="2723400"/>
            <a:ext cx="2247840" cy="15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山中访友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685800" y="533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       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品一品  说一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5867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所说的山中访友，不就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看景吗，那我把题目改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看景”，你觉得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秋日的私语.mp3" descr=""/>
          <p:cNvPicPr/>
          <p:nvPr/>
        </p:nvPicPr>
        <p:blipFill>
          <a:blip r:embed="rId2"/>
          <a:stretch/>
        </p:blipFill>
        <p:spPr>
          <a:xfrm>
            <a:off x="78487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>
            <a:off x="914400" y="609480"/>
            <a:ext cx="1828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朗读比赛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562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60d"/>
                </a:solidFill>
                <a:latin typeface="Times New Roman"/>
              </a:rPr>
              <a:t>（分甲乙两组，每组选派一名选手，读完后请两组派代表进行点评）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-609480" y="33526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点评参考（一分为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60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吐字清晰，语音准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60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语速适中，语气舒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60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轻重音处理以及停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60d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课文感情韵味的把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写一写   说一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采用的是说话方式向他的大自然朋友打招呼，我们也尝试一下用“你好”写一句话，向我们的大自然朋友打一下招呼，好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如松树、小草、白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38440" y="1447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Times New Roman"/>
              </a:rPr>
              <a:t>学习收获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23520" y="274284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5f9d8"/>
                </a:solidFill>
                <a:latin typeface="Times New Roman"/>
              </a:rPr>
              <a:t>作者进山看景，像是走到了亲朋好友当中，他为什么把山林当成家，他想告诉我们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8384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作业布置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600200" y="1980720"/>
            <a:ext cx="67816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选一个好天气，与好友结伴到郊外走走，去触摸大自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假如你是某一景物，面对来往形形色色的游人，你对游人说说心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感情地朗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访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</a:rPr>
              <a:t>放声自由朗读，而后小组研讨</a:t>
            </a:r>
            <a:r>
              <a:rPr b="0" lang="zh-CN" sz="5400" spc="-1" strike="noStrike">
                <a:solidFill>
                  <a:srgbClr val="ff66cc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7429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f9d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5f9d8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、扫清朗读时遇到的文字障碍 ， 小组中仍未能解决的请上来写到黑板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f9d8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、找一找作者拜访了哪些朋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0066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660066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WINDOWS\Desktop\课件\李力&amp;虞旭\小桥流水.jpg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WordArt 6" descr=""/>
          <p:cNvPicPr/>
          <p:nvPr/>
        </p:nvPicPr>
        <p:blipFill>
          <a:blip r:embed="rId17"/>
          <a:stretch/>
        </p:blipFill>
        <p:spPr>
          <a:xfrm>
            <a:off x="3114720" y="523800"/>
            <a:ext cx="3219480" cy="47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1bd6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WINDOWS\Desktop\课件\邱力\natureqqi6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7" descr=""/>
          <p:cNvPicPr/>
          <p:nvPr/>
        </p:nvPicPr>
        <p:blipFill>
          <a:blip r:embed="rId2"/>
          <a:stretch/>
        </p:blipFill>
        <p:spPr>
          <a:xfrm>
            <a:off x="2895480" y="5334120"/>
            <a:ext cx="2743200" cy="48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4032000"/>
            <a:ext cx="763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1bd6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WordArt 7" descr=""/>
          <p:cNvPicPr/>
          <p:nvPr/>
        </p:nvPicPr>
        <p:blipFill>
          <a:blip r:embed="rId2"/>
          <a:stretch/>
        </p:blipFill>
        <p:spPr>
          <a:xfrm>
            <a:off x="5327640" y="4876920"/>
            <a:ext cx="2798640" cy="103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Times New Roman"/>
              </a:rPr>
              <a:t>溪流</a:t>
            </a: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——</a:t>
            </a:r>
            <a:r>
              <a:rPr b="0" lang="zh-CN" sz="4400" spc="-1" strike="noStrike">
                <a:solidFill>
                  <a:srgbClr val="ff66cc"/>
                </a:solidFill>
                <a:latin typeface="Times New Roman"/>
              </a:rPr>
              <a:t>妹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26" descr="C:\Documents and Settings\Administrator\桌面\leimeng\010501030321062c2c25_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8" name="WordArt 1027" descr=""/>
          <p:cNvPicPr/>
          <p:nvPr/>
        </p:nvPicPr>
        <p:blipFill>
          <a:blip r:embed="rId2"/>
          <a:stretch/>
        </p:blipFill>
        <p:spPr>
          <a:xfrm>
            <a:off x="907920" y="5937120"/>
            <a:ext cx="207324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81680" y="380880"/>
            <a:ext cx="1905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380520"/>
            <a:ext cx="5562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320040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C:\WINDOWS\Desktop\课件\李力&amp;虞旭\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6"/>
          <p:cNvSpPr txBox="1"/>
          <p:nvPr/>
        </p:nvSpPr>
        <p:spPr>
          <a:xfrm>
            <a:off x="4572000" y="533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瀑布大哥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WordArt 3" descr=""/>
          <p:cNvPicPr/>
          <p:nvPr/>
        </p:nvPicPr>
        <p:blipFill>
          <a:blip r:embed="rId2"/>
          <a:stretch/>
        </p:blipFill>
        <p:spPr>
          <a:xfrm>
            <a:off x="2736720" y="304920"/>
            <a:ext cx="2756160" cy="1030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6093000"/>
            <a:ext cx="740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36:2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38:02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