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5.gif" ContentType="image/gi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340-7312-4573-9940-203C7BDB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E9B-3198-4095-8DB1-0A6559A1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453-638B-4FDC-8B21-755CFAE3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BF4-C3F9-493B-9C85-D9018752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D980-3DBA-4440-B05D-3263A3F2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04B7-F0FE-4D93-9DE0-3D3EF70F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0CA4-12A1-4AB6-ACDF-94FE978F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ECDA-6C1B-49E3-B576-0FF8199B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BA8C-E0F2-4AAC-A325-C918E85F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E594-3D48-4A70-9B69-692F34EB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2515-BBA8-4F71-8D6F-29E59C8D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05E0-1B9D-4FAF-9050-9DA0E6EF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4479-87E4-4733-B55C-43394865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3D17-B70E-4EB1-9683-B44DDF40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A020-8B4A-49F6-AB2F-8EBF788D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3DC0-BCBC-4426-9D18-2EBE85D3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8F70-9F82-4B51-A326-5C323382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F2A-0840-4C9C-8BF0-E2ADFAC6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3519-2C1E-44D8-B646-86790312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2D4-22E5-4BDF-AF89-295CE165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53F3-574B-4800-BD1F-B0DE02E7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E588-E0D7-41EA-AA12-4D600E41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4933-AB93-429A-88AE-6E4F4732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CA99-E60E-4026-859D-02039882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21DF-3AAC-42F0-8170-F831F941B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0C41-BD06-4CB2-B980-8B94B4F788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27A3-8CC8-4139-9710-3ABB56F6F0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324000" y="189000"/>
            <a:ext cx="8400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79000"/>
                    </a:srgbClr>
                  </a:outerShdw>
                </a:effectLst>
                <a:latin typeface="隶书"/>
              </a:rPr>
              <a:t>第一单元　中华人民共和国的成立和巩固</a:t>
            </a:r>
            <a:endParaRPr b="1" lang="en-US" sz="1800" spc="-1" strike="noStrike">
              <a:ln w="9360">
                <a:solidFill>
                  <a:srgbClr val="ffff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3" name="WordArt 5" descr="40"/>
          <p:cNvPicPr/>
          <p:nvPr/>
        </p:nvPicPr>
        <p:blipFill>
          <a:blip r:embed="rId4"/>
          <a:stretch/>
        </p:blipFill>
        <p:spPr>
          <a:xfrm>
            <a:off x="1828800" y="1689120"/>
            <a:ext cx="5821200" cy="3108240"/>
          </a:xfrm>
          <a:prstGeom prst="rect">
            <a:avLst/>
          </a:prstGeom>
          <a:ln w="0">
            <a:noFill/>
          </a:ln>
        </p:spPr>
      </p:pic>
      <p:sp>
        <p:nvSpPr>
          <p:cNvPr id="84" name="WordArt 7"/>
          <p:cNvSpPr txBox="1"/>
          <p:nvPr/>
        </p:nvSpPr>
        <p:spPr>
          <a:xfrm>
            <a:off x="4859280" y="5950080"/>
            <a:ext cx="397188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东北师大附中 刘屿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北京郊区的农民开会斗争地主"/>
          <p:cNvPicPr/>
          <p:nvPr/>
        </p:nvPicPr>
        <p:blipFill>
          <a:blip r:embed="rId2"/>
          <a:stretch/>
        </p:blipFill>
        <p:spPr>
          <a:xfrm>
            <a:off x="3059280" y="1268280"/>
            <a:ext cx="2857320" cy="3753000"/>
          </a:xfrm>
          <a:prstGeom prst="rect">
            <a:avLst/>
          </a:prstGeom>
          <a:ln w="12600">
            <a:solidFill>
              <a:srgbClr val="ff00ff"/>
            </a:solidFill>
            <a:miter/>
          </a:ln>
        </p:spPr>
      </p:pic>
      <p:sp>
        <p:nvSpPr>
          <p:cNvPr id="122" name="Rectangle 5"/>
          <p:cNvSpPr/>
          <p:nvPr/>
        </p:nvSpPr>
        <p:spPr>
          <a:xfrm>
            <a:off x="2484360" y="5877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北京郊区的农民开会斗争地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湖南岳阳农民烧地契"/>
          <p:cNvPicPr/>
          <p:nvPr/>
        </p:nvPicPr>
        <p:blipFill>
          <a:blip r:embed="rId2"/>
          <a:stretch/>
        </p:blipFill>
        <p:spPr>
          <a:xfrm>
            <a:off x="1979640" y="1209600"/>
            <a:ext cx="5472000" cy="3775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4" name="Rectangle 5"/>
          <p:cNvSpPr/>
          <p:nvPr/>
        </p:nvSpPr>
        <p:spPr>
          <a:xfrm>
            <a:off x="2916360" y="5805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湖南岳阳农民烧地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农民丈量分配土地"/>
          <p:cNvPicPr/>
          <p:nvPr/>
        </p:nvPicPr>
        <p:blipFill>
          <a:blip r:embed="rId2"/>
          <a:stretch/>
        </p:blipFill>
        <p:spPr>
          <a:xfrm>
            <a:off x="1908000" y="1341360"/>
            <a:ext cx="5319720" cy="36226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26" name="Rectangle 5"/>
          <p:cNvSpPr/>
          <p:nvPr/>
        </p:nvSpPr>
        <p:spPr>
          <a:xfrm>
            <a:off x="2843280" y="5805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农民丈量分配土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四川金堂县贫农分到了土地"/>
          <p:cNvPicPr/>
          <p:nvPr/>
        </p:nvPicPr>
        <p:blipFill>
          <a:blip r:embed="rId2"/>
          <a:stretch/>
        </p:blipFill>
        <p:spPr>
          <a:xfrm>
            <a:off x="1835280" y="1197000"/>
            <a:ext cx="5400720" cy="3676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8" name="Rectangle 5"/>
          <p:cNvSpPr/>
          <p:nvPr/>
        </p:nvSpPr>
        <p:spPr>
          <a:xfrm>
            <a:off x="2484360" y="5877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四川金堂县贫农分到了土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1"/>
          <p:cNvPicPr/>
          <p:nvPr/>
        </p:nvPicPr>
        <p:blipFill>
          <a:blip r:embed="rId3"/>
          <a:stretch/>
        </p:blipFill>
        <p:spPr>
          <a:xfrm>
            <a:off x="8101080" y="5734080"/>
            <a:ext cx="780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340000" y="260280"/>
            <a:ext cx="385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土地改革的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28600" y="1484280"/>
            <a:ext cx="89154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彻底摧毁了我国存在两千多年的封建土地制度，地主阶级也被消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农民翻了身，得到了土地，成为土地的主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隶书"/>
                <a:ea typeface="隶书"/>
              </a:rPr>
              <a:t>3.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使人民政权更加巩固，也大大解放了农村生产力，农业生产获得迅速恢复和发展，为国家的工业化建设准备了条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1116000" y="549360"/>
            <a:ext cx="158436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116000" y="2492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116000" y="3141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开展及完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187280" y="393372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826920" y="476280"/>
            <a:ext cx="216000" cy="5113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33200 h 5113440"/>
              <a:gd name="textAreaBottom" fmla="*/ 4980240 h 511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179280" y="1989000"/>
            <a:ext cx="466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隶书"/>
              </a:rPr>
              <a:t>土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隶书"/>
              </a:rPr>
              <a:t>地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隶书"/>
              </a:rPr>
              <a:t>改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隶书"/>
              </a:rPr>
              <a:t>革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042920" y="333360"/>
            <a:ext cx="14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1116000" y="5013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土改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1042920" y="981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开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1042920" y="1628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2165400" y="1125360"/>
            <a:ext cx="73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《</a:t>
            </a:r>
            <a:r>
              <a:rPr b="1" lang="zh-CN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中华人民共和国土地改革法</a:t>
            </a:r>
            <a:r>
              <a:rPr b="1" lang="en-US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》</a:t>
            </a:r>
            <a:r>
              <a:rPr b="1" lang="zh-CN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颁布后  </a:t>
            </a:r>
            <a:r>
              <a:rPr b="1" lang="en-US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1950</a:t>
            </a:r>
            <a:r>
              <a:rPr b="1" lang="zh-CN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年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2411280" y="177336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废除地主阶级封建剥削的土地所有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实行农民的土地所有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2195640" y="2637000"/>
            <a:ext cx="6827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采取保存富农经济，政治上中立富农的政策。</a:t>
            </a:r>
            <a:r>
              <a:rPr b="1" lang="en-US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(</a:t>
            </a:r>
            <a:r>
              <a:rPr b="1" lang="zh-CN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原因</a:t>
            </a:r>
            <a:r>
              <a:rPr b="1" lang="en-US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3635280" y="321480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到</a:t>
            </a:r>
            <a:r>
              <a:rPr b="1" lang="en-US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1952</a:t>
            </a:r>
            <a:r>
              <a:rPr b="1" lang="zh-CN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年底，除部分少数民族地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外，全国大陆基本上完成了土地改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2448000" y="4005360"/>
            <a:ext cx="66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 </a:t>
            </a:r>
            <a:r>
              <a:rPr b="1" lang="zh-CN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近</a:t>
            </a:r>
            <a:r>
              <a:rPr b="1" lang="en-US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3</a:t>
            </a:r>
            <a:r>
              <a:rPr b="1" lang="zh-CN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亿无地少地的农民分到了</a:t>
            </a:r>
            <a:r>
              <a:rPr b="1" lang="en-US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7</a:t>
            </a:r>
            <a:r>
              <a:rPr b="1" lang="zh-CN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亿亩土地和大量农具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牲畜和房屋等；还免除了每年向地主缴纳约</a:t>
            </a:r>
            <a:r>
              <a:rPr b="1" lang="en-US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350</a:t>
            </a:r>
            <a:r>
              <a:rPr b="1" lang="zh-CN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亿公斤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食的地租。农民真正获得了解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2843280" y="0"/>
            <a:ext cx="396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土地改革的原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1417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403280" y="105264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必要性：封建土地制度严重阻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了农村经济和中国社会的发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332000" y="234936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广大农民迫切要求进行土地改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获得土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1"/>
          <p:cNvPicPr/>
          <p:nvPr/>
        </p:nvPicPr>
        <p:blipFill>
          <a:blip r:embed="rId2"/>
          <a:stretch/>
        </p:blipFill>
        <p:spPr>
          <a:xfrm>
            <a:off x="8183520" y="5877000"/>
            <a:ext cx="781200" cy="952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土地改革前我国广大农民的生活十分贫困。这幅图所反映的正是当时四川什邡县一个农民贫苦生活的情形。身后的草棚就是他们的住处"/>
          <p:cNvPicPr/>
          <p:nvPr/>
        </p:nvPicPr>
        <p:blipFill>
          <a:blip r:embed="rId3"/>
          <a:stretch/>
        </p:blipFill>
        <p:spPr>
          <a:xfrm>
            <a:off x="1619280" y="3573360"/>
            <a:ext cx="2628720" cy="1857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当时的农村，真是“一穷二白”，一般会议都在田头、村边召开"/>
          <p:cNvPicPr/>
          <p:nvPr/>
        </p:nvPicPr>
        <p:blipFill>
          <a:blip r:embed="rId4"/>
          <a:srcRect l="0" t="3410" r="0" b="7232"/>
          <a:stretch/>
        </p:blipFill>
        <p:spPr>
          <a:xfrm>
            <a:off x="5148360" y="2997360"/>
            <a:ext cx="2809800" cy="3744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2"/>
          <p:cNvSpPr/>
          <p:nvPr/>
        </p:nvSpPr>
        <p:spPr>
          <a:xfrm>
            <a:off x="2309760" y="573408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土地改革前我国广大农民的生活十分贫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这幅图所反映的正是当时四川一个农民贫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生活的情形。身后的草棚就是他们的住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无标题"/>
          <p:cNvPicPr/>
          <p:nvPr/>
        </p:nvPicPr>
        <p:blipFill>
          <a:blip r:embed="rId2"/>
          <a:stretch/>
        </p:blipFill>
        <p:spPr>
          <a:xfrm>
            <a:off x="108000" y="692280"/>
            <a:ext cx="8893080" cy="5335560"/>
          </a:xfrm>
          <a:prstGeom prst="rect">
            <a:avLst/>
          </a:prstGeom>
          <a:ln w="158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1950年6月28日，《中华人民共和国土地改革法》颁布，得到农民群众的热烈拥护。"/>
          <p:cNvPicPr/>
          <p:nvPr/>
        </p:nvPicPr>
        <p:blipFill>
          <a:blip r:embed="rId2"/>
          <a:stretch/>
        </p:blipFill>
        <p:spPr>
          <a:xfrm>
            <a:off x="1619280" y="692280"/>
            <a:ext cx="5400720" cy="36655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10" name="Rectangle 5"/>
          <p:cNvSpPr/>
          <p:nvPr/>
        </p:nvSpPr>
        <p:spPr>
          <a:xfrm>
            <a:off x="2622600" y="4653000"/>
            <a:ext cx="39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950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8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日，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中华人民共和国土地改革法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颁布，得到农民群众的热烈拥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1950年6月28日，中央人民政府委员会第八次会议通过《中华人民共和国土地改革法》。《南方日报》于三十日在第一版头条全文刊登，番禺农民高兴得围拢起来争相阅读"/>
          <p:cNvPicPr/>
          <p:nvPr/>
        </p:nvPicPr>
        <p:blipFill>
          <a:blip r:embed="rId2"/>
          <a:stretch/>
        </p:blipFill>
        <p:spPr>
          <a:xfrm>
            <a:off x="395280" y="404640"/>
            <a:ext cx="3379680" cy="50403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4211640" y="2133720"/>
            <a:ext cx="446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950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8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日，中央人民政府委员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第八次会议通过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中华人民共和国土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改革法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。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南方日报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于三十日在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一版头条全文刊登，番禺农民高兴得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拢起来争相阅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1"/>
          <p:cNvPicPr/>
          <p:nvPr/>
        </p:nvPicPr>
        <p:blipFill>
          <a:blip r:embed="rId3"/>
          <a:stretch/>
        </p:blipFill>
        <p:spPr>
          <a:xfrm>
            <a:off x="8101080" y="5734080"/>
            <a:ext cx="780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土地改革"/>
          <p:cNvPicPr/>
          <p:nvPr/>
        </p:nvPicPr>
        <p:blipFill>
          <a:blip r:embed="rId2"/>
          <a:stretch/>
        </p:blipFill>
        <p:spPr>
          <a:xfrm>
            <a:off x="755640" y="404640"/>
            <a:ext cx="7848720" cy="59706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15" name="Text Box 7"/>
          <p:cNvSpPr/>
          <p:nvPr/>
        </p:nvSpPr>
        <p:spPr>
          <a:xfrm>
            <a:off x="3562200" y="423720"/>
            <a:ext cx="2665440" cy="703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土地改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1"/>
          <p:cNvPicPr/>
          <p:nvPr/>
        </p:nvPicPr>
        <p:blipFill>
          <a:blip r:embed="rId4"/>
          <a:stretch/>
        </p:blipFill>
        <p:spPr>
          <a:xfrm>
            <a:off x="8101080" y="5734080"/>
            <a:ext cx="780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划分阶级成份是土改的主要步骤之一，这是江苏省林隐乡第5村公布的阶级划分榜"/>
          <p:cNvPicPr/>
          <p:nvPr/>
        </p:nvPicPr>
        <p:blipFill>
          <a:blip r:embed="rId2"/>
          <a:stretch/>
        </p:blipFill>
        <p:spPr>
          <a:xfrm>
            <a:off x="1692360" y="1557360"/>
            <a:ext cx="5832360" cy="3295800"/>
          </a:xfrm>
          <a:prstGeom prst="rect">
            <a:avLst/>
          </a:prstGeom>
          <a:ln w="15840">
            <a:solidFill>
              <a:srgbClr val="808000"/>
            </a:solidFill>
            <a:miter/>
          </a:ln>
        </p:spPr>
      </p:pic>
      <p:sp>
        <p:nvSpPr>
          <p:cNvPr id="118" name="Rectangle 6"/>
          <p:cNvSpPr/>
          <p:nvPr/>
        </p:nvSpPr>
        <p:spPr>
          <a:xfrm>
            <a:off x="1836720" y="573408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划分阶级成份是土改的主要步骤之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这是江苏省林隐乡第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村公布的阶级划分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土地改革时，农民正在拔除地主立的界碑"/>
          <p:cNvPicPr/>
          <p:nvPr/>
        </p:nvPicPr>
        <p:blipFill>
          <a:blip r:embed="rId2"/>
          <a:stretch/>
        </p:blipFill>
        <p:spPr>
          <a:xfrm>
            <a:off x="1258920" y="907920"/>
            <a:ext cx="6335640" cy="4616640"/>
          </a:xfrm>
          <a:prstGeom prst="rect">
            <a:avLst/>
          </a:prstGeom>
          <a:ln w="15840">
            <a:solidFill>
              <a:srgbClr val="993300"/>
            </a:solidFill>
            <a:miter/>
          </a:ln>
        </p:spPr>
      </p:pic>
      <p:sp>
        <p:nvSpPr>
          <p:cNvPr id="120" name="Rectangle 8"/>
          <p:cNvSpPr/>
          <p:nvPr/>
        </p:nvSpPr>
        <p:spPr>
          <a:xfrm>
            <a:off x="1835280" y="587700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土地改革时，农民正在拔除地主立的界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07:16:0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5:03Z</dcterms:modified>
  <cp:revision>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