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9AC-6A8D-4164-97DF-EFC6EF0B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816-374C-4A25-A004-F9F0F0DB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2FB-8F30-47A5-B34D-9CF20E24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596-09CA-4E79-BFA1-BA2C12AC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9FC6-EF50-4EE1-9173-17104AB4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1C06-26A4-4746-9B70-DD95BB2F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9733-E00F-4186-8025-C6063D04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44CC-F32C-461E-9299-13B187A4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E921-3744-488B-81BA-73A00060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7EC4-BE1A-4597-813B-3AB041A7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92C1-1B07-4C2D-960E-92CE9B57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5BE-A419-4D36-B467-C5800E6B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B47A-5BEC-425B-90F6-9A9EB808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D6D9-A69C-4FAA-8CE7-48282288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DDD5-4535-47CC-99E3-FBB1C7F4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F6F2-672D-4C89-8A90-BF88ED47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FF95-9D00-4512-9135-C8A45F70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EAF-19B5-4F9F-BC0A-F63221F9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637-85E1-401B-A9DD-13E9A7CD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950-0C06-4D93-85C4-27E4B8E1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4D9-405F-47A0-A37A-0B1F959B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76A-E9DC-48A7-A812-316F1D6B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771-B839-4FF9-8DBD-716B81CD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EE4-9DDF-4EF5-BC89-594C30FF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BAF3-65F1-44F2-9154-5C17DFF13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06E7-7173-4000-AC54-136CD072CA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5790-C509-4521-996A-1596E247F9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Zr1634.wav" TargetMode="External"/><Relationship Id="rId3" Type="http://schemas.microsoft.com/office/2007/relationships/media" Target="file:///tmp/home/.config/libreoffice/4/user/gallery/Zr1634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复件 (9) 美景"/>
          <p:cNvPicPr/>
          <p:nvPr/>
        </p:nvPicPr>
        <p:blipFill>
          <a:blip r:embed="rId1"/>
          <a:stretch/>
        </p:blipFill>
        <p:spPr>
          <a:xfrm>
            <a:off x="0" y="-270000"/>
            <a:ext cx="9144000" cy="739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895480" y="205740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645000" y="838080"/>
            <a:ext cx="173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27</a:t>
            </a: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、她是我的朋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997440" y="47242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坝塘中心小学：潘果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8" descr="10477098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05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FR8066"/>
          <p:cNvPicPr/>
          <p:nvPr/>
        </p:nvPicPr>
        <p:blipFill>
          <a:blip r:embed="rId1"/>
          <a:stretch/>
        </p:blipFill>
        <p:spPr>
          <a:xfrm>
            <a:off x="657360" y="595440"/>
            <a:ext cx="7829280" cy="5667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752480" y="14479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一阵沉默之后，一只小 手  颤  抖  地 举 起来。 忽 然 又放下去，然 后又举起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905120" y="4114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676520" y="39625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阮恒举手时为什么“颤抖”？为什么把手“放下去”又“举起来”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33520" y="190512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过了一会儿，他突然啜泣了一下，全身颤抖并迅速用另一只手捂住脸，“疼吗，阮恒？”医生问道。阮恒摇摇头。但过了一会儿，  他又开始呜咽，  并 再一次试图用手掩盖他的痛苦。医生又问是不是针刺疼了他，他又摇了摇头。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 接着，  他那不时的啜泣变成持续不断的低声哭泣。他眼睛紧闭着，用牙咬着自己的小拳头，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竭力制止抽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FR505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Oval 40"/>
          <p:cNvSpPr/>
          <p:nvPr/>
        </p:nvSpPr>
        <p:spPr>
          <a:xfrm>
            <a:off x="5638680" y="2362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41"/>
          <p:cNvSpPr/>
          <p:nvPr/>
        </p:nvSpPr>
        <p:spPr>
          <a:xfrm>
            <a:off x="6019920" y="2362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42"/>
          <p:cNvSpPr/>
          <p:nvPr/>
        </p:nvSpPr>
        <p:spPr>
          <a:xfrm>
            <a:off x="8077320" y="2438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3"/>
          <p:cNvSpPr/>
          <p:nvPr/>
        </p:nvSpPr>
        <p:spPr>
          <a:xfrm>
            <a:off x="762120" y="2895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44"/>
          <p:cNvSpPr/>
          <p:nvPr/>
        </p:nvSpPr>
        <p:spPr>
          <a:xfrm>
            <a:off x="1219320" y="2895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45"/>
          <p:cNvSpPr/>
          <p:nvPr/>
        </p:nvSpPr>
        <p:spPr>
          <a:xfrm>
            <a:off x="160020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46"/>
          <p:cNvSpPr/>
          <p:nvPr/>
        </p:nvSpPr>
        <p:spPr>
          <a:xfrm>
            <a:off x="525780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47"/>
          <p:cNvSpPr/>
          <p:nvPr/>
        </p:nvSpPr>
        <p:spPr>
          <a:xfrm>
            <a:off x="50292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48"/>
          <p:cNvSpPr/>
          <p:nvPr/>
        </p:nvSpPr>
        <p:spPr>
          <a:xfrm>
            <a:off x="54864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49"/>
          <p:cNvSpPr/>
          <p:nvPr/>
        </p:nvSpPr>
        <p:spPr>
          <a:xfrm>
            <a:off x="57913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50"/>
          <p:cNvSpPr/>
          <p:nvPr/>
        </p:nvSpPr>
        <p:spPr>
          <a:xfrm>
            <a:off x="380988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51"/>
          <p:cNvSpPr/>
          <p:nvPr/>
        </p:nvSpPr>
        <p:spPr>
          <a:xfrm>
            <a:off x="4191120" y="3886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52"/>
          <p:cNvSpPr/>
          <p:nvPr/>
        </p:nvSpPr>
        <p:spPr>
          <a:xfrm>
            <a:off x="762120" y="43434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53"/>
          <p:cNvSpPr/>
          <p:nvPr/>
        </p:nvSpPr>
        <p:spPr>
          <a:xfrm>
            <a:off x="1143000" y="4343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54"/>
          <p:cNvSpPr/>
          <p:nvPr/>
        </p:nvSpPr>
        <p:spPr>
          <a:xfrm>
            <a:off x="2362320" y="4876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5"/>
          <p:cNvSpPr/>
          <p:nvPr/>
        </p:nvSpPr>
        <p:spPr>
          <a:xfrm>
            <a:off x="274320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56"/>
          <p:cNvSpPr/>
          <p:nvPr/>
        </p:nvSpPr>
        <p:spPr>
          <a:xfrm>
            <a:off x="762120" y="53341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57"/>
          <p:cNvSpPr/>
          <p:nvPr/>
        </p:nvSpPr>
        <p:spPr>
          <a:xfrm>
            <a:off x="1143000" y="5334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58"/>
          <p:cNvSpPr/>
          <p:nvPr/>
        </p:nvSpPr>
        <p:spPr>
          <a:xfrm>
            <a:off x="5257800" y="5334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9"/>
          <p:cNvSpPr/>
          <p:nvPr/>
        </p:nvSpPr>
        <p:spPr>
          <a:xfrm>
            <a:off x="5638680" y="5334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60"/>
          <p:cNvSpPr/>
          <p:nvPr/>
        </p:nvSpPr>
        <p:spPr>
          <a:xfrm>
            <a:off x="769608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61"/>
          <p:cNvSpPr/>
          <p:nvPr/>
        </p:nvSpPr>
        <p:spPr>
          <a:xfrm>
            <a:off x="8077320" y="5410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62"/>
          <p:cNvSpPr/>
          <p:nvPr/>
        </p:nvSpPr>
        <p:spPr>
          <a:xfrm>
            <a:off x="2438280" y="5867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63"/>
          <p:cNvSpPr/>
          <p:nvPr/>
        </p:nvSpPr>
        <p:spPr>
          <a:xfrm>
            <a:off x="6400800" y="5867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64"/>
          <p:cNvSpPr/>
          <p:nvPr/>
        </p:nvSpPr>
        <p:spPr>
          <a:xfrm>
            <a:off x="6781680" y="5867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孙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ku2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w_po01"/>
          <p:cNvPicPr/>
          <p:nvPr/>
        </p:nvPicPr>
        <p:blipFill>
          <a:blip r:embed="rId1"/>
          <a:stretch/>
        </p:blipFill>
        <p:spPr>
          <a:xfrm>
            <a:off x="0" y="0"/>
            <a:ext cx="10363320" cy="7086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819520" y="990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如果你感到太苦闷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819520" y="15238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就让朋友分担你的忧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819520" y="21337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起说说笑笑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819520" y="2666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温馨的感觉随时拥有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819520" y="3200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谁没哭过，谁没笑过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505320" y="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朋  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819520" y="3733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只需想起朋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2819520" y="4343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和你一起将风雨抹走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2895480" y="4952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陪你高高低低到处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2819520" y="54864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真心的朋友愿意永远为你分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2819520" y="6095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有了朋友你会永远开开心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04bz.mp3" descr=""/>
          <p:cNvPicPr/>
          <p:nvPr/>
        </p:nvPicPr>
        <p:blipFill>
          <a:blip r:embed="rId2"/>
          <a:stretch/>
        </p:blipFill>
        <p:spPr>
          <a:xfrm>
            <a:off x="0" y="-76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爱的奉献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7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0:13:0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6:13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