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B05-3B03-4436-8003-AF39B46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5F8-391F-471E-909A-64B07444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35E-2F7A-4DDA-8243-387E3991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1C-F9CC-47D5-BC3C-711167F6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DEC0-882F-467D-A627-629820B0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A27-2D9C-4D03-ACD3-36F45C8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9E8-7FBC-4FF4-A6EE-A73BB740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15C2-B86B-45F8-BDD8-C19C30CB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64E-1D5C-46DE-B5CC-1E7F0FE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E1E-5A92-4075-AE3F-3FC9710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A80B-BCF5-4D39-9A63-6206262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E73-24E7-4223-B5DA-B297D844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222-D303-4255-80A4-51A4164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39DD-52B9-457D-BCF9-24344EB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15E6-D134-4358-AA54-0F6C347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6E94-4C9E-4CC8-B077-7905F9AE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FDD7-7902-4532-A08C-349324EB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EC6F-2FC6-4483-8CF2-370D0126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A097-2511-4750-A25F-B7D07AC1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32C4-7DB3-42DB-B2F4-290E983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7FC1-307A-4911-9779-5D8C5F47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C0CC-D7DA-41C1-A9D2-02AC4F26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B41-9B7E-4483-8C04-23EA896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7373-58E5-43C0-A609-EAE943D1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3A40-1DA1-4795-B621-F1D4ECE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46D3-DAEA-4312-BEEA-3C1AC42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B09C-70A3-4957-8997-35C18FC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E91B-4F9D-4C3F-8922-2C47FDF8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6484-217F-4654-B1C9-6A7EB841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CE6B-B4B2-414F-87A9-90D4796D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469-55FC-44A7-8E08-7F0E187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CAE-1D9C-4C66-820D-EF94D1F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496-8387-4D4F-8B62-5A660C9C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EC3-7D01-45AE-AAF6-DE39195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E62-CC01-40EA-8D71-D7488C77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663-519D-4ADB-9F16-988D6C6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2BE-B688-4EC8-B323-FCB6445AD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919-C5A8-44E0-85EB-C72D667D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2F4-E780-4605-BE6C-1880A4F3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70792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题：探究</a:t>
            </a:r>
            <a:r>
              <a:rPr b="1" lang="zh-TW" sz="4800" spc="-1" strike="noStrike">
                <a:solidFill>
                  <a:srgbClr val="ff3300"/>
                </a:solidFill>
                <a:latin typeface="宋体"/>
              </a:rPr>
              <a:t>凸透镜成像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规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04920" y="404640"/>
            <a:ext cx="4987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欢迎莅临指导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228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79280" y="-27000"/>
            <a:ext cx="304920" cy="6858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031760" y="1125360"/>
            <a:ext cx="706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某物体放在离凸透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处，无论怎样移动光屏，光屏上始终得不到像，则该凸透镜的焦距可能是（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 cm     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 cm     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 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5725800" y="29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Object 7" descr=""/>
          <p:cNvPicPr/>
          <p:nvPr/>
        </p:nvPicPr>
        <p:blipFill>
          <a:blip r:embed="rId1"/>
          <a:stretch/>
        </p:blipFill>
        <p:spPr>
          <a:xfrm>
            <a:off x="6659640" y="5300640"/>
            <a:ext cx="731880" cy="10080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3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9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交流与拓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从实验得知凸透镜可以成倒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放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倒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缩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实像那么它能否成</a:t>
            </a:r>
            <a:r>
              <a:rPr b="1" i="1" lang="zh-CN" sz="48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倒立等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实像呢？如果能，你预测可能在哪里？你能用实验验证你的想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8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5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运用与挑战 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60020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明同学在一次实验中，不小心</a:t>
            </a:r>
            <a:r>
              <a:rPr b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用</a:t>
            </a:r>
            <a:r>
              <a:rPr b="1" i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书本挡住了部分凸透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你认为此时在光屏上所成的像是一半呢还是完整的？你准备如何验证你的想法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0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1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5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6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7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8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657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3336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4" descr="放大镜的作用"/>
          <p:cNvPicPr/>
          <p:nvPr/>
        </p:nvPicPr>
        <p:blipFill>
          <a:blip r:embed="rId1"/>
          <a:stretch/>
        </p:blipFill>
        <p:spPr>
          <a:xfrm>
            <a:off x="179280" y="4724280"/>
            <a:ext cx="2952720" cy="2133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7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4"/>
          <p:cNvSpPr txBox="1"/>
          <p:nvPr/>
        </p:nvSpPr>
        <p:spPr>
          <a:xfrm>
            <a:off x="5435640" y="0"/>
            <a:ext cx="3025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凸透镜的应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3" name="Group 49"/>
          <p:cNvGrpSpPr/>
          <p:nvPr/>
        </p:nvGrpSpPr>
        <p:grpSpPr>
          <a:xfrm>
            <a:off x="2959200" y="189000"/>
            <a:ext cx="1152360" cy="2109600"/>
            <a:chOff x="2959200" y="189000"/>
            <a:chExt cx="1152360" cy="2109600"/>
          </a:xfrm>
        </p:grpSpPr>
        <p:sp>
          <p:nvSpPr>
            <p:cNvPr id="144" name="Oval 50"/>
            <p:cNvSpPr/>
            <p:nvPr/>
          </p:nvSpPr>
          <p:spPr>
            <a:xfrm>
              <a:off x="2959200" y="828360"/>
              <a:ext cx="132840" cy="894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3003480" y="828360"/>
              <a:ext cx="62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2"/>
            <p:cNvSpPr/>
            <p:nvPr/>
          </p:nvSpPr>
          <p:spPr>
            <a:xfrm>
              <a:off x="3003480" y="1722960"/>
              <a:ext cx="66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3"/>
            <p:cNvSpPr/>
            <p:nvPr/>
          </p:nvSpPr>
          <p:spPr>
            <a:xfrm flipV="1">
              <a:off x="3624120" y="189000"/>
              <a:ext cx="0" cy="63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4"/>
            <p:cNvSpPr/>
            <p:nvPr/>
          </p:nvSpPr>
          <p:spPr>
            <a:xfrm>
              <a:off x="3668400" y="1722960"/>
              <a:ext cx="0" cy="57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624120" y="1890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3668400" y="2298600"/>
              <a:ext cx="44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57"/>
            <p:cNvSpPr/>
            <p:nvPr/>
          </p:nvSpPr>
          <p:spPr>
            <a:xfrm>
              <a:off x="4111560" y="189000"/>
              <a:ext cx="0" cy="21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58"/>
          <p:cNvGrpSpPr/>
          <p:nvPr/>
        </p:nvGrpSpPr>
        <p:grpSpPr>
          <a:xfrm>
            <a:off x="395280" y="476280"/>
            <a:ext cx="3672000" cy="1871280"/>
            <a:chOff x="395280" y="476280"/>
            <a:chExt cx="3672000" cy="1871280"/>
          </a:xfrm>
        </p:grpSpPr>
        <p:sp>
          <p:nvSpPr>
            <p:cNvPr id="153" name="Freeform 59"/>
            <p:cNvSpPr/>
            <p:nvPr/>
          </p:nvSpPr>
          <p:spPr>
            <a:xfrm>
              <a:off x="395280" y="476280"/>
              <a:ext cx="3661920" cy="962640"/>
            </a:xfrm>
            <a:custGeom>
              <a:avLst/>
              <a:gdLst/>
              <a:ahLst/>
              <a:rect l="l" t="t" r="r" b="b"/>
              <a:pathLst>
                <a:path w="3673" h="661">
                  <a:moveTo>
                    <a:pt x="0" y="0"/>
                  </a:moveTo>
                  <a:lnTo>
                    <a:pt x="3673" y="6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60"/>
            <p:cNvSpPr/>
            <p:nvPr/>
          </p:nvSpPr>
          <p:spPr>
            <a:xfrm>
              <a:off x="395280" y="1013400"/>
              <a:ext cx="3672000" cy="1334160"/>
            </a:xfrm>
            <a:custGeom>
              <a:avLst/>
              <a:gdLst/>
              <a:ahLst/>
              <a:rect l="l" t="t" r="r" b="b"/>
              <a:pathLst>
                <a:path w="3683" h="916">
                  <a:moveTo>
                    <a:pt x="0" y="916"/>
                  </a:moveTo>
                  <a:lnTo>
                    <a:pt x="36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1"/>
            <p:cNvSpPr/>
            <p:nvPr/>
          </p:nvSpPr>
          <p:spPr>
            <a:xfrm>
              <a:off x="983520" y="1913760"/>
              <a:ext cx="577080" cy="222840"/>
            </a:xfrm>
            <a:custGeom>
              <a:avLst/>
              <a:gdLst/>
              <a:ahLst/>
              <a:rect l="l" t="t" r="r" b="b"/>
              <a:pathLst>
                <a:path w="572" h="74">
                  <a:moveTo>
                    <a:pt x="0" y="74"/>
                  </a:moveTo>
                  <a:lnTo>
                    <a:pt x="5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2"/>
            <p:cNvSpPr/>
            <p:nvPr/>
          </p:nvSpPr>
          <p:spPr>
            <a:xfrm>
              <a:off x="892440" y="604440"/>
              <a:ext cx="689040" cy="189000"/>
            </a:xfrm>
            <a:custGeom>
              <a:avLst/>
              <a:gdLst/>
              <a:ahLst/>
              <a:rect l="l" t="t" r="r" b="b"/>
              <a:pathLst>
                <a:path w="691" h="130">
                  <a:moveTo>
                    <a:pt x="0" y="0"/>
                  </a:moveTo>
                  <a:lnTo>
                    <a:pt x="69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63"/>
          <p:cNvSpPr/>
          <p:nvPr/>
        </p:nvSpPr>
        <p:spPr>
          <a:xfrm>
            <a:off x="1332000" y="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镜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凸透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4287960" y="981000"/>
            <a:ext cx="54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11" descr="xx"/>
          <p:cNvPicPr/>
          <p:nvPr/>
        </p:nvPicPr>
        <p:blipFill>
          <a:blip r:embed="rId2"/>
          <a:stretch/>
        </p:blipFill>
        <p:spPr>
          <a:xfrm>
            <a:off x="-36360" y="333360"/>
            <a:ext cx="792000" cy="201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2" descr="xx2"/>
          <p:cNvPicPr/>
          <p:nvPr/>
        </p:nvPicPr>
        <p:blipFill>
          <a:blip r:embed="rId3"/>
          <a:stretch/>
        </p:blipFill>
        <p:spPr>
          <a:xfrm>
            <a:off x="4010040" y="995400"/>
            <a:ext cx="130320" cy="504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3"/>
          <p:cNvSpPr/>
          <p:nvPr/>
        </p:nvSpPr>
        <p:spPr>
          <a:xfrm>
            <a:off x="5076720" y="907920"/>
            <a:ext cx="3527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照相机能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缩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181"/>
          <p:cNvGrpSpPr/>
          <p:nvPr/>
        </p:nvGrpSpPr>
        <p:grpSpPr>
          <a:xfrm>
            <a:off x="395280" y="2419200"/>
            <a:ext cx="4608360" cy="2336760"/>
            <a:chOff x="395280" y="2419200"/>
            <a:chExt cx="4608360" cy="2336760"/>
          </a:xfrm>
        </p:grpSpPr>
        <p:sp>
          <p:nvSpPr>
            <p:cNvPr id="163" name="Rectangle 144"/>
            <p:cNvSpPr/>
            <p:nvPr/>
          </p:nvSpPr>
          <p:spPr>
            <a:xfrm flipH="1">
              <a:off x="395280" y="2420640"/>
              <a:ext cx="76320" cy="2022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16"/>
            <p:cNvSpPr/>
            <p:nvPr/>
          </p:nvSpPr>
          <p:spPr>
            <a:xfrm>
              <a:off x="3321000" y="4076640"/>
              <a:ext cx="1152720" cy="679320"/>
            </a:xfrm>
            <a:custGeom>
              <a:avLst/>
              <a:gdLst>
                <a:gd name="textAreaLeft" fmla="*/ 239760 w 1152720"/>
                <a:gd name="textAreaRight" fmla="*/ 912960 w 1152720"/>
                <a:gd name="textAreaTop" fmla="*/ 141120 h 679320"/>
                <a:gd name="textAreaBottom" fmla="*/ 5382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7"/>
            <p:cNvSpPr/>
            <p:nvPr/>
          </p:nvSpPr>
          <p:spPr>
            <a:xfrm flipV="1">
              <a:off x="3321000" y="4006800"/>
              <a:ext cx="1150920" cy="6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8"/>
            <p:cNvGrpSpPr/>
            <p:nvPr/>
          </p:nvGrpSpPr>
          <p:grpSpPr>
            <a:xfrm>
              <a:off x="3606840" y="2449440"/>
              <a:ext cx="792000" cy="1539360"/>
              <a:chOff x="3606840" y="2449440"/>
              <a:chExt cx="792000" cy="1539360"/>
            </a:xfrm>
          </p:grpSpPr>
          <p:sp>
            <p:nvSpPr>
              <p:cNvPr id="167" name="Oval 119"/>
              <p:cNvSpPr/>
              <p:nvPr/>
            </p:nvSpPr>
            <p:spPr>
              <a:xfrm>
                <a:off x="3606840" y="2948400"/>
                <a:ext cx="564120" cy="817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20"/>
              <p:cNvSpPr/>
              <p:nvPr/>
            </p:nvSpPr>
            <p:spPr>
              <a:xfrm>
                <a:off x="4363560" y="2757960"/>
                <a:ext cx="35280" cy="1230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21"/>
              <p:cNvSpPr/>
              <p:nvPr/>
            </p:nvSpPr>
            <p:spPr>
              <a:xfrm>
                <a:off x="4151880" y="2980080"/>
                <a:ext cx="211320" cy="41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lxqlx8"/>
              <p:cNvGrpSpPr/>
              <p:nvPr/>
            </p:nvGrpSpPr>
            <p:grpSpPr>
              <a:xfrm>
                <a:off x="3709440" y="2449440"/>
                <a:ext cx="356760" cy="312840"/>
                <a:chOff x="3709440" y="2449440"/>
                <a:chExt cx="356760" cy="312840"/>
              </a:xfrm>
            </p:grpSpPr>
            <p:sp>
              <p:nvSpPr>
                <p:cNvPr id="171" name="Rectangle 123"/>
                <p:cNvSpPr/>
                <p:nvPr/>
              </p:nvSpPr>
              <p:spPr>
                <a:xfrm flipV="1" rot="2399400">
                  <a:off x="3677040" y="2578320"/>
                  <a:ext cx="421200" cy="532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124"/>
                <p:cNvSpPr/>
                <p:nvPr/>
              </p:nvSpPr>
              <p:spPr>
                <a:xfrm>
                  <a:off x="3709440" y="2490840"/>
                  <a:ext cx="32364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Rectangle 125"/>
              <p:cNvSpPr/>
              <p:nvPr/>
            </p:nvSpPr>
            <p:spPr>
              <a:xfrm>
                <a:off x="4029840" y="2743560"/>
                <a:ext cx="352440" cy="40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126"/>
            <p:cNvSpPr/>
            <p:nvPr/>
          </p:nvSpPr>
          <p:spPr>
            <a:xfrm>
              <a:off x="4274640" y="2419200"/>
              <a:ext cx="729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镜头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凸透镜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127"/>
            <p:cNvGrpSpPr/>
            <p:nvPr/>
          </p:nvGrpSpPr>
          <p:grpSpPr>
            <a:xfrm>
              <a:off x="541080" y="2522520"/>
              <a:ext cx="3454200" cy="1524960"/>
              <a:chOff x="541080" y="2522520"/>
              <a:chExt cx="3454200" cy="1524960"/>
            </a:xfrm>
          </p:grpSpPr>
          <p:sp>
            <p:nvSpPr>
              <p:cNvPr id="176" name="Line 128"/>
              <p:cNvSpPr/>
              <p:nvPr/>
            </p:nvSpPr>
            <p:spPr>
              <a:xfrm flipH="1">
                <a:off x="541440" y="2522520"/>
                <a:ext cx="3196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29"/>
              <p:cNvSpPr/>
              <p:nvPr/>
            </p:nvSpPr>
            <p:spPr>
              <a:xfrm flipH="1">
                <a:off x="541080" y="2815560"/>
                <a:ext cx="3454200" cy="123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30"/>
              <p:cNvSpPr/>
              <p:nvPr/>
            </p:nvSpPr>
            <p:spPr>
              <a:xfrm flipH="1">
                <a:off x="2139120" y="3366000"/>
                <a:ext cx="309240" cy="11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1"/>
              <p:cNvSpPr/>
              <p:nvPr/>
            </p:nvSpPr>
            <p:spPr>
              <a:xfrm flipH="1">
                <a:off x="2087640" y="2522520"/>
                <a:ext cx="309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AutoShape 132"/>
            <p:cNvSpPr/>
            <p:nvPr/>
          </p:nvSpPr>
          <p:spPr>
            <a:xfrm>
              <a:off x="441360" y="2492280"/>
              <a:ext cx="144360" cy="1584360"/>
            </a:xfrm>
            <a:prstGeom prst="upArrow">
              <a:avLst>
                <a:gd name="adj1" fmla="val 50000"/>
                <a:gd name="adj2" fmla="val 274377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Group 133"/>
            <p:cNvGrpSpPr/>
            <p:nvPr/>
          </p:nvGrpSpPr>
          <p:grpSpPr>
            <a:xfrm>
              <a:off x="3564000" y="2565000"/>
              <a:ext cx="764640" cy="1438560"/>
              <a:chOff x="3564000" y="2565000"/>
              <a:chExt cx="764640" cy="1438560"/>
            </a:xfrm>
          </p:grpSpPr>
          <p:sp>
            <p:nvSpPr>
              <p:cNvPr id="182" name="Line 134"/>
              <p:cNvSpPr/>
              <p:nvPr/>
            </p:nvSpPr>
            <p:spPr>
              <a:xfrm flipH="1" flipV="1">
                <a:off x="3767760" y="2565000"/>
                <a:ext cx="560880" cy="1438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35"/>
              <p:cNvSpPr/>
              <p:nvPr/>
            </p:nvSpPr>
            <p:spPr>
              <a:xfrm flipV="1">
                <a:off x="3564000" y="2776680"/>
                <a:ext cx="459000" cy="1226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36"/>
              <p:cNvSpPr/>
              <p:nvPr/>
            </p:nvSpPr>
            <p:spPr>
              <a:xfrm flipH="1" flipV="1">
                <a:off x="4165920" y="3580560"/>
                <a:ext cx="50760" cy="12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37"/>
              <p:cNvSpPr/>
              <p:nvPr/>
            </p:nvSpPr>
            <p:spPr>
              <a:xfrm flipV="1">
                <a:off x="3656520" y="3622680"/>
                <a:ext cx="50760" cy="12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138"/>
            <p:cNvGrpSpPr/>
            <p:nvPr/>
          </p:nvGrpSpPr>
          <p:grpSpPr>
            <a:xfrm>
              <a:off x="3970440" y="4003560"/>
              <a:ext cx="360000" cy="504720"/>
              <a:chOff x="3970440" y="4003560"/>
              <a:chExt cx="360000" cy="504720"/>
            </a:xfrm>
          </p:grpSpPr>
          <p:sp>
            <p:nvSpPr>
              <p:cNvPr id="187" name="Line 139"/>
              <p:cNvSpPr/>
              <p:nvPr/>
            </p:nvSpPr>
            <p:spPr>
              <a:xfrm flipV="1">
                <a:off x="3970440" y="4003560"/>
                <a:ext cx="36000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0"/>
              <p:cNvSpPr/>
              <p:nvPr/>
            </p:nvSpPr>
            <p:spPr>
              <a:xfrm flipV="1">
                <a:off x="4091040" y="4154760"/>
                <a:ext cx="118800" cy="20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141"/>
            <p:cNvGrpSpPr/>
            <p:nvPr/>
          </p:nvGrpSpPr>
          <p:grpSpPr>
            <a:xfrm>
              <a:off x="3536640" y="4003560"/>
              <a:ext cx="288360" cy="504720"/>
              <a:chOff x="3536640" y="4003560"/>
              <a:chExt cx="288360" cy="504720"/>
            </a:xfrm>
          </p:grpSpPr>
          <p:sp>
            <p:nvSpPr>
              <p:cNvPr id="190" name="Line 142"/>
              <p:cNvSpPr/>
              <p:nvPr/>
            </p:nvSpPr>
            <p:spPr>
              <a:xfrm flipH="1" flipV="1">
                <a:off x="3536640" y="4003560"/>
                <a:ext cx="28836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 flipV="1">
                <a:off x="3641760" y="4171320"/>
                <a:ext cx="114120" cy="223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5"/>
            <p:cNvGrpSpPr/>
            <p:nvPr/>
          </p:nvGrpSpPr>
          <p:grpSpPr>
            <a:xfrm>
              <a:off x="2529000" y="3644640"/>
              <a:ext cx="1800000" cy="431640"/>
              <a:chOff x="2529000" y="3644640"/>
              <a:chExt cx="1800000" cy="431640"/>
            </a:xfrm>
          </p:grpSpPr>
          <p:sp>
            <p:nvSpPr>
              <p:cNvPr id="193" name="AutoShape 146"/>
              <p:cNvSpPr/>
              <p:nvPr/>
            </p:nvSpPr>
            <p:spPr>
              <a:xfrm>
                <a:off x="3574080" y="3952800"/>
                <a:ext cx="754920" cy="123480"/>
              </a:xfrm>
              <a:prstGeom prst="rightArrow">
                <a:avLst>
                  <a:gd name="adj1" fmla="val 50000"/>
                  <a:gd name="adj2" fmla="val 152843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147"/>
              <p:cNvSpPr/>
              <p:nvPr/>
            </p:nvSpPr>
            <p:spPr>
              <a:xfrm>
                <a:off x="2529000" y="3644640"/>
                <a:ext cx="9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投影片（物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Text Box 148"/>
            <p:cNvSpPr/>
            <p:nvPr/>
          </p:nvSpPr>
          <p:spPr>
            <a:xfrm>
              <a:off x="531720" y="321120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lxqdxt11"/>
            <p:cNvGrpSpPr/>
            <p:nvPr/>
          </p:nvGrpSpPr>
          <p:grpSpPr>
            <a:xfrm>
              <a:off x="3825720" y="4435200"/>
              <a:ext cx="144720" cy="287640"/>
              <a:chOff x="3825720" y="4435200"/>
              <a:chExt cx="144720" cy="287640"/>
            </a:xfrm>
          </p:grpSpPr>
          <p:grpSp>
            <p:nvGrpSpPr>
              <p:cNvPr id="197" name="Group 150"/>
              <p:cNvGrpSpPr/>
              <p:nvPr/>
            </p:nvGrpSpPr>
            <p:grpSpPr>
              <a:xfrm>
                <a:off x="3881520" y="4707720"/>
                <a:ext cx="35640" cy="15120"/>
                <a:chOff x="3881520" y="4707720"/>
                <a:chExt cx="35640" cy="15120"/>
              </a:xfrm>
            </p:grpSpPr>
            <p:sp>
              <p:nvSpPr>
                <p:cNvPr id="198" name="Freeform 151"/>
                <p:cNvSpPr/>
                <p:nvPr/>
              </p:nvSpPr>
              <p:spPr>
                <a:xfrm>
                  <a:off x="3881520" y="4707720"/>
                  <a:ext cx="35640" cy="15120"/>
                </a:xfrm>
                <a:custGeom>
                  <a:avLst/>
                  <a:gdLst/>
                  <a:ahLst/>
                  <a:rect l="l" t="t" r="r" b="b"/>
                  <a:pathLst>
                    <a:path w="498" h="198">
                      <a:moveTo>
                        <a:pt x="0" y="0"/>
                      </a:moveTo>
                      <a:lnTo>
                        <a:pt x="101" y="157"/>
                      </a:lnTo>
                      <a:lnTo>
                        <a:pt x="110" y="167"/>
                      </a:lnTo>
                      <a:lnTo>
                        <a:pt x="121" y="173"/>
                      </a:lnTo>
                      <a:lnTo>
                        <a:pt x="136" y="178"/>
                      </a:lnTo>
                      <a:lnTo>
                        <a:pt x="153" y="186"/>
                      </a:lnTo>
                      <a:lnTo>
                        <a:pt x="174" y="190"/>
                      </a:lnTo>
                      <a:lnTo>
                        <a:pt x="188" y="191"/>
                      </a:lnTo>
                      <a:lnTo>
                        <a:pt x="205" y="194"/>
                      </a:lnTo>
                      <a:lnTo>
                        <a:pt x="222" y="195"/>
                      </a:lnTo>
                      <a:lnTo>
                        <a:pt x="243" y="198"/>
                      </a:lnTo>
                      <a:lnTo>
                        <a:pt x="257" y="198"/>
                      </a:lnTo>
                      <a:lnTo>
                        <a:pt x="278" y="195"/>
                      </a:lnTo>
                      <a:lnTo>
                        <a:pt x="295" y="194"/>
                      </a:lnTo>
                      <a:lnTo>
                        <a:pt x="315" y="191"/>
                      </a:lnTo>
                      <a:lnTo>
                        <a:pt x="332" y="190"/>
                      </a:lnTo>
                      <a:lnTo>
                        <a:pt x="349" y="185"/>
                      </a:lnTo>
                      <a:lnTo>
                        <a:pt x="366" y="181"/>
                      </a:lnTo>
                      <a:lnTo>
                        <a:pt x="380" y="173"/>
                      </a:lnTo>
                      <a:lnTo>
                        <a:pt x="392" y="165"/>
                      </a:lnTo>
                      <a:lnTo>
                        <a:pt x="397" y="160"/>
                      </a:lnTo>
                      <a:lnTo>
                        <a:pt x="405" y="152"/>
                      </a:lnTo>
                      <a:lnTo>
                        <a:pt x="4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52"/>
                <p:cNvSpPr/>
                <p:nvPr/>
              </p:nvSpPr>
              <p:spPr>
                <a:xfrm>
                  <a:off x="3886920" y="4707720"/>
                  <a:ext cx="15840" cy="15120"/>
                </a:xfrm>
                <a:custGeom>
                  <a:avLst/>
                  <a:gdLst/>
                  <a:ahLst/>
                  <a:rect l="l" t="t" r="r" b="b"/>
                  <a:pathLst>
                    <a:path w="222" h="198">
                      <a:moveTo>
                        <a:pt x="0" y="0"/>
                      </a:moveTo>
                      <a:lnTo>
                        <a:pt x="62" y="178"/>
                      </a:lnTo>
                      <a:lnTo>
                        <a:pt x="75" y="186"/>
                      </a:lnTo>
                      <a:lnTo>
                        <a:pt x="96" y="190"/>
                      </a:lnTo>
                      <a:lnTo>
                        <a:pt x="110" y="191"/>
                      </a:lnTo>
                      <a:lnTo>
                        <a:pt x="127" y="194"/>
                      </a:lnTo>
                      <a:lnTo>
                        <a:pt x="144" y="195"/>
                      </a:lnTo>
                      <a:lnTo>
                        <a:pt x="165" y="198"/>
                      </a:lnTo>
                      <a:lnTo>
                        <a:pt x="179" y="198"/>
                      </a:lnTo>
                      <a:lnTo>
                        <a:pt x="200" y="195"/>
                      </a:lnTo>
                      <a:lnTo>
                        <a:pt x="22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Freeform 153"/>
              <p:cNvSpPr/>
              <p:nvPr/>
            </p:nvSpPr>
            <p:spPr>
              <a:xfrm>
                <a:off x="3864960" y="4655520"/>
                <a:ext cx="65520" cy="55440"/>
              </a:xfrm>
              <a:custGeom>
                <a:avLst/>
                <a:gdLst/>
                <a:ahLst/>
                <a:rect l="l" t="t" r="r" b="b"/>
                <a:pathLst>
                  <a:path w="913" h="718">
                    <a:moveTo>
                      <a:pt x="26" y="0"/>
                    </a:moveTo>
                    <a:lnTo>
                      <a:pt x="21" y="20"/>
                    </a:lnTo>
                    <a:lnTo>
                      <a:pt x="23" y="29"/>
                    </a:lnTo>
                    <a:lnTo>
                      <a:pt x="25" y="38"/>
                    </a:lnTo>
                    <a:lnTo>
                      <a:pt x="26" y="59"/>
                    </a:lnTo>
                    <a:lnTo>
                      <a:pt x="23" y="73"/>
                    </a:lnTo>
                    <a:lnTo>
                      <a:pt x="17" y="86"/>
                    </a:lnTo>
                    <a:lnTo>
                      <a:pt x="12" y="96"/>
                    </a:lnTo>
                    <a:lnTo>
                      <a:pt x="6" y="113"/>
                    </a:lnTo>
                    <a:lnTo>
                      <a:pt x="6" y="126"/>
                    </a:lnTo>
                    <a:lnTo>
                      <a:pt x="12" y="138"/>
                    </a:lnTo>
                    <a:lnTo>
                      <a:pt x="17" y="149"/>
                    </a:lnTo>
                    <a:lnTo>
                      <a:pt x="29" y="162"/>
                    </a:lnTo>
                    <a:lnTo>
                      <a:pt x="34" y="176"/>
                    </a:lnTo>
                    <a:lnTo>
                      <a:pt x="34" y="185"/>
                    </a:lnTo>
                    <a:lnTo>
                      <a:pt x="30" y="195"/>
                    </a:lnTo>
                    <a:lnTo>
                      <a:pt x="21" y="204"/>
                    </a:lnTo>
                    <a:lnTo>
                      <a:pt x="13" y="216"/>
                    </a:lnTo>
                    <a:lnTo>
                      <a:pt x="8" y="225"/>
                    </a:lnTo>
                    <a:lnTo>
                      <a:pt x="6" y="236"/>
                    </a:lnTo>
                    <a:lnTo>
                      <a:pt x="12" y="248"/>
                    </a:lnTo>
                    <a:lnTo>
                      <a:pt x="19" y="259"/>
                    </a:lnTo>
                    <a:lnTo>
                      <a:pt x="26" y="269"/>
                    </a:lnTo>
                    <a:lnTo>
                      <a:pt x="30" y="278"/>
                    </a:lnTo>
                    <a:lnTo>
                      <a:pt x="34" y="288"/>
                    </a:lnTo>
                    <a:lnTo>
                      <a:pt x="30" y="301"/>
                    </a:lnTo>
                    <a:lnTo>
                      <a:pt x="21" y="313"/>
                    </a:lnTo>
                    <a:lnTo>
                      <a:pt x="12" y="322"/>
                    </a:lnTo>
                    <a:lnTo>
                      <a:pt x="2" y="337"/>
                    </a:lnTo>
                    <a:lnTo>
                      <a:pt x="0" y="349"/>
                    </a:lnTo>
                    <a:lnTo>
                      <a:pt x="4" y="362"/>
                    </a:lnTo>
                    <a:lnTo>
                      <a:pt x="13" y="372"/>
                    </a:lnTo>
                    <a:lnTo>
                      <a:pt x="23" y="383"/>
                    </a:lnTo>
                    <a:lnTo>
                      <a:pt x="33" y="396"/>
                    </a:lnTo>
                    <a:lnTo>
                      <a:pt x="38" y="414"/>
                    </a:lnTo>
                    <a:lnTo>
                      <a:pt x="33" y="431"/>
                    </a:lnTo>
                    <a:lnTo>
                      <a:pt x="23" y="444"/>
                    </a:lnTo>
                    <a:lnTo>
                      <a:pt x="19" y="455"/>
                    </a:lnTo>
                    <a:lnTo>
                      <a:pt x="19" y="466"/>
                    </a:lnTo>
                    <a:lnTo>
                      <a:pt x="21" y="473"/>
                    </a:lnTo>
                    <a:lnTo>
                      <a:pt x="29" y="484"/>
                    </a:lnTo>
                    <a:lnTo>
                      <a:pt x="42" y="499"/>
                    </a:lnTo>
                    <a:lnTo>
                      <a:pt x="64" y="528"/>
                    </a:lnTo>
                    <a:lnTo>
                      <a:pt x="107" y="573"/>
                    </a:lnTo>
                    <a:lnTo>
                      <a:pt x="144" y="609"/>
                    </a:lnTo>
                    <a:lnTo>
                      <a:pt x="166" y="629"/>
                    </a:lnTo>
                    <a:lnTo>
                      <a:pt x="190" y="643"/>
                    </a:lnTo>
                    <a:lnTo>
                      <a:pt x="217" y="660"/>
                    </a:lnTo>
                    <a:lnTo>
                      <a:pt x="255" y="681"/>
                    </a:lnTo>
                    <a:lnTo>
                      <a:pt x="313" y="701"/>
                    </a:lnTo>
                    <a:lnTo>
                      <a:pt x="356" y="710"/>
                    </a:lnTo>
                    <a:lnTo>
                      <a:pt x="401" y="716"/>
                    </a:lnTo>
                    <a:lnTo>
                      <a:pt x="460" y="718"/>
                    </a:lnTo>
                    <a:lnTo>
                      <a:pt x="523" y="716"/>
                    </a:lnTo>
                    <a:lnTo>
                      <a:pt x="578" y="714"/>
                    </a:lnTo>
                    <a:lnTo>
                      <a:pt x="625" y="706"/>
                    </a:lnTo>
                    <a:lnTo>
                      <a:pt x="667" y="697"/>
                    </a:lnTo>
                    <a:lnTo>
                      <a:pt x="697" y="685"/>
                    </a:lnTo>
                    <a:lnTo>
                      <a:pt x="723" y="672"/>
                    </a:lnTo>
                    <a:lnTo>
                      <a:pt x="744" y="659"/>
                    </a:lnTo>
                    <a:lnTo>
                      <a:pt x="761" y="647"/>
                    </a:lnTo>
                    <a:lnTo>
                      <a:pt x="778" y="629"/>
                    </a:lnTo>
                    <a:lnTo>
                      <a:pt x="832" y="556"/>
                    </a:lnTo>
                    <a:lnTo>
                      <a:pt x="874" y="493"/>
                    </a:lnTo>
                    <a:lnTo>
                      <a:pt x="890" y="461"/>
                    </a:lnTo>
                    <a:lnTo>
                      <a:pt x="894" y="448"/>
                    </a:lnTo>
                    <a:lnTo>
                      <a:pt x="895" y="438"/>
                    </a:lnTo>
                    <a:lnTo>
                      <a:pt x="895" y="427"/>
                    </a:lnTo>
                    <a:lnTo>
                      <a:pt x="887" y="414"/>
                    </a:lnTo>
                    <a:lnTo>
                      <a:pt x="882" y="406"/>
                    </a:lnTo>
                    <a:lnTo>
                      <a:pt x="879" y="394"/>
                    </a:lnTo>
                    <a:lnTo>
                      <a:pt x="882" y="381"/>
                    </a:lnTo>
                    <a:lnTo>
                      <a:pt x="887" y="372"/>
                    </a:lnTo>
                    <a:lnTo>
                      <a:pt x="894" y="362"/>
                    </a:lnTo>
                    <a:lnTo>
                      <a:pt x="900" y="352"/>
                    </a:lnTo>
                    <a:lnTo>
                      <a:pt x="908" y="341"/>
                    </a:lnTo>
                    <a:lnTo>
                      <a:pt x="913" y="330"/>
                    </a:lnTo>
                    <a:lnTo>
                      <a:pt x="912" y="316"/>
                    </a:lnTo>
                    <a:lnTo>
                      <a:pt x="907" y="305"/>
                    </a:lnTo>
                    <a:lnTo>
                      <a:pt x="900" y="295"/>
                    </a:lnTo>
                    <a:lnTo>
                      <a:pt x="894" y="286"/>
                    </a:lnTo>
                    <a:lnTo>
                      <a:pt x="886" y="275"/>
                    </a:lnTo>
                    <a:lnTo>
                      <a:pt x="883" y="263"/>
                    </a:lnTo>
                    <a:lnTo>
                      <a:pt x="886" y="254"/>
                    </a:lnTo>
                    <a:lnTo>
                      <a:pt x="895" y="240"/>
                    </a:lnTo>
                    <a:lnTo>
                      <a:pt x="904" y="229"/>
                    </a:lnTo>
                    <a:lnTo>
                      <a:pt x="908" y="217"/>
                    </a:lnTo>
                    <a:lnTo>
                      <a:pt x="908" y="202"/>
                    </a:lnTo>
                    <a:lnTo>
                      <a:pt x="903" y="187"/>
                    </a:lnTo>
                    <a:lnTo>
                      <a:pt x="894" y="176"/>
                    </a:lnTo>
                    <a:lnTo>
                      <a:pt x="890" y="168"/>
                    </a:lnTo>
                    <a:lnTo>
                      <a:pt x="886" y="155"/>
                    </a:lnTo>
                    <a:lnTo>
                      <a:pt x="887" y="141"/>
                    </a:lnTo>
                    <a:lnTo>
                      <a:pt x="895" y="130"/>
                    </a:lnTo>
                    <a:lnTo>
                      <a:pt x="900" y="122"/>
                    </a:lnTo>
                    <a:lnTo>
                      <a:pt x="908" y="113"/>
                    </a:lnTo>
                    <a:lnTo>
                      <a:pt x="912" y="101"/>
                    </a:lnTo>
                    <a:lnTo>
                      <a:pt x="913" y="88"/>
                    </a:lnTo>
                    <a:lnTo>
                      <a:pt x="911" y="80"/>
                    </a:lnTo>
                    <a:lnTo>
                      <a:pt x="903" y="67"/>
                    </a:lnTo>
                    <a:lnTo>
                      <a:pt x="895" y="56"/>
                    </a:lnTo>
                    <a:lnTo>
                      <a:pt x="890" y="42"/>
                    </a:lnTo>
                    <a:lnTo>
                      <a:pt x="890" y="29"/>
                    </a:lnTo>
                    <a:lnTo>
                      <a:pt x="894" y="18"/>
                    </a:lnTo>
                    <a:lnTo>
                      <a:pt x="89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54"/>
              <p:cNvSpPr/>
              <p:nvPr/>
            </p:nvSpPr>
            <p:spPr>
              <a:xfrm>
                <a:off x="3865320" y="4659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3" h="99">
                    <a:moveTo>
                      <a:pt x="6" y="0"/>
                    </a:moveTo>
                    <a:lnTo>
                      <a:pt x="13" y="13"/>
                    </a:lnTo>
                    <a:lnTo>
                      <a:pt x="24" y="26"/>
                    </a:lnTo>
                    <a:lnTo>
                      <a:pt x="44" y="43"/>
                    </a:lnTo>
                    <a:lnTo>
                      <a:pt x="68" y="57"/>
                    </a:lnTo>
                    <a:lnTo>
                      <a:pt x="91" y="66"/>
                    </a:lnTo>
                    <a:lnTo>
                      <a:pt x="113" y="72"/>
                    </a:lnTo>
                    <a:lnTo>
                      <a:pt x="104" y="89"/>
                    </a:lnTo>
                    <a:lnTo>
                      <a:pt x="75" y="85"/>
                    </a:lnTo>
                    <a:lnTo>
                      <a:pt x="44" y="87"/>
                    </a:lnTo>
                    <a:lnTo>
                      <a:pt x="24" y="99"/>
                    </a:lnTo>
                    <a:lnTo>
                      <a:pt x="28" y="89"/>
                    </a:lnTo>
                    <a:lnTo>
                      <a:pt x="27" y="78"/>
                    </a:lnTo>
                    <a:lnTo>
                      <a:pt x="20" y="62"/>
                    </a:lnTo>
                    <a:lnTo>
                      <a:pt x="11" y="49"/>
                    </a:lnTo>
                    <a:lnTo>
                      <a:pt x="2" y="34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55"/>
              <p:cNvSpPr/>
              <p:nvPr/>
            </p:nvSpPr>
            <p:spPr>
              <a:xfrm>
                <a:off x="3865680" y="466956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10"/>
                    </a:moveTo>
                    <a:lnTo>
                      <a:pt x="4" y="0"/>
                    </a:lnTo>
                    <a:lnTo>
                      <a:pt x="9" y="10"/>
                    </a:lnTo>
                    <a:lnTo>
                      <a:pt x="21" y="15"/>
                    </a:lnTo>
                    <a:lnTo>
                      <a:pt x="42" y="25"/>
                    </a:lnTo>
                    <a:lnTo>
                      <a:pt x="64" y="31"/>
                    </a:lnTo>
                    <a:lnTo>
                      <a:pt x="98" y="38"/>
                    </a:lnTo>
                    <a:lnTo>
                      <a:pt x="137" y="44"/>
                    </a:lnTo>
                    <a:lnTo>
                      <a:pt x="149" y="80"/>
                    </a:lnTo>
                    <a:lnTo>
                      <a:pt x="106" y="69"/>
                    </a:lnTo>
                    <a:lnTo>
                      <a:pt x="72" y="65"/>
                    </a:lnTo>
                    <a:lnTo>
                      <a:pt x="45" y="71"/>
                    </a:lnTo>
                    <a:lnTo>
                      <a:pt x="25" y="84"/>
                    </a:lnTo>
                    <a:lnTo>
                      <a:pt x="25" y="73"/>
                    </a:lnTo>
                    <a:lnTo>
                      <a:pt x="25" y="63"/>
                    </a:lnTo>
                    <a:lnTo>
                      <a:pt x="21" y="52"/>
                    </a:lnTo>
                    <a:lnTo>
                      <a:pt x="9" y="36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6"/>
              <p:cNvSpPr/>
              <p:nvPr/>
            </p:nvSpPr>
            <p:spPr>
              <a:xfrm>
                <a:off x="3865320" y="46774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75" h="104">
                    <a:moveTo>
                      <a:pt x="2" y="13"/>
                    </a:moveTo>
                    <a:lnTo>
                      <a:pt x="10" y="0"/>
                    </a:lnTo>
                    <a:lnTo>
                      <a:pt x="21" y="17"/>
                    </a:lnTo>
                    <a:lnTo>
                      <a:pt x="32" y="25"/>
                    </a:lnTo>
                    <a:lnTo>
                      <a:pt x="45" y="34"/>
                    </a:lnTo>
                    <a:lnTo>
                      <a:pt x="69" y="42"/>
                    </a:lnTo>
                    <a:lnTo>
                      <a:pt x="96" y="49"/>
                    </a:lnTo>
                    <a:lnTo>
                      <a:pt x="126" y="59"/>
                    </a:lnTo>
                    <a:lnTo>
                      <a:pt x="167" y="72"/>
                    </a:lnTo>
                    <a:lnTo>
                      <a:pt x="175" y="104"/>
                    </a:lnTo>
                    <a:lnTo>
                      <a:pt x="133" y="87"/>
                    </a:lnTo>
                    <a:lnTo>
                      <a:pt x="103" y="76"/>
                    </a:lnTo>
                    <a:lnTo>
                      <a:pt x="78" y="72"/>
                    </a:lnTo>
                    <a:lnTo>
                      <a:pt x="58" y="72"/>
                    </a:lnTo>
                    <a:lnTo>
                      <a:pt x="48" y="80"/>
                    </a:lnTo>
                    <a:lnTo>
                      <a:pt x="36" y="91"/>
                    </a:lnTo>
                    <a:lnTo>
                      <a:pt x="34" y="78"/>
                    </a:lnTo>
                    <a:lnTo>
                      <a:pt x="21" y="59"/>
                    </a:lnTo>
                    <a:lnTo>
                      <a:pt x="10" y="45"/>
                    </a:lnTo>
                    <a:lnTo>
                      <a:pt x="0" y="31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57"/>
              <p:cNvSpPr/>
              <p:nvPr/>
            </p:nvSpPr>
            <p:spPr>
              <a:xfrm>
                <a:off x="3866400" y="4686480"/>
                <a:ext cx="14760" cy="17640"/>
              </a:xfrm>
              <a:custGeom>
                <a:avLst/>
                <a:gdLst/>
                <a:ahLst/>
                <a:rect l="l" t="t" r="r" b="b"/>
                <a:pathLst>
                  <a:path w="208" h="230">
                    <a:moveTo>
                      <a:pt x="2" y="35"/>
                    </a:moveTo>
                    <a:lnTo>
                      <a:pt x="0" y="21"/>
                    </a:lnTo>
                    <a:lnTo>
                      <a:pt x="0" y="11"/>
                    </a:lnTo>
                    <a:lnTo>
                      <a:pt x="8" y="0"/>
                    </a:lnTo>
                    <a:lnTo>
                      <a:pt x="22" y="17"/>
                    </a:lnTo>
                    <a:lnTo>
                      <a:pt x="47" y="32"/>
                    </a:lnTo>
                    <a:lnTo>
                      <a:pt x="72" y="44"/>
                    </a:lnTo>
                    <a:lnTo>
                      <a:pt x="106" y="55"/>
                    </a:lnTo>
                    <a:lnTo>
                      <a:pt x="156" y="65"/>
                    </a:lnTo>
                    <a:lnTo>
                      <a:pt x="166" y="91"/>
                    </a:lnTo>
                    <a:lnTo>
                      <a:pt x="140" y="84"/>
                    </a:lnTo>
                    <a:lnTo>
                      <a:pt x="114" y="80"/>
                    </a:lnTo>
                    <a:lnTo>
                      <a:pt x="101" y="82"/>
                    </a:lnTo>
                    <a:lnTo>
                      <a:pt x="97" y="95"/>
                    </a:lnTo>
                    <a:lnTo>
                      <a:pt x="105" y="112"/>
                    </a:lnTo>
                    <a:lnTo>
                      <a:pt x="115" y="128"/>
                    </a:lnTo>
                    <a:lnTo>
                      <a:pt x="136" y="153"/>
                    </a:lnTo>
                    <a:lnTo>
                      <a:pt x="166" y="179"/>
                    </a:lnTo>
                    <a:lnTo>
                      <a:pt x="208" y="209"/>
                    </a:lnTo>
                    <a:lnTo>
                      <a:pt x="208" y="230"/>
                    </a:lnTo>
                    <a:lnTo>
                      <a:pt x="190" y="219"/>
                    </a:lnTo>
                    <a:lnTo>
                      <a:pt x="166" y="205"/>
                    </a:lnTo>
                    <a:lnTo>
                      <a:pt x="132" y="179"/>
                    </a:lnTo>
                    <a:lnTo>
                      <a:pt x="105" y="150"/>
                    </a:lnTo>
                    <a:lnTo>
                      <a:pt x="80" y="128"/>
                    </a:lnTo>
                    <a:lnTo>
                      <a:pt x="56" y="101"/>
                    </a:lnTo>
                    <a:lnTo>
                      <a:pt x="36" y="78"/>
                    </a:lnTo>
                    <a:lnTo>
                      <a:pt x="15" y="57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8"/>
              <p:cNvSpPr/>
              <p:nvPr/>
            </p:nvSpPr>
            <p:spPr>
              <a:xfrm>
                <a:off x="3866760" y="46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0" y="0"/>
                    </a:moveTo>
                    <a:lnTo>
                      <a:pt x="11" y="10"/>
                    </a:lnTo>
                    <a:lnTo>
                      <a:pt x="25" y="21"/>
                    </a:lnTo>
                    <a:lnTo>
                      <a:pt x="42" y="33"/>
                    </a:lnTo>
                    <a:lnTo>
                      <a:pt x="60" y="44"/>
                    </a:lnTo>
                    <a:lnTo>
                      <a:pt x="77" y="54"/>
                    </a:lnTo>
                    <a:lnTo>
                      <a:pt x="86" y="61"/>
                    </a:lnTo>
                    <a:lnTo>
                      <a:pt x="65" y="69"/>
                    </a:lnTo>
                    <a:lnTo>
                      <a:pt x="42" y="61"/>
                    </a:lnTo>
                    <a:lnTo>
                      <a:pt x="18" y="52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9"/>
              <p:cNvSpPr/>
              <p:nvPr/>
            </p:nvSpPr>
            <p:spPr>
              <a:xfrm>
                <a:off x="3877920" y="465408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732" h="689">
                    <a:moveTo>
                      <a:pt x="294" y="135"/>
                    </a:moveTo>
                    <a:lnTo>
                      <a:pt x="186" y="143"/>
                    </a:lnTo>
                    <a:lnTo>
                      <a:pt x="348" y="158"/>
                    </a:lnTo>
                    <a:lnTo>
                      <a:pt x="338" y="166"/>
                    </a:lnTo>
                    <a:lnTo>
                      <a:pt x="318" y="173"/>
                    </a:lnTo>
                    <a:lnTo>
                      <a:pt x="292" y="181"/>
                    </a:lnTo>
                    <a:lnTo>
                      <a:pt x="258" y="190"/>
                    </a:lnTo>
                    <a:lnTo>
                      <a:pt x="222" y="196"/>
                    </a:lnTo>
                    <a:lnTo>
                      <a:pt x="175" y="200"/>
                    </a:lnTo>
                    <a:lnTo>
                      <a:pt x="120" y="206"/>
                    </a:lnTo>
                    <a:lnTo>
                      <a:pt x="61" y="209"/>
                    </a:lnTo>
                    <a:lnTo>
                      <a:pt x="0" y="209"/>
                    </a:lnTo>
                    <a:lnTo>
                      <a:pt x="95" y="232"/>
                    </a:lnTo>
                    <a:lnTo>
                      <a:pt x="154" y="244"/>
                    </a:lnTo>
                    <a:lnTo>
                      <a:pt x="205" y="244"/>
                    </a:lnTo>
                    <a:lnTo>
                      <a:pt x="267" y="244"/>
                    </a:lnTo>
                    <a:lnTo>
                      <a:pt x="359" y="236"/>
                    </a:lnTo>
                    <a:lnTo>
                      <a:pt x="435" y="225"/>
                    </a:lnTo>
                    <a:lnTo>
                      <a:pt x="499" y="209"/>
                    </a:lnTo>
                    <a:lnTo>
                      <a:pt x="567" y="188"/>
                    </a:lnTo>
                    <a:lnTo>
                      <a:pt x="597" y="177"/>
                    </a:lnTo>
                    <a:lnTo>
                      <a:pt x="625" y="168"/>
                    </a:lnTo>
                    <a:lnTo>
                      <a:pt x="640" y="164"/>
                    </a:lnTo>
                    <a:lnTo>
                      <a:pt x="648" y="169"/>
                    </a:lnTo>
                    <a:lnTo>
                      <a:pt x="648" y="181"/>
                    </a:lnTo>
                    <a:lnTo>
                      <a:pt x="642" y="194"/>
                    </a:lnTo>
                    <a:lnTo>
                      <a:pt x="625" y="208"/>
                    </a:lnTo>
                    <a:lnTo>
                      <a:pt x="597" y="226"/>
                    </a:lnTo>
                    <a:lnTo>
                      <a:pt x="557" y="244"/>
                    </a:lnTo>
                    <a:lnTo>
                      <a:pt x="510" y="263"/>
                    </a:lnTo>
                    <a:lnTo>
                      <a:pt x="448" y="282"/>
                    </a:lnTo>
                    <a:lnTo>
                      <a:pt x="376" y="297"/>
                    </a:lnTo>
                    <a:lnTo>
                      <a:pt x="304" y="308"/>
                    </a:lnTo>
                    <a:lnTo>
                      <a:pt x="228" y="320"/>
                    </a:lnTo>
                    <a:lnTo>
                      <a:pt x="95" y="333"/>
                    </a:lnTo>
                    <a:lnTo>
                      <a:pt x="177" y="352"/>
                    </a:lnTo>
                    <a:lnTo>
                      <a:pt x="243" y="360"/>
                    </a:lnTo>
                    <a:lnTo>
                      <a:pt x="326" y="358"/>
                    </a:lnTo>
                    <a:lnTo>
                      <a:pt x="411" y="347"/>
                    </a:lnTo>
                    <a:lnTo>
                      <a:pt x="474" y="333"/>
                    </a:lnTo>
                    <a:lnTo>
                      <a:pt x="525" y="320"/>
                    </a:lnTo>
                    <a:lnTo>
                      <a:pt x="567" y="308"/>
                    </a:lnTo>
                    <a:lnTo>
                      <a:pt x="610" y="293"/>
                    </a:lnTo>
                    <a:lnTo>
                      <a:pt x="644" y="280"/>
                    </a:lnTo>
                    <a:lnTo>
                      <a:pt x="659" y="276"/>
                    </a:lnTo>
                    <a:lnTo>
                      <a:pt x="668" y="276"/>
                    </a:lnTo>
                    <a:lnTo>
                      <a:pt x="667" y="287"/>
                    </a:lnTo>
                    <a:lnTo>
                      <a:pt x="661" y="299"/>
                    </a:lnTo>
                    <a:lnTo>
                      <a:pt x="648" y="314"/>
                    </a:lnTo>
                    <a:lnTo>
                      <a:pt x="617" y="335"/>
                    </a:lnTo>
                    <a:lnTo>
                      <a:pt x="584" y="354"/>
                    </a:lnTo>
                    <a:lnTo>
                      <a:pt x="546" y="371"/>
                    </a:lnTo>
                    <a:lnTo>
                      <a:pt x="496" y="390"/>
                    </a:lnTo>
                    <a:lnTo>
                      <a:pt x="439" y="407"/>
                    </a:lnTo>
                    <a:lnTo>
                      <a:pt x="352" y="426"/>
                    </a:lnTo>
                    <a:lnTo>
                      <a:pt x="294" y="438"/>
                    </a:lnTo>
                    <a:lnTo>
                      <a:pt x="237" y="444"/>
                    </a:lnTo>
                    <a:lnTo>
                      <a:pt x="154" y="449"/>
                    </a:lnTo>
                    <a:lnTo>
                      <a:pt x="239" y="461"/>
                    </a:lnTo>
                    <a:lnTo>
                      <a:pt x="305" y="466"/>
                    </a:lnTo>
                    <a:lnTo>
                      <a:pt x="360" y="468"/>
                    </a:lnTo>
                    <a:lnTo>
                      <a:pt x="423" y="466"/>
                    </a:lnTo>
                    <a:lnTo>
                      <a:pt x="482" y="458"/>
                    </a:lnTo>
                    <a:lnTo>
                      <a:pt x="530" y="447"/>
                    </a:lnTo>
                    <a:lnTo>
                      <a:pt x="568" y="434"/>
                    </a:lnTo>
                    <a:lnTo>
                      <a:pt x="629" y="413"/>
                    </a:lnTo>
                    <a:lnTo>
                      <a:pt x="637" y="413"/>
                    </a:lnTo>
                    <a:lnTo>
                      <a:pt x="644" y="417"/>
                    </a:lnTo>
                    <a:lnTo>
                      <a:pt x="642" y="430"/>
                    </a:lnTo>
                    <a:lnTo>
                      <a:pt x="634" y="444"/>
                    </a:lnTo>
                    <a:lnTo>
                      <a:pt x="620" y="458"/>
                    </a:lnTo>
                    <a:lnTo>
                      <a:pt x="599" y="474"/>
                    </a:lnTo>
                    <a:lnTo>
                      <a:pt x="563" y="493"/>
                    </a:lnTo>
                    <a:lnTo>
                      <a:pt x="525" y="510"/>
                    </a:lnTo>
                    <a:lnTo>
                      <a:pt x="489" y="521"/>
                    </a:lnTo>
                    <a:lnTo>
                      <a:pt x="448" y="531"/>
                    </a:lnTo>
                    <a:lnTo>
                      <a:pt x="410" y="537"/>
                    </a:lnTo>
                    <a:lnTo>
                      <a:pt x="360" y="542"/>
                    </a:lnTo>
                    <a:lnTo>
                      <a:pt x="305" y="545"/>
                    </a:lnTo>
                    <a:lnTo>
                      <a:pt x="250" y="546"/>
                    </a:lnTo>
                    <a:lnTo>
                      <a:pt x="166" y="546"/>
                    </a:lnTo>
                    <a:lnTo>
                      <a:pt x="211" y="562"/>
                    </a:lnTo>
                    <a:lnTo>
                      <a:pt x="253" y="573"/>
                    </a:lnTo>
                    <a:lnTo>
                      <a:pt x="301" y="579"/>
                    </a:lnTo>
                    <a:lnTo>
                      <a:pt x="342" y="580"/>
                    </a:lnTo>
                    <a:lnTo>
                      <a:pt x="384" y="583"/>
                    </a:lnTo>
                    <a:lnTo>
                      <a:pt x="427" y="580"/>
                    </a:lnTo>
                    <a:lnTo>
                      <a:pt x="462" y="579"/>
                    </a:lnTo>
                    <a:lnTo>
                      <a:pt x="495" y="573"/>
                    </a:lnTo>
                    <a:lnTo>
                      <a:pt x="540" y="562"/>
                    </a:lnTo>
                    <a:lnTo>
                      <a:pt x="574" y="554"/>
                    </a:lnTo>
                    <a:lnTo>
                      <a:pt x="587" y="555"/>
                    </a:lnTo>
                    <a:lnTo>
                      <a:pt x="589" y="565"/>
                    </a:lnTo>
                    <a:lnTo>
                      <a:pt x="585" y="575"/>
                    </a:lnTo>
                    <a:lnTo>
                      <a:pt x="576" y="586"/>
                    </a:lnTo>
                    <a:lnTo>
                      <a:pt x="561" y="597"/>
                    </a:lnTo>
                    <a:lnTo>
                      <a:pt x="544" y="605"/>
                    </a:lnTo>
                    <a:lnTo>
                      <a:pt x="525" y="614"/>
                    </a:lnTo>
                    <a:lnTo>
                      <a:pt x="495" y="622"/>
                    </a:lnTo>
                    <a:lnTo>
                      <a:pt x="432" y="631"/>
                    </a:lnTo>
                    <a:lnTo>
                      <a:pt x="372" y="639"/>
                    </a:lnTo>
                    <a:lnTo>
                      <a:pt x="253" y="649"/>
                    </a:lnTo>
                    <a:lnTo>
                      <a:pt x="407" y="656"/>
                    </a:lnTo>
                    <a:lnTo>
                      <a:pt x="439" y="656"/>
                    </a:lnTo>
                    <a:lnTo>
                      <a:pt x="453" y="663"/>
                    </a:lnTo>
                    <a:lnTo>
                      <a:pt x="461" y="670"/>
                    </a:lnTo>
                    <a:lnTo>
                      <a:pt x="458" y="681"/>
                    </a:lnTo>
                    <a:lnTo>
                      <a:pt x="466" y="687"/>
                    </a:lnTo>
                    <a:lnTo>
                      <a:pt x="486" y="689"/>
                    </a:lnTo>
                    <a:lnTo>
                      <a:pt x="516" y="677"/>
                    </a:lnTo>
                    <a:lnTo>
                      <a:pt x="542" y="664"/>
                    </a:lnTo>
                    <a:lnTo>
                      <a:pt x="563" y="651"/>
                    </a:lnTo>
                    <a:lnTo>
                      <a:pt x="580" y="639"/>
                    </a:lnTo>
                    <a:lnTo>
                      <a:pt x="597" y="621"/>
                    </a:lnTo>
                    <a:lnTo>
                      <a:pt x="651" y="548"/>
                    </a:lnTo>
                    <a:lnTo>
                      <a:pt x="693" y="485"/>
                    </a:lnTo>
                    <a:lnTo>
                      <a:pt x="709" y="453"/>
                    </a:lnTo>
                    <a:lnTo>
                      <a:pt x="713" y="440"/>
                    </a:lnTo>
                    <a:lnTo>
                      <a:pt x="714" y="430"/>
                    </a:lnTo>
                    <a:lnTo>
                      <a:pt x="714" y="419"/>
                    </a:lnTo>
                    <a:lnTo>
                      <a:pt x="706" y="406"/>
                    </a:lnTo>
                    <a:lnTo>
                      <a:pt x="701" y="398"/>
                    </a:lnTo>
                    <a:lnTo>
                      <a:pt x="698" y="386"/>
                    </a:lnTo>
                    <a:lnTo>
                      <a:pt x="701" y="373"/>
                    </a:lnTo>
                    <a:lnTo>
                      <a:pt x="706" y="364"/>
                    </a:lnTo>
                    <a:lnTo>
                      <a:pt x="713" y="354"/>
                    </a:lnTo>
                    <a:lnTo>
                      <a:pt x="719" y="344"/>
                    </a:lnTo>
                    <a:lnTo>
                      <a:pt x="727" y="333"/>
                    </a:lnTo>
                    <a:lnTo>
                      <a:pt x="732" y="322"/>
                    </a:lnTo>
                    <a:lnTo>
                      <a:pt x="731" y="308"/>
                    </a:lnTo>
                    <a:lnTo>
                      <a:pt x="726" y="297"/>
                    </a:lnTo>
                    <a:lnTo>
                      <a:pt x="719" y="287"/>
                    </a:lnTo>
                    <a:lnTo>
                      <a:pt x="713" y="278"/>
                    </a:lnTo>
                    <a:lnTo>
                      <a:pt x="705" y="267"/>
                    </a:lnTo>
                    <a:lnTo>
                      <a:pt x="702" y="255"/>
                    </a:lnTo>
                    <a:lnTo>
                      <a:pt x="705" y="246"/>
                    </a:lnTo>
                    <a:lnTo>
                      <a:pt x="714" y="232"/>
                    </a:lnTo>
                    <a:lnTo>
                      <a:pt x="723" y="221"/>
                    </a:lnTo>
                    <a:lnTo>
                      <a:pt x="727" y="209"/>
                    </a:lnTo>
                    <a:lnTo>
                      <a:pt x="727" y="194"/>
                    </a:lnTo>
                    <a:lnTo>
                      <a:pt x="722" y="179"/>
                    </a:lnTo>
                    <a:lnTo>
                      <a:pt x="713" y="168"/>
                    </a:lnTo>
                    <a:lnTo>
                      <a:pt x="709" y="160"/>
                    </a:lnTo>
                    <a:lnTo>
                      <a:pt x="705" y="147"/>
                    </a:lnTo>
                    <a:lnTo>
                      <a:pt x="706" y="133"/>
                    </a:lnTo>
                    <a:lnTo>
                      <a:pt x="714" y="122"/>
                    </a:lnTo>
                    <a:lnTo>
                      <a:pt x="719" y="114"/>
                    </a:lnTo>
                    <a:lnTo>
                      <a:pt x="727" y="105"/>
                    </a:lnTo>
                    <a:lnTo>
                      <a:pt x="731" y="93"/>
                    </a:lnTo>
                    <a:lnTo>
                      <a:pt x="732" y="80"/>
                    </a:lnTo>
                    <a:lnTo>
                      <a:pt x="730" y="72"/>
                    </a:lnTo>
                    <a:lnTo>
                      <a:pt x="722" y="59"/>
                    </a:lnTo>
                    <a:lnTo>
                      <a:pt x="714" y="48"/>
                    </a:lnTo>
                    <a:lnTo>
                      <a:pt x="709" y="34"/>
                    </a:lnTo>
                    <a:lnTo>
                      <a:pt x="709" y="0"/>
                    </a:lnTo>
                    <a:lnTo>
                      <a:pt x="634" y="50"/>
                    </a:lnTo>
                    <a:lnTo>
                      <a:pt x="589" y="69"/>
                    </a:lnTo>
                    <a:lnTo>
                      <a:pt x="536" y="86"/>
                    </a:lnTo>
                    <a:lnTo>
                      <a:pt x="475" y="105"/>
                    </a:lnTo>
                    <a:lnTo>
                      <a:pt x="420" y="116"/>
                    </a:lnTo>
                    <a:lnTo>
                      <a:pt x="365" y="126"/>
                    </a:lnTo>
                    <a:lnTo>
                      <a:pt x="294" y="1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160"/>
              <p:cNvGrpSpPr/>
              <p:nvPr/>
            </p:nvGrpSpPr>
            <p:grpSpPr>
              <a:xfrm>
                <a:off x="3908880" y="4666680"/>
                <a:ext cx="15480" cy="33480"/>
                <a:chOff x="3908880" y="4666680"/>
                <a:chExt cx="15480" cy="33480"/>
              </a:xfrm>
            </p:grpSpPr>
            <p:sp>
              <p:nvSpPr>
                <p:cNvPr id="208" name="Freeform 161"/>
                <p:cNvSpPr/>
                <p:nvPr/>
              </p:nvSpPr>
              <p:spPr>
                <a:xfrm>
                  <a:off x="3911760" y="4675680"/>
                  <a:ext cx="11880" cy="5400"/>
                </a:xfrm>
                <a:custGeom>
                  <a:avLst/>
                  <a:gdLst/>
                  <a:ahLst/>
                  <a:rect l="l" t="t" r="r" b="b"/>
                  <a:pathLst>
                    <a:path w="167" h="70">
                      <a:moveTo>
                        <a:pt x="167" y="13"/>
                      </a:moveTo>
                      <a:lnTo>
                        <a:pt x="151" y="0"/>
                      </a:lnTo>
                      <a:lnTo>
                        <a:pt x="100" y="26"/>
                      </a:lnTo>
                      <a:lnTo>
                        <a:pt x="49" y="45"/>
                      </a:lnTo>
                      <a:lnTo>
                        <a:pt x="0" y="59"/>
                      </a:lnTo>
                      <a:lnTo>
                        <a:pt x="9" y="70"/>
                      </a:lnTo>
                      <a:lnTo>
                        <a:pt x="43" y="70"/>
                      </a:lnTo>
                      <a:lnTo>
                        <a:pt x="89" y="60"/>
                      </a:lnTo>
                      <a:lnTo>
                        <a:pt x="130" y="40"/>
                      </a:lnTo>
                      <a:lnTo>
                        <a:pt x="167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62"/>
                <p:cNvSpPr/>
                <p:nvPr/>
              </p:nvSpPr>
              <p:spPr>
                <a:xfrm>
                  <a:off x="3913920" y="468432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46" h="78">
                      <a:moveTo>
                        <a:pt x="146" y="15"/>
                      </a:moveTo>
                      <a:lnTo>
                        <a:pt x="138" y="0"/>
                      </a:lnTo>
                      <a:lnTo>
                        <a:pt x="89" y="34"/>
                      </a:lnTo>
                      <a:lnTo>
                        <a:pt x="50" y="51"/>
                      </a:lnTo>
                      <a:lnTo>
                        <a:pt x="0" y="66"/>
                      </a:lnTo>
                      <a:lnTo>
                        <a:pt x="10" y="78"/>
                      </a:lnTo>
                      <a:lnTo>
                        <a:pt x="42" y="78"/>
                      </a:lnTo>
                      <a:lnTo>
                        <a:pt x="74" y="69"/>
                      </a:lnTo>
                      <a:lnTo>
                        <a:pt x="112" y="45"/>
                      </a:lnTo>
                      <a:lnTo>
                        <a:pt x="146" y="1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63"/>
                <p:cNvSpPr/>
                <p:nvPr/>
              </p:nvSpPr>
              <p:spPr>
                <a:xfrm>
                  <a:off x="3913200" y="469440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149" h="77">
                      <a:moveTo>
                        <a:pt x="149" y="11"/>
                      </a:moveTo>
                      <a:lnTo>
                        <a:pt x="138" y="0"/>
                      </a:lnTo>
                      <a:lnTo>
                        <a:pt x="93" y="31"/>
                      </a:lnTo>
                      <a:lnTo>
                        <a:pt x="49" y="49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42" y="74"/>
                      </a:lnTo>
                      <a:lnTo>
                        <a:pt x="81" y="65"/>
                      </a:lnTo>
                      <a:lnTo>
                        <a:pt x="121" y="40"/>
                      </a:lnTo>
                      <a:lnTo>
                        <a:pt x="149" y="1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64"/>
                <p:cNvSpPr/>
                <p:nvPr/>
              </p:nvSpPr>
              <p:spPr>
                <a:xfrm>
                  <a:off x="3908880" y="46666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171" h="68">
                      <a:moveTo>
                        <a:pt x="171" y="13"/>
                      </a:moveTo>
                      <a:lnTo>
                        <a:pt x="154" y="0"/>
                      </a:lnTo>
                      <a:lnTo>
                        <a:pt x="97" y="26"/>
                      </a:lnTo>
                      <a:lnTo>
                        <a:pt x="50" y="41"/>
                      </a:lnTo>
                      <a:lnTo>
                        <a:pt x="0" y="55"/>
                      </a:lnTo>
                      <a:lnTo>
                        <a:pt x="11" y="68"/>
                      </a:lnTo>
                      <a:lnTo>
                        <a:pt x="42" y="66"/>
                      </a:lnTo>
                      <a:lnTo>
                        <a:pt x="82" y="57"/>
                      </a:lnTo>
                      <a:lnTo>
                        <a:pt x="127" y="40"/>
                      </a:lnTo>
                      <a:lnTo>
                        <a:pt x="171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Freeform 165"/>
              <p:cNvSpPr/>
              <p:nvPr/>
            </p:nvSpPr>
            <p:spPr>
              <a:xfrm>
                <a:off x="3825720" y="4435200"/>
                <a:ext cx="144720" cy="224640"/>
              </a:xfrm>
              <a:custGeom>
                <a:avLst/>
                <a:gdLst/>
                <a:ahLst/>
                <a:rect l="l" t="t" r="r" b="b"/>
                <a:pathLst>
                  <a:path w="2019" h="2908">
                    <a:moveTo>
                      <a:pt x="1415" y="2830"/>
                    </a:moveTo>
                    <a:lnTo>
                      <a:pt x="1432" y="2818"/>
                    </a:lnTo>
                    <a:lnTo>
                      <a:pt x="1445" y="2807"/>
                    </a:lnTo>
                    <a:lnTo>
                      <a:pt x="1453" y="2799"/>
                    </a:lnTo>
                    <a:lnTo>
                      <a:pt x="1458" y="2790"/>
                    </a:lnTo>
                    <a:lnTo>
                      <a:pt x="1463" y="2784"/>
                    </a:lnTo>
                    <a:lnTo>
                      <a:pt x="1466" y="2778"/>
                    </a:lnTo>
                    <a:lnTo>
                      <a:pt x="1470" y="2773"/>
                    </a:lnTo>
                    <a:lnTo>
                      <a:pt x="1471" y="2765"/>
                    </a:lnTo>
                    <a:lnTo>
                      <a:pt x="1474" y="2756"/>
                    </a:lnTo>
                    <a:lnTo>
                      <a:pt x="1475" y="2744"/>
                    </a:lnTo>
                    <a:lnTo>
                      <a:pt x="1484" y="2698"/>
                    </a:lnTo>
                    <a:lnTo>
                      <a:pt x="1543" y="2322"/>
                    </a:lnTo>
                    <a:lnTo>
                      <a:pt x="1554" y="2268"/>
                    </a:lnTo>
                    <a:lnTo>
                      <a:pt x="1563" y="2229"/>
                    </a:lnTo>
                    <a:lnTo>
                      <a:pt x="1577" y="2175"/>
                    </a:lnTo>
                    <a:lnTo>
                      <a:pt x="1598" y="2115"/>
                    </a:lnTo>
                    <a:lnTo>
                      <a:pt x="1619" y="2062"/>
                    </a:lnTo>
                    <a:lnTo>
                      <a:pt x="1638" y="2018"/>
                    </a:lnTo>
                    <a:lnTo>
                      <a:pt x="1655" y="1980"/>
                    </a:lnTo>
                    <a:lnTo>
                      <a:pt x="1672" y="1943"/>
                    </a:lnTo>
                    <a:lnTo>
                      <a:pt x="1706" y="1880"/>
                    </a:lnTo>
                    <a:lnTo>
                      <a:pt x="1740" y="1821"/>
                    </a:lnTo>
                    <a:lnTo>
                      <a:pt x="1773" y="1766"/>
                    </a:lnTo>
                    <a:lnTo>
                      <a:pt x="1799" y="1724"/>
                    </a:lnTo>
                    <a:lnTo>
                      <a:pt x="1846" y="1645"/>
                    </a:lnTo>
                    <a:lnTo>
                      <a:pt x="1879" y="1590"/>
                    </a:lnTo>
                    <a:lnTo>
                      <a:pt x="1905" y="1544"/>
                    </a:lnTo>
                    <a:lnTo>
                      <a:pt x="1927" y="1492"/>
                    </a:lnTo>
                    <a:lnTo>
                      <a:pt x="1952" y="1429"/>
                    </a:lnTo>
                    <a:lnTo>
                      <a:pt x="1969" y="1374"/>
                    </a:lnTo>
                    <a:lnTo>
                      <a:pt x="1985" y="1316"/>
                    </a:lnTo>
                    <a:lnTo>
                      <a:pt x="1995" y="1267"/>
                    </a:lnTo>
                    <a:lnTo>
                      <a:pt x="2007" y="1212"/>
                    </a:lnTo>
                    <a:lnTo>
                      <a:pt x="2015" y="1142"/>
                    </a:lnTo>
                    <a:lnTo>
                      <a:pt x="2019" y="1062"/>
                    </a:lnTo>
                    <a:lnTo>
                      <a:pt x="2019" y="987"/>
                    </a:lnTo>
                    <a:lnTo>
                      <a:pt x="2012" y="928"/>
                    </a:lnTo>
                    <a:lnTo>
                      <a:pt x="2003" y="873"/>
                    </a:lnTo>
                    <a:lnTo>
                      <a:pt x="1994" y="824"/>
                    </a:lnTo>
                    <a:lnTo>
                      <a:pt x="1978" y="759"/>
                    </a:lnTo>
                    <a:lnTo>
                      <a:pt x="1960" y="694"/>
                    </a:lnTo>
                    <a:lnTo>
                      <a:pt x="1940" y="634"/>
                    </a:lnTo>
                    <a:lnTo>
                      <a:pt x="1917" y="578"/>
                    </a:lnTo>
                    <a:lnTo>
                      <a:pt x="1888" y="529"/>
                    </a:lnTo>
                    <a:lnTo>
                      <a:pt x="1850" y="466"/>
                    </a:lnTo>
                    <a:lnTo>
                      <a:pt x="1807" y="403"/>
                    </a:lnTo>
                    <a:lnTo>
                      <a:pt x="1765" y="354"/>
                    </a:lnTo>
                    <a:lnTo>
                      <a:pt x="1727" y="312"/>
                    </a:lnTo>
                    <a:lnTo>
                      <a:pt x="1683" y="272"/>
                    </a:lnTo>
                    <a:lnTo>
                      <a:pt x="1636" y="232"/>
                    </a:lnTo>
                    <a:lnTo>
                      <a:pt x="1590" y="196"/>
                    </a:lnTo>
                    <a:lnTo>
                      <a:pt x="1535" y="159"/>
                    </a:lnTo>
                    <a:lnTo>
                      <a:pt x="1471" y="120"/>
                    </a:lnTo>
                    <a:lnTo>
                      <a:pt x="1411" y="90"/>
                    </a:lnTo>
                    <a:lnTo>
                      <a:pt x="1341" y="61"/>
                    </a:lnTo>
                    <a:lnTo>
                      <a:pt x="1277" y="40"/>
                    </a:lnTo>
                    <a:lnTo>
                      <a:pt x="1224" y="27"/>
                    </a:lnTo>
                    <a:lnTo>
                      <a:pt x="1167" y="14"/>
                    </a:lnTo>
                    <a:lnTo>
                      <a:pt x="1115" y="6"/>
                    </a:lnTo>
                    <a:lnTo>
                      <a:pt x="1053" y="0"/>
                    </a:lnTo>
                    <a:lnTo>
                      <a:pt x="997" y="0"/>
                    </a:lnTo>
                    <a:lnTo>
                      <a:pt x="936" y="0"/>
                    </a:lnTo>
                    <a:lnTo>
                      <a:pt x="885" y="6"/>
                    </a:lnTo>
                    <a:lnTo>
                      <a:pt x="826" y="19"/>
                    </a:lnTo>
                    <a:lnTo>
                      <a:pt x="782" y="28"/>
                    </a:lnTo>
                    <a:lnTo>
                      <a:pt x="727" y="44"/>
                    </a:lnTo>
                    <a:lnTo>
                      <a:pt x="676" y="59"/>
                    </a:lnTo>
                    <a:lnTo>
                      <a:pt x="630" y="78"/>
                    </a:lnTo>
                    <a:lnTo>
                      <a:pt x="586" y="97"/>
                    </a:lnTo>
                    <a:lnTo>
                      <a:pt x="541" y="121"/>
                    </a:lnTo>
                    <a:lnTo>
                      <a:pt x="501" y="145"/>
                    </a:lnTo>
                    <a:lnTo>
                      <a:pt x="456" y="175"/>
                    </a:lnTo>
                    <a:lnTo>
                      <a:pt x="408" y="209"/>
                    </a:lnTo>
                    <a:lnTo>
                      <a:pt x="365" y="242"/>
                    </a:lnTo>
                    <a:lnTo>
                      <a:pt x="326" y="277"/>
                    </a:lnTo>
                    <a:lnTo>
                      <a:pt x="284" y="316"/>
                    </a:lnTo>
                    <a:lnTo>
                      <a:pt x="242" y="360"/>
                    </a:lnTo>
                    <a:lnTo>
                      <a:pt x="206" y="402"/>
                    </a:lnTo>
                    <a:lnTo>
                      <a:pt x="175" y="441"/>
                    </a:lnTo>
                    <a:lnTo>
                      <a:pt x="140" y="495"/>
                    </a:lnTo>
                    <a:lnTo>
                      <a:pt x="106" y="554"/>
                    </a:lnTo>
                    <a:lnTo>
                      <a:pt x="75" y="620"/>
                    </a:lnTo>
                    <a:lnTo>
                      <a:pt x="53" y="685"/>
                    </a:lnTo>
                    <a:lnTo>
                      <a:pt x="34" y="752"/>
                    </a:lnTo>
                    <a:lnTo>
                      <a:pt x="17" y="818"/>
                    </a:lnTo>
                    <a:lnTo>
                      <a:pt x="7" y="879"/>
                    </a:lnTo>
                    <a:lnTo>
                      <a:pt x="0" y="940"/>
                    </a:lnTo>
                    <a:lnTo>
                      <a:pt x="0" y="999"/>
                    </a:lnTo>
                    <a:lnTo>
                      <a:pt x="0" y="1052"/>
                    </a:lnTo>
                    <a:lnTo>
                      <a:pt x="0" y="1115"/>
                    </a:lnTo>
                    <a:lnTo>
                      <a:pt x="3" y="1170"/>
                    </a:lnTo>
                    <a:lnTo>
                      <a:pt x="14" y="1239"/>
                    </a:lnTo>
                    <a:lnTo>
                      <a:pt x="24" y="1299"/>
                    </a:lnTo>
                    <a:lnTo>
                      <a:pt x="40" y="1358"/>
                    </a:lnTo>
                    <a:lnTo>
                      <a:pt x="62" y="1427"/>
                    </a:lnTo>
                    <a:lnTo>
                      <a:pt x="87" y="1488"/>
                    </a:lnTo>
                    <a:lnTo>
                      <a:pt x="113" y="1542"/>
                    </a:lnTo>
                    <a:lnTo>
                      <a:pt x="144" y="1602"/>
                    </a:lnTo>
                    <a:lnTo>
                      <a:pt x="178" y="1660"/>
                    </a:lnTo>
                    <a:lnTo>
                      <a:pt x="208" y="1715"/>
                    </a:lnTo>
                    <a:lnTo>
                      <a:pt x="239" y="1770"/>
                    </a:lnTo>
                    <a:lnTo>
                      <a:pt x="272" y="1830"/>
                    </a:lnTo>
                    <a:lnTo>
                      <a:pt x="323" y="1917"/>
                    </a:lnTo>
                    <a:lnTo>
                      <a:pt x="370" y="2007"/>
                    </a:lnTo>
                    <a:lnTo>
                      <a:pt x="398" y="2053"/>
                    </a:lnTo>
                    <a:lnTo>
                      <a:pt x="412" y="2091"/>
                    </a:lnTo>
                    <a:lnTo>
                      <a:pt x="429" y="2138"/>
                    </a:lnTo>
                    <a:lnTo>
                      <a:pt x="445" y="2192"/>
                    </a:lnTo>
                    <a:lnTo>
                      <a:pt x="458" y="2239"/>
                    </a:lnTo>
                    <a:lnTo>
                      <a:pt x="469" y="2292"/>
                    </a:lnTo>
                    <a:lnTo>
                      <a:pt x="479" y="2365"/>
                    </a:lnTo>
                    <a:lnTo>
                      <a:pt x="492" y="2444"/>
                    </a:lnTo>
                    <a:lnTo>
                      <a:pt x="501" y="2506"/>
                    </a:lnTo>
                    <a:lnTo>
                      <a:pt x="511" y="2586"/>
                    </a:lnTo>
                    <a:lnTo>
                      <a:pt x="518" y="2643"/>
                    </a:lnTo>
                    <a:lnTo>
                      <a:pt x="526" y="2693"/>
                    </a:lnTo>
                    <a:lnTo>
                      <a:pt x="537" y="2742"/>
                    </a:lnTo>
                    <a:lnTo>
                      <a:pt x="541" y="2756"/>
                    </a:lnTo>
                    <a:lnTo>
                      <a:pt x="543" y="2767"/>
                    </a:lnTo>
                    <a:lnTo>
                      <a:pt x="545" y="2773"/>
                    </a:lnTo>
                    <a:lnTo>
                      <a:pt x="546" y="2778"/>
                    </a:lnTo>
                    <a:lnTo>
                      <a:pt x="552" y="2784"/>
                    </a:lnTo>
                    <a:lnTo>
                      <a:pt x="558" y="2794"/>
                    </a:lnTo>
                    <a:lnTo>
                      <a:pt x="567" y="2803"/>
                    </a:lnTo>
                    <a:lnTo>
                      <a:pt x="576" y="2812"/>
                    </a:lnTo>
                    <a:lnTo>
                      <a:pt x="592" y="2824"/>
                    </a:lnTo>
                    <a:lnTo>
                      <a:pt x="610" y="2833"/>
                    </a:lnTo>
                    <a:lnTo>
                      <a:pt x="635" y="2847"/>
                    </a:lnTo>
                    <a:lnTo>
                      <a:pt x="657" y="2856"/>
                    </a:lnTo>
                    <a:lnTo>
                      <a:pt x="681" y="2864"/>
                    </a:lnTo>
                    <a:lnTo>
                      <a:pt x="703" y="2870"/>
                    </a:lnTo>
                    <a:lnTo>
                      <a:pt x="723" y="2875"/>
                    </a:lnTo>
                    <a:lnTo>
                      <a:pt x="753" y="2883"/>
                    </a:lnTo>
                    <a:lnTo>
                      <a:pt x="778" y="2889"/>
                    </a:lnTo>
                    <a:lnTo>
                      <a:pt x="802" y="2892"/>
                    </a:lnTo>
                    <a:lnTo>
                      <a:pt x="829" y="2896"/>
                    </a:lnTo>
                    <a:lnTo>
                      <a:pt x="857" y="2900"/>
                    </a:lnTo>
                    <a:lnTo>
                      <a:pt x="883" y="2902"/>
                    </a:lnTo>
                    <a:lnTo>
                      <a:pt x="906" y="2904"/>
                    </a:lnTo>
                    <a:lnTo>
                      <a:pt x="934" y="2906"/>
                    </a:lnTo>
                    <a:lnTo>
                      <a:pt x="959" y="2908"/>
                    </a:lnTo>
                    <a:lnTo>
                      <a:pt x="984" y="2908"/>
                    </a:lnTo>
                    <a:lnTo>
                      <a:pt x="1006" y="2908"/>
                    </a:lnTo>
                    <a:lnTo>
                      <a:pt x="1031" y="2908"/>
                    </a:lnTo>
                    <a:lnTo>
                      <a:pt x="1061" y="2908"/>
                    </a:lnTo>
                    <a:lnTo>
                      <a:pt x="1086" y="2906"/>
                    </a:lnTo>
                    <a:lnTo>
                      <a:pt x="1108" y="2906"/>
                    </a:lnTo>
                    <a:lnTo>
                      <a:pt x="1134" y="2902"/>
                    </a:lnTo>
                    <a:lnTo>
                      <a:pt x="1166" y="2900"/>
                    </a:lnTo>
                    <a:lnTo>
                      <a:pt x="1188" y="2896"/>
                    </a:lnTo>
                    <a:lnTo>
                      <a:pt x="1217" y="2892"/>
                    </a:lnTo>
                    <a:lnTo>
                      <a:pt x="1241" y="2887"/>
                    </a:lnTo>
                    <a:lnTo>
                      <a:pt x="1265" y="2883"/>
                    </a:lnTo>
                    <a:lnTo>
                      <a:pt x="1288" y="2877"/>
                    </a:lnTo>
                    <a:lnTo>
                      <a:pt x="1309" y="2871"/>
                    </a:lnTo>
                    <a:lnTo>
                      <a:pt x="1334" y="2864"/>
                    </a:lnTo>
                    <a:lnTo>
                      <a:pt x="1354" y="2856"/>
                    </a:lnTo>
                    <a:lnTo>
                      <a:pt x="1375" y="2849"/>
                    </a:lnTo>
                    <a:lnTo>
                      <a:pt x="1395" y="2839"/>
                    </a:lnTo>
                    <a:lnTo>
                      <a:pt x="1415" y="283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66"/>
              <p:cNvSpPr/>
              <p:nvPr/>
            </p:nvSpPr>
            <p:spPr>
              <a:xfrm>
                <a:off x="3866400" y="4634280"/>
                <a:ext cx="63360" cy="22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167"/>
              <p:cNvGrpSpPr/>
              <p:nvPr/>
            </p:nvGrpSpPr>
            <p:grpSpPr>
              <a:xfrm>
                <a:off x="3877920" y="4502520"/>
                <a:ext cx="40320" cy="139320"/>
                <a:chOff x="3877920" y="4502520"/>
                <a:chExt cx="40320" cy="139320"/>
              </a:xfrm>
            </p:grpSpPr>
            <p:sp>
              <p:nvSpPr>
                <p:cNvPr id="215" name="Freeform 168"/>
                <p:cNvSpPr/>
                <p:nvPr/>
              </p:nvSpPr>
              <p:spPr>
                <a:xfrm>
                  <a:off x="3885480" y="4560480"/>
                  <a:ext cx="24840" cy="81360"/>
                </a:xfrm>
                <a:custGeom>
                  <a:avLst/>
                  <a:gdLst/>
                  <a:ahLst/>
                  <a:rect l="l" t="t" r="r" b="b"/>
                  <a:pathLst>
                    <a:path w="345" h="1053">
                      <a:moveTo>
                        <a:pt x="0" y="80"/>
                      </a:moveTo>
                      <a:lnTo>
                        <a:pt x="6" y="252"/>
                      </a:lnTo>
                      <a:lnTo>
                        <a:pt x="23" y="274"/>
                      </a:lnTo>
                      <a:lnTo>
                        <a:pt x="17" y="975"/>
                      </a:lnTo>
                      <a:lnTo>
                        <a:pt x="40" y="1053"/>
                      </a:lnTo>
                      <a:lnTo>
                        <a:pt x="98" y="1053"/>
                      </a:lnTo>
                      <a:lnTo>
                        <a:pt x="146" y="1015"/>
                      </a:lnTo>
                      <a:lnTo>
                        <a:pt x="201" y="1015"/>
                      </a:lnTo>
                      <a:lnTo>
                        <a:pt x="245" y="1053"/>
                      </a:lnTo>
                      <a:lnTo>
                        <a:pt x="307" y="1053"/>
                      </a:lnTo>
                      <a:lnTo>
                        <a:pt x="328" y="975"/>
                      </a:lnTo>
                      <a:lnTo>
                        <a:pt x="317" y="274"/>
                      </a:lnTo>
                      <a:lnTo>
                        <a:pt x="333" y="252"/>
                      </a:lnTo>
                      <a:lnTo>
                        <a:pt x="345" y="80"/>
                      </a:lnTo>
                      <a:lnTo>
                        <a:pt x="269" y="17"/>
                      </a:lnTo>
                      <a:lnTo>
                        <a:pt x="231" y="17"/>
                      </a:lnTo>
                      <a:lnTo>
                        <a:pt x="210" y="0"/>
                      </a:lnTo>
                      <a:lnTo>
                        <a:pt x="123" y="0"/>
                      </a:lnTo>
                      <a:lnTo>
                        <a:pt x="104" y="17"/>
                      </a:lnTo>
                      <a:lnTo>
                        <a:pt x="72" y="17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169"/>
                <p:cNvSpPr/>
                <p:nvPr/>
              </p:nvSpPr>
              <p:spPr>
                <a:xfrm>
                  <a:off x="3898080" y="4563000"/>
                  <a:ext cx="3240" cy="5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Group 170"/>
                <p:cNvGrpSpPr/>
                <p:nvPr/>
              </p:nvGrpSpPr>
              <p:grpSpPr>
                <a:xfrm>
                  <a:off x="3877920" y="4502520"/>
                  <a:ext cx="40320" cy="63720"/>
                  <a:chOff x="3877920" y="4502520"/>
                  <a:chExt cx="40320" cy="63720"/>
                </a:xfrm>
              </p:grpSpPr>
              <p:sp>
                <p:nvSpPr>
                  <p:cNvPr id="218" name="Oval 171"/>
                  <p:cNvSpPr/>
                  <p:nvPr/>
                </p:nvSpPr>
                <p:spPr>
                  <a:xfrm>
                    <a:off x="3880080" y="4502520"/>
                    <a:ext cx="37080" cy="216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172"/>
                  <p:cNvSpPr/>
                  <p:nvPr/>
                </p:nvSpPr>
                <p:spPr>
                  <a:xfrm>
                    <a:off x="3877920" y="4512240"/>
                    <a:ext cx="403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699">
                        <a:moveTo>
                          <a:pt x="358" y="699"/>
                        </a:moveTo>
                        <a:lnTo>
                          <a:pt x="562" y="69"/>
                        </a:lnTo>
                        <a:lnTo>
                          <a:pt x="526" y="56"/>
                        </a:lnTo>
                        <a:lnTo>
                          <a:pt x="485" y="38"/>
                        </a:lnTo>
                        <a:lnTo>
                          <a:pt x="431" y="24"/>
                        </a:lnTo>
                        <a:lnTo>
                          <a:pt x="384" y="12"/>
                        </a:lnTo>
                        <a:lnTo>
                          <a:pt x="342" y="4"/>
                        </a:lnTo>
                        <a:lnTo>
                          <a:pt x="297" y="0"/>
                        </a:lnTo>
                        <a:lnTo>
                          <a:pt x="248" y="3"/>
                        </a:lnTo>
                        <a:lnTo>
                          <a:pt x="185" y="10"/>
                        </a:lnTo>
                        <a:lnTo>
                          <a:pt x="132" y="24"/>
                        </a:lnTo>
                        <a:lnTo>
                          <a:pt x="80" y="38"/>
                        </a:lnTo>
                        <a:lnTo>
                          <a:pt x="34" y="58"/>
                        </a:lnTo>
                        <a:lnTo>
                          <a:pt x="0" y="76"/>
                        </a:lnTo>
                        <a:lnTo>
                          <a:pt x="197" y="699"/>
                        </a:lnTo>
                      </a:path>
                    </a:pathLst>
                  </a:custGeom>
                  <a:solidFill>
                    <a:srgbClr val="ffff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Group 173"/>
                <p:cNvGrpSpPr/>
                <p:nvPr/>
              </p:nvGrpSpPr>
              <p:grpSpPr>
                <a:xfrm>
                  <a:off x="3890520" y="4572000"/>
                  <a:ext cx="13680" cy="62280"/>
                  <a:chOff x="3890520" y="4572000"/>
                  <a:chExt cx="13680" cy="62280"/>
                </a:xfrm>
              </p:grpSpPr>
              <p:sp>
                <p:nvSpPr>
                  <p:cNvPr id="221" name="Line 174"/>
                  <p:cNvSpPr/>
                  <p:nvPr/>
                </p:nvSpPr>
                <p:spPr>
                  <a:xfrm>
                    <a:off x="3892680" y="4573800"/>
                    <a:ext cx="0" cy="604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Line 175"/>
                  <p:cNvSpPr/>
                  <p:nvPr/>
                </p:nvSpPr>
                <p:spPr>
                  <a:xfrm flipV="1">
                    <a:off x="3902040" y="457344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Line 176"/>
                  <p:cNvSpPr/>
                  <p:nvPr/>
                </p:nvSpPr>
                <p:spPr>
                  <a:xfrm flipV="1">
                    <a:off x="3904200" y="457200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Line 177"/>
                  <p:cNvSpPr/>
                  <p:nvPr/>
                </p:nvSpPr>
                <p:spPr>
                  <a:xfrm flipV="1">
                    <a:off x="3890520" y="457200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" name="Freeform 178"/>
              <p:cNvSpPr/>
              <p:nvPr/>
            </p:nvSpPr>
            <p:spPr>
              <a:xfrm>
                <a:off x="3895200" y="4601880"/>
                <a:ext cx="38880" cy="52560"/>
              </a:xfrm>
              <a:custGeom>
                <a:avLst/>
                <a:gdLst/>
                <a:ahLst/>
                <a:rect l="l" t="t" r="r" b="b"/>
                <a:pathLst>
                  <a:path w="546" h="681">
                    <a:moveTo>
                      <a:pt x="546" y="0"/>
                    </a:moveTo>
                    <a:lnTo>
                      <a:pt x="523" y="20"/>
                    </a:lnTo>
                    <a:lnTo>
                      <a:pt x="432" y="441"/>
                    </a:lnTo>
                    <a:lnTo>
                      <a:pt x="415" y="483"/>
                    </a:lnTo>
                    <a:lnTo>
                      <a:pt x="388" y="518"/>
                    </a:lnTo>
                    <a:lnTo>
                      <a:pt x="347" y="550"/>
                    </a:lnTo>
                    <a:lnTo>
                      <a:pt x="307" y="575"/>
                    </a:lnTo>
                    <a:lnTo>
                      <a:pt x="262" y="598"/>
                    </a:lnTo>
                    <a:lnTo>
                      <a:pt x="215" y="618"/>
                    </a:lnTo>
                    <a:lnTo>
                      <a:pt x="163" y="637"/>
                    </a:lnTo>
                    <a:lnTo>
                      <a:pt x="119" y="647"/>
                    </a:lnTo>
                    <a:lnTo>
                      <a:pt x="65" y="656"/>
                    </a:lnTo>
                    <a:lnTo>
                      <a:pt x="0" y="652"/>
                    </a:lnTo>
                    <a:lnTo>
                      <a:pt x="10" y="677"/>
                    </a:lnTo>
                    <a:lnTo>
                      <a:pt x="55" y="681"/>
                    </a:lnTo>
                    <a:lnTo>
                      <a:pt x="86" y="681"/>
                    </a:lnTo>
                    <a:lnTo>
                      <a:pt x="134" y="677"/>
                    </a:lnTo>
                    <a:lnTo>
                      <a:pt x="173" y="674"/>
                    </a:lnTo>
                    <a:lnTo>
                      <a:pt x="227" y="665"/>
                    </a:lnTo>
                    <a:lnTo>
                      <a:pt x="269" y="657"/>
                    </a:lnTo>
                    <a:lnTo>
                      <a:pt x="316" y="643"/>
                    </a:lnTo>
                    <a:lnTo>
                      <a:pt x="343" y="635"/>
                    </a:lnTo>
                    <a:lnTo>
                      <a:pt x="384" y="618"/>
                    </a:lnTo>
                    <a:lnTo>
                      <a:pt x="427" y="590"/>
                    </a:lnTo>
                    <a:lnTo>
                      <a:pt x="440" y="575"/>
                    </a:lnTo>
                    <a:lnTo>
                      <a:pt x="452" y="554"/>
                    </a:lnTo>
                    <a:lnTo>
                      <a:pt x="462" y="512"/>
                    </a:lnTo>
                    <a:lnTo>
                      <a:pt x="471" y="470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Rectangle 179"/>
            <p:cNvSpPr/>
            <p:nvPr/>
          </p:nvSpPr>
          <p:spPr>
            <a:xfrm>
              <a:off x="734760" y="270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屏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180"/>
          <p:cNvSpPr/>
          <p:nvPr/>
        </p:nvSpPr>
        <p:spPr>
          <a:xfrm>
            <a:off x="-252360" y="2349360"/>
            <a:ext cx="9144000" cy="0"/>
          </a:xfrm>
          <a:prstGeom prst="line">
            <a:avLst/>
          </a:prstGeom>
          <a:ln w="9360">
            <a:solidFill>
              <a:srgbClr val="090c4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2"/>
          <p:cNvSpPr/>
          <p:nvPr/>
        </p:nvSpPr>
        <p:spPr>
          <a:xfrm>
            <a:off x="5076720" y="2637000"/>
            <a:ext cx="345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影片上的图案通过凸透镜形成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83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90c4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4"/>
          <p:cNvSpPr/>
          <p:nvPr/>
        </p:nvSpPr>
        <p:spPr>
          <a:xfrm>
            <a:off x="4859280" y="5013360"/>
            <a:ext cx="367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大镜就是凸透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虚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5"/>
          <p:cNvSpPr/>
          <p:nvPr/>
        </p:nvSpPr>
        <p:spPr>
          <a:xfrm>
            <a:off x="1187280" y="3933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影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2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261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现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87280" y="476280"/>
            <a:ext cx="795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同一个凸透镜能成不同的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-252360" y="1700280"/>
            <a:ext cx="311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-36360" y="3298680"/>
            <a:ext cx="268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猜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-324000" y="5373720"/>
            <a:ext cx="3124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762120" y="914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762120" y="2590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762120" y="4267080"/>
            <a:ext cx="485640" cy="1128960"/>
          </a:xfrm>
          <a:prstGeom prst="downArrow">
            <a:avLst>
              <a:gd name="adj1" fmla="val 50000"/>
              <a:gd name="adj2" fmla="val 581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0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6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1908000" y="1700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凸透镜成的像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虚实、大小、正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跟</a:t>
            </a:r>
            <a:r>
              <a:rPr b="1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物距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课题：探究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凸透镜成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规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253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38280" y="914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探究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凸透镜成像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规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133720" y="1557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蜡烛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凸透镜、光屏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光具座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73120" y="155736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器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4" descr="6"/>
          <p:cNvPicPr/>
          <p:nvPr/>
        </p:nvPicPr>
        <p:blipFill>
          <a:blip r:embed="rId1"/>
          <a:stretch/>
        </p:blipFill>
        <p:spPr>
          <a:xfrm>
            <a:off x="250920" y="2332080"/>
            <a:ext cx="8424720" cy="2176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7"/>
          <p:cNvSpPr/>
          <p:nvPr/>
        </p:nvSpPr>
        <p:spPr>
          <a:xfrm>
            <a:off x="4643280" y="2421000"/>
            <a:ext cx="433440" cy="576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2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3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5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9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1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2065320" y="2492280"/>
            <a:ext cx="4392720" cy="568440"/>
            <a:chOff x="2065320" y="2492280"/>
            <a:chExt cx="4392720" cy="568440"/>
          </a:xfrm>
        </p:grpSpPr>
        <p:grpSp>
          <p:nvGrpSpPr>
            <p:cNvPr id="277" name="Group 33"/>
            <p:cNvGrpSpPr/>
            <p:nvPr/>
          </p:nvGrpSpPr>
          <p:grpSpPr>
            <a:xfrm>
              <a:off x="2065320" y="2517840"/>
              <a:ext cx="4392720" cy="542880"/>
              <a:chOff x="2065320" y="2517840"/>
              <a:chExt cx="4392720" cy="542880"/>
            </a:xfrm>
          </p:grpSpPr>
          <p:grpSp>
            <p:nvGrpSpPr>
              <p:cNvPr id="278" name="Group 34"/>
              <p:cNvGrpSpPr/>
              <p:nvPr/>
            </p:nvGrpSpPr>
            <p:grpSpPr>
              <a:xfrm>
                <a:off x="2065320" y="2975040"/>
                <a:ext cx="4392720" cy="85680"/>
                <a:chOff x="2065320" y="2975040"/>
                <a:chExt cx="4392720" cy="85680"/>
              </a:xfrm>
            </p:grpSpPr>
            <p:sp>
              <p:nvSpPr>
                <p:cNvPr id="279" name="Line 35"/>
                <p:cNvSpPr/>
                <p:nvPr/>
              </p:nvSpPr>
              <p:spPr>
                <a:xfrm>
                  <a:off x="2065320" y="3016440"/>
                  <a:ext cx="439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36"/>
                <p:cNvSpPr/>
                <p:nvPr/>
              </p:nvSpPr>
              <p:spPr>
                <a:xfrm>
                  <a:off x="4111560" y="2987640"/>
                  <a:ext cx="73080" cy="71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37"/>
                <p:cNvSpPr/>
                <p:nvPr/>
              </p:nvSpPr>
              <p:spPr>
                <a:xfrm>
                  <a:off x="5033880" y="29750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38"/>
                <p:cNvSpPr/>
                <p:nvPr/>
              </p:nvSpPr>
              <p:spPr>
                <a:xfrm>
                  <a:off x="3203640" y="2987640"/>
                  <a:ext cx="73080" cy="7164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39"/>
                <p:cNvSpPr/>
                <p:nvPr/>
              </p:nvSpPr>
              <p:spPr>
                <a:xfrm>
                  <a:off x="2271600" y="29750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40"/>
                <p:cNvSpPr/>
                <p:nvPr/>
              </p:nvSpPr>
              <p:spPr>
                <a:xfrm>
                  <a:off x="5897520" y="29894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41"/>
              <p:cNvGrpSpPr/>
              <p:nvPr/>
            </p:nvGrpSpPr>
            <p:grpSpPr>
              <a:xfrm>
                <a:off x="2928960" y="2517840"/>
                <a:ext cx="2449440" cy="459720"/>
                <a:chOff x="2928960" y="2517840"/>
                <a:chExt cx="2449440" cy="459720"/>
              </a:xfrm>
            </p:grpSpPr>
            <p:sp>
              <p:nvSpPr>
                <p:cNvPr id="286" name="Text Box 42"/>
                <p:cNvSpPr/>
                <p:nvPr/>
              </p:nvSpPr>
              <p:spPr>
                <a:xfrm>
                  <a:off x="2928960" y="2517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99ff33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Text Box 43"/>
                <p:cNvSpPr/>
                <p:nvPr/>
              </p:nvSpPr>
              <p:spPr>
                <a:xfrm>
                  <a:off x="5018040" y="2517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99ff33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Text Box 44"/>
            <p:cNvSpPr/>
            <p:nvPr/>
          </p:nvSpPr>
          <p:spPr>
            <a:xfrm>
              <a:off x="2065320" y="249228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5"/>
            <p:cNvSpPr/>
            <p:nvPr/>
          </p:nvSpPr>
          <p:spPr>
            <a:xfrm>
              <a:off x="5810400" y="249228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46"/>
          <p:cNvGrpSpPr/>
          <p:nvPr/>
        </p:nvGrpSpPr>
        <p:grpSpPr>
          <a:xfrm>
            <a:off x="2282760" y="3933720"/>
            <a:ext cx="3699000" cy="73080"/>
            <a:chOff x="2282760" y="3933720"/>
            <a:chExt cx="3699000" cy="73080"/>
          </a:xfrm>
        </p:grpSpPr>
        <p:sp>
          <p:nvSpPr>
            <p:cNvPr id="291" name="Oval 47"/>
            <p:cNvSpPr/>
            <p:nvPr/>
          </p:nvSpPr>
          <p:spPr>
            <a:xfrm>
              <a:off x="4122720" y="3933720"/>
              <a:ext cx="730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48"/>
            <p:cNvSpPr/>
            <p:nvPr/>
          </p:nvSpPr>
          <p:spPr>
            <a:xfrm>
              <a:off x="503064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49"/>
            <p:cNvSpPr/>
            <p:nvPr/>
          </p:nvSpPr>
          <p:spPr>
            <a:xfrm>
              <a:off x="3214800" y="3933720"/>
              <a:ext cx="72720" cy="712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50"/>
            <p:cNvSpPr/>
            <p:nvPr/>
          </p:nvSpPr>
          <p:spPr>
            <a:xfrm>
              <a:off x="228276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1"/>
            <p:cNvSpPr/>
            <p:nvPr/>
          </p:nvSpPr>
          <p:spPr>
            <a:xfrm>
              <a:off x="590868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AutoShape 53"/>
          <p:cNvSpPr/>
          <p:nvPr/>
        </p:nvSpPr>
        <p:spPr>
          <a:xfrm>
            <a:off x="3967200" y="4913280"/>
            <a:ext cx="1224000" cy="863640"/>
          </a:xfrm>
          <a:prstGeom prst="wedgeEllipseCallout">
            <a:avLst>
              <a:gd name="adj1" fmla="val -30027"/>
              <a:gd name="adj2" fmla="val -134925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预备知识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0" descr="6"/>
          <p:cNvPicPr/>
          <p:nvPr/>
        </p:nvPicPr>
        <p:blipFill>
          <a:blip r:embed="rId1"/>
          <a:stretch/>
        </p:blipFill>
        <p:spPr>
          <a:xfrm>
            <a:off x="324000" y="2492280"/>
            <a:ext cx="842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76"/>
          <p:cNvGrpSpPr/>
          <p:nvPr/>
        </p:nvGrpSpPr>
        <p:grpSpPr>
          <a:xfrm>
            <a:off x="2842920" y="2924280"/>
            <a:ext cx="1382760" cy="459720"/>
            <a:chOff x="2842920" y="2924280"/>
            <a:chExt cx="1382760" cy="459720"/>
          </a:xfrm>
        </p:grpSpPr>
        <p:grpSp>
          <p:nvGrpSpPr>
            <p:cNvPr id="300" name="Group 70"/>
            <p:cNvGrpSpPr/>
            <p:nvPr/>
          </p:nvGrpSpPr>
          <p:grpSpPr>
            <a:xfrm>
              <a:off x="2842920" y="2982240"/>
              <a:ext cx="1382760" cy="284400"/>
              <a:chOff x="2842920" y="2982240"/>
              <a:chExt cx="1382760" cy="284400"/>
            </a:xfrm>
          </p:grpSpPr>
          <p:sp>
            <p:nvSpPr>
              <p:cNvPr id="301" name="Line 71"/>
              <p:cNvSpPr/>
              <p:nvPr/>
            </p:nvSpPr>
            <p:spPr>
              <a:xfrm>
                <a:off x="2852280" y="2982240"/>
                <a:ext cx="0" cy="282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72"/>
              <p:cNvSpPr/>
              <p:nvPr/>
            </p:nvSpPr>
            <p:spPr>
              <a:xfrm>
                <a:off x="4224960" y="2984040"/>
                <a:ext cx="0" cy="282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73"/>
              <p:cNvSpPr/>
              <p:nvPr/>
            </p:nvSpPr>
            <p:spPr>
              <a:xfrm>
                <a:off x="3785400" y="3125880"/>
                <a:ext cx="440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74"/>
              <p:cNvSpPr/>
              <p:nvPr/>
            </p:nvSpPr>
            <p:spPr>
              <a:xfrm flipH="1">
                <a:off x="2842920" y="3120840"/>
                <a:ext cx="440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Text Box 75"/>
            <p:cNvSpPr/>
            <p:nvPr/>
          </p:nvSpPr>
          <p:spPr>
            <a:xfrm>
              <a:off x="3425400" y="292428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04"/>
          <p:cNvGrpSpPr/>
          <p:nvPr/>
        </p:nvGrpSpPr>
        <p:grpSpPr>
          <a:xfrm>
            <a:off x="347760" y="692280"/>
            <a:ext cx="8796240" cy="654480"/>
            <a:chOff x="347760" y="692280"/>
            <a:chExt cx="8796240" cy="654480"/>
          </a:xfrm>
        </p:grpSpPr>
        <p:grpSp>
          <p:nvGrpSpPr>
            <p:cNvPr id="307" name="Group 87"/>
            <p:cNvGrpSpPr/>
            <p:nvPr/>
          </p:nvGrpSpPr>
          <p:grpSpPr>
            <a:xfrm>
              <a:off x="2482920" y="692280"/>
              <a:ext cx="4321080" cy="581400"/>
              <a:chOff x="2482920" y="692280"/>
              <a:chExt cx="4321080" cy="581400"/>
            </a:xfrm>
          </p:grpSpPr>
          <p:sp>
            <p:nvSpPr>
              <p:cNvPr id="308" name="Text Box 7"/>
              <p:cNvSpPr/>
              <p:nvPr/>
            </p:nvSpPr>
            <p:spPr>
              <a:xfrm>
                <a:off x="2482920" y="69228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物体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9"/>
              <p:cNvSpPr/>
              <p:nvPr/>
            </p:nvSpPr>
            <p:spPr>
              <a:xfrm>
                <a:off x="4354560" y="692280"/>
                <a:ext cx="24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凸透镜中心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Rectangle 92"/>
            <p:cNvSpPr/>
            <p:nvPr/>
          </p:nvSpPr>
          <p:spPr>
            <a:xfrm>
              <a:off x="347760" y="765360"/>
              <a:ext cx="87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物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u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距离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84"/>
          <p:cNvGrpSpPr/>
          <p:nvPr/>
        </p:nvGrpSpPr>
        <p:grpSpPr>
          <a:xfrm>
            <a:off x="4211640" y="2921040"/>
            <a:ext cx="2231640" cy="581400"/>
            <a:chOff x="4211640" y="2921040"/>
            <a:chExt cx="2231640" cy="581400"/>
          </a:xfrm>
        </p:grpSpPr>
        <p:grpSp>
          <p:nvGrpSpPr>
            <p:cNvPr id="312" name="Group 78"/>
            <p:cNvGrpSpPr/>
            <p:nvPr/>
          </p:nvGrpSpPr>
          <p:grpSpPr>
            <a:xfrm>
              <a:off x="4211640" y="3117600"/>
              <a:ext cx="2231640" cy="283680"/>
              <a:chOff x="4211640" y="3117600"/>
              <a:chExt cx="2231640" cy="283680"/>
            </a:xfrm>
          </p:grpSpPr>
          <p:sp>
            <p:nvSpPr>
              <p:cNvPr id="313" name="Line 79"/>
              <p:cNvSpPr/>
              <p:nvPr/>
            </p:nvSpPr>
            <p:spPr>
              <a:xfrm>
                <a:off x="4226040" y="3117600"/>
                <a:ext cx="0" cy="281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80"/>
              <p:cNvSpPr/>
              <p:nvPr/>
            </p:nvSpPr>
            <p:spPr>
              <a:xfrm>
                <a:off x="6442200" y="3119400"/>
                <a:ext cx="0" cy="281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81"/>
              <p:cNvSpPr/>
              <p:nvPr/>
            </p:nvSpPr>
            <p:spPr>
              <a:xfrm>
                <a:off x="5732640" y="3260880"/>
                <a:ext cx="710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82"/>
              <p:cNvSpPr/>
              <p:nvPr/>
            </p:nvSpPr>
            <p:spPr>
              <a:xfrm flipH="1">
                <a:off x="4211640" y="3255840"/>
                <a:ext cx="710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Text Box 83"/>
            <p:cNvSpPr/>
            <p:nvPr/>
          </p:nvSpPr>
          <p:spPr>
            <a:xfrm>
              <a:off x="5151600" y="2921040"/>
              <a:ext cx="70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Monotype Corsiv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95"/>
          <p:cNvGrpSpPr/>
          <p:nvPr/>
        </p:nvGrpSpPr>
        <p:grpSpPr>
          <a:xfrm>
            <a:off x="324000" y="1700280"/>
            <a:ext cx="8819640" cy="709920"/>
            <a:chOff x="324000" y="1700280"/>
            <a:chExt cx="8819640" cy="709920"/>
          </a:xfrm>
        </p:grpSpPr>
        <p:sp>
          <p:nvSpPr>
            <p:cNvPr id="319" name="Text Box 12"/>
            <p:cNvSpPr/>
            <p:nvPr/>
          </p:nvSpPr>
          <p:spPr>
            <a:xfrm>
              <a:off x="4238640" y="17715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凸透镜中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2466360" y="170028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像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94"/>
            <p:cNvSpPr/>
            <p:nvPr/>
          </p:nvSpPr>
          <p:spPr>
            <a:xfrm>
              <a:off x="324000" y="1828800"/>
              <a:ext cx="88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像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距离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0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6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7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8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09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0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1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2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3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4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15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6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7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8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67"/>
          <p:cNvSpPr/>
          <p:nvPr/>
        </p:nvSpPr>
        <p:spPr>
          <a:xfrm>
            <a:off x="3995640" y="4797360"/>
            <a:ext cx="863640" cy="719280"/>
          </a:xfrm>
          <a:prstGeom prst="wedgeEllipseCallout">
            <a:avLst>
              <a:gd name="adj1" fmla="val -20222"/>
              <a:gd name="adj2" fmla="val -145805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68"/>
          <p:cNvSpPr/>
          <p:nvPr/>
        </p:nvSpPr>
        <p:spPr>
          <a:xfrm>
            <a:off x="1908000" y="5157720"/>
            <a:ext cx="863640" cy="719280"/>
          </a:xfrm>
          <a:prstGeom prst="wedgeEllipseCallout">
            <a:avLst>
              <a:gd name="adj1" fmla="val 52939"/>
              <a:gd name="adj2" fmla="val -198564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69"/>
          <p:cNvSpPr/>
          <p:nvPr/>
        </p:nvSpPr>
        <p:spPr>
          <a:xfrm>
            <a:off x="6084720" y="5013360"/>
            <a:ext cx="863640" cy="719280"/>
          </a:xfrm>
          <a:prstGeom prst="wedgeEllipseCallout">
            <a:avLst>
              <a:gd name="adj1" fmla="val -6986"/>
              <a:gd name="adj2" fmla="val -180462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0"/>
          <p:cNvSpPr/>
          <p:nvPr/>
        </p:nvSpPr>
        <p:spPr>
          <a:xfrm>
            <a:off x="2700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71"/>
          <p:cNvSpPr/>
          <p:nvPr/>
        </p:nvSpPr>
        <p:spPr>
          <a:xfrm>
            <a:off x="4932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V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72"/>
          <p:cNvSpPr/>
          <p:nvPr/>
        </p:nvSpPr>
        <p:spPr>
          <a:xfrm>
            <a:off x="3203640" y="60055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73"/>
          <p:cNvSpPr/>
          <p:nvPr/>
        </p:nvSpPr>
        <p:spPr>
          <a:xfrm>
            <a:off x="5724360" y="5950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7"/>
          <p:cNvSpPr/>
          <p:nvPr/>
        </p:nvSpPr>
        <p:spPr>
          <a:xfrm>
            <a:off x="21146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29"/>
          <p:cNvSpPr/>
          <p:nvPr/>
        </p:nvSpPr>
        <p:spPr>
          <a:xfrm>
            <a:off x="0" y="0"/>
            <a:ext cx="6781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030" descr="6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31"/>
          <p:cNvSpPr/>
          <p:nvPr/>
        </p:nvSpPr>
        <p:spPr>
          <a:xfrm>
            <a:off x="227016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32"/>
          <p:cNvSpPr/>
          <p:nvPr/>
        </p:nvSpPr>
        <p:spPr>
          <a:xfrm>
            <a:off x="-36360" y="32004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调节烛焰、凸透镜、光屏使它们的中心在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同一高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为了使烛焰的像成在光屏的中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34"/>
          <p:cNvSpPr/>
          <p:nvPr/>
        </p:nvSpPr>
        <p:spPr>
          <a:xfrm>
            <a:off x="0" y="445140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虚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不是实际光线会聚而成，光屏上得不到的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 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由实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光线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会聚而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能显示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光屏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实验探究、收集数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3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3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4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41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42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4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4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4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4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4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4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5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与论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539640" y="98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在什么会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539640" y="1619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缩小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放大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缩小的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25542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所成的像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正立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倒立的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6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7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3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2050920" y="4428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凸透镜成像规律记忆口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4360" y="6066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分界点：</a:t>
            </a:r>
            <a:r>
              <a:rPr b="1" i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一倍焦距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虚实，</a:t>
            </a:r>
            <a:r>
              <a:rPr b="1" i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二倍焦距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95280" y="1125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像的位置：物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倍焦距以外）、像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焦距与二        倍焦距之间）；物在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像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6360" y="234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95280" y="18194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像的变化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物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变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大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2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61800" y="1557360"/>
            <a:ext cx="817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用凸透镜正对着太阳，发现在凸透镜的另一侧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c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处的光屏上得到一个亮点，寻那么将点燃的蜡烛放在位于凸透镜前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5c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处时，光屏上得到的像是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正立放大的像　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正立缩小的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倒立缩小的像　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倒立放大的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730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WordArt 5"/>
          <p:cNvSpPr txBox="1"/>
          <p:nvPr/>
        </p:nvSpPr>
        <p:spPr>
          <a:xfrm>
            <a:off x="684360" y="169920"/>
            <a:ext cx="295884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你选一选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0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4:20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