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BEEC-47DA-43CC-A804-26E9BF6A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ECFC-3C61-45D3-8167-7983102A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7FA-AC06-4EAA-A4B3-8023757C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C945-4F8B-4AD7-8D7D-97E6F8E7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F5E9-0198-4C2D-BDCC-C297C25D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FAF4-9894-48FA-BD12-BD18C1CA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5B0D-A433-4E19-AF80-35FF7FB2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A0BC-5FE4-4C72-B275-521A3303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6175-1811-4BDE-B827-CED0D280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07CE-F474-42AB-9B71-E04C438F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1DB5-58C7-4AB2-A360-55F37D57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D5E-8738-4DC0-8CD7-06183B31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2D56-3EE3-4A20-976D-49A78140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9565-7161-4088-8716-45F063DC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E4A4-EA84-446C-B311-38113A12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C2D0-D489-4B3C-B81A-B8B50555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386C-05E0-4BAC-A820-C57A1272F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B924-D025-4005-99F3-E62D7E6F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4AB2-1AF3-4D5E-ACFB-30DBFFD5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E17-22F8-4DC2-98FA-8922DB08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0B52-EB2F-4A45-8821-66E4B269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3120-2C78-4F00-8330-370FCA66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1069-3266-49FE-B5F4-7E7CF9A3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F319-DD4C-4B77-8F79-48319055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47D0-8F13-4BC6-8C72-1CAF13189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E7CA-ECCD-4FEE-A7D3-D6D9795DF27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78200-C792-4AAE-BB21-F2B31CAEED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kejian/" TargetMode="External"/><Relationship Id="rId3" Type="http://schemas.openxmlformats.org/officeDocument/2006/relationships/hyperlink" Target="http://www.1ppt.com/kejian/yuwen/" TargetMode="External"/><Relationship Id="rId4" Type="http://schemas.openxmlformats.org/officeDocument/2006/relationships/hyperlink" Target="http://www.1ppt.com/kejian/shuxue/" TargetMode="External"/><Relationship Id="rId5" Type="http://schemas.openxmlformats.org/officeDocument/2006/relationships/hyperlink" Target="http://www.1ppt.com/kejian/yingyu/" TargetMode="External"/><Relationship Id="rId6" Type="http://schemas.openxmlformats.org/officeDocument/2006/relationships/hyperlink" Target="http://www.1ppt.com/kejian/yuwen/138/" TargetMode="External"/><Relationship Id="rId7" Type="http://schemas.openxmlformats.org/officeDocument/2006/relationships/hyperlink" Target="http://www.1ppt.com/kejian/yuwen/160/" TargetMode="External"/><Relationship Id="rId8" Type="http://schemas.openxmlformats.org/officeDocument/2006/relationships/hyperlink" Target="http://www.1ppt.com/kejian/yuwen/161/" TargetMode="External"/><Relationship Id="rId9" Type="http://schemas.openxmlformats.org/officeDocument/2006/relationships/hyperlink" Target="http://www.1ppt.com/kejian/yuwen/162/" TargetMode="External"/><Relationship Id="rId10" Type="http://schemas.openxmlformats.org/officeDocument/2006/relationships/hyperlink" Target="http://www.1ppt.com/kejian/yuwen/163/" TargetMode="External"/><Relationship Id="rId11" Type="http://schemas.openxmlformats.org/officeDocument/2006/relationships/hyperlink" Target="http://www.1ppt.com/kejian/yuwen/164/" TargetMode="External"/><Relationship Id="rId12" Type="http://schemas.openxmlformats.org/officeDocument/2006/relationships/hyperlink" Target="http://www.1ppt.com/kejian/yuwen/165/" TargetMode="External"/><Relationship Id="rId13" Type="http://schemas.openxmlformats.org/officeDocument/2006/relationships/hyperlink" Target="http://www.1ppt.com/" TargetMode="External"/><Relationship Id="rId14" Type="http://schemas.openxmlformats.org/officeDocument/2006/relationships/hyperlink" Target="http://www.1ppt.com/kejian/yuwen/166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kejian/yuwen/167/" TargetMode="Externa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3280" y="907560"/>
            <a:ext cx="61214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00"/>
                </a:solidFill>
                <a:latin typeface="黑体"/>
                <a:ea typeface="黑体"/>
              </a:rPr>
              <a:t>田园诗情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天堂般的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绿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草原上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白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绵羊悠然自得。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黑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猪群呼噜着。成千上万的小鸡，成群结队的长毛山羊安闲的欣赏着这属于它们自己的王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7812000" y="5013360"/>
            <a:ext cx="647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到了傍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才看到有人架着小船过来，做上小板凳，给严肃沉默的奶牛挤奶。金色的晚霞铺在西天，远处偶尔传来汽笛声，接着又是一片肃静。在这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谁都不叫喊吆喝，牛脖子上的铃铛也没有响声，挤奶的人更是默默无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78508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运河之中，装满奶桶的船只舒缓平稳行驶着。满载着一罐罐牛奶的汽车火车，不停地开往城市。车船过后，一切又归于平静。最后一抹晚霞也渐渐消失了。狗不叫了，圈里的牛不在发出哞哞声，马也忘记了踢马房的挡板。沉睡的牲畜，无声的低地，漆黑的夜晚，只有远处的几坐灯塔闪烁着微弱的光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8172360" y="5373720"/>
            <a:ext cx="57636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2"/>
          <p:cNvSpPr/>
          <p:nvPr/>
        </p:nvSpPr>
        <p:spPr>
          <a:xfrm>
            <a:off x="1631880" y="382680"/>
            <a:ext cx="6238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/kejian/yuwen/166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324000" y="260280"/>
            <a:ext cx="86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奶牛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547640" y="260280"/>
            <a:ext cx="79236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骏马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700360" y="260280"/>
            <a:ext cx="10080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羊猪鸡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4140360" y="260280"/>
            <a:ext cx="86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傍晚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435640" y="260280"/>
            <a:ext cx="865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6732720" y="260280"/>
            <a:ext cx="865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244000" y="6165720"/>
            <a:ext cx="6490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荷兰是水之国，是因为－－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荷兰是花之国，是因为－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荷兰是牧场之国，是因为－－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真正的荷兰应是－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之国，水之国，牧场之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极目远眺，碧绿如丝绒般的草地上，是一头头黑白两色的奶牛。有的牛背上盖着防潮的毛毡，正在低头吃草；有的站立不动，仿佛正在思考什么。牛犊跑前跑后，活像顽皮的孩子；老牛仪态端庄，好似牛群的家长。绿意盎然的村野野乡间，是大片大片鲜艳的郁金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的牛背上盖着防潮的毛毡，正在低头吃草；有的站立不动，仿佛正在思考什么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犊跑前跑后，活像顽皮的孩子；老牛仪态端庄，好似牛群的家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8028000" y="5013360"/>
            <a:ext cx="647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碧绿色的低地镶嵌在一条条运河之间。成群的骏马，骠悍强壮，腿粗如桩，鬃毛随风飞扬。除了深深的野草遮掩着的运河，没有什么能够阻挡它们自由飞驰。辽阔无垠的原野似乎归它们所有，它们是这个自由王国的主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群的骏马，骠悍强壮，腿粗如桩，鬃毛随风飞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除了深深的野草遮掩着的运河，没有什么能够阻挡它们自由飞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028000" y="4869000"/>
            <a:ext cx="647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天堂般的绿色草原上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色的绵羊悠然自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黑色的猪群呼噜着。成千上万的小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群结队的长毛山羊安闲的欣赏着这属于它们自己的王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4T11:21:12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9:39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