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488040"/>
            <a:ext cx="264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488040"/>
            <a:ext cx="264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488040"/>
            <a:ext cx="264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990C-9134-4767-878E-AFFB10298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58DB-B090-4D3A-8BB7-9546A50B2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AFD3-2E4E-4862-A629-F85FF811A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1022-0782-4A5D-A67E-D7E3C6F58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3209-2C67-4705-B57C-1268885A0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C2E6-D559-46CE-A50F-5BCE467CE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52D2-ACCA-46FA-B044-93EEFDB73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D16D-0F33-4CA5-870A-6462909F9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6008-11D2-477E-AB74-3B1597FD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BE56-E6C1-42C0-A496-A8FB41F58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8318-21E5-4E01-BE49-235E0ED25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488040"/>
            <a:ext cx="264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488040"/>
            <a:ext cx="264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488040"/>
            <a:ext cx="264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B9FF-EFF7-4F32-BAF9-B4CEB5AB4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7" descr="20080816153035ok2.jpg"/>
          <p:cNvPicPr/>
          <p:nvPr/>
        </p:nvPicPr>
        <p:blipFill>
          <a:blip r:embed="rId2"/>
          <a:stretch/>
        </p:blipFill>
        <p:spPr>
          <a:xfrm>
            <a:off x="0" y="5541840"/>
            <a:ext cx="9144000" cy="1316160"/>
          </a:xfrm>
          <a:prstGeom prst="rect">
            <a:avLst/>
          </a:prstGeom>
          <a:ln w="0">
            <a:noFill/>
          </a:ln>
        </p:spPr>
      </p:pic>
      <p:sp>
        <p:nvSpPr>
          <p:cNvPr id="1" name="标题 1"/>
          <p:cNvSpPr/>
          <p:nvPr/>
        </p:nvSpPr>
        <p:spPr>
          <a:xfrm>
            <a:off x="4786200" y="5786280"/>
            <a:ext cx="53578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的工作展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副标题 2"/>
          <p:cNvSpPr/>
          <p:nvPr/>
        </p:nvSpPr>
        <p:spPr>
          <a:xfrm>
            <a:off x="6315120" y="6146640"/>
            <a:ext cx="64008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My  job  persp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图片 9" descr="20080816153035.jpg"/>
          <p:cNvPicPr/>
          <p:nvPr/>
        </p:nvPicPr>
        <p:blipFill>
          <a:blip r:embed="rId3"/>
          <a:stretch/>
        </p:blipFill>
        <p:spPr>
          <a:xfrm>
            <a:off x="0" y="-46080"/>
            <a:ext cx="9144000" cy="695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646200" indent="-248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994320" indent="-198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392120" indent="-198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7" descr="20080816153035ok2.jpg"/>
          <p:cNvPicPr/>
          <p:nvPr/>
        </p:nvPicPr>
        <p:blipFill>
          <a:blip r:embed="rId2"/>
          <a:stretch/>
        </p:blipFill>
        <p:spPr>
          <a:xfrm>
            <a:off x="0" y="5541840"/>
            <a:ext cx="9144000" cy="1316160"/>
          </a:xfrm>
          <a:prstGeom prst="rect">
            <a:avLst/>
          </a:prstGeom>
          <a:ln w="0">
            <a:noFill/>
          </a:ln>
        </p:spPr>
      </p:pic>
      <p:sp>
        <p:nvSpPr>
          <p:cNvPr id="43" name="标题 1"/>
          <p:cNvSpPr/>
          <p:nvPr/>
        </p:nvSpPr>
        <p:spPr>
          <a:xfrm>
            <a:off x="4786200" y="5786280"/>
            <a:ext cx="53578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的工作展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副标题 2"/>
          <p:cNvSpPr/>
          <p:nvPr/>
        </p:nvSpPr>
        <p:spPr>
          <a:xfrm>
            <a:off x="6315120" y="6146640"/>
            <a:ext cx="64008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My  job  persp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646200" indent="-248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994320" indent="-198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392120" indent="-198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6121F-0999-4B89-A635-76742D284E5A}" type="datetime">
              <a:rPr b="0" lang="zh-CN" sz="18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F4656-5ADA-4415-A5D9-C04844F89068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68320" y="620280"/>
            <a:ext cx="7772400" cy="27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微软雅黑"/>
              </a:rPr>
              <a:t>我的工作展望</a:t>
            </a:r>
            <a:r>
              <a:rPr b="1" lang="zh-CN" sz="6600" spc="-1" strike="noStrike">
                <a:solidFill>
                  <a:srgbClr val="ffffff"/>
                </a:solidFill>
                <a:latin typeface="微软雅黑"/>
              </a:rPr>
              <a:t>PPT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714680" y="3071880"/>
            <a:ext cx="64008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f2f2"/>
                </a:solidFill>
                <a:latin typeface="微软雅黑"/>
              </a:rPr>
              <a:t>My  job  perspective</a:t>
            </a:r>
            <a:endParaRPr b="0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图片 4" descr="84.jpg"/>
          <p:cNvPicPr/>
          <p:nvPr/>
        </p:nvPicPr>
        <p:blipFill>
          <a:blip r:embed="rId1"/>
          <a:stretch/>
        </p:blipFill>
        <p:spPr>
          <a:xfrm>
            <a:off x="0" y="1143000"/>
            <a:ext cx="3484440" cy="43578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91" name="内容占位符 5" descr="22236981da6b72f39123d9b3.jpg"/>
          <p:cNvPicPr/>
          <p:nvPr/>
        </p:nvPicPr>
        <p:blipFill>
          <a:blip r:embed="rId1"/>
          <a:srcRect l="18540" t="0" r="17281" b="0"/>
          <a:stretch/>
        </p:blipFill>
        <p:spPr>
          <a:xfrm>
            <a:off x="5429160" y="1928880"/>
            <a:ext cx="3714840" cy="3614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内容占位符 7" descr="83820aed0b471d0362d09fbc.jpg"/>
          <p:cNvPicPr/>
          <p:nvPr/>
        </p:nvPicPr>
        <p:blipFill>
          <a:blip r:embed="rId1"/>
          <a:srcRect l="16046" t="0" r="19775" b="0"/>
          <a:stretch/>
        </p:blipFill>
        <p:spPr>
          <a:xfrm>
            <a:off x="2571840" y="1857240"/>
            <a:ext cx="3714840" cy="3614760"/>
          </a:xfrm>
          <a:prstGeom prst="rect">
            <a:avLst/>
          </a:prstGeom>
          <a:ln w="0">
            <a:noFill/>
          </a:ln>
        </p:spPr>
      </p:pic>
      <p:grpSp>
        <p:nvGrpSpPr>
          <p:cNvPr id="93" name="椭圆 4"/>
          <p:cNvGrpSpPr/>
          <p:nvPr/>
        </p:nvGrpSpPr>
        <p:grpSpPr>
          <a:xfrm>
            <a:off x="1176480" y="1554120"/>
            <a:ext cx="2646360" cy="3567240"/>
            <a:chOff x="1176480" y="1554120"/>
            <a:chExt cx="2646360" cy="3567240"/>
          </a:xfrm>
        </p:grpSpPr>
        <p:pic>
          <p:nvPicPr>
            <p:cNvPr id="94" name="椭圆 4" descr=""/>
            <p:cNvPicPr/>
            <p:nvPr/>
          </p:nvPicPr>
          <p:blipFill>
            <a:blip r:embed="rId2"/>
            <a:stretch/>
          </p:blipFill>
          <p:spPr>
            <a:xfrm>
              <a:off x="1176480" y="1554120"/>
              <a:ext cx="2646360" cy="356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1590840" y="1947960"/>
              <a:ext cx="1819080" cy="181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椭圆 8"/>
          <p:cNvGrpSpPr/>
          <p:nvPr/>
        </p:nvGrpSpPr>
        <p:grpSpPr>
          <a:xfrm>
            <a:off x="4962600" y="268200"/>
            <a:ext cx="2644560" cy="3565440"/>
            <a:chOff x="4962600" y="268200"/>
            <a:chExt cx="2644560" cy="3565440"/>
          </a:xfrm>
        </p:grpSpPr>
        <p:pic>
          <p:nvPicPr>
            <p:cNvPr id="97" name="椭圆 8" descr=""/>
            <p:cNvPicPr/>
            <p:nvPr/>
          </p:nvPicPr>
          <p:blipFill>
            <a:blip r:embed="rId3"/>
            <a:stretch/>
          </p:blipFill>
          <p:spPr>
            <a:xfrm>
              <a:off x="4962600" y="268200"/>
              <a:ext cx="2644560" cy="35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5376600" y="662040"/>
              <a:ext cx="1818720" cy="181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00" name="内容占位符 3" descr="4ba4742bc70d5b09d42af1bc.jpg"/>
          <p:cNvPicPr/>
          <p:nvPr/>
        </p:nvPicPr>
        <p:blipFill>
          <a:blip r:embed="rId1"/>
          <a:stretch/>
        </p:blipFill>
        <p:spPr>
          <a:xfrm>
            <a:off x="1714680" y="1919160"/>
            <a:ext cx="5787720" cy="3614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02" name="内容占位符 3" descr="OOOPIC_haiyang_20090227a5b152f2d55c2736.jpg"/>
          <p:cNvPicPr/>
          <p:nvPr/>
        </p:nvPicPr>
        <p:blipFill>
          <a:blip r:embed="rId1"/>
          <a:srcRect l="15374" t="11066" r="12165" b="0"/>
          <a:stretch/>
        </p:blipFill>
        <p:spPr>
          <a:xfrm>
            <a:off x="0" y="2305080"/>
            <a:ext cx="2357280" cy="3214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42880" y="2143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微软雅黑"/>
              </a:rPr>
              <a:t>感  谢！</a:t>
            </a:r>
            <a:endParaRPr b="0" lang="en-US" sz="6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728720" y="3357720"/>
            <a:ext cx="64008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f2f2"/>
                </a:solidFill>
                <a:latin typeface="微软雅黑"/>
              </a:rPr>
              <a:t>Thanks for  your time</a:t>
            </a:r>
            <a:endParaRPr b="0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微软雅黑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微软雅黑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微软雅黑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1T13:03:07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5:51:29Z</dcterms:modified>
  <cp:revision>3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