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1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SONATA82.wav" ContentType="audio/x-wav"/>
  <Override PartName="/ppt/media/image3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BA00-329B-4D2C-9E46-264C1C05F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C1BA-3737-4427-82ED-3C94F55A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4545-89DF-48E7-A5B1-C65DD78C7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B2E4-3600-4F84-9DB6-81B036DFE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C80E-FB4A-43CF-B6DA-3BCF872D1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1030-CA7A-4136-9BD7-653B1E24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F205-E719-4D57-AEC9-CED60521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90F3-60BD-40B5-AF93-C82594E1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5101-7B4E-4332-89DE-6C898729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EC18-2E1B-401B-9B18-E9D676C4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61D3-1A2D-431A-A7FE-5301919F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50F5-2840-4227-89C9-0A6363EB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D30C-30C3-4AE2-81EF-54E06D20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3485-BE59-4E8D-9FEE-685D15E7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12A5-CABD-4AC7-9944-D3E92570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D9FA-BFC8-4C02-A1E1-7FC7CC5F0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08A3-2C34-4556-AC34-655157CF1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6AED-ED0A-4DEE-9475-C7160D92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A3E5-6E52-4F79-A437-C681B91A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F9F4-CCCA-45DD-9DC5-6D3F03F8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F9C5-EB96-4D6D-B38E-BD7358BF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7DD2-1622-4F46-ABFF-121D7BE0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EEF8-9834-4623-99BA-9B3A5D6F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847F-6413-456C-AA73-B42A8A38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280" y="99000"/>
            <a:ext cx="1430280" cy="6645240"/>
            <a:chOff x="-8280" y="99000"/>
            <a:chExt cx="1430280" cy="6645240"/>
          </a:xfrm>
        </p:grpSpPr>
        <p:sp>
          <p:nvSpPr>
            <p:cNvPr id="1" name="Arc 3"/>
            <p:cNvSpPr/>
            <p:nvPr/>
          </p:nvSpPr>
          <p:spPr>
            <a:xfrm rot="2700000">
              <a:off x="549720" y="248040"/>
              <a:ext cx="722160" cy="7236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 rot="2700000">
              <a:off x="540720" y="255600"/>
              <a:ext cx="695520" cy="69156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 rot="2700000">
              <a:off x="538200" y="297720"/>
              <a:ext cx="650880" cy="63576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rc 6"/>
            <p:cNvSpPr/>
            <p:nvPr/>
          </p:nvSpPr>
          <p:spPr>
            <a:xfrm rot="2700000">
              <a:off x="528840" y="325080"/>
              <a:ext cx="573120" cy="56736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Arc 7"/>
            <p:cNvSpPr/>
            <p:nvPr/>
          </p:nvSpPr>
          <p:spPr>
            <a:xfrm rot="2700000">
              <a:off x="464400" y="427320"/>
              <a:ext cx="341280" cy="343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Arc 8"/>
            <p:cNvSpPr/>
            <p:nvPr/>
          </p:nvSpPr>
          <p:spPr>
            <a:xfrm rot="2700000">
              <a:off x="549720" y="1487880"/>
              <a:ext cx="722160" cy="7236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Arc 9"/>
            <p:cNvSpPr/>
            <p:nvPr/>
          </p:nvSpPr>
          <p:spPr>
            <a:xfrm rot="2700000">
              <a:off x="541080" y="1497240"/>
              <a:ext cx="695160" cy="69156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Arc 10"/>
            <p:cNvSpPr/>
            <p:nvPr/>
          </p:nvSpPr>
          <p:spPr>
            <a:xfrm rot="2700000">
              <a:off x="538200" y="1539000"/>
              <a:ext cx="650880" cy="63576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Arc 11"/>
            <p:cNvSpPr/>
            <p:nvPr/>
          </p:nvSpPr>
          <p:spPr>
            <a:xfrm rot="2700000">
              <a:off x="528840" y="1566360"/>
              <a:ext cx="573120" cy="56736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Arc 12"/>
            <p:cNvSpPr/>
            <p:nvPr/>
          </p:nvSpPr>
          <p:spPr>
            <a:xfrm rot="2700000">
              <a:off x="464400" y="1673640"/>
              <a:ext cx="341280" cy="343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Arc 13"/>
            <p:cNvSpPr/>
            <p:nvPr/>
          </p:nvSpPr>
          <p:spPr>
            <a:xfrm rot="2700000">
              <a:off x="549720" y="2738880"/>
              <a:ext cx="722160" cy="7236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Arc 14"/>
            <p:cNvSpPr/>
            <p:nvPr/>
          </p:nvSpPr>
          <p:spPr>
            <a:xfrm rot="2700000">
              <a:off x="549720" y="3994560"/>
              <a:ext cx="722160" cy="7236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Arc 15"/>
            <p:cNvSpPr/>
            <p:nvPr/>
          </p:nvSpPr>
          <p:spPr>
            <a:xfrm rot="2700000">
              <a:off x="541080" y="4003920"/>
              <a:ext cx="695160" cy="69156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Arc 16"/>
            <p:cNvSpPr/>
            <p:nvPr/>
          </p:nvSpPr>
          <p:spPr>
            <a:xfrm rot="2700000">
              <a:off x="538200" y="4045680"/>
              <a:ext cx="650880" cy="63576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Arc 17"/>
            <p:cNvSpPr/>
            <p:nvPr/>
          </p:nvSpPr>
          <p:spPr>
            <a:xfrm rot="2700000">
              <a:off x="528840" y="4073040"/>
              <a:ext cx="573120" cy="56736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Arc 18"/>
            <p:cNvSpPr/>
            <p:nvPr/>
          </p:nvSpPr>
          <p:spPr>
            <a:xfrm rot="2700000">
              <a:off x="464400" y="4175640"/>
              <a:ext cx="341280" cy="343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Arc 19"/>
            <p:cNvSpPr/>
            <p:nvPr/>
          </p:nvSpPr>
          <p:spPr>
            <a:xfrm rot="2700000">
              <a:off x="549720" y="5240880"/>
              <a:ext cx="722160" cy="7236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Arc 20"/>
            <p:cNvSpPr/>
            <p:nvPr/>
          </p:nvSpPr>
          <p:spPr>
            <a:xfrm rot="18900000">
              <a:off x="141120" y="877320"/>
              <a:ext cx="723240" cy="7225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Arc 21"/>
            <p:cNvSpPr/>
            <p:nvPr/>
          </p:nvSpPr>
          <p:spPr>
            <a:xfrm rot="18900000">
              <a:off x="155520" y="887040"/>
              <a:ext cx="702720" cy="70308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Arc 22"/>
            <p:cNvSpPr/>
            <p:nvPr/>
          </p:nvSpPr>
          <p:spPr>
            <a:xfrm rot="18900000">
              <a:off x="228600" y="914040"/>
              <a:ext cx="641880" cy="65700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Arc 23"/>
            <p:cNvSpPr/>
            <p:nvPr/>
          </p:nvSpPr>
          <p:spPr>
            <a:xfrm rot="18900000">
              <a:off x="313920" y="953640"/>
              <a:ext cx="570600" cy="57312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Arc 24"/>
            <p:cNvSpPr/>
            <p:nvPr/>
          </p:nvSpPr>
          <p:spPr>
            <a:xfrm rot="18900000">
              <a:off x="616320" y="1066320"/>
              <a:ext cx="343080" cy="341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Arc 25"/>
            <p:cNvSpPr/>
            <p:nvPr/>
          </p:nvSpPr>
          <p:spPr>
            <a:xfrm rot="18900000">
              <a:off x="150120" y="2118960"/>
              <a:ext cx="723600" cy="722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Arc 26"/>
            <p:cNvSpPr/>
            <p:nvPr/>
          </p:nvSpPr>
          <p:spPr>
            <a:xfrm rot="18900000">
              <a:off x="164520" y="2128320"/>
              <a:ext cx="702720" cy="70344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Arc 27"/>
            <p:cNvSpPr/>
            <p:nvPr/>
          </p:nvSpPr>
          <p:spPr>
            <a:xfrm rot="18900000">
              <a:off x="237960" y="2155320"/>
              <a:ext cx="642240" cy="65736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Arc 28"/>
            <p:cNvSpPr/>
            <p:nvPr/>
          </p:nvSpPr>
          <p:spPr>
            <a:xfrm rot="18900000">
              <a:off x="318600" y="2194920"/>
              <a:ext cx="570600" cy="57312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Arc 29"/>
            <p:cNvSpPr/>
            <p:nvPr/>
          </p:nvSpPr>
          <p:spPr>
            <a:xfrm rot="18900000">
              <a:off x="616320" y="2307600"/>
              <a:ext cx="343080" cy="341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Arc 30"/>
            <p:cNvSpPr/>
            <p:nvPr/>
          </p:nvSpPr>
          <p:spPr>
            <a:xfrm rot="2700000">
              <a:off x="540720" y="2747880"/>
              <a:ext cx="695520" cy="69156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Arc 31"/>
            <p:cNvSpPr/>
            <p:nvPr/>
          </p:nvSpPr>
          <p:spPr>
            <a:xfrm rot="2700000">
              <a:off x="538200" y="2790000"/>
              <a:ext cx="650880" cy="63576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Arc 32"/>
            <p:cNvSpPr/>
            <p:nvPr/>
          </p:nvSpPr>
          <p:spPr>
            <a:xfrm rot="2700000">
              <a:off x="533520" y="2817360"/>
              <a:ext cx="573120" cy="56736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Arc 33"/>
            <p:cNvSpPr/>
            <p:nvPr/>
          </p:nvSpPr>
          <p:spPr>
            <a:xfrm rot="2700000">
              <a:off x="464400" y="2924640"/>
              <a:ext cx="341280" cy="343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Arc 34"/>
            <p:cNvSpPr/>
            <p:nvPr/>
          </p:nvSpPr>
          <p:spPr>
            <a:xfrm rot="18900000">
              <a:off x="155520" y="3369960"/>
              <a:ext cx="723240" cy="722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Arc 35"/>
            <p:cNvSpPr/>
            <p:nvPr/>
          </p:nvSpPr>
          <p:spPr>
            <a:xfrm rot="18900000">
              <a:off x="179280" y="3379320"/>
              <a:ext cx="702720" cy="70308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Arc 36"/>
            <p:cNvSpPr/>
            <p:nvPr/>
          </p:nvSpPr>
          <p:spPr>
            <a:xfrm rot="18900000">
              <a:off x="242640" y="3406320"/>
              <a:ext cx="642240" cy="65736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Arc 37"/>
            <p:cNvSpPr/>
            <p:nvPr/>
          </p:nvSpPr>
          <p:spPr>
            <a:xfrm rot="18900000">
              <a:off x="323280" y="3445920"/>
              <a:ext cx="570600" cy="57312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Arc 38"/>
            <p:cNvSpPr/>
            <p:nvPr/>
          </p:nvSpPr>
          <p:spPr>
            <a:xfrm rot="18900000">
              <a:off x="621000" y="3558600"/>
              <a:ext cx="343080" cy="341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Arc 39"/>
            <p:cNvSpPr/>
            <p:nvPr/>
          </p:nvSpPr>
          <p:spPr>
            <a:xfrm rot="18900000">
              <a:off x="150120" y="4625640"/>
              <a:ext cx="723600" cy="722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Arc 40"/>
            <p:cNvSpPr/>
            <p:nvPr/>
          </p:nvSpPr>
          <p:spPr>
            <a:xfrm rot="18900000">
              <a:off x="164520" y="4635000"/>
              <a:ext cx="702720" cy="70344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Arc 41"/>
            <p:cNvSpPr/>
            <p:nvPr/>
          </p:nvSpPr>
          <p:spPr>
            <a:xfrm rot="18900000">
              <a:off x="237960" y="4662000"/>
              <a:ext cx="642240" cy="65736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Arc 42"/>
            <p:cNvSpPr/>
            <p:nvPr/>
          </p:nvSpPr>
          <p:spPr>
            <a:xfrm rot="18900000">
              <a:off x="323280" y="4701600"/>
              <a:ext cx="570600" cy="57312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Arc 43"/>
            <p:cNvSpPr/>
            <p:nvPr/>
          </p:nvSpPr>
          <p:spPr>
            <a:xfrm rot="18900000">
              <a:off x="616320" y="4814280"/>
              <a:ext cx="343080" cy="341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Arc 44"/>
            <p:cNvSpPr/>
            <p:nvPr/>
          </p:nvSpPr>
          <p:spPr>
            <a:xfrm rot="2700000">
              <a:off x="540720" y="5249880"/>
              <a:ext cx="695520" cy="69156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Arc 45"/>
            <p:cNvSpPr/>
            <p:nvPr/>
          </p:nvSpPr>
          <p:spPr>
            <a:xfrm rot="2700000">
              <a:off x="538200" y="5292000"/>
              <a:ext cx="650880" cy="63576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Arc 46"/>
            <p:cNvSpPr/>
            <p:nvPr/>
          </p:nvSpPr>
          <p:spPr>
            <a:xfrm rot="2700000">
              <a:off x="528840" y="5319360"/>
              <a:ext cx="573120" cy="56736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Arc 47"/>
            <p:cNvSpPr/>
            <p:nvPr/>
          </p:nvSpPr>
          <p:spPr>
            <a:xfrm rot="2700000">
              <a:off x="464400" y="5426640"/>
              <a:ext cx="341280" cy="343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Arc 48"/>
            <p:cNvSpPr/>
            <p:nvPr/>
          </p:nvSpPr>
          <p:spPr>
            <a:xfrm rot="18900000">
              <a:off x="150480" y="5871600"/>
              <a:ext cx="723600" cy="7225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Arc 49"/>
            <p:cNvSpPr/>
            <p:nvPr/>
          </p:nvSpPr>
          <p:spPr>
            <a:xfrm rot="18900000">
              <a:off x="164880" y="5881320"/>
              <a:ext cx="702720" cy="70308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50"/>
            <p:cNvSpPr/>
            <p:nvPr/>
          </p:nvSpPr>
          <p:spPr>
            <a:xfrm rot="18900000">
              <a:off x="237600" y="5908320"/>
              <a:ext cx="642240" cy="65700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1"/>
            <p:cNvSpPr/>
            <p:nvPr/>
          </p:nvSpPr>
          <p:spPr>
            <a:xfrm rot="18900000">
              <a:off x="318600" y="5947920"/>
              <a:ext cx="570600" cy="57312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rc 52"/>
            <p:cNvSpPr/>
            <p:nvPr/>
          </p:nvSpPr>
          <p:spPr>
            <a:xfrm rot="18900000">
              <a:off x="616320" y="6060600"/>
              <a:ext cx="343080" cy="341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6494-A5EA-4FDB-A8B8-A47A75EC1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2800-CA3F-4237-93E1-2818DCF2B98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D1E5-E280-4C67-9AF7-488D0D3718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SONATA82.wav" TargetMode="External"/><Relationship Id="rId2" Type="http://schemas.microsoft.com/office/2007/relationships/media" Target="file:///tmp/home/.config/libreoffice/4/user/gallery/SONATA82.wav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audio" Target="../media/SONATA82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D:\闫利平八册语文教案\语文第四单元\威尼斯的小艇\图片\画框图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\\四年级二班\闫利平八册语\语文第四单元\威尼斯的小艇\图片\威尼斯小船.jpg"/>
          <p:cNvPicPr/>
          <p:nvPr/>
        </p:nvPicPr>
        <p:blipFill>
          <a:blip r:embed="rId2"/>
          <a:stretch/>
        </p:blipFill>
        <p:spPr>
          <a:xfrm>
            <a:off x="1143000" y="990720"/>
            <a:ext cx="6858000" cy="4952880"/>
          </a:xfrm>
          <a:prstGeom prst="rect">
            <a:avLst/>
          </a:prstGeom>
          <a:ln w="0">
            <a:noFill/>
          </a:ln>
        </p:spPr>
      </p:pic>
      <p:sp>
        <p:nvSpPr>
          <p:cNvPr id="135" name="WordArt 3"/>
          <p:cNvSpPr txBox="1"/>
          <p:nvPr/>
        </p:nvSpPr>
        <p:spPr>
          <a:xfrm>
            <a:off x="0" y="4114800"/>
            <a:ext cx="79246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威尼斯的小艇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9" descr="D:\闫利平八册语文教案\语文第四单元\威尼斯的小艇\图片\威尼斯.jpg"/>
          <p:cNvPicPr/>
          <p:nvPr/>
        </p:nvPicPr>
        <p:blipFill>
          <a:blip r:embed="rId1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\\四年级二班\闫利平八册语\语文第四单元\威尼斯的小艇\图片\威尼斯小船.jpg"/>
          <p:cNvPicPr/>
          <p:nvPr/>
        </p:nvPicPr>
        <p:blipFill>
          <a:blip r:embed="rId2"/>
          <a:stretch/>
        </p:blipFill>
        <p:spPr>
          <a:xfrm>
            <a:off x="0" y="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\\四年级二班\闫利平八册语\语文第四单元\威尼斯的小艇\图片\000317203.jpeg"/>
          <p:cNvPicPr/>
          <p:nvPr/>
        </p:nvPicPr>
        <p:blipFill>
          <a:blip r:embed="rId3"/>
          <a:stretch/>
        </p:blipFill>
        <p:spPr>
          <a:xfrm>
            <a:off x="4648320" y="0"/>
            <a:ext cx="4495680" cy="35053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1219320" y="22096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船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5410080" y="7621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黑体"/>
              </a:rPr>
              <a:t>桥梁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219320" y="373392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历史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1" name="Picture 10" descr="D:\闫利平八册语文教案\语文第四单元\威尼斯的小艇\图片\威尼斯3.jpg"/>
          <p:cNvPicPr/>
          <p:nvPr/>
        </p:nvPicPr>
        <p:blipFill>
          <a:blip r:embed="rId4"/>
          <a:stretch/>
        </p:blipFill>
        <p:spPr>
          <a:xfrm>
            <a:off x="4572000" y="3505320"/>
            <a:ext cx="4572000" cy="33526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1"/>
          <p:cNvSpPr/>
          <p:nvPr/>
        </p:nvSpPr>
        <p:spPr>
          <a:xfrm>
            <a:off x="5715000" y="358128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66cc"/>
                </a:solidFill>
                <a:latin typeface="Times New Roman"/>
                <a:ea typeface="隶书"/>
              </a:rPr>
              <a:t>名胜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威尼斯小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cc00"/>
                </a:solidFill>
                <a:latin typeface="Times New Roman"/>
              </a:rPr>
              <a:t>使用规范说明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6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6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D:\闫利平八册语文教案\语文第四单元\威尼斯的小艇\图片\新威尼斯小船.jpg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304920" y="396252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Times New Roman"/>
                <a:ea typeface="黑体"/>
              </a:rPr>
              <a:t>        </a:t>
            </a:r>
            <a:r>
              <a:rPr b="0" lang="zh-CN" sz="5400" spc="-1" strike="noStrike">
                <a:solidFill>
                  <a:srgbClr val="cc0000"/>
                </a:solidFill>
                <a:latin typeface="Times New Roman"/>
                <a:ea typeface="黑体"/>
              </a:rPr>
              <a:t>威尼斯的小艇又窄又深；船头和船艄向上翘起；行动起来轻快，灵活。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D:\闫利平八册语文教案\语文第四单元\威尼斯的小艇\图片\画框图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D:\闫利平八册语文教案\语文第四单元\威尼斯的小艇\图片\船舱2.BMP"/>
          <p:cNvPicPr/>
          <p:nvPr/>
        </p:nvPicPr>
        <p:blipFill>
          <a:blip r:embed="rId2"/>
          <a:stretch/>
        </p:blipFill>
        <p:spPr>
          <a:xfrm>
            <a:off x="1295280" y="914400"/>
            <a:ext cx="6553440" cy="50292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wipe dir="l"/>
    <p:sndAc>
      <p:stSnd>
        <p:snd r:embed="rId3" name="SONATA82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D:\闫利平八册语文教案\语文第四单元\威尼斯的小艇\图片\画框图4.jpg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D:\闫利平八册语文教案\语文第四单元\威尼斯的小艇\图片\船舱3.BMP"/>
          <p:cNvPicPr/>
          <p:nvPr/>
        </p:nvPicPr>
        <p:blipFill>
          <a:blip r:embed="rId2"/>
          <a:stretch/>
        </p:blipFill>
        <p:spPr>
          <a:xfrm>
            <a:off x="1219320" y="914400"/>
            <a:ext cx="6629400" cy="495288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D:\闫利平八册语文教案\语文第四单元\威尼斯的小艇\图片\画框图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\\四年级二班\闫利平八册语\语文第四单元\威尼斯的小艇\图片\威尼斯小船1.jpg"/>
          <p:cNvPicPr/>
          <p:nvPr/>
        </p:nvPicPr>
        <p:blipFill>
          <a:blip r:embed="rId2"/>
          <a:stretch/>
        </p:blipFill>
        <p:spPr>
          <a:xfrm>
            <a:off x="1295280" y="990720"/>
            <a:ext cx="6553440" cy="4952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028" descr="D:\闫利平八册语文教案\语文第四单元\威尼斯的小艇\图片\画框图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27" descr="\\四年级二班\闫利平八册语\语文第四单元\威尼斯的小艇\图片\000317203.jpeg"/>
          <p:cNvPicPr/>
          <p:nvPr/>
        </p:nvPicPr>
        <p:blipFill>
          <a:blip r:embed="rId2"/>
          <a:stretch/>
        </p:blipFill>
        <p:spPr>
          <a:xfrm>
            <a:off x="1219320" y="820800"/>
            <a:ext cx="6705360" cy="5122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8" descr="D:\闫利平八册语文教案\语文第四单元\威尼斯的小艇\图片\new_pa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2"/>
          <p:cNvSpPr/>
          <p:nvPr/>
        </p:nvSpPr>
        <p:spPr>
          <a:xfrm>
            <a:off x="1600200" y="380880"/>
            <a:ext cx="68580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（</a:t>
            </a:r>
            <a:r>
              <a:rPr b="1" lang="en-US" sz="4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）默读第四段，想想每一自然段说了什么？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（</a:t>
            </a:r>
            <a:r>
              <a:rPr b="1" lang="en-US" sz="4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）这一段有几层意思？有主次之分吗？怎样概括段意？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（</a:t>
            </a:r>
            <a:r>
              <a:rPr b="1" lang="en-US" sz="4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3</a:t>
            </a: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）同桌讨论上面的问题。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WordArt 7"/>
          <p:cNvSpPr txBox="1"/>
          <p:nvPr/>
        </p:nvSpPr>
        <p:spPr>
          <a:xfrm rot="5400000">
            <a:off x="-1676160" y="2743200"/>
            <a:ext cx="5181480" cy="1218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38160">
                  <a:solidFill>
                    <a:srgbClr val="9933ff"/>
                  </a:solidFill>
                  <a:miter/>
                </a:ln>
                <a:solidFill>
                  <a:srgbClr val="ff3399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黑体"/>
              </a:rPr>
              <a:t>自学提纲</a:t>
            </a:r>
            <a:endParaRPr b="1" lang="en-US" sz="2400" spc="1" strike="noStrike">
              <a:ln w="38160">
                <a:solidFill>
                  <a:srgbClr val="9933ff"/>
                </a:solidFill>
                <a:miter/>
              </a:ln>
              <a:solidFill>
                <a:srgbClr val="ff3399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\\四年级二班\闫利平八册语\语文第四单元\威尼斯的小艇\图片\框图14.jpg"/>
          <p:cNvPicPr/>
          <p:nvPr/>
        </p:nvPicPr>
        <p:blipFill>
          <a:blip r:embed="rId1"/>
          <a:stretch/>
        </p:blipFill>
        <p:spPr>
          <a:xfrm>
            <a:off x="-914400" y="-533520"/>
            <a:ext cx="10591920" cy="7925040"/>
          </a:xfrm>
          <a:prstGeom prst="rect">
            <a:avLst/>
          </a:prstGeom>
          <a:ln w="0">
            <a:noFill/>
          </a:ln>
        </p:spPr>
      </p:pic>
      <p:sp>
        <p:nvSpPr>
          <p:cNvPr id="150" name="WordArt 2"/>
          <p:cNvSpPr txBox="1"/>
          <p:nvPr/>
        </p:nvSpPr>
        <p:spPr>
          <a:xfrm>
            <a:off x="0" y="685800"/>
            <a:ext cx="8153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ln w="9360">
                  <a:solidFill>
                    <a:srgbClr val="9933ff"/>
                  </a:solidFill>
                  <a:miter/>
                </a:ln>
                <a:solidFill>
                  <a:srgbClr val="ff66cc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隶书"/>
              </a:rPr>
              <a:t>运用想象，用下面的句式说话。</a:t>
            </a:r>
            <a:endParaRPr b="0" i="1" lang="en-US" sz="2800" spc="-1" strike="noStrike">
              <a:ln w="9360">
                <a:solidFill>
                  <a:srgbClr val="9933ff"/>
                </a:solidFill>
                <a:miter/>
              </a:ln>
              <a:solidFill>
                <a:srgbClr val="ff66cc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-762120" y="24382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Times New Roman"/>
                <a:ea typeface="隶书"/>
              </a:rPr>
              <a:t>（）乘小艇（）。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D:\闫利平八册语文教案\语文第四单元\威尼斯的小艇\图片\new_pa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2"/>
          <p:cNvSpPr/>
          <p:nvPr/>
        </p:nvSpPr>
        <p:spPr>
          <a:xfrm>
            <a:off x="457200" y="38088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    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在急驶的时候，他能够</a:t>
            </a: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拐弯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；在拥挤的时候，他能够</a:t>
            </a: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挤进挤出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。我们看是极窄极险的地方，小艇能够</a:t>
            </a: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穿过去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而且速度非常快，两边的建筑物飞一般地往后倒退。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7:12:53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6:14Z</dcterms:modified>
  <cp:revision>5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