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02%E6%B0%B4%E6%BB%B4.WAV" ContentType="audio/x-wav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1.gif" ContentType="image/gi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0A9-A7ED-4C24-AFD9-08700E67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D60-7F4F-47AD-9DE7-339E5654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95F-9A94-438C-B804-E881B743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673-050B-4C2C-B90B-81B1361D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1DF-4F8E-484B-B172-7E3F89CC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803-8A06-4F64-B9F9-9D6BE097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4CC-63E4-44FE-A01B-AD24EBCF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F13-1645-40F2-A1BA-77157C6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223-9802-41A9-B1B2-EE540376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D0F-5D97-4787-A5AD-ABF1BB9F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DCE-159D-4E00-B0B2-89A5898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F18-6EEA-4611-B2EC-DC4536EA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8108-549D-4DC5-BDD6-48CCFB31F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audio" Target="../media/02&#27700;&#28404;.WAV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白云"/>
          <p:cNvPicPr/>
          <p:nvPr/>
        </p:nvPicPr>
        <p:blipFill>
          <a:blip r:embed="rId2"/>
          <a:stretch/>
        </p:blipFill>
        <p:spPr>
          <a:xfrm>
            <a:off x="304920" y="4038480"/>
            <a:ext cx="1692000" cy="1270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露珠"/>
          <p:cNvPicPr/>
          <p:nvPr/>
        </p:nvPicPr>
        <p:blipFill>
          <a:blip r:embed="rId3"/>
          <a:stretch/>
        </p:blipFill>
        <p:spPr>
          <a:xfrm>
            <a:off x="2362320" y="4038480"/>
            <a:ext cx="167616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雪花１"/>
          <p:cNvPicPr/>
          <p:nvPr/>
        </p:nvPicPr>
        <p:blipFill>
          <a:blip r:embed="rId4"/>
          <a:stretch/>
        </p:blipFill>
        <p:spPr>
          <a:xfrm>
            <a:off x="4495680" y="4038480"/>
            <a:ext cx="160020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雹子"/>
          <p:cNvPicPr/>
          <p:nvPr/>
        </p:nvPicPr>
        <p:blipFill>
          <a:blip r:embed="rId5"/>
          <a:stretch/>
        </p:blipFill>
        <p:spPr>
          <a:xfrm>
            <a:off x="6553080" y="4038480"/>
            <a:ext cx="1800360" cy="1175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228600" y="9907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8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宋体"/>
              </a:rPr>
              <a:t>我是什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08640" y="620856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浮"/>
          <p:cNvPicPr/>
          <p:nvPr/>
        </p:nvPicPr>
        <p:blipFill>
          <a:blip r:embed="rId2"/>
          <a:stretch/>
        </p:blipFill>
        <p:spPr>
          <a:xfrm>
            <a:off x="826920" y="1413000"/>
            <a:ext cx="1008360" cy="159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碰"/>
          <p:cNvPicPr/>
          <p:nvPr/>
        </p:nvPicPr>
        <p:blipFill>
          <a:blip r:embed="rId3"/>
          <a:stretch/>
        </p:blipFill>
        <p:spPr>
          <a:xfrm>
            <a:off x="1835280" y="1355760"/>
            <a:ext cx="1439640" cy="1641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雹"/>
          <p:cNvPicPr/>
          <p:nvPr/>
        </p:nvPicPr>
        <p:blipFill>
          <a:blip r:embed="rId4"/>
          <a:stretch/>
        </p:blipFill>
        <p:spPr>
          <a:xfrm>
            <a:off x="3355920" y="1413000"/>
            <a:ext cx="114480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躁"/>
          <p:cNvPicPr/>
          <p:nvPr/>
        </p:nvPicPr>
        <p:blipFill>
          <a:blip r:embed="rId5"/>
          <a:stretch/>
        </p:blipFill>
        <p:spPr>
          <a:xfrm>
            <a:off x="5791320" y="1414440"/>
            <a:ext cx="1203120" cy="1582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灌"/>
          <p:cNvPicPr/>
          <p:nvPr/>
        </p:nvPicPr>
        <p:blipFill>
          <a:blip r:embed="rId6"/>
          <a:stretch/>
        </p:blipFill>
        <p:spPr>
          <a:xfrm>
            <a:off x="7093080" y="1413000"/>
            <a:ext cx="133956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溉"/>
          <p:cNvPicPr/>
          <p:nvPr/>
        </p:nvPicPr>
        <p:blipFill>
          <a:blip r:embed="rId7"/>
          <a:stretch/>
        </p:blipFill>
        <p:spPr>
          <a:xfrm>
            <a:off x="698400" y="3284640"/>
            <a:ext cx="1200240" cy="165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淹"/>
          <p:cNvPicPr/>
          <p:nvPr/>
        </p:nvPicPr>
        <p:blipFill>
          <a:blip r:embed="rId8"/>
          <a:stretch/>
        </p:blipFill>
        <p:spPr>
          <a:xfrm>
            <a:off x="3360600" y="3357720"/>
            <a:ext cx="1140120" cy="150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稼"/>
          <p:cNvPicPr/>
          <p:nvPr/>
        </p:nvPicPr>
        <p:blipFill>
          <a:blip r:embed="rId9"/>
          <a:stretch/>
        </p:blipFill>
        <p:spPr>
          <a:xfrm>
            <a:off x="4643280" y="3284640"/>
            <a:ext cx="1098720" cy="15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浮01"/>
          <p:cNvPicPr/>
          <p:nvPr/>
        </p:nvPicPr>
        <p:blipFill>
          <a:blip r:embed="rId10"/>
          <a:stretch/>
        </p:blipFill>
        <p:spPr>
          <a:xfrm>
            <a:off x="838080" y="1447920"/>
            <a:ext cx="959040" cy="151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碰01"/>
          <p:cNvPicPr/>
          <p:nvPr/>
        </p:nvPicPr>
        <p:blipFill>
          <a:blip r:embed="rId11"/>
          <a:stretch/>
        </p:blipFill>
        <p:spPr>
          <a:xfrm>
            <a:off x="1828800" y="1447920"/>
            <a:ext cx="1440000" cy="1641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雹01"/>
          <p:cNvPicPr/>
          <p:nvPr/>
        </p:nvPicPr>
        <p:blipFill>
          <a:blip r:embed="rId12"/>
          <a:stretch/>
        </p:blipFill>
        <p:spPr>
          <a:xfrm>
            <a:off x="3348000" y="1419120"/>
            <a:ext cx="1195560" cy="1578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躁01"/>
          <p:cNvPicPr/>
          <p:nvPr/>
        </p:nvPicPr>
        <p:blipFill>
          <a:blip r:embed="rId13"/>
          <a:stretch/>
        </p:blipFill>
        <p:spPr>
          <a:xfrm>
            <a:off x="5761080" y="1413000"/>
            <a:ext cx="1258920" cy="165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灌 01"/>
          <p:cNvPicPr/>
          <p:nvPr/>
        </p:nvPicPr>
        <p:blipFill>
          <a:blip r:embed="rId14"/>
          <a:stretch/>
        </p:blipFill>
        <p:spPr>
          <a:xfrm>
            <a:off x="7045200" y="1413000"/>
            <a:ext cx="1400400" cy="165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溉01"/>
          <p:cNvPicPr/>
          <p:nvPr/>
        </p:nvPicPr>
        <p:blipFill>
          <a:blip r:embed="rId15"/>
          <a:stretch/>
        </p:blipFill>
        <p:spPr>
          <a:xfrm>
            <a:off x="684360" y="3213000"/>
            <a:ext cx="1279440" cy="1770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淹01"/>
          <p:cNvPicPr/>
          <p:nvPr/>
        </p:nvPicPr>
        <p:blipFill>
          <a:blip r:embed="rId16"/>
          <a:stretch/>
        </p:blipFill>
        <p:spPr>
          <a:xfrm>
            <a:off x="3348000" y="3357720"/>
            <a:ext cx="1224000" cy="157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稼01"/>
          <p:cNvPicPr/>
          <p:nvPr/>
        </p:nvPicPr>
        <p:blipFill>
          <a:blip r:embed="rId17"/>
          <a:stretch/>
        </p:blipFill>
        <p:spPr>
          <a:xfrm>
            <a:off x="4621320" y="3284640"/>
            <a:ext cx="1174680" cy="1584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29520 w 684360"/>
              <a:gd name="textAreaRight" fmla="*/ 654840 w 68436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80" y="1350"/>
                </a:lnTo>
                <a:lnTo>
                  <a:pt x="1350" y="135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80" y="20250"/>
                </a:lnTo>
                <a:lnTo>
                  <a:pt x="29680" y="135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680" y="2025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030" h="21600">
                <a:moveTo>
                  <a:pt x="15515" y="3800"/>
                </a:moveTo>
                <a:lnTo>
                  <a:pt x="18105" y="6425"/>
                </a:lnTo>
                <a:lnTo>
                  <a:pt x="18105" y="4675"/>
                </a:lnTo>
                <a:lnTo>
                  <a:pt x="19890" y="4675"/>
                </a:lnTo>
                <a:lnTo>
                  <a:pt x="19890" y="8210"/>
                </a:lnTo>
                <a:lnTo>
                  <a:pt x="22515" y="10800"/>
                </a:lnTo>
                <a:lnTo>
                  <a:pt x="20852" y="10800"/>
                </a:lnTo>
                <a:lnTo>
                  <a:pt x="20852" y="18028"/>
                </a:lnTo>
                <a:lnTo>
                  <a:pt x="10177" y="18028"/>
                </a:lnTo>
                <a:lnTo>
                  <a:pt x="10177" y="10800"/>
                </a:lnTo>
                <a:lnTo>
                  <a:pt x="8515" y="10800"/>
                </a:lnTo>
                <a:close/>
              </a:path>
              <a:path fill="darkenLess" w="31030" h="21600">
                <a:moveTo>
                  <a:pt x="18105" y="6425"/>
                </a:moveTo>
                <a:lnTo>
                  <a:pt x="18105" y="4675"/>
                </a:lnTo>
                <a:lnTo>
                  <a:pt x="19890" y="4675"/>
                </a:lnTo>
                <a:lnTo>
                  <a:pt x="19890" y="8210"/>
                </a:lnTo>
                <a:close/>
              </a:path>
              <a:path fill="darkenLess" w="31030" h="21600">
                <a:moveTo>
                  <a:pt x="14587" y="14318"/>
                </a:moveTo>
                <a:lnTo>
                  <a:pt x="16442" y="14318"/>
                </a:lnTo>
                <a:lnTo>
                  <a:pt x="16442" y="18028"/>
                </a:lnTo>
                <a:lnTo>
                  <a:pt x="20852" y="18028"/>
                </a:lnTo>
                <a:lnTo>
                  <a:pt x="20852" y="10800"/>
                </a:lnTo>
                <a:lnTo>
                  <a:pt x="10177" y="10800"/>
                </a:lnTo>
                <a:lnTo>
                  <a:pt x="10177" y="18028"/>
                </a:lnTo>
                <a:lnTo>
                  <a:pt x="14587" y="18028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8109720" y="634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u=3231800715,1124257756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52280" y="1143000"/>
            <a:ext cx="89917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ú               báo       bào zào      guàn gà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飘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浮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冰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暴 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灌 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ì          yān mò               jia               hu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淹 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i                      zā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灾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害     火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565840" y="6270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222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白云"/>
          <p:cNvPicPr/>
          <p:nvPr/>
        </p:nvPicPr>
        <p:blipFill>
          <a:blip r:embed="rId1"/>
          <a:stretch/>
        </p:blipFill>
        <p:spPr>
          <a:xfrm>
            <a:off x="0" y="0"/>
            <a:ext cx="2514600" cy="181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乌云"/>
          <p:cNvPicPr/>
          <p:nvPr/>
        </p:nvPicPr>
        <p:blipFill>
          <a:blip r:embed="rId2"/>
          <a:stretch/>
        </p:blipFill>
        <p:spPr>
          <a:xfrm>
            <a:off x="0" y="1844640"/>
            <a:ext cx="2514600" cy="166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朝霞"/>
          <p:cNvPicPr/>
          <p:nvPr/>
        </p:nvPicPr>
        <p:blipFill>
          <a:blip r:embed="rId3"/>
          <a:stretch/>
        </p:blipFill>
        <p:spPr>
          <a:xfrm>
            <a:off x="0" y="3500280"/>
            <a:ext cx="2514600" cy="153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晚霞"/>
          <p:cNvPicPr/>
          <p:nvPr/>
        </p:nvPicPr>
        <p:blipFill>
          <a:blip r:embed="rId4"/>
          <a:stretch/>
        </p:blipFill>
        <p:spPr>
          <a:xfrm>
            <a:off x="0" y="5084640"/>
            <a:ext cx="2514600" cy="1773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2666880" y="60948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有时候我穿着白衣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514600" y="22860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有时候我穿着黑衣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14600" y="4191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早晨和傍晚我又把红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披在身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4d23451d911a4ac8e1fe0b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04920" y="259092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有时候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有时候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444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191120" y="9144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203640" y="2352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58128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794440" y="634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2560" y="4365720"/>
            <a:ext cx="10810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11280" y="2708280"/>
            <a:ext cx="10810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907920"/>
            <a:ext cx="10810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yu"/>
          <p:cNvPicPr/>
          <p:nvPr/>
        </p:nvPicPr>
        <p:blipFill>
          <a:blip r:embed="rId1"/>
          <a:stretch/>
        </p:blipFill>
        <p:spPr>
          <a:xfrm>
            <a:off x="68256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aozi"/>
          <p:cNvPicPr/>
          <p:nvPr/>
        </p:nvPicPr>
        <p:blipFill>
          <a:blip r:embed="rId2"/>
          <a:stretch/>
        </p:blipFill>
        <p:spPr>
          <a:xfrm>
            <a:off x="682560" y="278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xue"/>
          <p:cNvPicPr/>
          <p:nvPr/>
        </p:nvPicPr>
        <p:blipFill>
          <a:blip r:embed="rId3"/>
          <a:stretch/>
        </p:blipFill>
        <p:spPr>
          <a:xfrm>
            <a:off x="739800" y="44211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908000" y="1197000"/>
            <a:ext cx="670752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变成水珠（     ）下来，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835280" y="2924280"/>
            <a:ext cx="730872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变成小硬球（     ）下来，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雹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835280" y="4653000"/>
            <a:ext cx="670716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变成小花朵（     ）下来，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4089600" y="113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383360" y="285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449960" y="458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29520 w 684360"/>
              <a:gd name="textAreaRight" fmla="*/ 654840 w 68436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80" y="1350"/>
                </a:lnTo>
                <a:lnTo>
                  <a:pt x="1350" y="135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80" y="20250"/>
                </a:lnTo>
                <a:lnTo>
                  <a:pt x="29680" y="135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680" y="2025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030" h="21600">
                <a:moveTo>
                  <a:pt x="15515" y="3800"/>
                </a:moveTo>
                <a:lnTo>
                  <a:pt x="18105" y="6425"/>
                </a:lnTo>
                <a:lnTo>
                  <a:pt x="18105" y="4675"/>
                </a:lnTo>
                <a:lnTo>
                  <a:pt x="19890" y="4675"/>
                </a:lnTo>
                <a:lnTo>
                  <a:pt x="19890" y="8210"/>
                </a:lnTo>
                <a:lnTo>
                  <a:pt x="22515" y="10800"/>
                </a:lnTo>
                <a:lnTo>
                  <a:pt x="20852" y="10800"/>
                </a:lnTo>
                <a:lnTo>
                  <a:pt x="20852" y="18028"/>
                </a:lnTo>
                <a:lnTo>
                  <a:pt x="10177" y="18028"/>
                </a:lnTo>
                <a:lnTo>
                  <a:pt x="10177" y="10800"/>
                </a:lnTo>
                <a:lnTo>
                  <a:pt x="8515" y="10800"/>
                </a:lnTo>
                <a:close/>
              </a:path>
              <a:path fill="darkenLess" w="31030" h="21600">
                <a:moveTo>
                  <a:pt x="18105" y="6425"/>
                </a:moveTo>
                <a:lnTo>
                  <a:pt x="18105" y="4675"/>
                </a:lnTo>
                <a:lnTo>
                  <a:pt x="19890" y="4675"/>
                </a:lnTo>
                <a:lnTo>
                  <a:pt x="19890" y="8210"/>
                </a:lnTo>
                <a:close/>
              </a:path>
              <a:path fill="darkenLess" w="31030" h="21600">
                <a:moveTo>
                  <a:pt x="14587" y="14318"/>
                </a:moveTo>
                <a:lnTo>
                  <a:pt x="16442" y="14318"/>
                </a:lnTo>
                <a:lnTo>
                  <a:pt x="16442" y="18028"/>
                </a:lnTo>
                <a:lnTo>
                  <a:pt x="20852" y="18028"/>
                </a:lnTo>
                <a:lnTo>
                  <a:pt x="20852" y="10800"/>
                </a:lnTo>
                <a:lnTo>
                  <a:pt x="10177" y="10800"/>
                </a:lnTo>
                <a:lnTo>
                  <a:pt x="10177" y="18028"/>
                </a:lnTo>
                <a:lnTo>
                  <a:pt x="14587" y="18028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大海"/>
          <p:cNvPicPr/>
          <p:nvPr/>
        </p:nvPicPr>
        <p:blipFill>
          <a:blip r:embed="rId1"/>
          <a:stretch/>
        </p:blipFill>
        <p:spPr>
          <a:xfrm>
            <a:off x="6048360" y="3284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湖泊"/>
          <p:cNvPicPr/>
          <p:nvPr/>
        </p:nvPicPr>
        <p:blipFill>
          <a:blip r:embed="rId2"/>
          <a:stretch/>
        </p:blipFill>
        <p:spPr>
          <a:xfrm>
            <a:off x="2771640" y="260280"/>
            <a:ext cx="3097440" cy="2152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江河"/>
          <p:cNvPicPr/>
          <p:nvPr/>
        </p:nvPicPr>
        <p:blipFill>
          <a:blip r:embed="rId3"/>
          <a:stretch/>
        </p:blipFill>
        <p:spPr>
          <a:xfrm>
            <a:off x="2700360" y="328464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小溪"/>
          <p:cNvPicPr/>
          <p:nvPr/>
        </p:nvPicPr>
        <p:blipFill>
          <a:blip r:embed="rId4"/>
          <a:stretch/>
        </p:blipFill>
        <p:spPr>
          <a:xfrm>
            <a:off x="6046920" y="18900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0" y="304920"/>
            <a:ext cx="2819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常我在池子里睡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小溪里散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江河里奔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海洋里跳舞，唱歌，开大会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7"/>
          <p:cNvSpPr/>
          <p:nvPr/>
        </p:nvSpPr>
        <p:spPr>
          <a:xfrm>
            <a:off x="6172200" y="5562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192"/>
          <p:cNvPicPr/>
          <p:nvPr/>
        </p:nvPicPr>
        <p:blipFill>
          <a:blip r:embed="rId1"/>
          <a:stretch/>
        </p:blipFill>
        <p:spPr>
          <a:xfrm>
            <a:off x="231840" y="0"/>
            <a:ext cx="8912160" cy="669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雪花"/>
          <p:cNvPicPr/>
          <p:nvPr/>
        </p:nvPicPr>
        <p:blipFill>
          <a:blip r:embed="rId2"/>
          <a:stretch/>
        </p:blipFill>
        <p:spPr>
          <a:xfrm>
            <a:off x="250920" y="1890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337760" y="1916280"/>
            <a:ext cx="674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时候我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温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时候我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暴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做过许多好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灌溉田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动机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们工作。我也做过许多坏事，淹没庄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冲毁房屋，给人们带来灾害。人们想出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种办法管住我，让我光做好事，不做坏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34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12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8" descr="u=2545860573,2017960814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9"/>
          <p:cNvSpPr/>
          <p:nvPr/>
        </p:nvSpPr>
        <p:spPr>
          <a:xfrm>
            <a:off x="615960" y="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</a:rPr>
              <a:t>好事</a:t>
            </a:r>
            <a:r>
              <a:rPr b="0" lang="zh-CN" sz="8000" spc="-1" strike="noStrike">
                <a:solidFill>
                  <a:srgbClr val="003300"/>
                </a:solidFill>
                <a:latin typeface="Arial"/>
              </a:rPr>
              <a:t>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30"/>
          <p:cNvSpPr/>
          <p:nvPr/>
        </p:nvSpPr>
        <p:spPr>
          <a:xfrm>
            <a:off x="2438280" y="1219320"/>
            <a:ext cx="51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uàn g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灌 溉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田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发动机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帮助人们工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00604191107143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29520 w 684360"/>
              <a:gd name="textAreaRight" fmla="*/ 654840 w 68436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80" y="1350"/>
                </a:lnTo>
                <a:lnTo>
                  <a:pt x="1350" y="135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80" y="20250"/>
                </a:lnTo>
                <a:lnTo>
                  <a:pt x="29680" y="135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680" y="2025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030" h="21600">
                <a:moveTo>
                  <a:pt x="15515" y="3800"/>
                </a:moveTo>
                <a:lnTo>
                  <a:pt x="18105" y="6425"/>
                </a:lnTo>
                <a:lnTo>
                  <a:pt x="18105" y="4675"/>
                </a:lnTo>
                <a:lnTo>
                  <a:pt x="19890" y="4675"/>
                </a:lnTo>
                <a:lnTo>
                  <a:pt x="19890" y="8210"/>
                </a:lnTo>
                <a:lnTo>
                  <a:pt x="22515" y="10800"/>
                </a:lnTo>
                <a:lnTo>
                  <a:pt x="20852" y="10800"/>
                </a:lnTo>
                <a:lnTo>
                  <a:pt x="20852" y="18028"/>
                </a:lnTo>
                <a:lnTo>
                  <a:pt x="10177" y="18028"/>
                </a:lnTo>
                <a:lnTo>
                  <a:pt x="10177" y="10800"/>
                </a:lnTo>
                <a:lnTo>
                  <a:pt x="8515" y="10800"/>
                </a:lnTo>
                <a:close/>
              </a:path>
              <a:path fill="darkenLess" w="31030" h="21600">
                <a:moveTo>
                  <a:pt x="18105" y="6425"/>
                </a:moveTo>
                <a:lnTo>
                  <a:pt x="18105" y="4675"/>
                </a:lnTo>
                <a:lnTo>
                  <a:pt x="19890" y="4675"/>
                </a:lnTo>
                <a:lnTo>
                  <a:pt x="19890" y="8210"/>
                </a:lnTo>
                <a:close/>
              </a:path>
              <a:path fill="darkenLess" w="31030" h="21600">
                <a:moveTo>
                  <a:pt x="14587" y="14318"/>
                </a:moveTo>
                <a:lnTo>
                  <a:pt x="16442" y="14318"/>
                </a:lnTo>
                <a:lnTo>
                  <a:pt x="16442" y="18028"/>
                </a:lnTo>
                <a:lnTo>
                  <a:pt x="20852" y="18028"/>
                </a:lnTo>
                <a:lnTo>
                  <a:pt x="20852" y="10800"/>
                </a:lnTo>
                <a:lnTo>
                  <a:pt x="10177" y="10800"/>
                </a:lnTo>
                <a:lnTo>
                  <a:pt x="10177" y="18028"/>
                </a:lnTo>
                <a:lnTo>
                  <a:pt x="14587" y="18028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34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28" descr="u=20586410,1347524246&amp;fm=2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29"/>
          <p:cNvSpPr/>
          <p:nvPr/>
        </p:nvSpPr>
        <p:spPr>
          <a:xfrm>
            <a:off x="228600" y="-33480"/>
            <a:ext cx="328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坏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30"/>
          <p:cNvSpPr/>
          <p:nvPr/>
        </p:nvSpPr>
        <p:spPr>
          <a:xfrm>
            <a:off x="2666880" y="1066680"/>
            <a:ext cx="5639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ān                          j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淹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没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[mò]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庄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冲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房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给人们带来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灾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6477120"/>
            <a:ext cx="69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ongza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3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29520 w 684360"/>
              <a:gd name="textAreaRight" fmla="*/ 654840 w 68436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80" y="1350"/>
                </a:lnTo>
                <a:lnTo>
                  <a:pt x="1350" y="135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80" y="20250"/>
                </a:lnTo>
                <a:lnTo>
                  <a:pt x="29680" y="135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680" y="2025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030" h="21600">
                <a:moveTo>
                  <a:pt x="15515" y="3800"/>
                </a:moveTo>
                <a:lnTo>
                  <a:pt x="18105" y="6425"/>
                </a:lnTo>
                <a:lnTo>
                  <a:pt x="18105" y="4675"/>
                </a:lnTo>
                <a:lnTo>
                  <a:pt x="19890" y="4675"/>
                </a:lnTo>
                <a:lnTo>
                  <a:pt x="19890" y="8210"/>
                </a:lnTo>
                <a:lnTo>
                  <a:pt x="22515" y="10800"/>
                </a:lnTo>
                <a:lnTo>
                  <a:pt x="20852" y="10800"/>
                </a:lnTo>
                <a:lnTo>
                  <a:pt x="20852" y="18028"/>
                </a:lnTo>
                <a:lnTo>
                  <a:pt x="10177" y="18028"/>
                </a:lnTo>
                <a:lnTo>
                  <a:pt x="10177" y="10800"/>
                </a:lnTo>
                <a:lnTo>
                  <a:pt x="8515" y="10800"/>
                </a:lnTo>
                <a:close/>
              </a:path>
              <a:path fill="darkenLess" w="31030" h="21600">
                <a:moveTo>
                  <a:pt x="18105" y="6425"/>
                </a:moveTo>
                <a:lnTo>
                  <a:pt x="18105" y="4675"/>
                </a:lnTo>
                <a:lnTo>
                  <a:pt x="19890" y="4675"/>
                </a:lnTo>
                <a:lnTo>
                  <a:pt x="19890" y="8210"/>
                </a:lnTo>
                <a:close/>
              </a:path>
              <a:path fill="darkenLess" w="31030" h="21600">
                <a:moveTo>
                  <a:pt x="14587" y="14318"/>
                </a:moveTo>
                <a:lnTo>
                  <a:pt x="16442" y="14318"/>
                </a:lnTo>
                <a:lnTo>
                  <a:pt x="16442" y="18028"/>
                </a:lnTo>
                <a:lnTo>
                  <a:pt x="20852" y="18028"/>
                </a:lnTo>
                <a:lnTo>
                  <a:pt x="20852" y="10800"/>
                </a:lnTo>
                <a:lnTo>
                  <a:pt x="10177" y="10800"/>
                </a:lnTo>
                <a:lnTo>
                  <a:pt x="10177" y="18028"/>
                </a:lnTo>
                <a:lnTo>
                  <a:pt x="14587" y="18028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u=20586410,1347524246&amp;fm=2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228600" y="-33480"/>
            <a:ext cx="3286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762120" y="380880"/>
            <a:ext cx="5638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灌溉田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动机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帮助人们工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没庄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冲毁房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人们带来灾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8718120" y="6423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7:2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4:43:40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