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18BD-C0F3-4434-87CD-2025FFBC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60F9-B619-424F-AC30-1AACD8D6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E3E-2158-4DE8-A462-378B489B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10F-F297-4F43-9BFE-DA3D595B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B9D-7F0E-4535-B43E-F53FE590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E13-0093-46E6-BA78-E68FB13C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217-BA41-4CF6-B39F-9DD24041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F94-6EF4-4A28-9E02-B935F850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010-7FCC-41CB-8314-ABB74093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C61-7569-44FB-B5D6-E1E3044D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B64-7F95-4535-B6D9-0434C331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416-CC96-4CA5-88B4-4CF70E75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73E2-A76B-42D6-AE33-77E35CF054C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0AA5-D76C-4AD8-8A67-4E296493BBE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70240" y="2443320"/>
            <a:ext cx="5873760" cy="2698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373040" y="239760"/>
            <a:ext cx="482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侯，乡愁是一枚小小的邮票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在这头，母亲在那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大后，乡愁是一张窄窄的船票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在这头，新娘在那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啊，乡愁是一方矮矮的坟墓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在外头，母亲在里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现在，乡愁是一湾浅浅的海峡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在这头，大陆在那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900000" y="-206280"/>
            <a:ext cx="4464000" cy="4680000"/>
            <a:chOff x="900000" y="-206280"/>
            <a:chExt cx="4464000" cy="4680000"/>
          </a:xfrm>
        </p:grpSpPr>
        <p:sp>
          <p:nvSpPr>
            <p:cNvPr id="44" name="矩形 2"/>
            <p:cNvSpPr/>
            <p:nvPr/>
          </p:nvSpPr>
          <p:spPr>
            <a:xfrm>
              <a:off x="900000" y="-206280"/>
              <a:ext cx="4464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矩形 3"/>
            <p:cNvSpPr/>
            <p:nvPr/>
          </p:nvSpPr>
          <p:spPr>
            <a:xfrm>
              <a:off x="900000" y="369720"/>
              <a:ext cx="4464000" cy="41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 rot="21359400">
            <a:off x="323640" y="663120"/>
            <a:ext cx="6624360" cy="315144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2908440" y="1038240"/>
            <a:ext cx="17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乡  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4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2" presetSubtype="4">
                                  <p:stCondLst>
                                    <p:cond delay="5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1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0" y="0"/>
            <a:ext cx="2700360" cy="5143680"/>
          </a:xfrm>
          <a:prstGeom prst="rect">
            <a:avLst/>
          </a:prstGeom>
          <a:solidFill>
            <a:srgbClr val="7292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68360" y="495360"/>
            <a:ext cx="2016000" cy="340848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492360" y="506520"/>
            <a:ext cx="48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简介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余光中，祖籍福建永春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2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生于江苏南京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7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入金陵大学外语系（后转入厦门大学）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9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随父母迁香港，次年赴台，就读于台湾大学外文系。后任诗大、政大、台大及香港中文大学教授，现任台湾中山大学文学院院长，当代著名诗人和评论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乡愁 .mp3" descr=""/>
          <p:cNvPicPr/>
          <p:nvPr/>
        </p:nvPicPr>
        <p:blipFill>
          <a:blip r:embed="rId2"/>
          <a:stretch/>
        </p:blipFill>
        <p:spPr>
          <a:xfrm>
            <a:off x="2963880" y="-88272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52" name="乡愁 .mp3" descr=""/>
          <p:cNvPicPr/>
          <p:nvPr/>
        </p:nvPicPr>
        <p:blipFill>
          <a:blip r:embed="rId3"/>
          <a:stretch/>
        </p:blipFill>
        <p:spPr>
          <a:xfrm>
            <a:off x="-538200" y="242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1:38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4:39:45Z</dcterms:modified>
  <cp:revision>7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