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FA1-2DB7-481B-9D3D-0B0867F5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189-0631-4311-95B2-710629BA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4C3-B838-4EA8-9ABB-73FF5AB5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F2C-BBC4-4CAD-90D3-163A8F7D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3DA5-6EFB-486F-99AC-BC965F8B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E581-2CC2-454C-A2AC-7DF1AAB1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0068-F052-45B5-9E8F-7CA40B77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8B77-E8F6-4E0C-A07E-DF1227B5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93AF-D576-4F6C-95AA-743A293E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257D-5D5F-40B6-9D6E-63B2FEC8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0B79-838E-4936-91E7-6409C5A2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CD0-43E8-4B27-AD7E-5BC5DDF1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CB08-9985-4338-8C00-27C4C9E5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4DBD-A5CE-46C3-A147-AE536DDC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69DD-3B5A-43FD-9F4C-CB1049B5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2E62-2E79-48F1-9B87-314CB04A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3910-FC6B-4876-A40E-81C18B33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F0E-EEEE-4D22-BD89-7B68244C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C14-4B1B-47CF-AF91-3B892E7F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8B0-5D28-485D-95E1-662636FF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D07-A4F0-483C-BF90-4AE0F37E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341-14B6-4C2B-8530-E9752F3D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20F-C4C4-4FC8-A1DF-7961D5A7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FA4-5A69-42CE-967F-9FF742C0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084F-D30D-4557-9547-BE95DE1A68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7337-64E5-4138-9CB1-94956AFD52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6C1D-30EE-43BD-A8E3-A5DBDEF3E8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hyperlink" Target="http://www.1ppt.com/kejian/yuwen/165/" TargetMode="External"/><Relationship Id="rId12" Type="http://schemas.openxmlformats.org/officeDocument/2006/relationships/hyperlink" Target="http://www.1ppt.com/" TargetMode="External"/><Relationship Id="rId13" Type="http://schemas.openxmlformats.org/officeDocument/2006/relationships/hyperlink" Target="http://www.1ppt.com/kejian/yuwen/166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kejian/yuwen/167/" TargetMode="External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hyperlink" Target="&#35199;&#24072;&#29256;&#35821;&#25991;&#31532;&#19977;&#20876;&#12298;&#23567;&#20799;&#22402;&#38035;&#12299;.ppt" TargetMode="External"/><Relationship Id="rId23" Type="http://schemas.openxmlformats.org/officeDocument/2006/relationships/image" Target="../media/image8.png"/><Relationship Id="rId24" Type="http://schemas.openxmlformats.org/officeDocument/2006/relationships/hyperlink" Target="&#38899;&#20687;&#36164;&#26009;\&#23567;&#20799;&#22402;&#38035;&#35270;&#39057;&#26391;&#35835;2.asf" TargetMode="External"/><Relationship Id="rId25" Type="http://schemas.openxmlformats.org/officeDocument/2006/relationships/hyperlink" Target="&#38899;&#20687;&#36164;&#26009;\&#23567;&#20799;&#22402;&#38035;&#35270;&#39057;&#35762;&#35299;.asf" TargetMode="External"/><Relationship Id="rId26" Type="http://schemas.openxmlformats.org/officeDocument/2006/relationships/hyperlink" Target="&#35199;&#24072;&#29256;&#35821;&#25991;&#31532;&#19977;&#20876;&#12298;&#23567;&#20799;&#22402;&#38035;&#12299;.ppt" TargetMode="External"/><Relationship Id="rId27" Type="http://schemas.openxmlformats.org/officeDocument/2006/relationships/hyperlink" Target="&#35199;&#24072;&#29256;&#35821;&#25991;&#31532;&#19977;&#20876;&#12298;&#23567;&#20799;&#22402;&#38035;&#12299;.ppt" TargetMode="External"/><Relationship Id="rId28" Type="http://schemas.openxmlformats.org/officeDocument/2006/relationships/image" Target="../media/image7.png"/><Relationship Id="rId29" Type="http://schemas.openxmlformats.org/officeDocument/2006/relationships/hyperlink" Target="&#35199;&#24072;&#29256;&#35821;&#25991;&#31532;&#19977;&#20876;&#12298;&#23567;&#20799;&#22402;&#38035;&#12299;.ppt" TargetMode="External"/><Relationship Id="rId30" Type="http://schemas.openxmlformats.org/officeDocument/2006/relationships/hyperlink" Target="&#35199;&#24072;&#29256;&#35821;&#25991;&#31532;&#19977;&#20876;&#12298;&#23567;&#20799;&#22402;&#38035;&#12299;.ppt" TargetMode="External"/><Relationship Id="rId3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&#35199;&#24072;&#29256;&#35821;&#25991;&#31532;&#19977;&#20876;&#12298;&#23567;&#20799;&#22402;&#38035;&#12299;.ppt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hyperlink" Target="&#35199;&#24072;&#29256;&#35821;&#25991;&#31532;&#19977;&#20876;&#12298;&#23567;&#20799;&#22402;&#38035;&#12299;.ppt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&#35199;&#24072;&#29256;&#35821;&#25991;&#31532;&#19977;&#20876;&#12298;&#23567;&#20799;&#22402;&#38035;&#12299;.ppt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&#35199;&#24072;&#29256;&#35821;&#25991;&#31532;&#19977;&#20876;&#12298;&#23567;&#20799;&#22402;&#38035;&#12299;.ppt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&#35199;&#24072;&#29256;&#35821;&#25991;&#31532;&#19977;&#20876;&#12298;&#23567;&#20799;&#22402;&#38035;&#12299;.ppt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&#35199;&#24072;&#29256;&#35821;&#25991;&#31532;&#19977;&#20876;&#12298;&#23567;&#20799;&#22402;&#38035;&#12299;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&#39134;&#27280;&#36208;&#22721;&#30340;&#34382;&#23558;.swf" TargetMode="External"/><Relationship Id="rId4" Type="http://schemas.openxmlformats.org/officeDocument/2006/relationships/hyperlink" Target="&#35199;&#24072;&#29256;&#35821;&#25991;&#31532;&#19977;&#20876;&#12298;&#23567;&#20799;&#22402;&#38035;&#12299;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2" descr="2007241534581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6372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西师版二年级语文上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640" y="2060280"/>
            <a:ext cx="619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黑体"/>
              </a:rPr>
              <a:t>小儿垂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9"/>
          <p:cNvSpPr/>
          <p:nvPr/>
        </p:nvSpPr>
        <p:spPr>
          <a:xfrm>
            <a:off x="250920" y="24242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7" descr="20084141952147009"/>
          <p:cNvPicPr/>
          <p:nvPr/>
        </p:nvPicPr>
        <p:blipFill>
          <a:blip r:embed="rId16"/>
          <a:srcRect l="0" t="0" r="0" b="80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05"/>
          <p:cNvPicPr/>
          <p:nvPr/>
        </p:nvPicPr>
        <p:blipFill>
          <a:blip r:embed="rId17"/>
          <a:srcRect l="5266" t="0" r="0" b="5772"/>
          <a:stretch/>
        </p:blipFill>
        <p:spPr>
          <a:xfrm>
            <a:off x="4140360" y="1268280"/>
            <a:ext cx="1582560" cy="2832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03"/>
          <p:cNvPicPr/>
          <p:nvPr/>
        </p:nvPicPr>
        <p:blipFill>
          <a:blip r:embed="rId18"/>
          <a:srcRect l="19816" t="4588" r="18948" b="13134"/>
          <a:stretch/>
        </p:blipFill>
        <p:spPr>
          <a:xfrm>
            <a:off x="2843280" y="2133720"/>
            <a:ext cx="1368360" cy="302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02"/>
          <p:cNvPicPr/>
          <p:nvPr/>
        </p:nvPicPr>
        <p:blipFill>
          <a:blip r:embed="rId19"/>
          <a:srcRect l="32914" t="0" r="18589" b="35713"/>
          <a:stretch/>
        </p:blipFill>
        <p:spPr>
          <a:xfrm>
            <a:off x="1258920" y="1844640"/>
            <a:ext cx="1440000" cy="316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04"/>
          <p:cNvPicPr/>
          <p:nvPr/>
        </p:nvPicPr>
        <p:blipFill>
          <a:blip r:embed="rId20"/>
          <a:srcRect l="29174" t="7123" r="21993" b="23529"/>
          <a:stretch/>
        </p:blipFill>
        <p:spPr>
          <a:xfrm>
            <a:off x="5651640" y="2349360"/>
            <a:ext cx="1295280" cy="3073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01"/>
          <p:cNvPicPr/>
          <p:nvPr/>
        </p:nvPicPr>
        <p:blipFill>
          <a:blip r:embed="rId21"/>
          <a:srcRect l="0" t="25450" r="22778" b="7763"/>
          <a:stretch/>
        </p:blipFill>
        <p:spPr>
          <a:xfrm>
            <a:off x="395280" y="3573360"/>
            <a:ext cx="1655640" cy="2351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目录退出按钮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7740720" y="5084640"/>
            <a:ext cx="124452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Oval 9"/>
          <p:cNvSpPr/>
          <p:nvPr/>
        </p:nvSpPr>
        <p:spPr>
          <a:xfrm>
            <a:off x="1332000" y="1844640"/>
            <a:ext cx="1319040" cy="1447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4"/>
              </a:rPr>
              <a:t>朗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0"/>
          <p:cNvSpPr/>
          <p:nvPr/>
        </p:nvSpPr>
        <p:spPr>
          <a:xfrm>
            <a:off x="4427640" y="1197000"/>
            <a:ext cx="1447560" cy="1447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5"/>
              </a:rPr>
              <a:t>情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1"/>
          <p:cNvSpPr/>
          <p:nvPr/>
        </p:nvSpPr>
        <p:spPr>
          <a:xfrm>
            <a:off x="7020000" y="3357720"/>
            <a:ext cx="1447560" cy="1447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2"/>
          <p:cNvSpPr/>
          <p:nvPr/>
        </p:nvSpPr>
        <p:spPr>
          <a:xfrm>
            <a:off x="5651640" y="2349360"/>
            <a:ext cx="1447560" cy="1447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6"/>
              </a:rPr>
              <a:t>拓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2843280" y="2060640"/>
            <a:ext cx="1447560" cy="1447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7"/>
              </a:rPr>
              <a:t>作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8" descr="01"/>
          <p:cNvPicPr/>
          <p:nvPr/>
        </p:nvPicPr>
        <p:blipFill>
          <a:blip r:embed="rId28"/>
          <a:srcRect l="0" t="25450" r="22778" b="7763"/>
          <a:stretch/>
        </p:blipFill>
        <p:spPr>
          <a:xfrm>
            <a:off x="7093080" y="3213000"/>
            <a:ext cx="1655640" cy="2351160"/>
          </a:xfrm>
          <a:prstGeom prst="rect">
            <a:avLst/>
          </a:prstGeom>
          <a:ln w="0">
            <a:noFill/>
          </a:ln>
        </p:spPr>
      </p:pic>
      <p:sp>
        <p:nvSpPr>
          <p:cNvPr id="101" name="Oval 19"/>
          <p:cNvSpPr/>
          <p:nvPr/>
        </p:nvSpPr>
        <p:spPr>
          <a:xfrm>
            <a:off x="324000" y="3500280"/>
            <a:ext cx="1447560" cy="1447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9"/>
              </a:rPr>
              <a:t>生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1"/>
          <p:cNvSpPr/>
          <p:nvPr/>
        </p:nvSpPr>
        <p:spPr>
          <a:xfrm>
            <a:off x="7093080" y="3141720"/>
            <a:ext cx="1447560" cy="1447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30"/>
              </a:rPr>
              <a:t>插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小儿垂钓视频朗读2.asf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356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9"/>
          <p:cNvSpPr/>
          <p:nvPr/>
        </p:nvSpPr>
        <p:spPr>
          <a:xfrm>
            <a:off x="7956720" y="6524640"/>
            <a:ext cx="576000" cy="333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p20092170141157332"/>
          <p:cNvPicPr/>
          <p:nvPr/>
        </p:nvPicPr>
        <p:blipFill>
          <a:blip r:embed="rId2"/>
          <a:srcRect l="0" t="0" r="0" b="69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6699ff"/>
                </a:solidFill>
                <a:latin typeface="Arial"/>
                <a:ea typeface="黑体"/>
              </a:rPr>
              <a:t>你认识我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í       di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      péng       zhì         cè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垂   钓   蓬   稚   侧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o       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ng        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ù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遥   应   路   映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5940360" y="6237360"/>
            <a:ext cx="576360" cy="333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7956720" y="6524640"/>
            <a:ext cx="576000" cy="333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小儿垂钓视频讲解.asf" descr=""/>
          <p:cNvPicPr/>
          <p:nvPr/>
        </p:nvPicPr>
        <p:blipFill>
          <a:blip r:embed="rId2"/>
          <a:stretch/>
        </p:blipFill>
        <p:spPr>
          <a:xfrm>
            <a:off x="179280" y="0"/>
            <a:ext cx="878544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03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p2008111013623555"/>
          <p:cNvPicPr/>
          <p:nvPr/>
        </p:nvPicPr>
        <p:blipFill>
          <a:blip r:embed="rId2"/>
          <a:srcRect l="0" t="0" r="0" b="58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611280" y="981000"/>
            <a:ext cx="810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胡令能：</a:t>
            </a:r>
            <a:r>
              <a:rPr b="1" lang="zh-CN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唐代诗人。年轻时家境贫穷 ，曾为一手工匠，以修补过锅（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gu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宋体"/>
              </a:rPr>
              <a:t>ō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)</a:t>
            </a:r>
            <a:r>
              <a:rPr b="1" lang="zh-CN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碗（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w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宋体"/>
              </a:rPr>
              <a:t>ǎ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n)</a:t>
            </a:r>
            <a:r>
              <a:rPr b="1" lang="zh-CN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瓢（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pi</a:t>
            </a:r>
            <a:r>
              <a:rPr b="1" lang="en-US" sz="4800" spc="-1" strike="noStrike">
                <a:solidFill>
                  <a:srgbClr val="996633"/>
                </a:solidFill>
                <a:latin typeface="宋体"/>
                <a:ea typeface="宋体"/>
              </a:rPr>
              <a:t>á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o</a:t>
            </a:r>
            <a:r>
              <a:rPr b="1" lang="zh-CN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）盆（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p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宋体"/>
              </a:rPr>
              <a:t>é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n</a:t>
            </a:r>
            <a:r>
              <a:rPr b="1" lang="zh-CN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）为生，人称“胡钉铰（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ji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  <a:ea typeface="宋体"/>
              </a:rPr>
              <a:t>ǎ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o</a:t>
            </a:r>
            <a:r>
              <a:rPr b="1" lang="zh-CN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）”。他写的诗传世仅四首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7812000" y="6237360"/>
            <a:ext cx="576360" cy="333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《小儿垂钓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8101080" y="6524640"/>
            <a:ext cx="574560" cy="333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200841411293531373"/>
          <p:cNvPicPr/>
          <p:nvPr/>
        </p:nvPicPr>
        <p:blipFill>
          <a:blip r:embed="rId1"/>
          <a:srcRect l="0" t="0" r="0" b="80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 flipV="1" rot="10800000">
            <a:off x="755280" y="333000"/>
            <a:ext cx="71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7c80"/>
                </a:solidFill>
                <a:latin typeface="Arial"/>
                <a:ea typeface="黑体"/>
              </a:rPr>
              <a:t>选择你自己喜欢的方式再现诗中描写的情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900000" y="2276640"/>
            <a:ext cx="69850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）画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）编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）演一演诗的情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）背一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7164360" y="5877000"/>
            <a:ext cx="576360" cy="333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20084141952147009"/>
          <p:cNvPicPr/>
          <p:nvPr/>
        </p:nvPicPr>
        <p:blipFill>
          <a:blip r:embed="rId1"/>
          <a:srcRect l="0" t="0" r="0" b="80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05"/>
          <p:cNvPicPr/>
          <p:nvPr/>
        </p:nvPicPr>
        <p:blipFill>
          <a:blip r:embed="rId2"/>
          <a:srcRect l="5266" t="0" r="0" b="5772"/>
          <a:stretch/>
        </p:blipFill>
        <p:spPr>
          <a:xfrm>
            <a:off x="1763640" y="1844640"/>
            <a:ext cx="3745080" cy="5445000"/>
          </a:xfrm>
          <a:prstGeom prst="rect">
            <a:avLst/>
          </a:prstGeom>
          <a:ln w="0">
            <a:noFill/>
          </a:ln>
        </p:spPr>
      </p:pic>
      <p:sp>
        <p:nvSpPr>
          <p:cNvPr id="131" name="Oval 7">
            <a:hlinkClick r:id="rId3"/>
          </p:cNvPr>
          <p:cNvSpPr/>
          <p:nvPr/>
        </p:nvSpPr>
        <p:spPr>
          <a:xfrm>
            <a:off x="2556000" y="1268280"/>
            <a:ext cx="3168360" cy="374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再见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6588000" y="5661000"/>
            <a:ext cx="576360" cy="333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1:45:3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6:33Z</dcterms:modified>
  <cp:revision>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