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1"/>
          <p:cNvSpPr/>
          <p:nvPr/>
        </p:nvSpPr>
        <p:spPr>
          <a:xfrm>
            <a:off x="682560" y="46944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TextBox 2"/>
          <p:cNvSpPr/>
          <p:nvPr/>
        </p:nvSpPr>
        <p:spPr>
          <a:xfrm>
            <a:off x="-688680" y="1317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4304160" y="276120"/>
            <a:ext cx="43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BroadwayEngraved BT"/>
              </a:rPr>
              <a:t>HAPP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43200" y="95256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Engraved BT"/>
              </a:rPr>
              <a:t>NEW  Y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032360" y="1536840"/>
            <a:ext cx="310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alibri"/>
                <a:ea typeface="宋体"/>
              </a:rPr>
              <a:t>20</a:t>
            </a:r>
            <a:r>
              <a:rPr b="0" lang="zh-CN" sz="4200" spc="-1" strike="noStrike">
                <a:solidFill>
                  <a:srgbClr val="ffff00"/>
                </a:solidFill>
                <a:latin typeface="Calibri"/>
                <a:ea typeface="宋体"/>
              </a:rPr>
              <a:t>XX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37720" y="1446120"/>
            <a:ext cx="268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6414480" y="1581120"/>
            <a:ext cx="236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心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230160" y="22575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6"/>
          <p:cNvGrpSpPr/>
          <p:nvPr/>
        </p:nvGrpSpPr>
        <p:grpSpPr>
          <a:xfrm>
            <a:off x="3240" y="324000"/>
            <a:ext cx="7883280" cy="684000"/>
            <a:chOff x="3240" y="324000"/>
            <a:chExt cx="7883280" cy="684000"/>
          </a:xfrm>
        </p:grpSpPr>
        <p:sp>
          <p:nvSpPr>
            <p:cNvPr id="49" name="剪去单角的矩形 2"/>
            <p:cNvSpPr/>
            <p:nvPr/>
          </p:nvSpPr>
          <p:spPr>
            <a:xfrm flipH="1" flipV="1" rot="10800000">
              <a:off x="2880" y="324000"/>
              <a:ext cx="7808760" cy="684000"/>
            </a:xfrm>
            <a:prstGeom prst="pi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8"/>
            <p:cNvSpPr/>
            <p:nvPr/>
          </p:nvSpPr>
          <p:spPr>
            <a:xfrm>
              <a:off x="5023440" y="41256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-724680" y="131760"/>
            <a:ext cx="32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394800" y="151452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roadwayEngraved BT"/>
              </a:rPr>
              <a:t>HAPPY NEW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47520" y="906480"/>
            <a:ext cx="51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Engraved BT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3:06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0:18Z</dcterms:modified>
  <cp:revision>4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