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4B8-E323-4E11-BE33-A9A93210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22E-03DD-408A-BF40-2C2260B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ACF-8B21-4D8C-B2A1-AE1574DC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A53-235A-4BAA-ACDF-3D0B994C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93F-C59B-42AA-9266-9AF77897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93B-254D-42E7-B6B7-E74AB4DF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0ED-B982-43C8-B38A-D1CFEB36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15C-F6EF-45BE-A29C-58A54FBF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C1B-8025-4F0E-A8E6-81A88CA0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AAF-D5D9-43A3-8BCC-A4BB5CE9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30B-E30B-419F-8634-B703BEFF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D26-B36D-4D2C-AEA9-6F061B04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23A9-22AC-4217-BBE9-C2A9A9512A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rcRect l="0" t="0" r="133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125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3" descr=""/>
          <p:cNvPicPr/>
          <p:nvPr/>
        </p:nvPicPr>
        <p:blipFill>
          <a:blip r:embed="rId3"/>
          <a:stretch/>
        </p:blipFill>
        <p:spPr>
          <a:xfrm>
            <a:off x="6084720" y="4022640"/>
            <a:ext cx="22734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181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191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194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197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8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200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1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rcRect l="0" t="0" r="133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218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rcRect l="0" t="0" r="110" b="0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9" descr=""/>
          <p:cNvPicPr/>
          <p:nvPr/>
        </p:nvPicPr>
        <p:blipFill>
          <a:blip r:embed="rId1"/>
          <a:srcRect l="0" t="0" r="58" b="91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" descr=""/>
          <p:cNvPicPr/>
          <p:nvPr/>
        </p:nvPicPr>
        <p:blipFill>
          <a:blip r:embed="rId2"/>
          <a:srcRect l="0" t="0" r="2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"/>
          <p:cNvPicPr/>
          <p:nvPr/>
        </p:nvPicPr>
        <p:blipFill>
          <a:blip r:embed="rId3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>
              <a:gd name="textAreaLeft" fmla="*/ 0 w 3036960"/>
              <a:gd name="textAreaRight" fmla="*/ 3037320 w 3036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140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图片 20" descr=""/>
          <p:cNvPicPr/>
          <p:nvPr/>
        </p:nvPicPr>
        <p:blipFill>
          <a:blip r:embed="rId2"/>
          <a:srcRect l="0" t="0" r="192" b="215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"/>
          <p:cNvPicPr/>
          <p:nvPr/>
        </p:nvPicPr>
        <p:blipFill>
          <a:blip r:embed="rId1"/>
          <a:srcRect l="0" t="0" r="-61" b="23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0:56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560f000000000001024140</vt:lpwstr>
  </property>
</Properties>
</file>