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14.jpeg" ContentType="image/jpeg"/>
  <Override PartName="/ppt/media/image5.gif" ContentType="image/gif"/>
  <Override PartName="/ppt/media/image8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41E-C010-4AB7-9286-7CD8BBE1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3D9-81F3-4CF4-BD48-32E46869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23B-8D80-4726-AA56-893EAF7B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D7A-583F-40C9-A8A3-0523E08E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FD19-0A0C-4340-96E7-E7F3877C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4716-CFFD-4B43-B90D-8829F97B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1147-D866-45FE-BEBD-B7C900A7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F99C-D476-42CD-88FC-317FFEEC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68CB-DFD1-4612-B576-30802753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D83F-3CE6-485F-BB53-6DE1EF2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36AF-20FD-4AE6-BE75-441C6DE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8AD-50D5-49C2-88A0-E42EB3F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F2AD-F490-4C4D-A9CD-D1AA3EF2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542C-E5BA-45CE-88F1-8214B0B4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69A7-316C-4477-9FEE-75DCB572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888E-1B77-40DF-9741-34E1DFE3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971C-475B-4FD0-9F0E-8750FCA3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C18-C693-45FC-B7BD-A590651C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8C8-8069-4595-AB9B-04E17B38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893-18CA-40F6-9392-3DAAE7C5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A92A-D091-4F11-B484-AB15706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962-1006-46D6-8719-0776E5D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1B7-7C8D-4785-8BA2-9DD23D2E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E4E-ECFA-494C-96D3-441D7B57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378E-28A2-4640-BBDD-C93A8627F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3B00-67E3-4F52-BAD1-7C683E5E46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B8B4-8CF4-4C61-90D5-28C2F12B0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2170250&amp;tn=baiduimagedetail&amp;word=&#28784;&#38592;&amp;in=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1,11,&#24187;&#28783;&#29255; 11" TargetMode="External"/><Relationship Id="rId3" Type="http://schemas.openxmlformats.org/officeDocument/2006/relationships/hyperlink" Target="268,12,&#24187;&#28783;&#29255; 12" TargetMode="External"/><Relationship Id="rId4" Type="http://schemas.openxmlformats.org/officeDocument/2006/relationships/hyperlink" Target="263,13,&#24187;&#28783;&#29255; 13" TargetMode="External"/><Relationship Id="rId5" Type="http://schemas.openxmlformats.org/officeDocument/2006/relationships/hyperlink" Target="265,14,&#24187;&#28783;&#29255; 14" TargetMode="External"/><Relationship Id="rId6" Type="http://schemas.openxmlformats.org/officeDocument/2006/relationships/hyperlink" Target="265,14,&#24187;&#28783;&#29255; 14" TargetMode="External"/><Relationship Id="rId7" Type="http://schemas.openxmlformats.org/officeDocument/2006/relationships/hyperlink" Target="269,15,&#24187;&#28783;&#29255; 15" TargetMode="External"/><Relationship Id="rId8" Type="http://schemas.openxmlformats.org/officeDocument/2006/relationships/hyperlink" Target="270,16,&#24187;&#28783;&#29255; 16" TargetMode="External"/><Relationship Id="rId9" Type="http://schemas.openxmlformats.org/officeDocument/2006/relationships/hyperlink" Target="270,16,&#24187;&#28783;&#29255; 16" TargetMode="External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8"/>
          <p:cNvSpPr txBox="1"/>
          <p:nvPr/>
        </p:nvSpPr>
        <p:spPr>
          <a:xfrm>
            <a:off x="3995640" y="2133720"/>
            <a:ext cx="43912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875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小摄影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3" name="Picture 9" descr="2"/>
          <p:cNvPicPr/>
          <p:nvPr/>
        </p:nvPicPr>
        <p:blipFill>
          <a:blip r:embed="rId2"/>
          <a:stretch/>
        </p:blipFill>
        <p:spPr>
          <a:xfrm>
            <a:off x="0" y="981000"/>
            <a:ext cx="363528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ǔ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   b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è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i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27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28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30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33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准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备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ā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o  ju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ǎ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39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42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45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763640" y="164772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胶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651640" y="1700280"/>
            <a:ext cx="3492360" cy="10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卷     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li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ɡ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51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53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54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57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车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辆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ì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63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65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66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69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秘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书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116000" y="40464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z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á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     sh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è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00000" y="1844280"/>
            <a:ext cx="3527280" cy="3816720"/>
            <a:chOff x="900000" y="1844280"/>
            <a:chExt cx="3527280" cy="3816720"/>
          </a:xfrm>
        </p:grpSpPr>
        <p:sp>
          <p:nvSpPr>
            <p:cNvPr id="175" name="Rectangle 5"/>
            <p:cNvSpPr/>
            <p:nvPr/>
          </p:nvSpPr>
          <p:spPr>
            <a:xfrm>
              <a:off x="900000" y="191592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76" name="Line 6"/>
            <p:cNvSpPr/>
            <p:nvPr/>
          </p:nvSpPr>
          <p:spPr>
            <a:xfrm flipV="1">
              <a:off x="2627280" y="184428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77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78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81" name="Line 11"/>
          <p:cNvSpPr/>
          <p:nvPr/>
        </p:nvSpPr>
        <p:spPr>
          <a:xfrm>
            <a:off x="900000" y="3645000"/>
            <a:ext cx="352764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1042920" y="1916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杂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社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470840" y="3141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志</a:t>
            </a:r>
            <a:endParaRPr b="0" lang="en-US" sz="7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è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188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190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191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193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194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侧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面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ǎ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i   n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ò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ng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00" name="Rectangle 5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01" name="Line 6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202" name="Group 7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03" name="Rectangle 8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206" name="Line 11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83528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摆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弄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26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027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ū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1" name="Group 1028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12" name="Rectangle 1029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13" name="Line 1030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214" name="Group 1031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15" name="Rectangle 1032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16" name="Line 1033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17" name="Line 1034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218" name="Line 1035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9" name="Text Box 1036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突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0" name="Text Box 1037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然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26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27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àn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23" name="Group 1028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24" name="Rectangle 1029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25" name="Line 1030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226" name="Group 1031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27" name="Rectangle 1032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28" name="Line 1033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29" name="Line 1034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230" name="Line 1035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1" name="Text Box 1036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按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2" name="Text Box 1037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照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026" descr="u=3731290261,4260863387&amp;gp=0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-468360" y="0"/>
            <a:ext cx="2808360" cy="4321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27"/>
          <p:cNvSpPr/>
          <p:nvPr/>
        </p:nvSpPr>
        <p:spPr>
          <a:xfrm>
            <a:off x="1979640" y="404640"/>
            <a:ext cx="68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9600" spc="-1" strike="noStrike">
                <a:solidFill>
                  <a:srgbClr val="3333ff"/>
                </a:solidFill>
                <a:latin typeface="宋体"/>
              </a:rPr>
              <a:t>j</a:t>
            </a:r>
            <a:r>
              <a:rPr b="1" lang="en-US" sz="9600" spc="-1" strike="noStrike">
                <a:solidFill>
                  <a:srgbClr val="3333ff"/>
                </a:solidFill>
                <a:latin typeface="Arial"/>
              </a:rPr>
              <a:t>ī</a:t>
            </a:r>
            <a:endParaRPr b="0" lang="en-US" sz="96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5" name="Group 1028"/>
          <p:cNvGrpSpPr/>
          <p:nvPr/>
        </p:nvGrpSpPr>
        <p:grpSpPr>
          <a:xfrm>
            <a:off x="1619280" y="1773000"/>
            <a:ext cx="3527280" cy="3816720"/>
            <a:chOff x="1619280" y="1773000"/>
            <a:chExt cx="3527280" cy="3816720"/>
          </a:xfrm>
        </p:grpSpPr>
        <p:sp>
          <p:nvSpPr>
            <p:cNvPr id="236" name="Rectangle 1029"/>
            <p:cNvSpPr/>
            <p:nvPr/>
          </p:nvSpPr>
          <p:spPr>
            <a:xfrm>
              <a:off x="161928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37" name="Line 1030"/>
            <p:cNvSpPr/>
            <p:nvPr/>
          </p:nvSpPr>
          <p:spPr>
            <a:xfrm flipV="1">
              <a:off x="334656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grpSp>
        <p:nvGrpSpPr>
          <p:cNvPr id="238" name="Group 1031"/>
          <p:cNvGrpSpPr/>
          <p:nvPr/>
        </p:nvGrpSpPr>
        <p:grpSpPr>
          <a:xfrm>
            <a:off x="5364000" y="1773000"/>
            <a:ext cx="3527280" cy="3816720"/>
            <a:chOff x="5364000" y="1773000"/>
            <a:chExt cx="3527280" cy="3816720"/>
          </a:xfrm>
        </p:grpSpPr>
        <p:sp>
          <p:nvSpPr>
            <p:cNvPr id="239" name="Rectangle 1032"/>
            <p:cNvSpPr/>
            <p:nvPr/>
          </p:nvSpPr>
          <p:spPr>
            <a:xfrm>
              <a:off x="5364000" y="1844640"/>
              <a:ext cx="3527280" cy="3745080"/>
            </a:xfrm>
            <a:prstGeom prst="rect">
              <a:avLst/>
            </a:prstGeom>
            <a:solidFill>
              <a:srgbClr val="f8f32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40" name="Line 1033"/>
            <p:cNvSpPr/>
            <p:nvPr/>
          </p:nvSpPr>
          <p:spPr>
            <a:xfrm>
              <a:off x="5364000" y="3716640"/>
              <a:ext cx="3527280" cy="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  <p:sp>
          <p:nvSpPr>
            <p:cNvPr id="241" name="Line 1034"/>
            <p:cNvSpPr/>
            <p:nvPr/>
          </p:nvSpPr>
          <p:spPr>
            <a:xfrm flipV="1">
              <a:off x="7091280" y="1773000"/>
              <a:ext cx="0" cy="3816360"/>
            </a:xfrm>
            <a:prstGeom prst="line">
              <a:avLst/>
            </a:prstGeom>
            <a:ln w="57240">
              <a:solidFill>
                <a:srgbClr val="f858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  <p:sp>
        <p:nvSpPr>
          <p:cNvPr id="242" name="Line 1035"/>
          <p:cNvSpPr/>
          <p:nvPr/>
        </p:nvSpPr>
        <p:spPr>
          <a:xfrm>
            <a:off x="1619280" y="3645000"/>
            <a:ext cx="3527280" cy="0"/>
          </a:xfrm>
          <a:prstGeom prst="line">
            <a:avLst/>
          </a:prstGeom>
          <a:ln w="57240">
            <a:solidFill>
              <a:srgbClr val="f858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3" name="Text Box 1036"/>
          <p:cNvSpPr/>
          <p:nvPr/>
        </p:nvSpPr>
        <p:spPr>
          <a:xfrm>
            <a:off x="1763640" y="162864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基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4" name="Text Box 1037"/>
          <p:cNvSpPr/>
          <p:nvPr/>
        </p:nvSpPr>
        <p:spPr>
          <a:xfrm>
            <a:off x="5543640" y="1700280"/>
            <a:ext cx="36003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000000"/>
                </a:solidFill>
                <a:latin typeface="Arial"/>
                <a:ea typeface="楷体_GB2312"/>
              </a:rPr>
              <a:t>本</a:t>
            </a:r>
            <a:endParaRPr b="0" lang="en-US" sz="229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理想，能给天下不幸者以快乐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聪明在于学习，智慧在于积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书籍是人类进步的阶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切伟大的事业，或者是说一切大事，都是由小事组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不是因为美丽而可爱，而是因为可爱而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711480" y="5805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高尔基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530520" y="83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名人名言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42920" y="1900080"/>
            <a:ext cx="620244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基础   基本   按照   按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摆弄   准备   侧面   胶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车辆   秘书   秘密   杂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复杂    社会   社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3303360" y="1676520"/>
            <a:ext cx="241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突　然</a:t>
            </a:r>
            <a:endParaRPr b="0" lang="en-US" sz="80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24000" y="141300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个阳光明媚的早晨，高尔基正在读书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个小纸团从窗外飞到了桌子上。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28600" y="1143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楷体_GB2312"/>
              </a:rPr>
              <a:t>一个阳光明媚的早晨，高尔基正在读书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个小纸团从窗外飞到了桌子上。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80880" y="31240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男孩往地上一坐，哭了起来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04920" y="4800600"/>
            <a:ext cx="82105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小男孩哭着说：“我把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胶卷忘在家里了。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91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小男孩摆弄了很久很久，说：</a:t>
            </a:r>
            <a:r>
              <a:rPr b="1" lang="en-US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一切准备停当。</a:t>
            </a:r>
            <a:r>
              <a:rPr b="1" lang="en-US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高尔基侧过脸，对着他微笑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36440" y="1219320"/>
            <a:ext cx="9007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小男孩摆弄了很久很久，说：“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楷体_GB2312"/>
              </a:rPr>
              <a:t>一切准备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停当。”高尔基侧过脸，对着他微笑。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男孩往地上一坐，哭了起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533520" y="990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亲爱的高尔基同志：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是一名少先队员。我想给您照一张相，贴在我的墙报上。请您让他们放我进去。我照完相，立刻就走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3520" y="9907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亲爱的高尔基同志：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是一名少先队员。我想给您照一张相，贴在我的墙报上。请您让他们放我进去。我照完相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立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就走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685800" y="12952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的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站起来，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鞠了个躬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让我进去吧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12760" y="1143000"/>
            <a:ext cx="870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了一会儿，小男孩站在高尔基面前了。他仔细打量着高尔基，咧开嘴笑了，然后用手指了指沙发，说：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请您坐在这儿看报纸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1692360" y="443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00720" y="177336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140360" y="1197000"/>
            <a:ext cx="4456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高尔基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：（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1868—1936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）前苏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联伟大的无产阶级文学家，苏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联文学的创始人。他的主要作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品有散文诗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海燕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小说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母亲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自传体三部曲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童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年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在人间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我的大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学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，以及一系列剧本。列宁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称他是“无产阶级艺术的最杰出代表”。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90" name="Object 6" descr=""/>
          <p:cNvPicPr/>
          <p:nvPr/>
        </p:nvPicPr>
        <p:blipFill>
          <a:blip r:embed="rId10"/>
          <a:stretch/>
        </p:blipFill>
        <p:spPr>
          <a:xfrm>
            <a:off x="-120600" y="2492280"/>
            <a:ext cx="4248000" cy="4427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6948360" y="6308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点击绿色字链接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212760" y="1143000"/>
            <a:ext cx="870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了一会儿，小男孩站在高尔基面前了。他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仔细打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高尔基，咧开嘴笑了，然后用手指了指沙发，说：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请您坐在这儿看报纸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12760" y="1143000"/>
            <a:ext cx="870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了一会儿，小男孩站在高尔基面前了。他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仔细打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着高尔基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咧开嘴笑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然后用手指了指沙发，说：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请您坐在这儿看报纸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508840" y="1828800"/>
            <a:ext cx="436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男孩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摆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很久很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36440" y="1219320"/>
            <a:ext cx="900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  <a:ea typeface="楷体_GB2312"/>
              </a:rPr>
              <a:t>小男孩摆弄了很久很久，说：“一切准备停当。”高尔基侧过脸，对着他微笑。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突然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男孩往地上一坐，哭了起来。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3276720"/>
            <a:ext cx="96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高尔基侧过脸，对着他微笑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33520" y="1219320"/>
            <a:ext cx="76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高尔基拿了张报纸，按小男孩的吩咐坐下。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04920" y="14479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高尔基走到窗口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大声喊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孩子，回来！我给你胶卷，我这儿有很多胶卷。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609480" y="83808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作业小超市（二选一）：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１、小男孩哭着离开高尔基的办公室，他还会再来吗？再次见面时他们会说些什么？做些什么呢？请你展开想象，接着往下编写这个故事。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２、课外阅读有关高尔基的其他故事或高尔基的作品。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59280" y="2708280"/>
            <a:ext cx="5843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一个阳光明媚的早晨，高尔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正读书，突然，一个小纸团从窗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飞到了桌子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4716360" y="364500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5003640" y="364500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3635280" y="4653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说说，突然发生了什么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995640" y="515772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　　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读课文，思考：小男孩为什么来？用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画出有关句子。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3419640" y="1916280"/>
            <a:ext cx="46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亲爱的高尔基同志：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　　我是一名少先队员。我想给您照张相，贴在我们的墙报上。请您让他们放我进去。我照完相，立刻就走。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3564000" y="465300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觉得这名少先队员怎么样？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851280" y="4581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他真会想办法！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3492360" y="1052640"/>
            <a:ext cx="37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读句子，思考：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24360" y="105228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尔基是怎样听从小男孩吩咐的？用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----”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画出有关句子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图片1"/>
          <p:cNvPicPr/>
          <p:nvPr/>
        </p:nvPicPr>
        <p:blipFill>
          <a:blip r:embed="rId2"/>
          <a:stretch/>
        </p:blipFill>
        <p:spPr>
          <a:xfrm>
            <a:off x="0" y="907920"/>
            <a:ext cx="3708360" cy="5950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3851280" y="2276640"/>
            <a:ext cx="504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过了一会，小男孩站在高尔基面前了。他仔细打量着高尔基，咧开嘴笑了，然后用手指了指沙发，说：“请您坐这儿看报纸。”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高尔基拿了张报纸，按小男孩的吩咐坐下。小男孩摆弄了很久很久，说：“一切准备停当。”高尔基侧过脸，对着他微笑。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4140360" y="573408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读了课文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你认为高尔基是怎么样的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5"/>
          <p:cNvSpPr/>
          <p:nvPr/>
        </p:nvSpPr>
        <p:spPr>
          <a:xfrm>
            <a:off x="3708360" y="112536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突然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又发生了什么事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尔基是怎样说的？请找出句子读读。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492360" y="1989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你怎么了？”高尔基不知出了什么事？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564000" y="292428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高尔基走到窗口，大声喊道：“孩子，回来！我给你胶卷，我这儿有很多胶卷。”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780000" y="414972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讨论：你认为高尔基对小男孩如何？从哪儿看出？说明什么？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2556000" y="4869000"/>
            <a:ext cx="60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高尔基多么想留住小男孩，帮助孩子拍成这张照片，实现他美好的愿望。 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5280" y="227628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听听课文朗读，看看课文讲了一件什么事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小摄影师.mp3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13762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026"/>
          <p:cNvSpPr/>
          <p:nvPr/>
        </p:nvSpPr>
        <p:spPr>
          <a:xfrm>
            <a:off x="609480" y="533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尔基拿了张报纸，按小男孩的吩咐坐下。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5" name="Text Box 1027"/>
          <p:cNvSpPr/>
          <p:nvPr/>
        </p:nvSpPr>
        <p:spPr>
          <a:xfrm>
            <a:off x="609480" y="2174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句话说明高尔基非常尊重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小摄影师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，并尽量使他满意。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吩咐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个词本来的意思是口头指派或命令，一般是在上级让下级干什么或长辈让晚辈干什么的时候才使用它。这充分表露了高尔基作为长者对下一代的关爱。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026"/>
          <p:cNvSpPr/>
          <p:nvPr/>
        </p:nvSpPr>
        <p:spPr>
          <a:xfrm>
            <a:off x="1042920" y="3645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转告他，我很忙。不过，来的如果是个小男孩，就一定让他进来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026"/>
          <p:cNvSpPr/>
          <p:nvPr/>
        </p:nvSpPr>
        <p:spPr>
          <a:xfrm>
            <a:off x="609480" y="9907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是高尔基对秘书说的话。当秘书讲明来人是杂志社记者时，高尔基立刻婉言谢绝了，说自己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很忙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说明高尔基对于宣传自己一点也不感兴趣，但对关心到下一代成长的事，却非常重视，所以表示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来的如果是个小男孩，就一定让他进来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这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一定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说明高尔基一直惦记着小男孩，急切地希望小男孩的愿望能赶快实现。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288" name="Picture 1027" descr="0043"/>
          <p:cNvPicPr/>
          <p:nvPr/>
        </p:nvPicPr>
        <p:blipFill>
          <a:blip r:embed="rId2"/>
          <a:stretch/>
        </p:blipFill>
        <p:spPr>
          <a:xfrm>
            <a:off x="7620120" y="5638680"/>
            <a:ext cx="11048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5"/>
          <p:cNvSpPr/>
          <p:nvPr/>
        </p:nvSpPr>
        <p:spPr>
          <a:xfrm>
            <a:off x="4140360" y="1052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高尔基希望孩子来吗？从哪儿看出？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995640" y="213372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小男孩会回来吗</a:t>
            </a:r>
            <a:br>
              <a:rPr sz="3600"/>
            </a:b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851280" y="314172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联系全文，找出自己的看法的依据，并发挥想象，续写故事。 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2" name="WordArt 8"/>
          <p:cNvSpPr txBox="1"/>
          <p:nvPr/>
        </p:nvSpPr>
        <p:spPr>
          <a:xfrm>
            <a:off x="7308720" y="1628640"/>
            <a:ext cx="79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？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93" name="Picture 9" descr="小男孩"/>
          <p:cNvPicPr/>
          <p:nvPr/>
        </p:nvPicPr>
        <p:blipFill>
          <a:blip r:embed="rId2"/>
          <a:stretch/>
        </p:blipFill>
        <p:spPr>
          <a:xfrm>
            <a:off x="0" y="981000"/>
            <a:ext cx="34196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92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0" dur="192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2" dur="192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4" dur="192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续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摄影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92360" y="1267920"/>
            <a:ext cx="700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早上，天气格外晴朗。高尔基还想念着昨天的小摄影师呢！你看他想得多入神啊！突然，门卫告诉高尔基：“外面来了一名记者。”“是小男孩吗？”高尔基问。门卫回答说：“是的。”高尔基说：“快，快让他进来！”小男孩说：“这次我记着带胶卷了，我吸取了教训，以后也不会那么马虎了。”高尔基听到小男孩所说的话高兴极了！小男孩首先举起了相机，仔细打量着高尔基咧开嘴笑了。然后用手指了指办公桌说：“请您坐在这儿工作。”高尔基按照小男孩的吩咐坐下。最后小男孩调整好相机，又摆弄了好久，说：“一切准备停当。”小男孩又换了几个角度，照了几张相，他终于心满意足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续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摄影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18920" y="1599840"/>
            <a:ext cx="7273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天，小男孩来到列宁格勒，秘书马上请小男孩到高尔基的办公室。小男孩敲门进来。高尔基说：“快请进，我这儿有胶卷。”小男孩说：“你的胶卷不适合我的相机。”说着，小男孩已经吩咐高尔基坐在沙发上看报纸。忽然，小男孩又哭了起来。“你怎么呢？”高尔基关切地问。“我又忘了带胶卷了。”高尔基拿了一筒胶卷给小男孩。小男孩说：“没办法，只好用着吧！”小男孩吩咐高尔基坐在凳子上打电脑。高尔基按小男孩的吩咐去做。小男孩说：“我这次一定要多照些。”小男孩照了很久，觉得口渴了。高尔基叫秘书拿来一杯果汁。小男孩喝完向高尔基告别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续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摄影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34920" y="1267920"/>
            <a:ext cx="7057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哭着回到了家，妈妈看见了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了，孩子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男孩哭着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把胶卷忘带了，所以没拍成照片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妈妈笑着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今天没有拍成明天可以去拍呀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　     到了第二天，小男孩又来到列宁格勒。门口的秘书看到了，赶紧去告诉高尔基，高尔基听了高兴地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带小男孩到我这里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到了高尔基的面前对他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高尔基同志，对不起！昨天我把胶卷忘在家里了，不过，这次请放心。我已经把东西都带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开始拍照了，高尔基做了各种各样的姿势，耐心地配合小男孩。高尔基和小男孩在拍照的时候非常开心，因为高尔基帮助小男孩实现了愿望，小男孩也因为给高尔基拍了照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要回家了，恭恭敬敬地对高尔基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您！再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海燕"/>
          <p:cNvPicPr/>
          <p:nvPr/>
        </p:nvPicPr>
        <p:blipFill>
          <a:blip r:embed="rId2">
            <a:lum contrast="-42000"/>
          </a:blip>
          <a:stretch/>
        </p:blipFill>
        <p:spPr>
          <a:xfrm>
            <a:off x="0" y="620640"/>
            <a:ext cx="9144000" cy="64659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68360" y="1700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在苍茫的大海上，风聚集着乌云。在乌云和大海之间，海燕像黑色的闪电高傲地飞翔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一会儿翅膀碰着海浪，一会儿箭一般地直冲云霄，它叫喊着，──在这鸟儿勇敢的叫喊声里，乌云听到了欢乐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在这叫喊声里，充满着对暴风雨的渴望！在这叫喊声里，乌云感到了愤怒的力量、热情的火焰和胜利的信心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海鸥在暴风雨到来之前呻吟着，──呻吟着，在大海上面飞窜，想把自己对暴风雨的恐惧，掩藏到大海深处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海鸭也呻吟着，──这些海鸭呀，享受不了生活的战斗的欢乐；轰隆隆的雷声就把它们吓坏了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愚蠢的企鹅，畏缩地把肥胖的身体躲藏在峭崖底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只有那高傲的海燕，勇敢地、自由自在地，在翻起白沫的大海上面飞翔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乌云越来越暗，越来越低，向海面压下来；波浪一边歌唱，一边冲向空中去迎接那雷声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雷声轰响，波浪在愤怒的飞沫中呼啸着，跟狂风争鸣。看吧，狂风紧紧抱着一堆巨浪，恶狠狠地扔到峭崖上，把这大块的翡翠摔成尘雾和水沫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02" name="WordArt 4" descr=""/>
          <p:cNvPicPr/>
          <p:nvPr/>
        </p:nvPicPr>
        <p:blipFill>
          <a:blip r:embed="rId3"/>
          <a:stretch/>
        </p:blipFill>
        <p:spPr>
          <a:xfrm>
            <a:off x="324000" y="695160"/>
            <a:ext cx="1974600" cy="10544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5"/>
          <p:cNvSpPr/>
          <p:nvPr/>
        </p:nvSpPr>
        <p:spPr>
          <a:xfrm>
            <a:off x="4356000" y="836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隶书"/>
              </a:rPr>
              <a:t>欣赏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隶书"/>
              </a:rPr>
              <a:t>海燕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海燕叫喊着，飞翔着，像黑色的闪电，箭一般地穿过乌云。翅膀刮起波浪的飞沫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看吧，它飞舞着像个精灵──高傲的、黑色的暴风雨的精灵，──它一边大笑，它一边高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它笑那些乌云，它为欢乐而高叫！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这个敏感的精灵，从雷声的震怒里早就听出困乏，它深信乌云遮不住太阳，──是的，遮不住的！风在狂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雷在轰响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堆堆的乌云像青色的火焰，在无底的大海上燃烧。大海抓住金箭似的闪电，把它熄灭在自己的深渊里。闪电的影子，像一条条的火舌，在大海里蜿蜒浮动，一晃就消失了。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──暴风雨！暴风雨就要来啦！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这是勇敢的海燕，在闪电之间，在怒吼的大海上高傲地飞翔。这是胜利的预言家在叫喊：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──让暴风雨来得更猛烈些吧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05" name="海燕.mp3" descr=""/>
          <p:cNvPicPr/>
          <p:nvPr/>
        </p:nvPicPr>
        <p:blipFill>
          <a:blip r:embed="rId4"/>
          <a:stretch/>
        </p:blipFill>
        <p:spPr>
          <a:xfrm>
            <a:off x="8136000" y="5850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1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高尔基2"/>
          <p:cNvPicPr/>
          <p:nvPr/>
        </p:nvPicPr>
        <p:blipFill>
          <a:blip r:embed="rId2"/>
          <a:stretch/>
        </p:blipFill>
        <p:spPr>
          <a:xfrm>
            <a:off x="0" y="981000"/>
            <a:ext cx="3924360" cy="5877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5"/>
          <p:cNvSpPr/>
          <p:nvPr/>
        </p:nvSpPr>
        <p:spPr>
          <a:xfrm>
            <a:off x="4284720" y="328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华文行楷"/>
              </a:rPr>
              <a:t>书籍是人类进步的阶梯！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8" name="WordArt 6"/>
          <p:cNvSpPr txBox="1"/>
          <p:nvPr/>
        </p:nvSpPr>
        <p:spPr>
          <a:xfrm>
            <a:off x="6516720" y="5734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海燕"/>
          <p:cNvPicPr/>
          <p:nvPr/>
        </p:nvPicPr>
        <p:blipFill>
          <a:blip r:embed="rId2"/>
          <a:stretch/>
        </p:blipFill>
        <p:spPr>
          <a:xfrm>
            <a:off x="0" y="1052640"/>
            <a:ext cx="3948120" cy="5805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4067280" y="1197000"/>
            <a:ext cx="48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写于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90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，是高尔基早期创作活动中的一篇著名散文诗。当时革命斗争蓬勃兴起，高尔基目睹了沙皇政府的暴行，极为愤慨，写成了短篇小说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春天的旋律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就是这篇小说的尾声部分。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就是一只鸟儿在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春天的旋律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的结尾部分所唱的歌。这种思想倾向的小说在当时是无法发表的。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信使报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拒绝发表，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生活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杂志拒绝发表。但小说的结尾部分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却被单独发表在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90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月号的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生活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杂志上。据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生活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杂志的主编回忆说：“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在审查官审查时没有看出它有什么革命性的东西。”事实上，作品一经发表，沙皇当局很快就发现了“漏审的疏忽”所造成的严重后果，下令查封了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生活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杂志。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海燕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一经发表，便在俄国大地上产生巨大反响，它被革命者用胶印和手抄等方式广为传播，一时间成为最受欢迎、最富有宣传性和号召力的诗传单。 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4500720" y="62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海燕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2" name="WordArt 5"/>
          <p:cNvSpPr txBox="1"/>
          <p:nvPr/>
        </p:nvSpPr>
        <p:spPr>
          <a:xfrm>
            <a:off x="6948360" y="61657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914400" y="1828800"/>
            <a:ext cx="73152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摄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影      方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格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明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媚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桌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子      同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志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粘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贴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Text Box 1027"/>
          <p:cNvSpPr/>
          <p:nvPr/>
        </p:nvSpPr>
        <p:spPr>
          <a:xfrm>
            <a:off x="137160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sh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6" name="Text Box 1028"/>
          <p:cNvSpPr/>
          <p:nvPr/>
        </p:nvSpPr>
        <p:spPr>
          <a:xfrm>
            <a:off x="4495680" y="121932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g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é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Text Box 1029"/>
          <p:cNvSpPr/>
          <p:nvPr/>
        </p:nvSpPr>
        <p:spPr>
          <a:xfrm>
            <a:off x="6781680" y="12193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m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è</a:t>
            </a: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Text Box 1030"/>
          <p:cNvSpPr/>
          <p:nvPr/>
        </p:nvSpPr>
        <p:spPr>
          <a:xfrm>
            <a:off x="12193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huō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9" name="Text Box 1031"/>
          <p:cNvSpPr/>
          <p:nvPr/>
        </p:nvSpPr>
        <p:spPr>
          <a:xfrm>
            <a:off x="44197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h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ì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1032"/>
          <p:cNvSpPr/>
          <p:nvPr/>
        </p:nvSpPr>
        <p:spPr>
          <a:xfrm>
            <a:off x="6705720" y="33526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tiē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Object 4" descr=""/>
          <p:cNvPicPr/>
          <p:nvPr/>
        </p:nvPicPr>
        <p:blipFill>
          <a:blip r:embed="rId2"/>
          <a:stretch/>
        </p:blipFill>
        <p:spPr>
          <a:xfrm>
            <a:off x="-181080" y="1052640"/>
            <a:ext cx="4070520" cy="59785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6"/>
          <p:cNvSpPr/>
          <p:nvPr/>
        </p:nvSpPr>
        <p:spPr>
          <a:xfrm>
            <a:off x="4067280" y="134136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       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长篇小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母亲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是高尔基最重要的代表作，也是俄国社会主义文学最早出现的优秀成果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    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9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世纪末俄国以列宁为首的布尔什维克党领导的工农革命，改变了人类的发展进程。高尔基的长篇小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母亲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在文学史上最早表现了这种革命，这在世界文学史上具有划时代的历史意义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    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母亲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一出版，立刻受到俄国与全世界革命人民的欢迎。反动当局惊恐万状，下令逮捕高尔基。伏罗希洛夫对高尔基说：“好几代的俄罗斯无产者受到了您的文学作品的教育。”小说很快译成德、法、英、意、西班牙、丹麦、瑞典、保加利亚等文，对世界发生了重大影响。对中国革命与中国文学的影响尤深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5219640" y="62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母亲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6" name="WordArt 8"/>
          <p:cNvSpPr txBox="1"/>
          <p:nvPr/>
        </p:nvSpPr>
        <p:spPr>
          <a:xfrm>
            <a:off x="6877080" y="6237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6" descr="童年"/>
          <p:cNvPicPr/>
          <p:nvPr/>
        </p:nvPicPr>
        <p:blipFill>
          <a:blip r:embed="rId2"/>
          <a:stretch/>
        </p:blipFill>
        <p:spPr>
          <a:xfrm>
            <a:off x="0" y="981000"/>
            <a:ext cx="4140360" cy="5877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7"/>
          <p:cNvSpPr/>
          <p:nvPr/>
        </p:nvSpPr>
        <p:spPr>
          <a:xfrm>
            <a:off x="4427640" y="170028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童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与其续篇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在人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我的大学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共同构成了高尔基自传体小说三部曲，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童年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是首篇。在这部小说中，描写的是作者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岁以前的童年时代的生活。记叙了主人公成长、生活的历程，描写了那令人窒息的、充满可怕景象的狭小天地。阿廖沙四岁时，父亲就死了，于是跟着外祖父、外祖母过着贫寒、艰苦的生活。外祖父有着矛盾复杂的性格，他的内心有善良的一面，但贪婪金钱腐蚀了他的灵魂。在这冷冰冰的世界里，只有外祖母庇护、关心着他，给予他无限的温情和钟爱，并对他进行了有益的教导。 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148360" y="9079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童年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0" name="WordArt 19"/>
          <p:cNvSpPr txBox="1"/>
          <p:nvPr/>
        </p:nvSpPr>
        <p:spPr>
          <a:xfrm>
            <a:off x="6948360" y="6237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Object 2" descr=""/>
          <p:cNvPicPr/>
          <p:nvPr/>
        </p:nvPicPr>
        <p:blipFill>
          <a:blip r:embed="rId2"/>
          <a:stretch/>
        </p:blipFill>
        <p:spPr>
          <a:xfrm>
            <a:off x="-181080" y="1006560"/>
            <a:ext cx="4506840" cy="60228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4427640" y="12682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在人间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是高尔基自传体小说三部曲中的第二部。小说描述的是主人公阿廖沙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871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到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884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年的生活。这段时期为了生活，他与外祖母摘野果出卖糊口，当过绘图师的学徒，在一艘船上当过洗碗工，当过圣像作坊徒工。在人生的道路上，他历尽坎坷，与社会底层形形色色的人们打交道，他有机会阅读大量书籍。生活阅历和大量的阅读扩展了阿廖沙的视野，他决心“要做一个坚强的人，不要为环境所屈服”。他怀着这样的坚定信念，离开家乡奔赴喀山。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    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在小说，作家不只是再现了形形色色的小市民和他们的生活习俗、道德观念和精神境界，而且塑造了一系列体现劳动人民智慧才能的人物形象，广泛深刻地再现了广大下层劳动者的悲惨生活和他们的思想情结，描绘了俄国社会一个时代的历史画卷。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4932360" y="549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在人间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WordArt 6"/>
          <p:cNvSpPr txBox="1"/>
          <p:nvPr/>
        </p:nvSpPr>
        <p:spPr>
          <a:xfrm>
            <a:off x="7020000" y="61657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我的大学"/>
          <p:cNvPicPr/>
          <p:nvPr/>
        </p:nvPicPr>
        <p:blipFill>
          <a:blip r:embed="rId2"/>
          <a:stretch/>
        </p:blipFill>
        <p:spPr>
          <a:xfrm>
            <a:off x="0" y="981000"/>
            <a:ext cx="3995640" cy="604836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4284720" y="206064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我的大学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是高尔基自传体小说三部曲中的第三部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       </a:t>
            </a: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小说叙述了饱尝人间辛酸的阿廖沙，抱着进大学读书的理想来到喀山，过了不久就参加了秘密的革命活动。贫苦的生活使他在伏尔加河流浪，和搬运工人、小偷、乞丐生活在一起。后来，他在面包店找到工作，向工人们传播革命理想，参加了大学生的秘密组织，鼓励工人罢工。俄国的腐朽和个人的困境使他自杀未遂而受伤。伤愈后，他带着新生的力量，离开喀山，重新走上流浪的道路。</a:t>
            </a:r>
            <a:endParaRPr b="0" lang="en-US" sz="2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643280" y="9810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《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我的大学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华文新魏"/>
              </a:rPr>
              <a:t>》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华文新魏"/>
              </a:rPr>
              <a:t>简介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8" name="WordArt 7"/>
          <p:cNvSpPr txBox="1"/>
          <p:nvPr/>
        </p:nvSpPr>
        <p:spPr>
          <a:xfrm>
            <a:off x="6877080" y="6237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链接返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990720" y="763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海   燕</a:t>
            </a:r>
            <a:endParaRPr b="0" lang="en-US" sz="6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609480" y="117324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苍茫的大海上，风聚集着乌云。在乌云和大海之间，海燕像黑色的闪电高傲地飞翔。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暴风雨！暴风雨就要来啦！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是勇敢的海燕，在闪电之间，在怒吼的大海上高傲地飞翔。这是胜利的预言家在叫喊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让暴风雨来得更猛烈些吧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331" name="Picture 4" descr="图片"/>
          <p:cNvPicPr/>
          <p:nvPr/>
        </p:nvPicPr>
        <p:blipFill>
          <a:blip r:embed="rId2"/>
          <a:stretch/>
        </p:blipFill>
        <p:spPr>
          <a:xfrm>
            <a:off x="7885080" y="189000"/>
            <a:ext cx="836640" cy="83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3333ff"/>
                </a:solidFill>
                <a:latin typeface="Arial"/>
              </a:endParaRPr>
            </a:p>
          </p:txBody>
        </p:sp>
        <p:pic>
          <p:nvPicPr>
            <p:cNvPr id="3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3333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026"/>
          <p:cNvSpPr/>
          <p:nvPr/>
        </p:nvSpPr>
        <p:spPr>
          <a:xfrm>
            <a:off x="914400" y="1828800"/>
            <a:ext cx="73152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鞠    躬      按</a:t>
            </a:r>
            <a:r>
              <a:rPr b="1" lang="en-US" sz="48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照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侧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面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胶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卷      一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236232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jū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Text Box 1028"/>
          <p:cNvSpPr/>
          <p:nvPr/>
        </p:nvSpPr>
        <p:spPr>
          <a:xfrm>
            <a:off x="3276720" y="12193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gō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5105520" y="12193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52388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c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342900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jiāo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6400800" y="33526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li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ng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26"/>
          <p:cNvSpPr/>
          <p:nvPr/>
        </p:nvSpPr>
        <p:spPr>
          <a:xfrm>
            <a:off x="914400" y="29862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秘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书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杂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志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社</a:t>
            </a:r>
            <a:endParaRPr b="0" lang="en-US" sz="4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Text Box 1027"/>
          <p:cNvSpPr/>
          <p:nvPr/>
        </p:nvSpPr>
        <p:spPr>
          <a:xfrm>
            <a:off x="1981080" y="2286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m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ì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4495680" y="2286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z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á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1" name="Text Box 1029"/>
          <p:cNvSpPr/>
          <p:nvPr/>
        </p:nvSpPr>
        <p:spPr>
          <a:xfrm>
            <a:off x="6172200" y="2286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zypyyb"/>
                <a:ea typeface="zypyyb"/>
              </a:rPr>
              <a:t>sh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112" name="Picture 1030" descr="0043"/>
          <p:cNvPicPr/>
          <p:nvPr/>
        </p:nvPicPr>
        <p:blipFill>
          <a:blip r:embed="rId2"/>
          <a:stretch/>
        </p:blipFill>
        <p:spPr>
          <a:xfrm>
            <a:off x="7620120" y="5638680"/>
            <a:ext cx="1104840" cy="8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626920" y="2420640"/>
            <a:ext cx="5483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摄    基     媚       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躬    胶     秘       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067280" y="1413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我会认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56000" y="1700280"/>
            <a:ext cx="53276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shè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摄影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摄        摄取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摄政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摄位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627280" y="2060640"/>
            <a:ext cx="5472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jī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基本    基地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基    基础    基金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基数    墙基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4360" y="2060640"/>
            <a:ext cx="579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mèi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妩媚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媚      春光明媚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8360" y="2637000"/>
            <a:ext cx="356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jū  gōng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鞠   躬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050920" y="2133720"/>
            <a:ext cx="669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jiāo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胶卷     橡胶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胶       胶泥     胶皮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胶鞋    万能胶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635280" y="1773360"/>
            <a:ext cx="3961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秘书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mì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秘密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秘     秘方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秘诀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-3565440" y="2492280"/>
            <a:ext cx="5545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会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sè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交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    结社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火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268360" y="1341360"/>
            <a:ext cx="5832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会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shè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火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         结社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社交</a:t>
            </a:r>
            <a:endParaRPr b="0" lang="en-US" sz="54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35280" y="227628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说说课文讲了一件什么事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34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