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B2F-91E1-41C4-A90D-C69316D9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D8C-0C89-4DC1-9CD4-6171AC6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A71-D154-458D-BC4D-7BCEC131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EF6-FE5A-4B58-84EC-F6816FC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9868-71DB-4BE7-931E-13BFF0F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084-BFAE-4080-AB81-B7D3A17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2C2-74DE-4489-B3A3-C0065FE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FCCF-890F-4D9F-8909-D1A894A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0EDC-7D21-44EF-ADFA-3CD61A46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6FF-3AFB-4FC6-8B4D-673194F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3C33-D503-4DE0-93C6-264D648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F6B-9A51-4830-A4ED-12C9E8F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5BE-CE65-41C1-9B4E-C5EA8D1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7402-6D97-41D7-B911-1C90E3F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E957-DE9F-4997-9098-C6EC32F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16D3-CFBE-4E88-8EB7-F9DAA635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F2F7-3DE6-4B05-B146-40FB57D4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802A-2994-4FF7-8C47-BADA0E57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13DF-5668-49EC-9F2F-354EAE0F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0680-DC61-4489-BF81-E0A33CFE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867D-17C6-4376-9382-43AA1D6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EF8F-55FC-4CF8-9FF4-3AA7CEDD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5A8-B709-4CB5-9096-4AC28E9C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D866-61CA-464E-AB88-44EB076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5A93-BA5E-49BA-9224-2DD65574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5F62-4550-4F10-9173-AF0172E7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11D5-7A6F-40EF-B019-37791A5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6105-B8C5-423C-8B54-4438ABA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A324-6B1B-482B-9B76-E8141120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3FC2-5CEB-4D7A-BBB2-BD53D3A7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DC3A-1270-4D89-9D0C-C77DCA4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5E96-F829-4C6D-B48B-60C59BC3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AE20-A462-41A7-B44A-06FA43B6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C0A-7D66-48E1-B365-96014E47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9ECD-5E9E-42E0-81EB-8DDD8FF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5A4E-4BBA-4D25-9F60-DCA1B770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48D2-BD47-4044-83C5-0A319DC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EE577-0DEE-4D53-A56A-F2F78B8E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B8C0-3445-43CD-B585-79E6981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7FE2-7DA4-4A6C-9E21-992C600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B125-9DA0-4CED-B906-DD4ED49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9F7C-2D86-42ED-985B-452AB903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7461-84B1-4410-82AA-A6C66700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7CF-C97E-4C95-8583-1AC0CAB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AC1-E008-49DB-8DF6-649C3B44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063-9C3C-47EB-8027-3774C80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C60-6BA4-48C7-86F9-DA101F4A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138-0B96-4B36-8553-86CD775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E72-B373-4997-BB46-D7C842BC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E7B-5FFD-4F46-9353-1CF814928C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04B3-D87F-4987-B19C-02599B9A7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27EF-4365-45E0-B202-F41EF9A2CE4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hammer.wav" TargetMode="External"/><Relationship Id="rId4" Type="http://schemas.microsoft.com/office/2007/relationships/media" Target="file:///tmp/home/.config/libreoffice/4/user/gallery/hammer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yingxion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87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想做一个怎样的孩子？今后，遇到坏人坏事，你准备怎么办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yingxiong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411280" y="5805360"/>
            <a:ext cx="5997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e08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雨来的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yingxiong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0" y="1773360"/>
            <a:ext cx="876924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雨来上夜校受到爱国主义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yingxiong17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yingxiong18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yingxiong19"/>
          <p:cNvPicPr/>
          <p:nvPr/>
        </p:nvPicPr>
        <p:blipFill>
          <a:blip r:embed="rId4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yingxiong20"/>
          <p:cNvPicPr/>
          <p:nvPr/>
        </p:nvPicPr>
        <p:blipFill>
          <a:blip r:embed="rId5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8"/>
          <p:cNvSpPr/>
          <p:nvPr/>
        </p:nvSpPr>
        <p:spPr>
          <a:xfrm>
            <a:off x="1671480" y="3146400"/>
            <a:ext cx="62136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0e08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三、雨来掩护交通员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yingxiongyulai1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yingxiongyulai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yingxiio28"/>
          <p:cNvPicPr/>
          <p:nvPr/>
        </p:nvPicPr>
        <p:blipFill>
          <a:blip r:embed="rId4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yingxiio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9"/>
          <p:cNvSpPr/>
          <p:nvPr/>
        </p:nvSpPr>
        <p:spPr>
          <a:xfrm>
            <a:off x="1619280" y="299736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887480" y="2997360"/>
            <a:ext cx="57801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、雨来和鬼子进行不屈的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yingxiongyulai3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yingxiongyulai4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384200" y="1916280"/>
            <a:ext cx="68598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五、芦花村的人误以为雨来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yingxiongyulai7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yingxiongyulai8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yingxiong9"/>
          <p:cNvPicPr/>
          <p:nvPr/>
        </p:nvPicPr>
        <p:blipFill>
          <a:blip r:embed="rId4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yingxiongyulai11"/>
          <p:cNvPicPr/>
          <p:nvPr/>
        </p:nvPicPr>
        <p:blipFill>
          <a:blip r:embed="rId5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132000" y="5734080"/>
            <a:ext cx="6716880" cy="581400"/>
          </a:xfrm>
          <a:prstGeom prst="rect">
            <a:avLst/>
          </a:prstGeom>
          <a:solidFill>
            <a:srgbClr val="cceb0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六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ff"/>
                </a:solidFill>
                <a:latin typeface="Times New Roman"/>
              </a:rPr>
              <a:t>读课题思考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2971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本课的主要人物是雨来，为什么称他是小英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机智勇敢、不畏强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6e430"/>
                </a:solidFill>
                <a:latin typeface="Arial"/>
              </a:rPr>
              <a:t>小标题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游泳本领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上夜校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掩护李大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与鬼子作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河沿上的枪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雨来没有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3:27:2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9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