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4.wmf" ContentType="image/x-wmf"/>
  <Override PartName="/ppt/media/image13.png" ContentType="image/png"/>
  <Override PartName="/ppt/media/image6.jpeg" ContentType="image/jpeg"/>
  <Override PartName="/ppt/media/CAMERA.WAV" ContentType="audio/x-wav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5EB9-6147-4C84-B76C-8C5D92A28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FCD-90D2-4C46-AE3A-53F43DA7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14A-77C4-4953-BA6B-58861721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239-BD9B-4430-A20E-A01DFCFA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AC4C-BFC5-414A-9F0E-DEA23071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90D4-081C-453C-8A5C-B241A2B1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BBE1-CBD4-49A5-82ED-64F3CF85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6D3A-7A48-49F8-8B3A-D506167F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2136-9C2F-44EE-8052-16B669DE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3478-F588-462B-A068-22902895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8D5D-D71C-4B4A-923C-29EB46E2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E3DF-8942-496C-A548-351F66E2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62FE-F06B-46D1-99A6-BB25C658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1EC9-7165-4BA8-9DC4-D9198E99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952F-A89E-4557-9255-EFDDD9E1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A8A8-19E2-48E3-AF83-DC8197B6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55B4-35AC-4705-9C9B-A73C6BB1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247-B895-49D7-9A7A-78763193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40B3-B696-4A69-9B94-74A94924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7AB-20F4-4800-ADC2-79ABAF17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193-0844-4488-8C85-4DA15BBB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4A29-B53A-4D61-8708-83656977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E457-48C1-47A5-8C4D-F5A2248E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F35-E3BA-47E0-A33E-FC077F6F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0F8A-09D5-43A7-B4FC-AD4AC8C015C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7EB5-5D2C-4B75-8B51-01D9F5C7A0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A306-B0A3-43B6-B363-099D079C3C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257,10,&#24187;&#28783;&#29255; 10" TargetMode="External"/><Relationship Id="rId4" Type="http://schemas.openxmlformats.org/officeDocument/2006/relationships/hyperlink" Target="257,10,&#24187;&#28783;&#29255; 10" TargetMode="External"/><Relationship Id="rId5" Type="http://schemas.openxmlformats.org/officeDocument/2006/relationships/hyperlink" Target="258,11,&#24187;&#28783;&#29255; 11" TargetMode="External"/><Relationship Id="rId6" Type="http://schemas.openxmlformats.org/officeDocument/2006/relationships/hyperlink" Target="258,11,&#24187;&#28783;&#29255; 11" TargetMode="External"/><Relationship Id="rId7" Type="http://schemas.openxmlformats.org/officeDocument/2006/relationships/hyperlink" Target="258,11,&#24187;&#28783;&#29255; 11" TargetMode="External"/><Relationship Id="rId8" Type="http://schemas.openxmlformats.org/officeDocument/2006/relationships/hyperlink" Target="258,11,&#24187;&#28783;&#29255; 11" TargetMode="External"/><Relationship Id="rId9" Type="http://schemas.openxmlformats.org/officeDocument/2006/relationships/hyperlink" Target="258,11,&#24187;&#28783;&#29255; 11" TargetMode="External"/><Relationship Id="rId10" Type="http://schemas.openxmlformats.org/officeDocument/2006/relationships/hyperlink" Target="258,11,&#24187;&#28783;&#29255; 11" TargetMode="External"/><Relationship Id="rId11" Type="http://schemas.openxmlformats.org/officeDocument/2006/relationships/hyperlink" Target="258,11,&#24187;&#28783;&#29255; 11" TargetMode="External"/><Relationship Id="rId12" Type="http://schemas.openxmlformats.org/officeDocument/2006/relationships/hyperlink" Target="259,13,&#24187;&#28783;&#29255; 13" TargetMode="External"/><Relationship Id="rId13" Type="http://schemas.openxmlformats.org/officeDocument/2006/relationships/hyperlink" Target="259,13,&#24187;&#28783;&#29255; 13" TargetMode="External"/><Relationship Id="rId14" Type="http://schemas.openxmlformats.org/officeDocument/2006/relationships/hyperlink" Target="259,13,&#24187;&#28783;&#29255; 13" TargetMode="External"/><Relationship Id="rId15" Type="http://schemas.openxmlformats.org/officeDocument/2006/relationships/hyperlink" Target="259,13,&#24187;&#28783;&#29255; 13" TargetMode="External"/><Relationship Id="rId16" Type="http://schemas.openxmlformats.org/officeDocument/2006/relationships/hyperlink" Target="259,13,&#24187;&#28783;&#29255; 13" TargetMode="External"/><Relationship Id="rId17" Type="http://schemas.openxmlformats.org/officeDocument/2006/relationships/hyperlink" Target="259,13,&#24187;&#28783;&#29255; 13" TargetMode="External"/><Relationship Id="rId18" Type="http://schemas.openxmlformats.org/officeDocument/2006/relationships/hyperlink" Target="259,13,&#24187;&#28783;&#29255; 13" TargetMode="External"/><Relationship Id="rId19" Type="http://schemas.openxmlformats.org/officeDocument/2006/relationships/hyperlink" Target="260,15,&#24187;&#28783;&#29255; 15" TargetMode="External"/><Relationship Id="rId20" Type="http://schemas.openxmlformats.org/officeDocument/2006/relationships/hyperlink" Target="260,15,&#24187;&#28783;&#29255; 15" TargetMode="External"/><Relationship Id="rId21" Type="http://schemas.openxmlformats.org/officeDocument/2006/relationships/hyperlink" Target="260,15,&#24187;&#28783;&#29255; 15" TargetMode="External"/><Relationship Id="rId22" Type="http://schemas.openxmlformats.org/officeDocument/2006/relationships/hyperlink" Target="260,15,&#24187;&#28783;&#29255; 15" TargetMode="External"/><Relationship Id="rId23" Type="http://schemas.openxmlformats.org/officeDocument/2006/relationships/hyperlink" Target="260,15,&#24187;&#28783;&#29255; 15" TargetMode="External"/><Relationship Id="rId24" Type="http://schemas.openxmlformats.org/officeDocument/2006/relationships/hyperlink" Target="260,15,&#24187;&#28783;&#29255; 15" TargetMode="External"/><Relationship Id="rId25" Type="http://schemas.openxmlformats.org/officeDocument/2006/relationships/image" Target="../media/image11.png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《学弈》插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Text Box 8" descr=""/>
          <p:cNvPicPr/>
          <p:nvPr/>
        </p:nvPicPr>
        <p:blipFill>
          <a:blip r:embed="rId3"/>
          <a:stretch/>
        </p:blipFill>
        <p:spPr>
          <a:xfrm>
            <a:off x="2706840" y="1700280"/>
            <a:ext cx="4108320" cy="1950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8429400" y="6248520"/>
            <a:ext cx="54648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13"/>
          <p:cNvSpPr txBox="1"/>
          <p:nvPr/>
        </p:nvSpPr>
        <p:spPr>
          <a:xfrm>
            <a:off x="108000" y="620640"/>
            <a:ext cx="793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3000"/>
                    </a:srgbClr>
                  </a:outerShdw>
                </a:effectLst>
                <a:latin typeface="宋体"/>
              </a:rPr>
              <a:t>（北师大版）六年级语文上册第四单元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3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85800" y="1600200"/>
            <a:ext cx="8458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虽 与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俱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学，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弗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之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矣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BS00580_"/>
          <p:cNvPicPr/>
          <p:nvPr/>
        </p:nvPicPr>
        <p:blipFill>
          <a:blip r:embed="rId1"/>
          <a:stretch/>
        </p:blipFill>
        <p:spPr>
          <a:xfrm>
            <a:off x="7086600" y="4419720"/>
            <a:ext cx="1752480" cy="14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bot"/>
          <p:cNvPicPr/>
          <p:nvPr/>
        </p:nvPicPr>
        <p:blipFill>
          <a:blip r:embed="rId2"/>
          <a:stretch/>
        </p:blipFill>
        <p:spPr>
          <a:xfrm>
            <a:off x="4572000" y="5867280"/>
            <a:ext cx="2286000" cy="493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bot"/>
          <p:cNvPicPr/>
          <p:nvPr/>
        </p:nvPicPr>
        <p:blipFill>
          <a:blip r:embed="rId3"/>
          <a:stretch/>
        </p:blipFill>
        <p:spPr>
          <a:xfrm>
            <a:off x="1676520" y="5867280"/>
            <a:ext cx="2286000" cy="49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9"/>
          <p:cNvSpPr/>
          <p:nvPr/>
        </p:nvSpPr>
        <p:spPr>
          <a:xfrm>
            <a:off x="6705720" y="4572000"/>
            <a:ext cx="2438280" cy="2286000"/>
          </a:xfrm>
          <a:custGeom>
            <a:avLst/>
            <a:gdLst>
              <a:gd name="textAreaLeft" fmla="*/ 142560 w 2438280"/>
              <a:gd name="textAreaRight" fmla="*/ 2295720 w 2438280"/>
              <a:gd name="textAreaTop" fmla="*/ 142560 h 2286000"/>
              <a:gd name="textAreaBottom" fmla="*/ 2143440 h 2286000"/>
            </a:gdLst>
            <a:ahLst/>
            <a:rect l="textAreaLeft" t="textAreaTop" r="textAreaRight" b="textAreaBottom"/>
            <a:pathLst>
              <a:path w="23039" h="21600">
                <a:moveTo>
                  <a:pt x="0" y="0"/>
                </a:moveTo>
                <a:lnTo>
                  <a:pt x="23039" y="0"/>
                </a:lnTo>
                <a:lnTo>
                  <a:pt x="23039" y="21600"/>
                </a:lnTo>
                <a:lnTo>
                  <a:pt x="0" y="21600"/>
                </a:lnTo>
                <a:close/>
              </a:path>
              <a:path fill="lightenLess" w="23039" h="21600">
                <a:moveTo>
                  <a:pt x="0" y="0"/>
                </a:moveTo>
                <a:lnTo>
                  <a:pt x="23039" y="0"/>
                </a:lnTo>
                <a:lnTo>
                  <a:pt x="21689" y="1350"/>
                </a:lnTo>
                <a:lnTo>
                  <a:pt x="1350" y="1350"/>
                </a:lnTo>
                <a:close/>
              </a:path>
              <a:path fill="darken" w="23039" h="21600">
                <a:moveTo>
                  <a:pt x="23039" y="0"/>
                </a:moveTo>
                <a:lnTo>
                  <a:pt x="23039" y="21600"/>
                </a:lnTo>
                <a:lnTo>
                  <a:pt x="21689" y="20250"/>
                </a:lnTo>
                <a:lnTo>
                  <a:pt x="21689" y="1350"/>
                </a:lnTo>
                <a:close/>
              </a:path>
              <a:path fill="darkenLess" w="23039" h="21600">
                <a:moveTo>
                  <a:pt x="2303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689" y="20250"/>
                </a:lnTo>
                <a:close/>
              </a:path>
              <a:path fill="lighten" w="2303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3026160" y="2514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他，前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281736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7534440" y="251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754880" y="2514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7957080" y="624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838080" y="16765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为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是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其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智 弗 若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与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35" descr="BS00823_"/>
          <p:cNvPicPr/>
          <p:nvPr/>
        </p:nvPicPr>
        <p:blipFill>
          <a:blip r:embed="rId1"/>
          <a:stretch/>
        </p:blipFill>
        <p:spPr>
          <a:xfrm>
            <a:off x="6934320" y="4419720"/>
            <a:ext cx="1828800" cy="1558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7"/>
          <p:cNvSpPr/>
          <p:nvPr/>
        </p:nvSpPr>
        <p:spPr>
          <a:xfrm>
            <a:off x="2576520" y="6745320"/>
            <a:ext cx="18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8413560" y="710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-304920" y="3505320"/>
            <a:ext cx="708660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曰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：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非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然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0" descr="bot"/>
          <p:cNvPicPr/>
          <p:nvPr/>
        </p:nvPicPr>
        <p:blipFill>
          <a:blip r:embed="rId2"/>
          <a:stretch/>
        </p:blipFill>
        <p:spPr>
          <a:xfrm>
            <a:off x="4572000" y="5715000"/>
            <a:ext cx="2286000" cy="493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1" descr="bot"/>
          <p:cNvPicPr/>
          <p:nvPr/>
        </p:nvPicPr>
        <p:blipFill>
          <a:blip r:embed="rId3"/>
          <a:stretch/>
        </p:blipFill>
        <p:spPr>
          <a:xfrm>
            <a:off x="1447920" y="5715000"/>
            <a:ext cx="2286000" cy="49356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42"/>
          <p:cNvSpPr/>
          <p:nvPr/>
        </p:nvSpPr>
        <p:spPr>
          <a:xfrm>
            <a:off x="6629400" y="5257800"/>
            <a:ext cx="2286000" cy="1523880"/>
          </a:xfrm>
          <a:custGeom>
            <a:avLst/>
            <a:gdLst>
              <a:gd name="textAreaLeft" fmla="*/ 95040 w 2286000"/>
              <a:gd name="textAreaRight" fmla="*/ 2190960 w 2286000"/>
              <a:gd name="textAreaTop" fmla="*/ 95040 h 1523880"/>
              <a:gd name="textAreaBottom" fmla="*/ 1428840 h 15238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3"/>
          <p:cNvSpPr/>
          <p:nvPr/>
        </p:nvSpPr>
        <p:spPr>
          <a:xfrm>
            <a:off x="1281600" y="266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谓，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3940560" y="2666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他，后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738936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1674360" y="4495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3034800" y="449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410940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49"/>
          <p:cNvSpPr/>
          <p:nvPr/>
        </p:nvSpPr>
        <p:spPr>
          <a:xfrm>
            <a:off x="6553080" y="4724280"/>
            <a:ext cx="2590920" cy="2133720"/>
          </a:xfrm>
          <a:custGeom>
            <a:avLst/>
            <a:gdLst>
              <a:gd name="textAreaLeft" fmla="*/ 133200 w 2590920"/>
              <a:gd name="textAreaRight" fmla="*/ 2457720 w 2590920"/>
              <a:gd name="textAreaTop" fmla="*/ 133200 h 2133720"/>
              <a:gd name="textAreaBottom" fmla="*/ 2000520 h 213372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78" y="1350"/>
                </a:lnTo>
                <a:lnTo>
                  <a:pt x="1350" y="135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78" y="20250"/>
                </a:lnTo>
                <a:lnTo>
                  <a:pt x="24878" y="135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878" y="2025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0"/>
          <p:cNvSpPr/>
          <p:nvPr/>
        </p:nvSpPr>
        <p:spPr>
          <a:xfrm>
            <a:off x="7957080" y="624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" descr="《学弈》插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4440240" y="228600"/>
            <a:ext cx="480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3505320" y="5562720"/>
            <a:ext cx="5181480" cy="1676160"/>
          </a:xfrm>
          <a:custGeom>
            <a:avLst/>
            <a:gdLst>
              <a:gd name="textAreaLeft" fmla="*/ 104760 w 5181480"/>
              <a:gd name="textAreaRight" fmla="*/ 5076720 w 5181480"/>
              <a:gd name="textAreaTop" fmla="*/ 104760 h 1676160"/>
              <a:gd name="textAreaBottom" fmla="*/ 1571400 h 1676160"/>
            </a:gdLst>
            <a:ahLst/>
            <a:rect l="textAreaLeft" t="textAreaTop" r="textAreaRight" b="textAreaBottom"/>
            <a:pathLst>
              <a:path w="66762" h="21600">
                <a:moveTo>
                  <a:pt x="0" y="0"/>
                </a:moveTo>
                <a:lnTo>
                  <a:pt x="66762" y="0"/>
                </a:lnTo>
                <a:lnTo>
                  <a:pt x="66762" y="21600"/>
                </a:lnTo>
                <a:lnTo>
                  <a:pt x="0" y="21600"/>
                </a:lnTo>
                <a:close/>
              </a:path>
              <a:path fill="lightenLess" w="66762" h="21600">
                <a:moveTo>
                  <a:pt x="0" y="0"/>
                </a:moveTo>
                <a:lnTo>
                  <a:pt x="66762" y="0"/>
                </a:lnTo>
                <a:lnTo>
                  <a:pt x="65412" y="1350"/>
                </a:lnTo>
                <a:lnTo>
                  <a:pt x="1350" y="1350"/>
                </a:lnTo>
                <a:close/>
              </a:path>
              <a:path fill="darken" w="66762" h="21600">
                <a:moveTo>
                  <a:pt x="66762" y="0"/>
                </a:moveTo>
                <a:lnTo>
                  <a:pt x="66762" y="21600"/>
                </a:lnTo>
                <a:lnTo>
                  <a:pt x="65412" y="20250"/>
                </a:lnTo>
                <a:lnTo>
                  <a:pt x="65412" y="1350"/>
                </a:lnTo>
                <a:close/>
              </a:path>
              <a:path fill="darkenLess" w="66762" h="21600">
                <a:moveTo>
                  <a:pt x="6676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5412" y="20250"/>
                </a:lnTo>
                <a:close/>
              </a:path>
              <a:path fill="lighten" w="6676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609880" y="6400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背景4"/>
          <p:cNvPicPr/>
          <p:nvPr/>
        </p:nvPicPr>
        <p:blipFill>
          <a:blip r:embed="rId2"/>
          <a:stretch/>
        </p:blipFill>
        <p:spPr>
          <a:xfrm>
            <a:off x="0" y="-301680"/>
            <a:ext cx="9906120" cy="69264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609480" y="1981080"/>
            <a:ext cx="85345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弈秋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。使弈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其一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一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一心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虽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      ___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为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           ___ _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185280" y="914400"/>
            <a:ext cx="281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8229600" y="-228600"/>
            <a:ext cx="1447920" cy="457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575840" y="6172200"/>
            <a:ext cx="72936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图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15200" y="6019920"/>
            <a:ext cx="1295280" cy="838080"/>
          </a:xfrm>
          <a:custGeom>
            <a:avLst/>
            <a:gdLst>
              <a:gd name="textAreaLeft" fmla="*/ 52200 w 1295280"/>
              <a:gd name="textAreaRight" fmla="*/ 1243080 w 129528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2029" y="1350"/>
                </a:lnTo>
                <a:lnTo>
                  <a:pt x="1350" y="135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2029" y="20250"/>
                </a:lnTo>
                <a:lnTo>
                  <a:pt x="32029" y="135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029" y="2025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logo"/>
          <p:cNvPicPr/>
          <p:nvPr/>
        </p:nvPicPr>
        <p:blipFill>
          <a:blip r:embed="rId1"/>
          <a:stretch/>
        </p:blipFill>
        <p:spPr>
          <a:xfrm>
            <a:off x="914400" y="2971800"/>
            <a:ext cx="7848720" cy="2803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2480760" y="380880"/>
            <a:ext cx="462744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背诵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搜集文言文形式的成语故事读一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揠苗助长、守株待兔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推荐网站：上网学习孟子的其他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685800" y="1523880"/>
            <a:ext cx="8458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虽 与 </a:t>
            </a: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俱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学，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弗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矣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BS00580_"/>
          <p:cNvPicPr/>
          <p:nvPr/>
        </p:nvPicPr>
        <p:blipFill>
          <a:blip r:embed="rId1"/>
          <a:stretch/>
        </p:blipFill>
        <p:spPr>
          <a:xfrm>
            <a:off x="6934320" y="5605560"/>
            <a:ext cx="2209680" cy="186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3869280" y="256716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他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前一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9907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他、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前一个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6" descr="bot"/>
          <p:cNvPicPr/>
          <p:nvPr/>
        </p:nvPicPr>
        <p:blipFill>
          <a:blip r:embed="rId2"/>
          <a:stretch/>
        </p:blipFill>
        <p:spPr>
          <a:xfrm>
            <a:off x="4572000" y="6858000"/>
            <a:ext cx="2286000" cy="49356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3809880" y="2362320"/>
            <a:ext cx="22860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1752480" y="3886200"/>
            <a:ext cx="15264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656080" y="0"/>
            <a:ext cx="347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4 </a:t>
            </a:r>
            <a:r>
              <a:rPr b="1" lang="zh-CN" sz="8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学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838080" y="1143000"/>
            <a:ext cx="8305920" cy="533844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秋，通国之善弈者也。使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秋诲二人弈，其一人专心致志，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秋之为听；一人虽听之，一心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有鸿鹄将至，思援弓缴而射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虽与之俱学，弗若之矣。为是其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弗若与？曰：非然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高山流水.mid" descr=""/>
          <p:cNvPicPr/>
          <p:nvPr/>
        </p:nvPicPr>
        <p:blipFill>
          <a:blip r:embed="rId2"/>
          <a:stretch/>
        </p:blipFill>
        <p:spPr>
          <a:xfrm>
            <a:off x="67816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bot"/>
          <p:cNvPicPr/>
          <p:nvPr/>
        </p:nvPicPr>
        <p:blipFill>
          <a:blip r:embed="rId3"/>
          <a:stretch/>
        </p:blipFill>
        <p:spPr>
          <a:xfrm>
            <a:off x="6477120" y="5867280"/>
            <a:ext cx="2286000" cy="49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4" name="CAMERA.WAV"/>
      </p:stSnd>
    </p:sndAc>
  </p:transition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05680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656080" y="0"/>
            <a:ext cx="347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4 </a:t>
            </a:r>
            <a:r>
              <a:rPr b="1" lang="zh-CN" sz="8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学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838080" y="1143000"/>
            <a:ext cx="8305920" cy="533844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秋，通国之善弈者也。使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秋诲二人弈，其一人专心致志，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秋之为听；一人虽听之，一心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有鸿鹄将至，思援弓缴而射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虽与之俱学，弗若之矣。为是其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弗若与？曰：非然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高山流水.mid" descr=""/>
          <p:cNvPicPr/>
          <p:nvPr/>
        </p:nvPicPr>
        <p:blipFill>
          <a:blip r:embed="rId2"/>
          <a:stretch/>
        </p:blipFill>
        <p:spPr>
          <a:xfrm>
            <a:off x="67816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bot"/>
          <p:cNvPicPr/>
          <p:nvPr/>
        </p:nvPicPr>
        <p:blipFill>
          <a:blip r:embed="rId3"/>
          <a:stretch/>
        </p:blipFill>
        <p:spPr>
          <a:xfrm>
            <a:off x="6477120" y="5867280"/>
            <a:ext cx="2286000" cy="49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4" name="CAMERA.WAV"/>
      </p:stSnd>
    </p:sndAc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0568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630600" y="3808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</a:rPr>
              <a:t>中国文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643120" y="2819520"/>
            <a:ext cx="48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Times New Roman"/>
              </a:rPr>
              <a:t>古代文学     现代文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28954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268360" y="4952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文言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708660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6312600" y="4876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白话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9" descr="20050928124305235"/>
          <p:cNvPicPr/>
          <p:nvPr/>
        </p:nvPicPr>
        <p:blipFill>
          <a:blip r:embed="rId2"/>
          <a:stretch/>
        </p:blipFill>
        <p:spPr>
          <a:xfrm>
            <a:off x="684360" y="762120"/>
            <a:ext cx="3430440" cy="5257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"/>
          <p:cNvSpPr/>
          <p:nvPr/>
        </p:nvSpPr>
        <p:spPr>
          <a:xfrm>
            <a:off x="4267080" y="533520"/>
            <a:ext cx="449604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孟子是继孔子之后，儒家学派的又一位代表人物，古代被尊为“亚圣”。他是战国时期伟大的思想家和教育家。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孟子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是他与他的弟子合著的，内容包括孟子的政治活动、政治学说、哲学思想和修改修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94284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背景3"/>
          <p:cNvPicPr/>
          <p:nvPr/>
        </p:nvPicPr>
        <p:blipFill>
          <a:blip r:embed="rId2"/>
          <a:stretch/>
        </p:blipFill>
        <p:spPr>
          <a:xfrm>
            <a:off x="-396720" y="0"/>
            <a:ext cx="10362960" cy="7085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90720" y="762120"/>
            <a:ext cx="81532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预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弈，就是学习下围棋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。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读课文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②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看看注释，了解每句话的意思。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③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想一想，课文里两个跟弈秋学下围棋的人，表现有什么不同；课文告诉了我们一个什么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8101080" y="260280"/>
            <a:ext cx="1371600" cy="3812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8276760" y="6324480"/>
            <a:ext cx="54648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467480" y="5410080"/>
            <a:ext cx="2133720" cy="1447920"/>
          </a:xfrm>
          <a:custGeom>
            <a:avLst/>
            <a:gdLst>
              <a:gd name="textAreaLeft" fmla="*/ 90360 w 2133720"/>
              <a:gd name="textAreaRight" fmla="*/ 2043360 w 2133720"/>
              <a:gd name="textAreaTop" fmla="*/ 90360 h 1447920"/>
              <a:gd name="textAreaBottom" fmla="*/ 1357560 h 1447920"/>
            </a:gdLst>
            <a:ahLst/>
            <a:rect l="textAreaLeft" t="textAreaTop" r="textAreaRight" b="textAreaBottom"/>
            <a:pathLst>
              <a:path w="31828" h="21600">
                <a:moveTo>
                  <a:pt x="0" y="0"/>
                </a:moveTo>
                <a:lnTo>
                  <a:pt x="31828" y="0"/>
                </a:lnTo>
                <a:lnTo>
                  <a:pt x="31828" y="21600"/>
                </a:lnTo>
                <a:lnTo>
                  <a:pt x="0" y="21600"/>
                </a:lnTo>
                <a:close/>
              </a:path>
              <a:path fill="lightenLess" w="31828" h="21600">
                <a:moveTo>
                  <a:pt x="0" y="0"/>
                </a:moveTo>
                <a:lnTo>
                  <a:pt x="31828" y="0"/>
                </a:lnTo>
                <a:lnTo>
                  <a:pt x="30478" y="1350"/>
                </a:lnTo>
                <a:lnTo>
                  <a:pt x="1350" y="1350"/>
                </a:lnTo>
                <a:close/>
              </a:path>
              <a:path fill="darken" w="31828" h="21600">
                <a:moveTo>
                  <a:pt x="31828" y="0"/>
                </a:moveTo>
                <a:lnTo>
                  <a:pt x="31828" y="21600"/>
                </a:lnTo>
                <a:lnTo>
                  <a:pt x="30478" y="20250"/>
                </a:lnTo>
                <a:lnTo>
                  <a:pt x="30478" y="1350"/>
                </a:lnTo>
                <a:close/>
              </a:path>
              <a:path fill="darkenLess" w="31828" h="21600">
                <a:moveTo>
                  <a:pt x="318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478" y="20250"/>
                </a:lnTo>
                <a:close/>
              </a:path>
              <a:path fill="lighten" w="318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666880" y="228600"/>
            <a:ext cx="563904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孟子从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40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岁开始，除了收徒讲学之外，开始接触各国政界人物，奔走于各诸侯国之间，宣传自己的思想学说和政治主张。孟子“仁政”学说的理论基础是“性善论”。他认为善性是人类所独有的一种本性，也是区别人和动物的一个根本标志。他还强调要重视对人的教育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强调客观环境对人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mengke"/>
          <p:cNvPicPr/>
          <p:nvPr/>
        </p:nvPicPr>
        <p:blipFill>
          <a:blip r:embed="rId2"/>
          <a:stretch/>
        </p:blipFill>
        <p:spPr>
          <a:xfrm>
            <a:off x="0" y="76212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26"/>
          <p:cNvSpPr/>
          <p:nvPr/>
        </p:nvSpPr>
        <p:spPr>
          <a:xfrm>
            <a:off x="609480" y="1600200"/>
            <a:ext cx="8305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弈 秋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诲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二 人 弈，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其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 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专 心 致 志 ，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惟 弈 秋 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为 听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；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人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听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，一 心 以 为 有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鸿 鹄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至， 思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援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弓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缴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而 射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27"/>
          <p:cNvSpPr/>
          <p:nvPr/>
        </p:nvSpPr>
        <p:spPr>
          <a:xfrm>
            <a:off x="5867280" y="3124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28"/>
          <p:cNvSpPr/>
          <p:nvPr/>
        </p:nvSpPr>
        <p:spPr>
          <a:xfrm>
            <a:off x="2575080" y="3962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弈秋的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029" descr="bot"/>
          <p:cNvPicPr/>
          <p:nvPr/>
        </p:nvPicPr>
        <p:blipFill>
          <a:blip r:embed="rId1"/>
          <a:stretch/>
        </p:blipFill>
        <p:spPr>
          <a:xfrm>
            <a:off x="6400800" y="7162920"/>
            <a:ext cx="2286000" cy="493560"/>
          </a:xfrm>
          <a:prstGeom prst="rect">
            <a:avLst/>
          </a:prstGeom>
          <a:ln w="0">
            <a:noFill/>
          </a:ln>
        </p:spPr>
      </p:pic>
      <p:sp>
        <p:nvSpPr>
          <p:cNvPr id="274" name="Oval 1030"/>
          <p:cNvSpPr/>
          <p:nvPr/>
        </p:nvSpPr>
        <p:spPr>
          <a:xfrm>
            <a:off x="6019920" y="3124080"/>
            <a:ext cx="15228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031"/>
          <p:cNvSpPr/>
          <p:nvPr/>
        </p:nvSpPr>
        <p:spPr>
          <a:xfrm>
            <a:off x="2819520" y="3962520"/>
            <a:ext cx="15228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032"/>
          <p:cNvSpPr/>
          <p:nvPr/>
        </p:nvSpPr>
        <p:spPr>
          <a:xfrm>
            <a:off x="6019920" y="4952880"/>
            <a:ext cx="15228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33"/>
          <p:cNvSpPr/>
          <p:nvPr/>
        </p:nvSpPr>
        <p:spPr>
          <a:xfrm>
            <a:off x="594144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AMERA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3520" y="685800"/>
            <a:ext cx="86104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孝有五，不顾父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孟子曰：“世俗所谓不孝者五：惰其四支①，不顾父母之养，一不孝也；博养②好饮酒，不顾父母之养，二不孝也；好货财，私妻子，不顾父母之养，三不孝也；从耳目之欲③ ，以为父母戮④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lù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四不孝也；好勇斗很⑤，以危父母，五不孝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支：即四肢。②博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聚赌③从耳目之欲：放纵声色享乐。④戮：羞辱，同“僇”。⑤很：同 “狠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4" descr="bot"/>
          <p:cNvPicPr/>
          <p:nvPr/>
        </p:nvPicPr>
        <p:blipFill>
          <a:blip r:embed="rId1"/>
          <a:stretch/>
        </p:blipFill>
        <p:spPr>
          <a:xfrm>
            <a:off x="1981080" y="6019920"/>
            <a:ext cx="2667240" cy="57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bot"/>
          <p:cNvPicPr/>
          <p:nvPr/>
        </p:nvPicPr>
        <p:blipFill>
          <a:blip r:embed="rId2"/>
          <a:stretch/>
        </p:blipFill>
        <p:spPr>
          <a:xfrm>
            <a:off x="5257800" y="6019920"/>
            <a:ext cx="2666880" cy="57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bot"/>
          <p:cNvPicPr/>
          <p:nvPr/>
        </p:nvPicPr>
        <p:blipFill>
          <a:blip r:embed="rId3"/>
          <a:stretch/>
        </p:blipFill>
        <p:spPr>
          <a:xfrm>
            <a:off x="6477120" y="228600"/>
            <a:ext cx="2209680" cy="477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bot"/>
          <p:cNvPicPr/>
          <p:nvPr/>
        </p:nvPicPr>
        <p:blipFill>
          <a:blip r:embed="rId4"/>
          <a:stretch/>
        </p:blipFill>
        <p:spPr>
          <a:xfrm>
            <a:off x="3809880" y="228600"/>
            <a:ext cx="2286000" cy="493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ot"/>
          <p:cNvPicPr/>
          <p:nvPr/>
        </p:nvPicPr>
        <p:blipFill>
          <a:blip r:embed="rId5"/>
          <a:stretch/>
        </p:blipFill>
        <p:spPr>
          <a:xfrm>
            <a:off x="1066680" y="228600"/>
            <a:ext cx="2286000" cy="493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6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609480" y="228600"/>
            <a:ext cx="1447920" cy="58140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80880" y="1066680"/>
            <a:ext cx="2971800" cy="54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弈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围棋，下围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弈秋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秋，人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因他善于下棋，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以 称为弈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国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全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善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善于，擅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诲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教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其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352680" y="1066680"/>
            <a:ext cx="2819520" cy="41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惟弈秋之为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只听弈秋的教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虽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鸿鹄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天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援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引，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缴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本课指带有丝绳的箭。  “缴”字的另一个读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iao,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是交纳人、交付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他，指前一个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095880" y="1066680"/>
            <a:ext cx="2819520" cy="49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俱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弗若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不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矣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谓，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他，指后一个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不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这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med">
    <p:zoom dir="out"/>
    <p:sndAc>
      <p:stSnd>
        <p:snd r:embed="rId17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背景3"/>
          <p:cNvPicPr/>
          <p:nvPr/>
        </p:nvPicPr>
        <p:blipFill>
          <a:blip r:embed="rId2"/>
          <a:stretch/>
        </p:blipFill>
        <p:spPr>
          <a:xfrm>
            <a:off x="-685800" y="-228600"/>
            <a:ext cx="10363320" cy="7085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27"/>
          <p:cNvSpPr/>
          <p:nvPr/>
        </p:nvSpPr>
        <p:spPr>
          <a:xfrm>
            <a:off x="838080" y="457200"/>
            <a:ext cx="8305920" cy="62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</a:t>
            </a:r>
            <a:r>
              <a:rPr b="0" lang="en-US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24 </a:t>
            </a:r>
            <a:r>
              <a:rPr b="0" lang="zh-CN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学 弈</a:t>
            </a:r>
            <a:r>
              <a:rPr b="0" lang="en-US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(y</a:t>
            </a:r>
            <a:r>
              <a:rPr b="0" lang="en-US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ì</a:t>
            </a:r>
            <a:r>
              <a:rPr b="0" lang="en-US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弈秋，通国之善弈者也。使弈秋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弈，其一人专心致志，惟弈秋之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；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虽听之，一心以为有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鸿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(hóng)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鹄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(hú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弓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缴（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zhuó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射之。虽与之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俱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(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jù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，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弗 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(fú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矣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(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yǐ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其智弗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与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[yú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曰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(yuē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非然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30"/>
          <p:cNvSpPr/>
          <p:nvPr/>
        </p:nvSpPr>
        <p:spPr>
          <a:xfrm>
            <a:off x="7986240" y="6172200"/>
            <a:ext cx="91224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节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31"/>
          <p:cNvSpPr/>
          <p:nvPr/>
        </p:nvSpPr>
        <p:spPr>
          <a:xfrm>
            <a:off x="7391520" y="5486400"/>
            <a:ext cx="2209680" cy="1371600"/>
          </a:xfrm>
          <a:custGeom>
            <a:avLst/>
            <a:gdLst>
              <a:gd name="textAreaLeft" fmla="*/ 85680 w 2209680"/>
              <a:gd name="textAreaRight" fmla="*/ 2124000 w 2209680"/>
              <a:gd name="textAreaTop" fmla="*/ 85680 h 1371600"/>
              <a:gd name="textAreaBottom" fmla="*/ 1285920 h 1371600"/>
            </a:gdLst>
            <a:ahLst/>
            <a:rect l="textAreaLeft" t="textAreaTop" r="textAreaRight" b="textAreaBottom"/>
            <a:pathLst>
              <a:path w="34795" h="21600">
                <a:moveTo>
                  <a:pt x="0" y="0"/>
                </a:moveTo>
                <a:lnTo>
                  <a:pt x="34795" y="0"/>
                </a:lnTo>
                <a:lnTo>
                  <a:pt x="34795" y="21600"/>
                </a:lnTo>
                <a:lnTo>
                  <a:pt x="0" y="21600"/>
                </a:lnTo>
                <a:close/>
              </a:path>
              <a:path fill="lightenLess" w="34795" h="21600">
                <a:moveTo>
                  <a:pt x="0" y="0"/>
                </a:moveTo>
                <a:lnTo>
                  <a:pt x="34795" y="0"/>
                </a:lnTo>
                <a:lnTo>
                  <a:pt x="33445" y="1350"/>
                </a:lnTo>
                <a:lnTo>
                  <a:pt x="1350" y="1350"/>
                </a:lnTo>
                <a:close/>
              </a:path>
              <a:path fill="darken" w="34795" h="21600">
                <a:moveTo>
                  <a:pt x="34795" y="0"/>
                </a:moveTo>
                <a:lnTo>
                  <a:pt x="34795" y="21600"/>
                </a:lnTo>
                <a:lnTo>
                  <a:pt x="33445" y="20250"/>
                </a:lnTo>
                <a:lnTo>
                  <a:pt x="33445" y="1350"/>
                </a:lnTo>
                <a:close/>
              </a:path>
              <a:path fill="darkenLess" w="34795" h="21600">
                <a:moveTo>
                  <a:pt x="3479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445" y="20250"/>
                </a:lnTo>
                <a:close/>
              </a:path>
              <a:path fill="lighten" w="3479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2"/>
          <p:cNvSpPr/>
          <p:nvPr/>
        </p:nvSpPr>
        <p:spPr>
          <a:xfrm>
            <a:off x="7924680" y="0"/>
            <a:ext cx="152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3"/>
          <p:cNvSpPr/>
          <p:nvPr/>
        </p:nvSpPr>
        <p:spPr>
          <a:xfrm>
            <a:off x="7467480" y="0"/>
            <a:ext cx="2362320" cy="838080"/>
          </a:xfrm>
          <a:custGeom>
            <a:avLst/>
            <a:gdLst>
              <a:gd name="textAreaLeft" fmla="*/ 52200 w 2362320"/>
              <a:gd name="textAreaRight" fmla="*/ 2310120 w 236232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60868" h="21600">
                <a:moveTo>
                  <a:pt x="0" y="0"/>
                </a:moveTo>
                <a:lnTo>
                  <a:pt x="60868" y="0"/>
                </a:lnTo>
                <a:lnTo>
                  <a:pt x="60868" y="21600"/>
                </a:lnTo>
                <a:lnTo>
                  <a:pt x="0" y="21600"/>
                </a:lnTo>
                <a:close/>
              </a:path>
              <a:path fill="lightenLess" w="60868" h="21600">
                <a:moveTo>
                  <a:pt x="0" y="0"/>
                </a:moveTo>
                <a:lnTo>
                  <a:pt x="60868" y="0"/>
                </a:lnTo>
                <a:lnTo>
                  <a:pt x="59518" y="1350"/>
                </a:lnTo>
                <a:lnTo>
                  <a:pt x="1350" y="1350"/>
                </a:lnTo>
                <a:close/>
              </a:path>
              <a:path fill="darken" w="60868" h="21600">
                <a:moveTo>
                  <a:pt x="60868" y="0"/>
                </a:moveTo>
                <a:lnTo>
                  <a:pt x="60868" y="21600"/>
                </a:lnTo>
                <a:lnTo>
                  <a:pt x="59518" y="20250"/>
                </a:lnTo>
                <a:lnTo>
                  <a:pt x="59518" y="1350"/>
                </a:lnTo>
                <a:close/>
              </a:path>
              <a:path fill="darkenLess" w="60868" h="21600">
                <a:moveTo>
                  <a:pt x="608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9518" y="20250"/>
                </a:lnTo>
                <a:close/>
              </a:path>
              <a:path fill="lighten" w="608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26" descr="背景1"/>
          <p:cNvPicPr/>
          <p:nvPr/>
        </p:nvPicPr>
        <p:blipFill>
          <a:blip r:embed="rId2"/>
          <a:stretch/>
        </p:blipFill>
        <p:spPr>
          <a:xfrm>
            <a:off x="-685800" y="0"/>
            <a:ext cx="10287000" cy="68594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05" name="Rectangle 1059"/>
          <p:cNvSpPr/>
          <p:nvPr/>
        </p:nvSpPr>
        <p:spPr>
          <a:xfrm>
            <a:off x="7848720" y="1440"/>
            <a:ext cx="1752480" cy="533520"/>
          </a:xfrm>
          <a:prstGeom prst="rect">
            <a:avLst/>
          </a:prstGeom>
          <a:solidFill>
            <a:srgbClr val="dfd6c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60"/>
          <p:cNvSpPr/>
          <p:nvPr/>
        </p:nvSpPr>
        <p:spPr>
          <a:xfrm>
            <a:off x="1981080" y="380880"/>
            <a:ext cx="4114800" cy="1524240"/>
          </a:xfrm>
          <a:custGeom>
            <a:avLst/>
            <a:gdLst>
              <a:gd name="textAreaLeft" fmla="*/ 95040 w 4114800"/>
              <a:gd name="textAreaRight" fmla="*/ 4019760 w 4114800"/>
              <a:gd name="textAreaTop" fmla="*/ 95040 h 1524240"/>
              <a:gd name="textAreaBottom" fmla="*/ 1429200 h 1524240"/>
            </a:gdLst>
            <a:ahLst/>
            <a:rect l="textAreaLeft" t="textAreaTop" r="textAreaRight" b="textAreaBottom"/>
            <a:pathLst>
              <a:path w="58302" h="21600">
                <a:moveTo>
                  <a:pt x="0" y="0"/>
                </a:moveTo>
                <a:lnTo>
                  <a:pt x="58302" y="0"/>
                </a:lnTo>
                <a:lnTo>
                  <a:pt x="58302" y="21600"/>
                </a:lnTo>
                <a:lnTo>
                  <a:pt x="0" y="21600"/>
                </a:lnTo>
                <a:close/>
              </a:path>
              <a:path fill="lightenLess" w="58302" h="21600">
                <a:moveTo>
                  <a:pt x="0" y="0"/>
                </a:moveTo>
                <a:lnTo>
                  <a:pt x="58302" y="0"/>
                </a:lnTo>
                <a:lnTo>
                  <a:pt x="56952" y="1350"/>
                </a:lnTo>
                <a:lnTo>
                  <a:pt x="1350" y="1350"/>
                </a:lnTo>
                <a:close/>
              </a:path>
              <a:path fill="darken" w="58302" h="21600">
                <a:moveTo>
                  <a:pt x="58302" y="0"/>
                </a:moveTo>
                <a:lnTo>
                  <a:pt x="58302" y="21600"/>
                </a:lnTo>
                <a:lnTo>
                  <a:pt x="56952" y="20250"/>
                </a:lnTo>
                <a:lnTo>
                  <a:pt x="56952" y="1350"/>
                </a:lnTo>
                <a:close/>
              </a:path>
              <a:path fill="darkenLess" w="58302" h="21600">
                <a:moveTo>
                  <a:pt x="583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952" y="20250"/>
                </a:lnTo>
                <a:close/>
              </a:path>
              <a:path fill="lighten" w="583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68"/>
          <p:cNvGrpSpPr/>
          <p:nvPr/>
        </p:nvGrpSpPr>
        <p:grpSpPr>
          <a:xfrm>
            <a:off x="0" y="990720"/>
            <a:ext cx="8915400" cy="5477760"/>
            <a:chOff x="0" y="990720"/>
            <a:chExt cx="8915400" cy="5477760"/>
          </a:xfrm>
        </p:grpSpPr>
        <p:sp>
          <p:nvSpPr>
            <p:cNvPr id="108" name="Text Box 1044"/>
            <p:cNvSpPr/>
            <p:nvPr/>
          </p:nvSpPr>
          <p:spPr>
            <a:xfrm>
              <a:off x="0" y="990720"/>
              <a:ext cx="8915400" cy="54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24 </a:t>
              </a:r>
              <a:r>
                <a:rPr b="0" lang="zh-CN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学 弈</a:t>
              </a:r>
              <a:r>
                <a:rPr b="0" lang="en-US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(y</a:t>
              </a:r>
              <a:r>
                <a:rPr b="0" lang="en-US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ì</a:t>
              </a:r>
              <a:r>
                <a:rPr b="0" lang="en-US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)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弈秋，通国之善弈者也。使弈秋诲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人弈，其一人专心致志，惟弈秋之为听；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人虽听之，一心以为有鸿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hóng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鹄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hú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将至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思援弓缴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zhuó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而射之。虽与之俱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jù)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学，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弗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fú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若之矣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yǐ)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为是其智弗若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[yú]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yuē)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非然也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46"/>
            <p:cNvSpPr/>
            <p:nvPr/>
          </p:nvSpPr>
          <p:spPr>
            <a:xfrm flipH="1">
              <a:off x="6248160" y="4267080"/>
              <a:ext cx="7596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47"/>
            <p:cNvSpPr/>
            <p:nvPr/>
          </p:nvSpPr>
          <p:spPr>
            <a:xfrm flipH="1">
              <a:off x="3657600" y="35812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48"/>
            <p:cNvSpPr/>
            <p:nvPr/>
          </p:nvSpPr>
          <p:spPr>
            <a:xfrm flipH="1">
              <a:off x="457200" y="35812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49"/>
            <p:cNvSpPr/>
            <p:nvPr/>
          </p:nvSpPr>
          <p:spPr>
            <a:xfrm flipH="1">
              <a:off x="4952880" y="28191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0"/>
            <p:cNvSpPr/>
            <p:nvPr/>
          </p:nvSpPr>
          <p:spPr>
            <a:xfrm flipH="1">
              <a:off x="6858000" y="21333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1"/>
            <p:cNvSpPr/>
            <p:nvPr/>
          </p:nvSpPr>
          <p:spPr>
            <a:xfrm flipH="1">
              <a:off x="3581280" y="21333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2"/>
            <p:cNvSpPr/>
            <p:nvPr/>
          </p:nvSpPr>
          <p:spPr>
            <a:xfrm flipH="1">
              <a:off x="3200400" y="42670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053"/>
            <p:cNvSpPr/>
            <p:nvPr/>
          </p:nvSpPr>
          <p:spPr>
            <a:xfrm flipH="1">
              <a:off x="457200" y="42670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055"/>
            <p:cNvSpPr/>
            <p:nvPr/>
          </p:nvSpPr>
          <p:spPr>
            <a:xfrm flipH="1">
              <a:off x="5410080" y="502884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56"/>
            <p:cNvSpPr/>
            <p:nvPr/>
          </p:nvSpPr>
          <p:spPr>
            <a:xfrm flipH="1">
              <a:off x="2514600" y="28191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057"/>
            <p:cNvSpPr/>
            <p:nvPr/>
          </p:nvSpPr>
          <p:spPr>
            <a:xfrm flipH="1">
              <a:off x="4572000" y="502884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58"/>
            <p:cNvSpPr/>
            <p:nvPr/>
          </p:nvSpPr>
          <p:spPr>
            <a:xfrm flipH="1">
              <a:off x="2438280" y="57909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062"/>
            <p:cNvSpPr/>
            <p:nvPr/>
          </p:nvSpPr>
          <p:spPr>
            <a:xfrm flipH="1">
              <a:off x="6019560" y="2133360"/>
              <a:ext cx="7596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63"/>
            <p:cNvSpPr/>
            <p:nvPr/>
          </p:nvSpPr>
          <p:spPr>
            <a:xfrm flipH="1">
              <a:off x="838080" y="35812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64"/>
            <p:cNvSpPr/>
            <p:nvPr/>
          </p:nvSpPr>
          <p:spPr>
            <a:xfrm flipH="1">
              <a:off x="7315200" y="21333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065"/>
            <p:cNvSpPr/>
            <p:nvPr/>
          </p:nvSpPr>
          <p:spPr>
            <a:xfrm flipH="1">
              <a:off x="6858000" y="35812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66"/>
            <p:cNvSpPr/>
            <p:nvPr/>
          </p:nvSpPr>
          <p:spPr>
            <a:xfrm flipH="1">
              <a:off x="5410080" y="434304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1070"/>
          <p:cNvSpPr/>
          <p:nvPr/>
        </p:nvSpPr>
        <p:spPr>
          <a:xfrm>
            <a:off x="8473680" y="6172200"/>
            <a:ext cx="54648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071">
            <a:hlinkClick r:id="rId3"/>
          </p:cNvPr>
          <p:cNvSpPr/>
          <p:nvPr/>
        </p:nvSpPr>
        <p:spPr>
          <a:xfrm>
            <a:off x="7772400" y="5410080"/>
            <a:ext cx="1752480" cy="1447920"/>
          </a:xfrm>
          <a:custGeom>
            <a:avLst/>
            <a:gdLst>
              <a:gd name="textAreaLeft" fmla="*/ 90360 w 1752480"/>
              <a:gd name="textAreaRight" fmla="*/ 1662120 w 1752480"/>
              <a:gd name="textAreaTop" fmla="*/ 90360 h 1447920"/>
              <a:gd name="textAreaBottom" fmla="*/ 1357560 h 1447920"/>
            </a:gdLst>
            <a:ahLst/>
            <a:rect l="textAreaLeft" t="textAreaTop" r="textAreaRight" b="textAreaBottom"/>
            <a:pathLst>
              <a:path w="26142" h="21600">
                <a:moveTo>
                  <a:pt x="0" y="0"/>
                </a:moveTo>
                <a:lnTo>
                  <a:pt x="26142" y="0"/>
                </a:lnTo>
                <a:lnTo>
                  <a:pt x="26142" y="21600"/>
                </a:lnTo>
                <a:lnTo>
                  <a:pt x="0" y="21600"/>
                </a:lnTo>
                <a:close/>
              </a:path>
              <a:path fill="lightenLess" w="26142" h="21600">
                <a:moveTo>
                  <a:pt x="0" y="0"/>
                </a:moveTo>
                <a:lnTo>
                  <a:pt x="26142" y="0"/>
                </a:lnTo>
                <a:lnTo>
                  <a:pt x="24792" y="1350"/>
                </a:lnTo>
                <a:lnTo>
                  <a:pt x="1350" y="1350"/>
                </a:lnTo>
                <a:close/>
              </a:path>
              <a:path fill="darken" w="26142" h="21600">
                <a:moveTo>
                  <a:pt x="26142" y="0"/>
                </a:moveTo>
                <a:lnTo>
                  <a:pt x="26142" y="21600"/>
                </a:lnTo>
                <a:lnTo>
                  <a:pt x="24792" y="20250"/>
                </a:lnTo>
                <a:lnTo>
                  <a:pt x="24792" y="1350"/>
                </a:lnTo>
                <a:close/>
              </a:path>
              <a:path fill="darkenLess" w="26142" h="21600">
                <a:moveTo>
                  <a:pt x="2614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792" y="20250"/>
                </a:lnTo>
                <a:close/>
              </a:path>
              <a:path fill="lighten" w="2614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72"/>
          <p:cNvSpPr/>
          <p:nvPr/>
        </p:nvSpPr>
        <p:spPr>
          <a:xfrm>
            <a:off x="6006240" y="6491160"/>
            <a:ext cx="592200" cy="36828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示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73">
            <a:hlinkClick r:id="rId4"/>
          </p:cNvPr>
          <p:cNvSpPr/>
          <p:nvPr/>
        </p:nvSpPr>
        <p:spPr>
          <a:xfrm>
            <a:off x="5257800" y="5943600"/>
            <a:ext cx="1752480" cy="914400"/>
          </a:xfrm>
          <a:custGeom>
            <a:avLst/>
            <a:gdLst>
              <a:gd name="textAreaLeft" fmla="*/ 56880 w 1752480"/>
              <a:gd name="textAreaRight" fmla="*/ 1695600 w 1752480"/>
              <a:gd name="textAreaTop" fmla="*/ 56880 h 914400"/>
              <a:gd name="textAreaBottom" fmla="*/ 85752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40039" y="1350"/>
                </a:lnTo>
                <a:lnTo>
                  <a:pt x="1350" y="135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40039" y="20250"/>
                </a:lnTo>
                <a:lnTo>
                  <a:pt x="40039" y="135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0039" y="2025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背景7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228600" y="457200"/>
            <a:ext cx="8908920" cy="60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弈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y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ì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弈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通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弈者也。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弈秋诲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弈，其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人专心致志，惟弈秋之为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之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心以为有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hóng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hú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援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弓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hu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射之。虽与之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jù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，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fú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yǐ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其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智弗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yú]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yuē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非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993200" y="1219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下围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背景7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28600" y="1092240"/>
            <a:ext cx="861048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3"/>
              </a:rPr>
              <a:t>弈秋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4"/>
              </a:rPr>
              <a:t>，通国之善弈者也。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5"/>
              </a:rPr>
              <a:t>使弈秋诲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6"/>
              </a:rPr>
              <a:t>人弈，其一人专心致志，惟弈秋之为听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7"/>
              </a:rPr>
              <a:t>一人虽听之，一心以为有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8"/>
              </a:rPr>
              <a:t>鸿鹄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9"/>
              </a:rPr>
              <a:t>将至，思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0"/>
              </a:rPr>
              <a:t>弓缴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1"/>
              </a:rPr>
              <a:t>而射之。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2"/>
              </a:rPr>
              <a:t>虽与之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3"/>
              </a:rPr>
              <a:t>俱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4"/>
              </a:rPr>
              <a:t>学，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5"/>
              </a:rPr>
              <a:t>弗 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6"/>
              </a:rPr>
              <a:t>若之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7"/>
              </a:rPr>
              <a:t>矣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8"/>
              </a:rPr>
              <a:t>。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9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0"/>
              </a:rPr>
              <a:t>是其智弗若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1"/>
              </a:rPr>
              <a:t>与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2"/>
              </a:rPr>
              <a:t>？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3"/>
              </a:rPr>
              <a:t>曰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4"/>
              </a:rPr>
              <a:t>：非然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高山流水.mid" descr=""/>
          <p:cNvPicPr/>
          <p:nvPr/>
        </p:nvPicPr>
        <p:blipFill>
          <a:blip r:embed="rId25"/>
          <a:stretch/>
        </p:blipFill>
        <p:spPr>
          <a:xfrm>
            <a:off x="7467480" y="5335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8001000" y="5715000"/>
            <a:ext cx="1143000" cy="685800"/>
          </a:xfrm>
          <a:custGeom>
            <a:avLst/>
            <a:gdLst>
              <a:gd name="textAreaLeft" fmla="*/ 42840 w 1143000"/>
              <a:gd name="textAreaRight" fmla="*/ 1100160 w 11430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642" y="1350"/>
                </a:lnTo>
                <a:lnTo>
                  <a:pt x="1350" y="135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642" y="20250"/>
                </a:lnTo>
                <a:lnTo>
                  <a:pt x="34642" y="135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42" y="2025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92" h="21600">
                <a:moveTo>
                  <a:pt x="10952" y="3756"/>
                </a:moveTo>
                <a:lnTo>
                  <a:pt x="25040" y="10800"/>
                </a:lnTo>
                <a:lnTo>
                  <a:pt x="10952" y="1784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184240" y="6400800"/>
            <a:ext cx="592200" cy="36828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示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805040" y="6400800"/>
            <a:ext cx="790200" cy="3373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课堂小练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0" y="5638680"/>
            <a:ext cx="152280" cy="7632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2997" h="21600">
                <a:moveTo>
                  <a:pt x="0" y="0"/>
                </a:moveTo>
                <a:lnTo>
                  <a:pt x="42997" y="0"/>
                </a:lnTo>
                <a:lnTo>
                  <a:pt x="42997" y="21600"/>
                </a:lnTo>
                <a:lnTo>
                  <a:pt x="0" y="21600"/>
                </a:lnTo>
                <a:close/>
              </a:path>
              <a:path fill="lightenLess" w="42997" h="21600">
                <a:moveTo>
                  <a:pt x="0" y="0"/>
                </a:moveTo>
                <a:lnTo>
                  <a:pt x="42997" y="0"/>
                </a:lnTo>
                <a:lnTo>
                  <a:pt x="41647" y="1350"/>
                </a:lnTo>
                <a:lnTo>
                  <a:pt x="1350" y="1350"/>
                </a:lnTo>
                <a:close/>
              </a:path>
              <a:path fill="darken" w="42997" h="21600">
                <a:moveTo>
                  <a:pt x="42997" y="0"/>
                </a:moveTo>
                <a:lnTo>
                  <a:pt x="42997" y="21600"/>
                </a:lnTo>
                <a:lnTo>
                  <a:pt x="41647" y="20250"/>
                </a:lnTo>
                <a:lnTo>
                  <a:pt x="41647" y="1350"/>
                </a:lnTo>
                <a:close/>
              </a:path>
              <a:path fill="darkenLess" w="42997" h="21600">
                <a:moveTo>
                  <a:pt x="429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647" y="20250"/>
                </a:lnTo>
                <a:close/>
              </a:path>
              <a:path fill="lighten" w="429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4">
            <a:hlinkClick r:id="rId26"/>
          </p:cNvPr>
          <p:cNvSpPr/>
          <p:nvPr/>
        </p:nvSpPr>
        <p:spPr>
          <a:xfrm>
            <a:off x="1143000" y="6095880"/>
            <a:ext cx="2362320" cy="762120"/>
          </a:xfrm>
          <a:custGeom>
            <a:avLst/>
            <a:gdLst>
              <a:gd name="textAreaLeft" fmla="*/ 47520 w 2362320"/>
              <a:gd name="textAreaRight" fmla="*/ 2314800 w 236232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82" y="1350"/>
                </a:lnTo>
                <a:lnTo>
                  <a:pt x="1350" y="135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82" y="20250"/>
                </a:lnTo>
                <a:lnTo>
                  <a:pt x="65582" y="135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5582" y="2025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665240" y="6400800"/>
            <a:ext cx="455040" cy="36828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疑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>
            <a:hlinkClick r:id="rId27"/>
          </p:cNvPr>
          <p:cNvSpPr/>
          <p:nvPr/>
        </p:nvSpPr>
        <p:spPr>
          <a:xfrm>
            <a:off x="3809880" y="6248520"/>
            <a:ext cx="2133720" cy="609480"/>
          </a:xfrm>
          <a:custGeom>
            <a:avLst/>
            <a:gdLst>
              <a:gd name="textAreaLeft" fmla="*/ 37800 w 2133720"/>
              <a:gd name="textAreaRight" fmla="*/ 2095920 w 2133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237" y="1350"/>
                </a:lnTo>
                <a:lnTo>
                  <a:pt x="1350" y="135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237" y="20250"/>
                </a:lnTo>
                <a:lnTo>
                  <a:pt x="74237" y="135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4237" y="2025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8" name="CAMERA.WAV"/>
      </p:stSnd>
    </p:sndAc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0568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背景1"/>
          <p:cNvPicPr/>
          <p:nvPr/>
        </p:nvPicPr>
        <p:blipFill>
          <a:blip r:embed="rId2"/>
          <a:stretch/>
        </p:blipFill>
        <p:spPr>
          <a:xfrm>
            <a:off x="-685800" y="0"/>
            <a:ext cx="10287000" cy="68594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47" name="Rectangle 3"/>
          <p:cNvSpPr/>
          <p:nvPr/>
        </p:nvSpPr>
        <p:spPr>
          <a:xfrm>
            <a:off x="7620120" y="0"/>
            <a:ext cx="1981080" cy="533520"/>
          </a:xfrm>
          <a:prstGeom prst="rect">
            <a:avLst/>
          </a:prstGeom>
          <a:solidFill>
            <a:srgbClr val="dfd6c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981080" y="380880"/>
            <a:ext cx="4114800" cy="1524240"/>
          </a:xfrm>
          <a:custGeom>
            <a:avLst/>
            <a:gdLst>
              <a:gd name="textAreaLeft" fmla="*/ 95040 w 4114800"/>
              <a:gd name="textAreaRight" fmla="*/ 4019760 w 4114800"/>
              <a:gd name="textAreaTop" fmla="*/ 95040 h 1524240"/>
              <a:gd name="textAreaBottom" fmla="*/ 1429200 h 1524240"/>
            </a:gdLst>
            <a:ahLst/>
            <a:rect l="textAreaLeft" t="textAreaTop" r="textAreaRight" b="textAreaBottom"/>
            <a:pathLst>
              <a:path w="58302" h="21600">
                <a:moveTo>
                  <a:pt x="0" y="0"/>
                </a:moveTo>
                <a:lnTo>
                  <a:pt x="58302" y="0"/>
                </a:lnTo>
                <a:lnTo>
                  <a:pt x="58302" y="21600"/>
                </a:lnTo>
                <a:lnTo>
                  <a:pt x="0" y="21600"/>
                </a:lnTo>
                <a:close/>
              </a:path>
              <a:path fill="lightenLess" w="58302" h="21600">
                <a:moveTo>
                  <a:pt x="0" y="0"/>
                </a:moveTo>
                <a:lnTo>
                  <a:pt x="58302" y="0"/>
                </a:lnTo>
                <a:lnTo>
                  <a:pt x="56952" y="1350"/>
                </a:lnTo>
                <a:lnTo>
                  <a:pt x="1350" y="1350"/>
                </a:lnTo>
                <a:close/>
              </a:path>
              <a:path fill="darken" w="58302" h="21600">
                <a:moveTo>
                  <a:pt x="58302" y="0"/>
                </a:moveTo>
                <a:lnTo>
                  <a:pt x="58302" y="21600"/>
                </a:lnTo>
                <a:lnTo>
                  <a:pt x="56952" y="20250"/>
                </a:lnTo>
                <a:lnTo>
                  <a:pt x="56952" y="1350"/>
                </a:lnTo>
                <a:close/>
              </a:path>
              <a:path fill="darkenLess" w="58302" h="21600">
                <a:moveTo>
                  <a:pt x="583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952" y="20250"/>
                </a:lnTo>
                <a:close/>
              </a:path>
              <a:path fill="lighten" w="583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990720" y="685800"/>
            <a:ext cx="8153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”的多种意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弈秋的教导；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，指前一个人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，指天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弈秋，通国之善弈者也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惟弈秋之为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一人虽听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                      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思援弓缴而射之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虽与之俱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弗若之矣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6"/>
          <p:cNvGrpSpPr/>
          <p:nvPr/>
        </p:nvGrpSpPr>
        <p:grpSpPr>
          <a:xfrm>
            <a:off x="2819520" y="2362320"/>
            <a:ext cx="1812960" cy="3733200"/>
            <a:chOff x="2819520" y="2362320"/>
            <a:chExt cx="1812960" cy="3733200"/>
          </a:xfrm>
        </p:grpSpPr>
        <p:sp>
          <p:nvSpPr>
            <p:cNvPr id="151" name="Oval 27"/>
            <p:cNvSpPr/>
            <p:nvPr/>
          </p:nvSpPr>
          <p:spPr>
            <a:xfrm>
              <a:off x="4097520" y="2362320"/>
              <a:ext cx="154080" cy="151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28"/>
            <p:cNvSpPr/>
            <p:nvPr/>
          </p:nvSpPr>
          <p:spPr>
            <a:xfrm>
              <a:off x="3259080" y="2971440"/>
              <a:ext cx="154080" cy="1522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29"/>
            <p:cNvSpPr/>
            <p:nvPr/>
          </p:nvSpPr>
          <p:spPr>
            <a:xfrm>
              <a:off x="2819520" y="5224320"/>
              <a:ext cx="154080" cy="151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0"/>
            <p:cNvSpPr/>
            <p:nvPr/>
          </p:nvSpPr>
          <p:spPr>
            <a:xfrm>
              <a:off x="2878200" y="5943240"/>
              <a:ext cx="154080" cy="1522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1"/>
            <p:cNvSpPr/>
            <p:nvPr/>
          </p:nvSpPr>
          <p:spPr>
            <a:xfrm>
              <a:off x="4478400" y="4419360"/>
              <a:ext cx="154080" cy="151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3640320" y="3809880"/>
              <a:ext cx="154080" cy="151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33"/>
          <p:cNvSpPr/>
          <p:nvPr/>
        </p:nvSpPr>
        <p:spPr>
          <a:xfrm>
            <a:off x="6837120" y="19051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5486400" y="4114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，指天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4687200" y="3352680"/>
            <a:ext cx="18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弈秋的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5481720" y="480060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，指前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5405400" y="551196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，指前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8"/>
          <p:cNvSpPr/>
          <p:nvPr/>
        </p:nvSpPr>
        <p:spPr>
          <a:xfrm>
            <a:off x="4856040" y="25909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4572000" y="0"/>
            <a:ext cx="45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课堂小练习：选择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8473680" y="5867280"/>
            <a:ext cx="54648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1">
            <a:hlinkClick r:id="rId3"/>
          </p:cNvPr>
          <p:cNvSpPr/>
          <p:nvPr/>
        </p:nvSpPr>
        <p:spPr>
          <a:xfrm>
            <a:off x="7848720" y="5257800"/>
            <a:ext cx="1752480" cy="1600200"/>
          </a:xfrm>
          <a:custGeom>
            <a:avLst/>
            <a:gdLst>
              <a:gd name="textAreaLeft" fmla="*/ 99720 w 1752480"/>
              <a:gd name="textAreaRight" fmla="*/ 1652760 w 1752480"/>
              <a:gd name="textAreaTop" fmla="*/ 99720 h 1600200"/>
              <a:gd name="textAreaBottom" fmla="*/ 150048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305" y="1350"/>
                </a:lnTo>
                <a:lnTo>
                  <a:pt x="1350" y="135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305" y="20250"/>
                </a:lnTo>
                <a:lnTo>
                  <a:pt x="22305" y="135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305" y="2025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0" y="1676520"/>
            <a:ext cx="8915400" cy="916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弈秋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通国之 </a:t>
            </a:r>
            <a:r>
              <a:rPr b="1" lang="zh-CN" sz="54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善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者也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1" descr="BS00975_"/>
          <p:cNvPicPr/>
          <p:nvPr/>
        </p:nvPicPr>
        <p:blipFill>
          <a:blip r:embed="rId1"/>
          <a:stretch/>
        </p:blipFill>
        <p:spPr>
          <a:xfrm>
            <a:off x="7238880" y="4191120"/>
            <a:ext cx="1905120" cy="182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bot"/>
          <p:cNvPicPr/>
          <p:nvPr/>
        </p:nvPicPr>
        <p:blipFill>
          <a:blip r:embed="rId2"/>
          <a:stretch/>
        </p:blipFill>
        <p:spPr>
          <a:xfrm>
            <a:off x="4800600" y="5867280"/>
            <a:ext cx="2286000" cy="493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4512600" y="259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2" descr="bot"/>
          <p:cNvPicPr/>
          <p:nvPr/>
        </p:nvPicPr>
        <p:blipFill>
          <a:blip r:embed="rId3"/>
          <a:stretch/>
        </p:blipFill>
        <p:spPr>
          <a:xfrm>
            <a:off x="1905120" y="5867280"/>
            <a:ext cx="2286000" cy="4939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3"/>
          <p:cNvSpPr/>
          <p:nvPr/>
        </p:nvSpPr>
        <p:spPr>
          <a:xfrm>
            <a:off x="6705720" y="5105520"/>
            <a:ext cx="2438280" cy="2133360"/>
          </a:xfrm>
          <a:custGeom>
            <a:avLst/>
            <a:gdLst>
              <a:gd name="textAreaLeft" fmla="*/ 133200 w 2438280"/>
              <a:gd name="textAreaRight" fmla="*/ 2305080 w 2438280"/>
              <a:gd name="textAreaTop" fmla="*/ 133200 h 2133360"/>
              <a:gd name="textAreaBottom" fmla="*/ 2000160 h 2133360"/>
            </a:gdLst>
            <a:ahLst/>
            <a:rect l="textAreaLeft" t="textAreaTop" r="textAreaRight" b="textAreaBottom"/>
            <a:pathLst>
              <a:path w="24687" h="21600">
                <a:moveTo>
                  <a:pt x="0" y="0"/>
                </a:moveTo>
                <a:lnTo>
                  <a:pt x="24687" y="0"/>
                </a:lnTo>
                <a:lnTo>
                  <a:pt x="24687" y="21600"/>
                </a:lnTo>
                <a:lnTo>
                  <a:pt x="0" y="21600"/>
                </a:lnTo>
                <a:close/>
              </a:path>
              <a:path fill="lightenLess" w="24687" h="21600">
                <a:moveTo>
                  <a:pt x="0" y="0"/>
                </a:moveTo>
                <a:lnTo>
                  <a:pt x="24687" y="0"/>
                </a:lnTo>
                <a:lnTo>
                  <a:pt x="23337" y="1350"/>
                </a:lnTo>
                <a:lnTo>
                  <a:pt x="1350" y="1350"/>
                </a:lnTo>
                <a:close/>
              </a:path>
              <a:path fill="darken" w="24687" h="21600">
                <a:moveTo>
                  <a:pt x="24687" y="0"/>
                </a:moveTo>
                <a:lnTo>
                  <a:pt x="24687" y="21600"/>
                </a:lnTo>
                <a:lnTo>
                  <a:pt x="23337" y="20250"/>
                </a:lnTo>
                <a:lnTo>
                  <a:pt x="23337" y="1350"/>
                </a:lnTo>
                <a:close/>
              </a:path>
              <a:path fill="darkenLess" w="24687" h="21600">
                <a:moveTo>
                  <a:pt x="2468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37" y="20250"/>
                </a:lnTo>
                <a:close/>
              </a:path>
              <a:path fill="lighten" w="2468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3235680" y="259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全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5517720" y="259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善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7804440" y="6019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3048120" y="2514600"/>
            <a:ext cx="1143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4495680" y="2514600"/>
            <a:ext cx="5335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480" y="1600200"/>
            <a:ext cx="8305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弈 秋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诲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二 人 弈，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其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一 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专 心 致 志 ，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惟 弈 秋 之 为 听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；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人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听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，一 心 以 为 有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鸿 鹄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至， 思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援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弓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缴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而 射 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5" descr="bot"/>
          <p:cNvPicPr/>
          <p:nvPr/>
        </p:nvPicPr>
        <p:blipFill>
          <a:blip r:embed="rId1"/>
          <a:stretch/>
        </p:blipFill>
        <p:spPr>
          <a:xfrm>
            <a:off x="6400800" y="7162920"/>
            <a:ext cx="2286000" cy="49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9" descr="bot"/>
          <p:cNvPicPr/>
          <p:nvPr/>
        </p:nvPicPr>
        <p:blipFill>
          <a:blip r:embed="rId2"/>
          <a:stretch/>
        </p:blipFill>
        <p:spPr>
          <a:xfrm>
            <a:off x="5638680" y="5791320"/>
            <a:ext cx="2286000" cy="49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0" descr="bot"/>
          <p:cNvPicPr/>
          <p:nvPr/>
        </p:nvPicPr>
        <p:blipFill>
          <a:blip r:embed="rId3"/>
          <a:stretch/>
        </p:blipFill>
        <p:spPr>
          <a:xfrm>
            <a:off x="1828800" y="5791320"/>
            <a:ext cx="2286000" cy="493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1"/>
          <p:cNvSpPr/>
          <p:nvPr/>
        </p:nvSpPr>
        <p:spPr>
          <a:xfrm>
            <a:off x="4390560" y="571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3886200" y="5334120"/>
            <a:ext cx="1981080" cy="1066680"/>
          </a:xfrm>
          <a:custGeom>
            <a:avLst/>
            <a:gdLst>
              <a:gd name="textAreaLeft" fmla="*/ 66600 w 1981080"/>
              <a:gd name="textAreaRight" fmla="*/ 1914480 w 1981080"/>
              <a:gd name="textAreaTop" fmla="*/ 66600 h 1066680"/>
              <a:gd name="textAreaBottom" fmla="*/ 1000080 h 106668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60" y="1350"/>
                </a:lnTo>
                <a:lnTo>
                  <a:pt x="1350" y="135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60" y="20250"/>
                </a:lnTo>
                <a:lnTo>
                  <a:pt x="38760" y="135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60" y="2025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1750680" y="220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5762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6"/>
          <p:cNvSpPr/>
          <p:nvPr/>
        </p:nvSpPr>
        <p:spPr>
          <a:xfrm>
            <a:off x="677268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4930200" y="3048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只听弈秋的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1366200" y="403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虽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2651400" y="403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弈秋的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7233840" y="403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天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1"/>
          <p:cNvSpPr/>
          <p:nvPr/>
        </p:nvSpPr>
        <p:spPr>
          <a:xfrm>
            <a:off x="2155320" y="502920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2"/>
          <p:cNvSpPr/>
          <p:nvPr/>
        </p:nvSpPr>
        <p:spPr>
          <a:xfrm>
            <a:off x="3884040" y="49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7499880" y="6324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7"/>
          <p:cNvSpPr/>
          <p:nvPr/>
        </p:nvSpPr>
        <p:spPr>
          <a:xfrm>
            <a:off x="7162920" y="5486400"/>
            <a:ext cx="1981080" cy="1371600"/>
          </a:xfrm>
          <a:custGeom>
            <a:avLst/>
            <a:gdLst>
              <a:gd name="textAreaLeft" fmla="*/ 85680 w 1981080"/>
              <a:gd name="textAreaRight" fmla="*/ 1895400 w 1981080"/>
              <a:gd name="textAreaTop" fmla="*/ 85680 h 1371600"/>
              <a:gd name="textAreaBottom" fmla="*/ 1285920 h 1371600"/>
            </a:gdLst>
            <a:ahLst/>
            <a:rect l="textAreaLeft" t="textAreaTop" r="textAreaRight" b="textAreaBottom"/>
            <a:pathLst>
              <a:path w="31196" h="21600">
                <a:moveTo>
                  <a:pt x="0" y="0"/>
                </a:moveTo>
                <a:lnTo>
                  <a:pt x="31196" y="0"/>
                </a:lnTo>
                <a:lnTo>
                  <a:pt x="31196" y="21600"/>
                </a:lnTo>
                <a:lnTo>
                  <a:pt x="0" y="21600"/>
                </a:lnTo>
                <a:close/>
              </a:path>
              <a:path fill="lightenLess" w="31196" h="21600">
                <a:moveTo>
                  <a:pt x="0" y="0"/>
                </a:moveTo>
                <a:lnTo>
                  <a:pt x="31196" y="0"/>
                </a:lnTo>
                <a:lnTo>
                  <a:pt x="29846" y="1350"/>
                </a:lnTo>
                <a:lnTo>
                  <a:pt x="1350" y="1350"/>
                </a:lnTo>
                <a:close/>
              </a:path>
              <a:path fill="darken" w="31196" h="21600">
                <a:moveTo>
                  <a:pt x="31196" y="0"/>
                </a:moveTo>
                <a:lnTo>
                  <a:pt x="31196" y="21600"/>
                </a:lnTo>
                <a:lnTo>
                  <a:pt x="29846" y="20250"/>
                </a:lnTo>
                <a:lnTo>
                  <a:pt x="29846" y="1350"/>
                </a:lnTo>
                <a:close/>
              </a:path>
              <a:path fill="darkenLess" w="31196" h="21600">
                <a:moveTo>
                  <a:pt x="311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46" y="20250"/>
                </a:lnTo>
                <a:close/>
              </a:path>
              <a:path fill="lighten" w="311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3:47:4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15Z</dcterms:modified>
  <cp:revision>4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