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612313" cy="66595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CE46-757E-4839-A7C3-C9ED41B27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0600" y="266760"/>
            <a:ext cx="865044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0600" y="1553760"/>
            <a:ext cx="865044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0600" y="3849840"/>
            <a:ext cx="865044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D013-17C9-43DB-BF06-5789860BB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0600" y="266760"/>
            <a:ext cx="865044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0600" y="1553760"/>
            <a:ext cx="4221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3280" y="1553760"/>
            <a:ext cx="4221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0600" y="3849840"/>
            <a:ext cx="4221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13280" y="3849840"/>
            <a:ext cx="4221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C800-D3AD-4EB8-BF73-B8EF41992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0600" y="266760"/>
            <a:ext cx="865044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0600" y="1553760"/>
            <a:ext cx="278532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5600" y="1553760"/>
            <a:ext cx="278532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30600" y="1553760"/>
            <a:ext cx="278532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0600" y="3849840"/>
            <a:ext cx="278532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5600" y="3849840"/>
            <a:ext cx="278532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30600" y="3849840"/>
            <a:ext cx="278532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7C8E-CD75-4173-8A7F-03E81D8E6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7D10A-15AB-4F7B-A832-98E3BAA02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0600" y="266760"/>
            <a:ext cx="865044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80600" y="1553760"/>
            <a:ext cx="8650440" cy="439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7B8C6-ADD8-447D-9D20-9A4791694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0600" y="266760"/>
            <a:ext cx="865044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600" y="1553760"/>
            <a:ext cx="865044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B05A2-1713-4DDE-B51B-E6C1F477A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0600" y="266760"/>
            <a:ext cx="865044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0600" y="1553760"/>
            <a:ext cx="422136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13280" y="1553760"/>
            <a:ext cx="422136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2629B-166E-4CE6-9926-D2DCC9744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80600" y="266760"/>
            <a:ext cx="865044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28E52-3CB4-4529-B950-9FC94E0DD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80600" y="266760"/>
            <a:ext cx="865044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2E5AA-84DA-48F8-9628-9E42FEA71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80600" y="266760"/>
            <a:ext cx="865044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80600" y="1553760"/>
            <a:ext cx="4221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13280" y="1553760"/>
            <a:ext cx="422136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80600" y="3849840"/>
            <a:ext cx="4221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B03ED-12DD-486F-93A9-71650375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0600" y="266760"/>
            <a:ext cx="865044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0600" y="1553760"/>
            <a:ext cx="8650440" cy="439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89BC-05E5-46FB-8B01-571D05E70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80600" y="266760"/>
            <a:ext cx="865044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80600" y="1553760"/>
            <a:ext cx="422136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13280" y="1553760"/>
            <a:ext cx="4221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13280" y="3849840"/>
            <a:ext cx="4221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79195-225F-461C-9C56-2AB1B574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80600" y="266760"/>
            <a:ext cx="865044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80600" y="1553760"/>
            <a:ext cx="4221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13280" y="1553760"/>
            <a:ext cx="4221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0600" y="3849840"/>
            <a:ext cx="865044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A0F8E-F42C-41A3-B5FB-EB9EF376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80600" y="266760"/>
            <a:ext cx="865044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80600" y="1553760"/>
            <a:ext cx="865044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0600" y="3849840"/>
            <a:ext cx="865044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1C450-1D44-477F-B4D6-532398D16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0600" y="266760"/>
            <a:ext cx="865044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0600" y="1553760"/>
            <a:ext cx="4221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3280" y="1553760"/>
            <a:ext cx="4221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0600" y="3849840"/>
            <a:ext cx="4221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13280" y="3849840"/>
            <a:ext cx="4221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35095-3180-49D3-A1AF-EA3AE0D2E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0600" y="266760"/>
            <a:ext cx="865044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80600" y="1553760"/>
            <a:ext cx="278532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05600" y="1553760"/>
            <a:ext cx="278532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30600" y="1553760"/>
            <a:ext cx="278532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0600" y="3849840"/>
            <a:ext cx="278532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05600" y="3849840"/>
            <a:ext cx="278532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30600" y="3849840"/>
            <a:ext cx="278532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9B8D0-5ECF-409C-AA31-6A395DC47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0600" y="266760"/>
            <a:ext cx="865044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0600" y="1553760"/>
            <a:ext cx="865044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A48C-BBA1-4D2F-BF39-6566240E3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0600" y="266760"/>
            <a:ext cx="865044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0600" y="1553760"/>
            <a:ext cx="422136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13280" y="1553760"/>
            <a:ext cx="422136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043F-B8E4-4FC6-8084-4109CD271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0600" y="266760"/>
            <a:ext cx="865044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C4F9-0B6A-439E-8F93-663055467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0600" y="266760"/>
            <a:ext cx="865044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64A1-78C2-4354-8F9F-533D6554A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0600" y="266760"/>
            <a:ext cx="865044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0600" y="1553760"/>
            <a:ext cx="4221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13280" y="1553760"/>
            <a:ext cx="422136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0600" y="3849840"/>
            <a:ext cx="4221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4447-0A18-4F9E-9F1F-222E1108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0600" y="266760"/>
            <a:ext cx="865044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0600" y="1553760"/>
            <a:ext cx="422136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13280" y="1553760"/>
            <a:ext cx="4221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13280" y="3849840"/>
            <a:ext cx="4221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01B1-E0FC-4A76-9501-8EEB978D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0600" y="266760"/>
            <a:ext cx="865044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0600" y="1553760"/>
            <a:ext cx="4221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13280" y="1553760"/>
            <a:ext cx="4221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0600" y="3849840"/>
            <a:ext cx="865044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891E-EF0B-472A-AF9F-A2EBBA406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0600" y="266760"/>
            <a:ext cx="865044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0600" y="1553760"/>
            <a:ext cx="865044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0600" y="6065640"/>
            <a:ext cx="224172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4280" y="6065640"/>
            <a:ext cx="304308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9320" y="6065640"/>
            <a:ext cx="224172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4B0EE-6A61-494E-9DBF-D377C302C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0600" y="266760"/>
            <a:ext cx="865044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80600" y="1553760"/>
            <a:ext cx="865044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61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09520" indent="-2206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54120" indent="-2206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1996920" indent="-22068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1996920" indent="-22068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1996920" indent="-22068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80600" y="6065640"/>
            <a:ext cx="224316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BF0DD-51D9-4977-90EB-CF8C7CE47C8B}" type="datetime">
              <a:rPr b="0" lang="zh-CN" sz="13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284280" y="6065640"/>
            <a:ext cx="304308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87880" y="6065640"/>
            <a:ext cx="224316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8F37D-DD5A-4FF9-8FF2-53BA19FA70CC}" type="slidenum">
              <a:rPr b="0" lang="zh-CN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4157640" y="314784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8"/>
          <p:cNvSpPr/>
          <p:nvPr/>
        </p:nvSpPr>
        <p:spPr>
          <a:xfrm>
            <a:off x="3006720" y="2158920"/>
            <a:ext cx="665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478360" y="235080"/>
            <a:ext cx="652680" cy="56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  <a:ea typeface="迷你简汉真广标"/>
              </a:rPr>
              <a:t>新春贺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1640" y="977400"/>
            <a:ext cx="5761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添加栏目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添加栏目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添加栏目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添加栏目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添加栏目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添加栏目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1760" y="183960"/>
            <a:ext cx="8629560" cy="55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4480" y="1233000"/>
            <a:ext cx="9385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659720" y="324000"/>
            <a:ext cx="1461960" cy="3394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A08F0-68A3-4415-A908-AF951C8BE9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9T08:11:56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1T00:51:22Z</dcterms:modified>
  <cp:revision>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