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14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drumroll.wav" ContentType="audio/x-wav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1E9-A298-42C5-90AD-447CCC17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7DE-2C3C-485F-8AA0-B0CF8039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B1B-23A1-47F6-997A-01253923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BDE-5796-429B-ADD3-97FA4F7F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1BDD-D0F9-4F98-862A-8AFB1AE5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3108-DE76-4F8A-9A0C-5C454A8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3358-EF6F-48EC-B5F4-9593ED79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B5AD-5B82-4326-A2C6-76FE039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2192-CD40-4086-B381-2C394EC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8666-BCE5-48D4-BF3D-FBF357E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2B37-2512-47EC-A734-7B56FA58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8EA-112F-42C6-B796-3356D423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9737-7B62-4998-BC12-B28CB68E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2D6F-AB2C-4138-8E1F-725ACEFE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882B-66D9-45BA-90F0-D1551379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18B2-B621-40AB-AD5B-5E8F1306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D4CC-558B-4EBC-9307-54F7F955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91CA-F075-4C43-9B30-3EE853A5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DCAE-783B-4B73-8BAC-2CDBD70A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97E0-0D38-43DE-801A-8A928D1B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2D46-0429-4E6A-80E4-24B5D225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AE51-7463-4200-9312-9F812EC7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E53-05AE-4DF5-A67E-425FBAE9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EFAB-942D-447C-AC66-DBB6A763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BC53-CF6B-469E-8B98-D95BB72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A0F6-E07D-44AD-A843-1191D70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46E1-1B5D-4F50-95F0-9AD6E62C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61E2-7DC3-4402-BC93-2466D306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3A97-C18B-422E-877C-75C35514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3F66-7B68-4BEA-AD77-8E55E05D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1360-7D30-4FF9-AA4D-4460E699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D623E-ABD7-4B56-9CE1-6FDD3E82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5AF9-3774-4E91-AEE9-E49E5BEA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AD7-8AAE-4210-B23D-0E75E8B1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3E812-D72E-4D4C-9F41-DEF68D6C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16E4-E346-4EEB-A64F-798505B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6269-041D-4041-8356-BD45BF72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65A7-3BFD-4EB5-B4F7-C8D87776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36DE-47CD-4F46-9F47-3FC2FE0F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03DC-F7B0-4BF6-94E1-0ECEA3E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6F57-01E2-42D1-9D55-BE7C9F2B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A1D7-5C03-470C-91EF-2ACD6058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B4D8-F3AB-4659-B127-5B4F7C21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E13E1-4A49-429E-9EDD-8C4E673B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4AE-B969-4816-99B1-BCA93AB7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DE632-C64F-4B5A-8D20-BD59BBF0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18FD9-CE61-464C-99B3-10953222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9F294-D806-4CD3-B759-A979D5DA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84D2-7B76-41F0-85E7-941C8595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AB2A-C0D2-469B-8DDF-D0CF55F6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66E1B-3E91-4A2D-B411-2CFE8D8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B712-800F-4C21-AD96-6ABEBC2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BBE42-ED81-49A3-BBDD-ABE157B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59787-9911-4D81-808A-CAA1C820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67D83-C725-47E7-8654-2526A088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A5F-D0A5-476F-8B6A-3F6CC44C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5568-43D0-44CA-8ED1-59C81E83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4FFC5-5758-4643-8CA3-917869C0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3558E-59C3-4C87-8E32-B2E25152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C40EA-F803-42E4-B9B6-B343BE79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CDF77-D34A-4EDF-AF9F-83BC9821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E1F43-6969-4E40-863B-640AC25F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075F6-CCE1-492B-8A34-04AD4440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D091-AC8C-4B0B-8D32-67A288CB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C82F-28A0-43F0-B8FA-3595816A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ACC79-F768-4328-80FF-D8CB813C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75B-44CB-4B73-9E12-39CAB19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96AE3-1BCA-4A73-A13B-C55DA62B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947E5-3297-444E-AC8D-620A6BCE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D51A-5792-4A76-9732-EF29A307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E46-B66C-4050-A19E-CE9B1DC6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37C-BFCD-4952-886E-74CD05C2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720"/>
              <a:chOff x="6273360" y="-21240"/>
              <a:chExt cx="287028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720"/>
                <a:chOff x="6273360" y="-21240"/>
                <a:chExt cx="286740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6120"/>
                  <a:ext cx="1063800" cy="1141560"/>
                  <a:chOff x="6537960" y="906120"/>
                  <a:chExt cx="106380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89960" y="1196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840"/>
                  <a:ext cx="607680" cy="785520"/>
                  <a:chOff x="7112160" y="15840"/>
                  <a:chExt cx="607680" cy="78552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320" y="477000"/>
                    <a:ext cx="5652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4320" y="103680"/>
                    <a:ext cx="303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240"/>
                  <a:ext cx="466200" cy="808560"/>
                  <a:chOff x="7287840" y="-21240"/>
                  <a:chExt cx="466200" cy="80856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00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8160" y="48492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0920"/>
                  <a:chOff x="7665480" y="-1152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7760"/>
                    <a:ext cx="291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8160"/>
                  <a:ext cx="786240" cy="747360"/>
                  <a:chOff x="7662600" y="38160"/>
                  <a:chExt cx="78624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084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160"/>
                    <a:ext cx="31788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9200"/>
                  <a:chOff x="6710760" y="929880"/>
                  <a:chExt cx="91368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280" y="178740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3240" cy="1217520"/>
                  <a:chOff x="7312680" y="1001160"/>
                  <a:chExt cx="36324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6320"/>
                    <a:ext cx="42120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24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600" cy="1261800"/>
                  <a:chOff x="778644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84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15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1320" y="1401480"/>
                    <a:ext cx="738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0243-507E-42F1-9CBC-2266BF9A29C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2FED-6304-4B4F-B190-7B7F3610F1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9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215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21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218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DC2C-39D5-4BF0-9E9F-3E178C15F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305" name="Group 3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306" name="Oval 4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5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309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1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Oval 10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14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315" name="Freeform 13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14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15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31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17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18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32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21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32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23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33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32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33"/>
                  <p:cNvGrpSpPr/>
                  <p:nvPr/>
                </p:nvGrpSpPr>
                <p:grpSpPr>
                  <a:xfrm>
                    <a:off x="2646720" y="2474280"/>
                    <a:ext cx="2557080" cy="2741400"/>
                    <a:chOff x="2646720" y="2474280"/>
                    <a:chExt cx="2557080" cy="2741400"/>
                  </a:xfrm>
                </p:grpSpPr>
                <p:sp>
                  <p:nvSpPr>
                    <p:cNvPr id="336" name="Freeform 34"/>
                    <p:cNvSpPr/>
                    <p:nvPr/>
                  </p:nvSpPr>
                  <p:spPr>
                    <a:xfrm flipH="1" rot="18888600">
                      <a:off x="3254400" y="317160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35"/>
                    <p:cNvSpPr/>
                    <p:nvPr/>
                  </p:nvSpPr>
                  <p:spPr>
                    <a:xfrm flipH="1" rot="18888600">
                      <a:off x="2692440" y="429588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342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42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345" name="Freeform 43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1" name="Freeform 49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54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35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59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63"/>
                  <p:cNvGrpSpPr/>
                  <p:nvPr/>
                </p:nvGrpSpPr>
                <p:grpSpPr>
                  <a:xfrm>
                    <a:off x="4027320" y="335520"/>
                    <a:ext cx="1461240" cy="1886040"/>
                    <a:chOff x="4027320" y="335520"/>
                    <a:chExt cx="1461240" cy="1886040"/>
                  </a:xfrm>
                </p:grpSpPr>
                <p:sp>
                  <p:nvSpPr>
                    <p:cNvPr id="366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65"/>
                    <p:cNvSpPr/>
                    <p:nvPr/>
                  </p:nvSpPr>
                  <p:spPr>
                    <a:xfrm flipH="1" rot="3474000">
                      <a:off x="4033080" y="546120"/>
                      <a:ext cx="7290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66"/>
                  <p:cNvGrpSpPr/>
                  <p:nvPr/>
                </p:nvGrpSpPr>
                <p:grpSpPr>
                  <a:xfrm>
                    <a:off x="4448520" y="245160"/>
                    <a:ext cx="1121760" cy="1946880"/>
                    <a:chOff x="4448520" y="245160"/>
                    <a:chExt cx="1121760" cy="1946880"/>
                  </a:xfrm>
                </p:grpSpPr>
                <p:sp>
                  <p:nvSpPr>
                    <p:cNvPr id="369" name="Freeform 67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68"/>
                    <p:cNvSpPr/>
                    <p:nvPr/>
                  </p:nvSpPr>
                  <p:spPr>
                    <a:xfrm flipH="1" rot="4126800">
                      <a:off x="4418640" y="439920"/>
                      <a:ext cx="7034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7" name="Freeform 75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76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9" name="Group 77"/>
                  <p:cNvGrpSpPr/>
                  <p:nvPr/>
                </p:nvGrpSpPr>
                <p:grpSpPr>
                  <a:xfrm>
                    <a:off x="5356080" y="270360"/>
                    <a:ext cx="1195920" cy="1900800"/>
                    <a:chOff x="5356080" y="270360"/>
                    <a:chExt cx="1195920" cy="1900800"/>
                  </a:xfrm>
                </p:grpSpPr>
                <p:sp>
                  <p:nvSpPr>
                    <p:cNvPr id="380" name="Freeform 78"/>
                    <p:cNvSpPr/>
                    <p:nvPr/>
                  </p:nvSpPr>
                  <p:spPr>
                    <a:xfrm rot="17742000">
                      <a:off x="5087520" y="141876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79"/>
                    <p:cNvSpPr/>
                    <p:nvPr/>
                  </p:nvSpPr>
                  <p:spPr>
                    <a:xfrm rot="17742000">
                      <a:off x="5887800" y="485280"/>
                      <a:ext cx="70200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80"/>
                  <p:cNvGrpSpPr/>
                  <p:nvPr/>
                </p:nvGrpSpPr>
                <p:grpSpPr>
                  <a:xfrm>
                    <a:off x="5347800" y="388440"/>
                    <a:ext cx="1891440" cy="1797480"/>
                    <a:chOff x="5347800" y="388440"/>
                    <a:chExt cx="1891440" cy="1797480"/>
                  </a:xfrm>
                </p:grpSpPr>
                <p:sp>
                  <p:nvSpPr>
                    <p:cNvPr id="383" name="Freeform 81"/>
                    <p:cNvSpPr/>
                    <p:nvPr/>
                  </p:nvSpPr>
                  <p:spPr>
                    <a:xfrm rot="18822600">
                      <a:off x="5248080" y="13892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82"/>
                    <p:cNvSpPr/>
                    <p:nvPr/>
                  </p:nvSpPr>
                  <p:spPr>
                    <a:xfrm rot="18822600">
                      <a:off x="6404400" y="583920"/>
                      <a:ext cx="7642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83"/>
                  <p:cNvGrpSpPr/>
                  <p:nvPr/>
                </p:nvGrpSpPr>
                <p:grpSpPr>
                  <a:xfrm>
                    <a:off x="5458320" y="292680"/>
                    <a:ext cx="427680" cy="1794960"/>
                    <a:chOff x="5458320" y="292680"/>
                    <a:chExt cx="427680" cy="1794960"/>
                  </a:xfrm>
                </p:grpSpPr>
                <p:sp>
                  <p:nvSpPr>
                    <p:cNvPr id="38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4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85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Group 86"/>
                  <p:cNvGrpSpPr/>
                  <p:nvPr/>
                </p:nvGrpSpPr>
                <p:grpSpPr>
                  <a:xfrm>
                    <a:off x="3062520" y="2530440"/>
                    <a:ext cx="2196360" cy="3003120"/>
                    <a:chOff x="3062520" y="2530440"/>
                    <a:chExt cx="2196360" cy="3003120"/>
                  </a:xfrm>
                </p:grpSpPr>
                <p:sp>
                  <p:nvSpPr>
                    <p:cNvPr id="389" name="Freeform 87"/>
                    <p:cNvSpPr/>
                    <p:nvPr/>
                  </p:nvSpPr>
                  <p:spPr>
                    <a:xfrm flipH="1" rot="18336000">
                      <a:off x="3420000" y="331452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Freeform 88"/>
                    <p:cNvSpPr/>
                    <p:nvPr/>
                  </p:nvSpPr>
                  <p:spPr>
                    <a:xfrm flipH="1" rot="18336000">
                      <a:off x="3069720" y="45914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2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395" name="Freeform 93"/>
                    <p:cNvSpPr/>
                    <p:nvPr/>
                  </p:nvSpPr>
                  <p:spPr>
                    <a:xfrm flipH="1" rot="16870800">
                      <a:off x="4086000" y="3489120"/>
                      <a:ext cx="188748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Freeform 94"/>
                    <p:cNvSpPr/>
                    <p:nvPr/>
                  </p:nvSpPr>
                  <p:spPr>
                    <a:xfrm flipH="1" rot="16870800">
                      <a:off x="4366800" y="4807800"/>
                      <a:ext cx="10126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95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398" name="Freeform 96"/>
                    <p:cNvSpPr/>
                    <p:nvPr/>
                  </p:nvSpPr>
                  <p:spPr>
                    <a:xfrm rot="3144000">
                      <a:off x="5415480" y="3250440"/>
                      <a:ext cx="21261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97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98"/>
                  <p:cNvGrpSpPr/>
                  <p:nvPr/>
                </p:nvGrpSpPr>
                <p:grpSpPr>
                  <a:xfrm>
                    <a:off x="5648040" y="2593440"/>
                    <a:ext cx="1758600" cy="3032640"/>
                    <a:chOff x="5648040" y="2593440"/>
                    <a:chExt cx="1758600" cy="3032640"/>
                  </a:xfrm>
                </p:grpSpPr>
                <p:sp>
                  <p:nvSpPr>
                    <p:cNvPr id="401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00"/>
                    <p:cNvSpPr/>
                    <p:nvPr/>
                  </p:nvSpPr>
                  <p:spPr>
                    <a:xfrm rot="3745200">
                      <a:off x="6351840" y="4718880"/>
                      <a:ext cx="109116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404" name="Freeform 102"/>
                    <p:cNvSpPr/>
                    <p:nvPr/>
                  </p:nvSpPr>
                  <p:spPr>
                    <a:xfrm rot="4286400">
                      <a:off x="5046480" y="354312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103"/>
                    <p:cNvSpPr/>
                    <p:nvPr/>
                  </p:nvSpPr>
                  <p:spPr>
                    <a:xfrm rot="4286400">
                      <a:off x="5877360" y="4881240"/>
                      <a:ext cx="10594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107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410" name="Freeform 108"/>
                    <p:cNvSpPr/>
                    <p:nvPr/>
                  </p:nvSpPr>
                  <p:spPr>
                    <a:xfrm rot="5755200">
                      <a:off x="4531320" y="3665160"/>
                      <a:ext cx="177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109"/>
                    <p:cNvSpPr/>
                    <p:nvPr/>
                  </p:nvSpPr>
                  <p:spPr>
                    <a:xfrm rot="5755200">
                      <a:off x="4714920" y="493164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2" name="Group 110"/>
              <p:cNvGrpSpPr/>
              <p:nvPr/>
            </p:nvGrpSpPr>
            <p:grpSpPr>
              <a:xfrm>
                <a:off x="2175480" y="682560"/>
                <a:ext cx="6731640" cy="4521600"/>
                <a:chOff x="2175480" y="682560"/>
                <a:chExt cx="6731640" cy="4521600"/>
              </a:xfrm>
            </p:grpSpPr>
            <p:grpSp>
              <p:nvGrpSpPr>
                <p:cNvPr id="413" name="Group 111"/>
                <p:cNvGrpSpPr/>
                <p:nvPr/>
              </p:nvGrpSpPr>
              <p:grpSpPr>
                <a:xfrm>
                  <a:off x="2175480" y="682560"/>
                  <a:ext cx="6731640" cy="4521600"/>
                  <a:chOff x="2175480" y="682560"/>
                  <a:chExt cx="6731640" cy="4521600"/>
                </a:xfrm>
              </p:grpSpPr>
              <p:sp>
                <p:nvSpPr>
                  <p:cNvPr id="41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113"/>
                  <p:cNvSpPr/>
                  <p:nvPr/>
                </p:nvSpPr>
                <p:spPr>
                  <a:xfrm flipH="1">
                    <a:off x="2561760" y="227088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rc 116"/>
                  <p:cNvSpPr/>
                  <p:nvPr/>
                </p:nvSpPr>
                <p:spPr>
                  <a:xfrm flipH="1">
                    <a:off x="305820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1" name="Freeform 119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2" name="Group 120"/>
            <p:cNvGrpSpPr/>
            <p:nvPr/>
          </p:nvGrpSpPr>
          <p:grpSpPr>
            <a:xfrm>
              <a:off x="2342880" y="712440"/>
              <a:ext cx="6410160" cy="4708080"/>
              <a:chOff x="2342880" y="712440"/>
              <a:chExt cx="6410160" cy="4708080"/>
            </a:xfrm>
          </p:grpSpPr>
          <p:sp>
            <p:nvSpPr>
              <p:cNvPr id="423" name="Freeform 121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rc 122"/>
              <p:cNvSpPr/>
              <p:nvPr/>
            </p:nvSpPr>
            <p:spPr>
              <a:xfrm flipH="1">
                <a:off x="3384000" y="257940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rc 123"/>
              <p:cNvSpPr/>
              <p:nvPr/>
            </p:nvSpPr>
            <p:spPr>
              <a:xfrm flipH="1">
                <a:off x="3645360" y="212184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rc 124"/>
              <p:cNvSpPr/>
              <p:nvPr/>
            </p:nvSpPr>
            <p:spPr>
              <a:xfrm flipH="1">
                <a:off x="2342520" y="17370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rc 125"/>
              <p:cNvSpPr/>
              <p:nvPr/>
            </p:nvSpPr>
            <p:spPr>
              <a:xfrm>
                <a:off x="5586480" y="2150280"/>
                <a:ext cx="46980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rc 126"/>
              <p:cNvSpPr/>
              <p:nvPr/>
            </p:nvSpPr>
            <p:spPr>
              <a:xfrm>
                <a:off x="5709960" y="213660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27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8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9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30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31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32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33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34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EC7A-DDE0-44AC-8E2B-67E454694E3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79" name="Group 3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480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5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7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0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17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494" name="Freeform 18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9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0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1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498" name="Freeform 22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3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5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502" name="Freeform 26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7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8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29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506" name="Freeform 30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2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33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510" name="Freeform 34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5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6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FEDA-8669-4891-8ED0-0BA6A1ED4E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3DF4-74AB-47C7-AF9B-D2C142A230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4F77-1624-4679-ACD5-40934E2185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萬用卡01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萬用卡02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4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5"/>
          <p:cNvSpPr txBox="1"/>
          <p:nvPr/>
        </p:nvSpPr>
        <p:spPr>
          <a:xfrm>
            <a:off x="882720" y="2470320"/>
            <a:ext cx="7488000" cy="21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一个数除以小数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611280" y="12744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ahoma"/>
                <a:ea typeface="隶书"/>
              </a:rPr>
              <a:t>人教版数学第九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2484360" y="4653000"/>
            <a:ext cx="428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1332000" y="1801800"/>
            <a:ext cx="7200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除数是小数的小数除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计 算 法 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6"/>
          <p:cNvSpPr/>
          <p:nvPr/>
        </p:nvSpPr>
        <p:spPr>
          <a:xfrm>
            <a:off x="0" y="3333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除数是小数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的小数除法计算法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2"/>
          <p:cNvSpPr/>
          <p:nvPr/>
        </p:nvSpPr>
        <p:spPr>
          <a:xfrm>
            <a:off x="324000" y="1413000"/>
            <a:ext cx="82087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一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看清（       ）是几位小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二移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把除数和被除数的小数点同时向（  ）移动相同的位数，使除数变成（     ）。当被除数位数不够时，在它的末尾用（  ）补足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三算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按照除数是（     ）的除法的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34"/>
          <p:cNvSpPr/>
          <p:nvPr/>
        </p:nvSpPr>
        <p:spPr>
          <a:xfrm>
            <a:off x="2935800" y="155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除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35"/>
          <p:cNvSpPr/>
          <p:nvPr/>
        </p:nvSpPr>
        <p:spPr>
          <a:xfrm>
            <a:off x="7679880" y="2201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6"/>
          <p:cNvSpPr/>
          <p:nvPr/>
        </p:nvSpPr>
        <p:spPr>
          <a:xfrm>
            <a:off x="6044400" y="28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38"/>
          <p:cNvSpPr/>
          <p:nvPr/>
        </p:nvSpPr>
        <p:spPr>
          <a:xfrm>
            <a:off x="6445080" y="35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9"/>
          <p:cNvSpPr/>
          <p:nvPr/>
        </p:nvSpPr>
        <p:spPr>
          <a:xfrm>
            <a:off x="4015440" y="414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0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WordArt 3"/>
          <p:cNvSpPr txBox="1"/>
          <p:nvPr/>
        </p:nvSpPr>
        <p:spPr>
          <a:xfrm>
            <a:off x="2700360" y="7452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隶书"/>
              </a:rPr>
              <a:t>你会改吗？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下面的计算正确吗？如果不正确，错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7" descr="OT_0021"/>
          <p:cNvPicPr/>
          <p:nvPr/>
        </p:nvPicPr>
        <p:blipFill>
          <a:blip r:embed="rId1"/>
          <a:stretch/>
        </p:blipFill>
        <p:spPr>
          <a:xfrm>
            <a:off x="0" y="0"/>
            <a:ext cx="814320" cy="112536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5105520" y="20224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48÷3.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9"/>
          <p:cNvSpPr/>
          <p:nvPr/>
        </p:nvSpPr>
        <p:spPr>
          <a:xfrm>
            <a:off x="1523880" y="339408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0"/>
          <p:cNvSpPr/>
          <p:nvPr/>
        </p:nvSpPr>
        <p:spPr>
          <a:xfrm>
            <a:off x="1676520" y="45370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1"/>
          <p:cNvSpPr/>
          <p:nvPr/>
        </p:nvSpPr>
        <p:spPr>
          <a:xfrm>
            <a:off x="2209680" y="3699000"/>
            <a:ext cx="76320" cy="152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2"/>
          <p:cNvSpPr/>
          <p:nvPr/>
        </p:nvSpPr>
        <p:spPr>
          <a:xfrm>
            <a:off x="457200" y="20224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44÷1.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685800" y="2921040"/>
            <a:ext cx="289548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4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4"/>
          <p:cNvSpPr/>
          <p:nvPr/>
        </p:nvSpPr>
        <p:spPr>
          <a:xfrm>
            <a:off x="2209680" y="4537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609480" y="3301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6"/>
          <p:cNvSpPr/>
          <p:nvPr/>
        </p:nvSpPr>
        <p:spPr>
          <a:xfrm>
            <a:off x="2209680" y="27846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>
            <a:off x="990720" y="3716280"/>
            <a:ext cx="152280" cy="7632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"/>
          <p:cNvSpPr/>
          <p:nvPr/>
        </p:nvSpPr>
        <p:spPr>
          <a:xfrm>
            <a:off x="6095880" y="33940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>
            <a:off x="6095880" y="45370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0"/>
          <p:cNvSpPr/>
          <p:nvPr/>
        </p:nvSpPr>
        <p:spPr>
          <a:xfrm>
            <a:off x="6095880" y="57564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1"/>
          <p:cNvSpPr/>
          <p:nvPr/>
        </p:nvSpPr>
        <p:spPr>
          <a:xfrm>
            <a:off x="5562720" y="2784600"/>
            <a:ext cx="220968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4.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2"/>
          <p:cNvSpPr/>
          <p:nvPr/>
        </p:nvSpPr>
        <p:spPr>
          <a:xfrm>
            <a:off x="6019920" y="4003560"/>
            <a:ext cx="16002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2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2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"/>
          <p:cNvSpPr/>
          <p:nvPr/>
        </p:nvSpPr>
        <p:spPr>
          <a:xfrm>
            <a:off x="5105520" y="3317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4"/>
          <p:cNvSpPr/>
          <p:nvPr/>
        </p:nvSpPr>
        <p:spPr>
          <a:xfrm>
            <a:off x="6934320" y="5680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5"/>
          <p:cNvSpPr/>
          <p:nvPr/>
        </p:nvSpPr>
        <p:spPr>
          <a:xfrm>
            <a:off x="6172200" y="27846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6"/>
          <p:cNvSpPr/>
          <p:nvPr/>
        </p:nvSpPr>
        <p:spPr>
          <a:xfrm>
            <a:off x="6516720" y="3645000"/>
            <a:ext cx="216000" cy="14436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7"/>
          <p:cNvSpPr/>
          <p:nvPr/>
        </p:nvSpPr>
        <p:spPr>
          <a:xfrm>
            <a:off x="5435640" y="3781440"/>
            <a:ext cx="152280" cy="7920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8"/>
          <p:cNvSpPr/>
          <p:nvPr/>
        </p:nvSpPr>
        <p:spPr>
          <a:xfrm>
            <a:off x="2124000" y="3716280"/>
            <a:ext cx="144360" cy="7308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413080" y="30909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1"/>
          <p:cNvSpPr/>
          <p:nvPr/>
        </p:nvSpPr>
        <p:spPr>
          <a:xfrm>
            <a:off x="2208240" y="27986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3205080" y="2006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6850080" y="2708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35"/>
          <p:cNvSpPr/>
          <p:nvPr/>
        </p:nvSpPr>
        <p:spPr>
          <a:xfrm>
            <a:off x="6372360" y="3068640"/>
            <a:ext cx="64908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WordArt 4"/>
          <p:cNvSpPr txBox="1"/>
          <p:nvPr/>
        </p:nvSpPr>
        <p:spPr>
          <a:xfrm>
            <a:off x="2556000" y="26028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隶书"/>
              </a:rPr>
              <a:t>你会做吗？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763" name="Picture 7" descr="RM_0087"/>
          <p:cNvPicPr/>
          <p:nvPr/>
        </p:nvPicPr>
        <p:blipFill>
          <a:blip r:embed="rId1"/>
          <a:stretch/>
        </p:blipFill>
        <p:spPr>
          <a:xfrm>
            <a:off x="7238880" y="102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8" descr="RM_0535"/>
          <p:cNvPicPr/>
          <p:nvPr/>
        </p:nvPicPr>
        <p:blipFill>
          <a:blip r:embed="rId2"/>
          <a:stretch/>
        </p:blipFill>
        <p:spPr>
          <a:xfrm>
            <a:off x="2514600" y="1401840"/>
            <a:ext cx="1371600" cy="9903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RM_0538"/>
          <p:cNvPicPr/>
          <p:nvPr/>
        </p:nvPicPr>
        <p:blipFill>
          <a:blip r:embed="rId3"/>
          <a:stretch/>
        </p:blipFill>
        <p:spPr>
          <a:xfrm>
            <a:off x="0" y="1020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10"/>
          <p:cNvSpPr/>
          <p:nvPr/>
        </p:nvSpPr>
        <p:spPr>
          <a:xfrm>
            <a:off x="5486400" y="1173240"/>
            <a:ext cx="1447920" cy="1981080"/>
          </a:xfrm>
          <a:prstGeom prst="wedgeRoundRectCallout">
            <a:avLst>
              <a:gd name="adj1" fmla="val 90458"/>
              <a:gd name="adj2" fmla="val 13138"/>
              <a:gd name="adj3" fmla="val 16667"/>
            </a:avLst>
          </a:prstGeom>
          <a:noFill/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"/>
          <p:cNvSpPr/>
          <p:nvPr/>
        </p:nvSpPr>
        <p:spPr>
          <a:xfrm>
            <a:off x="5562720" y="11890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一件短裤要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2"/>
          <p:cNvSpPr/>
          <p:nvPr/>
        </p:nvSpPr>
        <p:spPr>
          <a:xfrm>
            <a:off x="2133720" y="2697120"/>
            <a:ext cx="2819160" cy="1523880"/>
          </a:xfrm>
          <a:prstGeom prst="wedgeRoundRectCallout">
            <a:avLst>
              <a:gd name="adj1" fmla="val -56138"/>
              <a:gd name="adj2" fmla="val -71041"/>
              <a:gd name="adj3" fmla="val 16667"/>
            </a:avLst>
          </a:prstGeom>
          <a:noFill/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2209680" y="266688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头现在有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.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能做几条短裤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250920" y="437184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帮帮服装店老板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685800" y="52484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56.28÷0.6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6"/>
          <p:cNvSpPr/>
          <p:nvPr/>
        </p:nvSpPr>
        <p:spPr>
          <a:xfrm>
            <a:off x="3394080" y="5956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答：可以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条短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3780000" y="52862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WordArt 4"/>
          <p:cNvSpPr txBox="1"/>
          <p:nvPr/>
        </p:nvSpPr>
        <p:spPr>
          <a:xfrm>
            <a:off x="2556000" y="260280"/>
            <a:ext cx="3384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隶书"/>
              </a:rPr>
              <a:t>智力冲浪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0" y="175104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小明在数学考试时，不细心把一个数除以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.7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计算成乘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.7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结果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06.12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这道题的正确答案应是多少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6"/>
          <p:cNvSpPr/>
          <p:nvPr/>
        </p:nvSpPr>
        <p:spPr>
          <a:xfrm>
            <a:off x="1763640" y="3933720"/>
            <a:ext cx="4753080" cy="259236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7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WordArt 4"/>
          <p:cNvSpPr txBox="1"/>
          <p:nvPr/>
        </p:nvSpPr>
        <p:spPr>
          <a:xfrm>
            <a:off x="179280" y="476280"/>
            <a:ext cx="46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谈谈收获</a:t>
            </a:r>
            <a:endParaRPr b="1" lang="en-US" sz="5400" spc="-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2714400" y="285264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今天我学会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，你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WordArt 5"/>
          <p:cNvSpPr txBox="1"/>
          <p:nvPr/>
        </p:nvSpPr>
        <p:spPr>
          <a:xfrm>
            <a:off x="1238400" y="2133720"/>
            <a:ext cx="635796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隶书"/>
              </a:rPr>
              <a:t>谢谢指导</a:t>
            </a:r>
            <a:endParaRPr b="0" lang="en-US" sz="72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66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20"/>
          <p:cNvSpPr/>
          <p:nvPr/>
        </p:nvSpPr>
        <p:spPr>
          <a:xfrm>
            <a:off x="281160" y="1773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bg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2" descr="4"/>
          <p:cNvPicPr/>
          <p:nvPr/>
        </p:nvPicPr>
        <p:blipFill>
          <a:blip r:embed="rId2"/>
          <a:stretch/>
        </p:blipFill>
        <p:spPr>
          <a:xfrm>
            <a:off x="6877080" y="476280"/>
            <a:ext cx="1582560" cy="15843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24"/>
          <p:cNvSpPr/>
          <p:nvPr/>
        </p:nvSpPr>
        <p:spPr>
          <a:xfrm>
            <a:off x="5508720" y="2909880"/>
            <a:ext cx="284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6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1042920" y="465300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7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6"/>
          <p:cNvSpPr/>
          <p:nvPr/>
        </p:nvSpPr>
        <p:spPr>
          <a:xfrm>
            <a:off x="7486560" y="472428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7"/>
          <p:cNvSpPr/>
          <p:nvPr/>
        </p:nvSpPr>
        <p:spPr>
          <a:xfrm>
            <a:off x="0" y="485640"/>
            <a:ext cx="709308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要使下列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小数变成整数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小数点该怎样移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2"/>
          <p:cNvSpPr/>
          <p:nvPr/>
        </p:nvSpPr>
        <p:spPr>
          <a:xfrm>
            <a:off x="973080" y="2708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3"/>
          <p:cNvSpPr/>
          <p:nvPr/>
        </p:nvSpPr>
        <p:spPr>
          <a:xfrm>
            <a:off x="1909440" y="2708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4"/>
          <p:cNvSpPr/>
          <p:nvPr/>
        </p:nvSpPr>
        <p:spPr>
          <a:xfrm>
            <a:off x="1549800" y="26938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6"/>
          <p:cNvSpPr/>
          <p:nvPr/>
        </p:nvSpPr>
        <p:spPr>
          <a:xfrm>
            <a:off x="6086880" y="29098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7"/>
          <p:cNvSpPr/>
          <p:nvPr/>
        </p:nvSpPr>
        <p:spPr>
          <a:xfrm>
            <a:off x="5510160" y="2924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8"/>
          <p:cNvSpPr/>
          <p:nvPr/>
        </p:nvSpPr>
        <p:spPr>
          <a:xfrm>
            <a:off x="871560" y="4653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9"/>
          <p:cNvSpPr/>
          <p:nvPr/>
        </p:nvSpPr>
        <p:spPr>
          <a:xfrm>
            <a:off x="1514880" y="463860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0"/>
          <p:cNvSpPr/>
          <p:nvPr/>
        </p:nvSpPr>
        <p:spPr>
          <a:xfrm>
            <a:off x="6086880" y="47242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2"/>
          <p:cNvSpPr/>
          <p:nvPr/>
        </p:nvSpPr>
        <p:spPr>
          <a:xfrm>
            <a:off x="5435640" y="4781520"/>
            <a:ext cx="21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0 0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  <p:sndAc>
      <p:stSnd>
        <p:snd r:embed="rId3" name="drumroll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601 C 0.01476 0.03495 0.02952 0.06412 0.0474 0.06319 C 0.06528 0.06226 0.09809 0.01064 0.10834 0.00023 E">
                                      <p:cBhvr>
                                        <p:cTn id="27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5 0.03102 0.05 0.06227 0.07136 0.06297 C 0.09271 0.06366 0.11059 0.0338 0.12847 0.00394 E">
                                      <p:cBhvr>
                                        <p:cTn id="43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524 0.03218 0.07066 0.06458 0.10868 0.06296 C 0.1467 0.06134 0.20868 0.00255 0.22865 -0.00949 E">
                                      <p:cBhvr>
                                        <p:cTn id="62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29 0.0368 0.06476 0.07361 0.1 0.07245 C 0.13524 0.07129 0.19288 0.00578 0.21146 -0.00764 E">
                                      <p:cBhvr>
                                        <p:cTn id="81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755640" y="1557360"/>
          <a:ext cx="8064360" cy="4408560"/>
        </p:xfrm>
        <a:graphic>
          <a:graphicData uri="http://schemas.openxmlformats.org/drawingml/2006/table">
            <a:tbl>
              <a:tblPr/>
              <a:tblGrid>
                <a:gridCol w="2035080"/>
                <a:gridCol w="1997280"/>
                <a:gridCol w="2016000"/>
                <a:gridCol w="2016000"/>
              </a:tblGrid>
              <a:tr h="14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3300"/>
                          </a:solidFill>
                          <a:latin typeface="Verdana"/>
                          <a:ea typeface="华文中宋"/>
                        </a:rPr>
                        <a:t>被除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1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872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3300"/>
                          </a:solidFill>
                          <a:latin typeface="Verdana"/>
                          <a:ea typeface="华文中宋"/>
                        </a:rPr>
                        <a:t>除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872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3300"/>
                          </a:solidFill>
                          <a:latin typeface="Verdana"/>
                          <a:ea typeface="华文中宋"/>
                        </a:rPr>
                        <a:t>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872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Text Box 28"/>
          <p:cNvSpPr/>
          <p:nvPr/>
        </p:nvSpPr>
        <p:spPr>
          <a:xfrm>
            <a:off x="684360" y="33336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Arial"/>
                <a:ea typeface="黑体"/>
              </a:rPr>
              <a:t>填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3419640" y="4797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5580000" y="4797360"/>
            <a:ext cx="122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6948360" y="1844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1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3924360" y="2708280"/>
            <a:ext cx="17272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扩大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33"/>
          <p:cNvSpPr/>
          <p:nvPr/>
        </p:nvSpPr>
        <p:spPr>
          <a:xfrm>
            <a:off x="4427640" y="350028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4427640" y="213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35"/>
          <p:cNvSpPr/>
          <p:nvPr/>
        </p:nvSpPr>
        <p:spPr>
          <a:xfrm>
            <a:off x="3780000" y="5589720"/>
            <a:ext cx="2160360" cy="504720"/>
          </a:xfrm>
          <a:custGeom>
            <a:avLst/>
            <a:gdLst>
              <a:gd name="textAreaLeft" fmla="*/ 414360 w 2160360"/>
              <a:gd name="textAreaRight" fmla="*/ 1427040 w 2160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5" hR="21600" stAng="10800000" swAng="-5400000"/>
                <a:lnTo>
                  <a:pt x="10126" y="21600"/>
                </a:lnTo>
                <a:arcTo wR="8285" hR="21600" stAng="5400000" swAng="-2839786"/>
                <a:lnTo>
                  <a:pt x="21126" y="7200"/>
                </a:lnTo>
                <a:lnTo>
                  <a:pt x="17490" y="0"/>
                </a:lnTo>
                <a:lnTo>
                  <a:pt x="12905" y="7200"/>
                </a:lnTo>
                <a:lnTo>
                  <a:pt x="16095" y="7200"/>
                </a:lnTo>
                <a:arcTo wR="8285" hR="21600" stAng="2560214" swAng="2692461"/>
                <a:lnTo>
                  <a:pt x="9205" y="21466"/>
                </a:lnTo>
                <a:arcTo wR="8285" hR="21600" stAng="5547325" swAng="5252675"/>
                <a:close/>
              </a:path>
              <a:path fill="darkenLess" w="21600" h="21600">
                <a:moveTo>
                  <a:pt x="0" y="0"/>
                </a:moveTo>
                <a:arcTo wR="8285" hR="21600" stAng="10800000" swAng="-5400000"/>
                <a:lnTo>
                  <a:pt x="10126" y="21600"/>
                </a:lnTo>
                <a:arcTo wR="8285" hR="21600" stAng="5400000" swAng="147325"/>
                <a:lnTo>
                  <a:pt x="9205" y="21466"/>
                </a:lnTo>
                <a:arcTo wR="8285" hR="21600" stAng="5547325" swAng="525267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8"/>
          <p:cNvSpPr/>
          <p:nvPr/>
        </p:nvSpPr>
        <p:spPr>
          <a:xfrm>
            <a:off x="4140360" y="4941720"/>
            <a:ext cx="12952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商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0.20868 -0.00533 E">
                                      <p:cBhvr>
                                        <p:cTn id="14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0.20851 -0.00463 E">
                                      <p:cBhvr>
                                        <p:cTn id="150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20868 -0.00532 E">
                                      <p:cBhvr>
                                        <p:cTn id="152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0868 -0.00486 E">
                                      <p:cBhvr>
                                        <p:cTn id="156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0.19688 -0.00532 E">
                                      <p:cBhvr>
                                        <p:cTn id="158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9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 Black"/>
                <a:ea typeface="黑体"/>
              </a:rPr>
              <a:t>商不变的规律：</a:t>
            </a:r>
            <a:r>
              <a:rPr b="1" lang="en-US" sz="4800" spc="-1" strike="noStrike">
                <a:solidFill>
                  <a:srgbClr val="0000ff"/>
                </a:solidFill>
                <a:latin typeface="Arial Black"/>
                <a:ea typeface="华文中宋"/>
              </a:rPr>
              <a:t>     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 Black"/>
                <a:ea typeface="华文中宋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  <a:ea typeface="华文中宋"/>
              </a:rPr>
              <a:t>在除法里，被除数和除数同时扩大（或缩小）相同的倍数，商不变。</a:t>
            </a:r>
            <a:endParaRPr b="0" lang="en-US" sz="4800" spc="-1" strike="noStrike">
              <a:solidFill>
                <a:srgbClr val="993366"/>
              </a:solidFill>
              <a:latin typeface="Arial Black"/>
            </a:endParaRPr>
          </a:p>
        </p:txBody>
      </p:sp>
    </p:spTree>
  </p:cSld>
  <p:transition spd="med">
    <p:cover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6.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12" descr="bg44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5"/>
          <p:cNvSpPr/>
          <p:nvPr/>
        </p:nvSpPr>
        <p:spPr>
          <a:xfrm>
            <a:off x="324000" y="517680"/>
            <a:ext cx="27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4871f"/>
                </a:solidFill>
                <a:latin typeface="黑体"/>
                <a:ea typeface="黑体"/>
              </a:rPr>
              <a:t>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6"/>
          <p:cNvSpPr/>
          <p:nvPr/>
        </p:nvSpPr>
        <p:spPr>
          <a:xfrm>
            <a:off x="395280" y="206064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6.23÷0.3=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（     ）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÷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7"/>
          <p:cNvSpPr/>
          <p:nvPr/>
        </p:nvSpPr>
        <p:spPr>
          <a:xfrm>
            <a:off x="1197000" y="4292640"/>
            <a:ext cx="66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220.5÷1.47=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（       ）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÷1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8"/>
          <p:cNvSpPr/>
          <p:nvPr/>
        </p:nvSpPr>
        <p:spPr>
          <a:xfrm>
            <a:off x="3995640" y="23065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Comic Sans MS"/>
                <a:ea typeface="华文中宋"/>
              </a:rPr>
              <a:t>6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9"/>
          <p:cNvSpPr/>
          <p:nvPr/>
        </p:nvSpPr>
        <p:spPr>
          <a:xfrm>
            <a:off x="4611600" y="4292640"/>
            <a:ext cx="305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Comic Sans MS"/>
                <a:ea typeface="华文中宋"/>
              </a:rPr>
              <a:t>220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042920" y="90792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7.65÷0.85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2266920" y="2646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"/>
          <p:cNvSpPr/>
          <p:nvPr/>
        </p:nvSpPr>
        <p:spPr>
          <a:xfrm flipV="1">
            <a:off x="2556000" y="2933280"/>
            <a:ext cx="19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2843280" y="292428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7.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1403280" y="292428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8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7"/>
          <p:cNvSpPr/>
          <p:nvPr/>
        </p:nvSpPr>
        <p:spPr>
          <a:xfrm>
            <a:off x="1836720" y="3438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8"/>
          <p:cNvSpPr/>
          <p:nvPr/>
        </p:nvSpPr>
        <p:spPr>
          <a:xfrm>
            <a:off x="3274920" y="3438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836720" y="336708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3276720" y="336708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2844720" y="235908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2700360" y="45180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>
            <a:off x="1547640" y="300672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3710520" y="2060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2843280" y="3654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 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3709080" y="4549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5435640" y="69228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黑体"/>
                <a:ea typeface="黑体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5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把下面的题变成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除数是整数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的除法。</a:t>
            </a:r>
            <a:endParaRPr b="0" lang="en-US" sz="36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539640" y="1268280"/>
            <a:ext cx="784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1.2÷3.8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     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÷3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.756÷0.18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     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÷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1.3÷0.27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      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÷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6÷0.13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      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4140360" y="1341360"/>
            <a:ext cx="1296720" cy="719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4211640" y="13701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9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4427640" y="3571920"/>
            <a:ext cx="1584360" cy="7189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4498920" y="3571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51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4643280" y="2419200"/>
            <a:ext cx="1368720" cy="7207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4716360" y="24192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75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3635280" y="4724280"/>
            <a:ext cx="1584360" cy="7207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3635280" y="472428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2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6156360" y="4795920"/>
            <a:ext cx="1008000" cy="7189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6227640" y="472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0" y="5764320"/>
            <a:ext cx="9144000" cy="50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注意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除数是几位小数，被除数小数点就移动相同的位数。当被除数位数不够时，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补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4"/>
          <p:cNvSpPr/>
          <p:nvPr/>
        </p:nvSpPr>
        <p:spPr>
          <a:xfrm>
            <a:off x="108000" y="158760"/>
            <a:ext cx="2951280" cy="8938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22" y="0"/>
                </a:lnTo>
                <a:lnTo>
                  <a:pt x="21600" y="10800"/>
                </a:lnTo>
                <a:lnTo>
                  <a:pt x="14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050920" y="158760"/>
            <a:ext cx="180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1185840" y="21319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9"/>
          <p:cNvSpPr/>
          <p:nvPr/>
        </p:nvSpPr>
        <p:spPr>
          <a:xfrm>
            <a:off x="1546200" y="2421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0"/>
          <p:cNvSpPr/>
          <p:nvPr/>
        </p:nvSpPr>
        <p:spPr>
          <a:xfrm>
            <a:off x="1835280" y="242100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91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1"/>
          <p:cNvSpPr/>
          <p:nvPr/>
        </p:nvSpPr>
        <p:spPr>
          <a:xfrm>
            <a:off x="393840" y="2421000"/>
            <a:ext cx="13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3.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12"/>
          <p:cNvSpPr/>
          <p:nvPr/>
        </p:nvSpPr>
        <p:spPr>
          <a:xfrm>
            <a:off x="826920" y="292428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3"/>
          <p:cNvSpPr/>
          <p:nvPr/>
        </p:nvSpPr>
        <p:spPr>
          <a:xfrm>
            <a:off x="2554200" y="292428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6"/>
          <p:cNvSpPr/>
          <p:nvPr/>
        </p:nvSpPr>
        <p:spPr>
          <a:xfrm>
            <a:off x="826920" y="285264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2627280" y="285264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8"/>
          <p:cNvSpPr/>
          <p:nvPr/>
        </p:nvSpPr>
        <p:spPr>
          <a:xfrm>
            <a:off x="5649840" y="2347920"/>
            <a:ext cx="201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9"/>
          <p:cNvSpPr/>
          <p:nvPr/>
        </p:nvSpPr>
        <p:spPr>
          <a:xfrm>
            <a:off x="5867280" y="2347920"/>
            <a:ext cx="22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75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0"/>
          <p:cNvSpPr/>
          <p:nvPr/>
        </p:nvSpPr>
        <p:spPr>
          <a:xfrm>
            <a:off x="4282920" y="2347920"/>
            <a:ext cx="15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21"/>
          <p:cNvSpPr/>
          <p:nvPr/>
        </p:nvSpPr>
        <p:spPr>
          <a:xfrm>
            <a:off x="4714920" y="285264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2"/>
          <p:cNvSpPr/>
          <p:nvPr/>
        </p:nvSpPr>
        <p:spPr>
          <a:xfrm>
            <a:off x="6299280" y="285264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3"/>
          <p:cNvSpPr/>
          <p:nvPr/>
        </p:nvSpPr>
        <p:spPr>
          <a:xfrm>
            <a:off x="4714920" y="278136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4"/>
          <p:cNvSpPr/>
          <p:nvPr/>
        </p:nvSpPr>
        <p:spPr>
          <a:xfrm>
            <a:off x="6300720" y="2781360"/>
            <a:ext cx="142920" cy="358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5"/>
          <p:cNvSpPr/>
          <p:nvPr/>
        </p:nvSpPr>
        <p:spPr>
          <a:xfrm>
            <a:off x="5292720" y="2060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6"/>
          <p:cNvSpPr/>
          <p:nvPr/>
        </p:nvSpPr>
        <p:spPr>
          <a:xfrm>
            <a:off x="4427640" y="2492280"/>
            <a:ext cx="21564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7"/>
          <p:cNvSpPr/>
          <p:nvPr/>
        </p:nvSpPr>
        <p:spPr>
          <a:xfrm>
            <a:off x="6010200" y="249228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8"/>
          <p:cNvSpPr/>
          <p:nvPr/>
        </p:nvSpPr>
        <p:spPr>
          <a:xfrm>
            <a:off x="1835280" y="184464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9"/>
          <p:cNvSpPr/>
          <p:nvPr/>
        </p:nvSpPr>
        <p:spPr>
          <a:xfrm>
            <a:off x="1835280" y="1844640"/>
            <a:ext cx="16570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5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5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30"/>
          <p:cNvSpPr/>
          <p:nvPr/>
        </p:nvSpPr>
        <p:spPr>
          <a:xfrm>
            <a:off x="1690560" y="4005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1"/>
          <p:cNvSpPr/>
          <p:nvPr/>
        </p:nvSpPr>
        <p:spPr>
          <a:xfrm>
            <a:off x="1690560" y="558972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2"/>
          <p:cNvSpPr/>
          <p:nvPr/>
        </p:nvSpPr>
        <p:spPr>
          <a:xfrm>
            <a:off x="6227640" y="1817640"/>
            <a:ext cx="165744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3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3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6"/>
          <p:cNvSpPr/>
          <p:nvPr/>
        </p:nvSpPr>
        <p:spPr>
          <a:xfrm>
            <a:off x="6010200" y="39322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9"/>
          <p:cNvSpPr/>
          <p:nvPr/>
        </p:nvSpPr>
        <p:spPr>
          <a:xfrm>
            <a:off x="6010200" y="551664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WordArt 42"/>
          <p:cNvSpPr txBox="1"/>
          <p:nvPr/>
        </p:nvSpPr>
        <p:spPr>
          <a:xfrm>
            <a:off x="3274920" y="334800"/>
            <a:ext cx="43214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华文彩云"/>
              </a:rPr>
              <a:t>先划再移后点</a:t>
            </a:r>
            <a:endParaRPr b="1" lang="en-US" sz="60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华文彩云"/>
              <a:ea typeface="华文彩云"/>
            </a:endParaRPr>
          </a:p>
        </p:txBody>
      </p:sp>
      <p:sp>
        <p:nvSpPr>
          <p:cNvPr id="700" name="WordArt 43"/>
          <p:cNvSpPr txBox="1"/>
          <p:nvPr/>
        </p:nvSpPr>
        <p:spPr>
          <a:xfrm>
            <a:off x="108000" y="260280"/>
            <a:ext cx="194292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华文新魏"/>
              </a:rPr>
              <a:t>练一练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华文新魏"/>
              <a:ea typeface="华文新魏"/>
            </a:endParaRPr>
          </a:p>
        </p:txBody>
      </p:sp>
    </p:spTree>
  </p:cSld>
  <p:transition spd="slow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3.33333E-006 C 0.00417 0.00371 0.01493 0.02269 0.02622 0.02246 C 0.0375 0.02223 0.05868 0.00348 0.06719 -0.00162 E">
                                      <p:cBhvr>
                                        <p:cTn id="311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C 0.00469 0.00371 0.01771 0.02246 0.0283 0.02246 C 0.03889 0.02246 0.05643 0.00463 0.06372 -3.33333E-006 E">
                                      <p:cBhvr>
                                        <p:cTn id="313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C 0.00729 0.00254 0.02847 0.01481 0.04427 0.01481 C 0.06007 0.01481 0.08402 0.00301 0.09444 3.33333E-006 E">
                                      <p:cBhvr>
                                        <p:cTn id="359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49653E-006 C 0.00729 0.00346 0.02952 0.02103 0.04531 0.02103 C 0.06094 0.02103 0.0842 0.00439 0.09462 2.49653E-006 E">
                                      <p:cBhvr>
                                        <p:cTn id="361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71"/>
          <p:cNvSpPr/>
          <p:nvPr/>
        </p:nvSpPr>
        <p:spPr>
          <a:xfrm>
            <a:off x="2193840" y="2249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72"/>
          <p:cNvSpPr/>
          <p:nvPr/>
        </p:nvSpPr>
        <p:spPr>
          <a:xfrm>
            <a:off x="2554200" y="2538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3"/>
          <p:cNvSpPr/>
          <p:nvPr/>
        </p:nvSpPr>
        <p:spPr>
          <a:xfrm>
            <a:off x="2841480" y="2538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51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4"/>
          <p:cNvSpPr/>
          <p:nvPr/>
        </p:nvSpPr>
        <p:spPr>
          <a:xfrm>
            <a:off x="1401840" y="2538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7"/>
          <p:cNvSpPr/>
          <p:nvPr/>
        </p:nvSpPr>
        <p:spPr>
          <a:xfrm>
            <a:off x="1835280" y="297036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8"/>
          <p:cNvSpPr/>
          <p:nvPr/>
        </p:nvSpPr>
        <p:spPr>
          <a:xfrm>
            <a:off x="3562200" y="2970360"/>
            <a:ext cx="21600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9"/>
          <p:cNvSpPr/>
          <p:nvPr/>
        </p:nvSpPr>
        <p:spPr>
          <a:xfrm>
            <a:off x="6657840" y="246528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0"/>
          <p:cNvSpPr/>
          <p:nvPr/>
        </p:nvSpPr>
        <p:spPr>
          <a:xfrm>
            <a:off x="6875640" y="246528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1"/>
          <p:cNvSpPr/>
          <p:nvPr/>
        </p:nvSpPr>
        <p:spPr>
          <a:xfrm>
            <a:off x="5291280" y="246528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84"/>
          <p:cNvSpPr/>
          <p:nvPr/>
        </p:nvSpPr>
        <p:spPr>
          <a:xfrm>
            <a:off x="5722920" y="289872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86"/>
          <p:cNvSpPr/>
          <p:nvPr/>
        </p:nvSpPr>
        <p:spPr>
          <a:xfrm>
            <a:off x="6299280" y="2178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87"/>
          <p:cNvSpPr/>
          <p:nvPr/>
        </p:nvSpPr>
        <p:spPr>
          <a:xfrm>
            <a:off x="5435640" y="2610000"/>
            <a:ext cx="216000" cy="57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0"/>
          <p:cNvSpPr/>
          <p:nvPr/>
        </p:nvSpPr>
        <p:spPr>
          <a:xfrm>
            <a:off x="2698920" y="412272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91"/>
          <p:cNvSpPr/>
          <p:nvPr/>
        </p:nvSpPr>
        <p:spPr>
          <a:xfrm>
            <a:off x="2698920" y="570708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92"/>
          <p:cNvSpPr/>
          <p:nvPr/>
        </p:nvSpPr>
        <p:spPr>
          <a:xfrm>
            <a:off x="7018200" y="4049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4"/>
          <p:cNvSpPr/>
          <p:nvPr/>
        </p:nvSpPr>
        <p:spPr>
          <a:xfrm>
            <a:off x="2841480" y="1889280"/>
            <a:ext cx="19447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 9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4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4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5"/>
          <p:cNvSpPr/>
          <p:nvPr/>
        </p:nvSpPr>
        <p:spPr>
          <a:xfrm>
            <a:off x="6873840" y="1746360"/>
            <a:ext cx="172872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6"/>
          <p:cNvSpPr/>
          <p:nvPr/>
        </p:nvSpPr>
        <p:spPr>
          <a:xfrm>
            <a:off x="4138560" y="253836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7"/>
          <p:cNvSpPr/>
          <p:nvPr/>
        </p:nvSpPr>
        <p:spPr>
          <a:xfrm>
            <a:off x="1546200" y="268128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8"/>
          <p:cNvSpPr/>
          <p:nvPr/>
        </p:nvSpPr>
        <p:spPr>
          <a:xfrm>
            <a:off x="7594560" y="24652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99"/>
          <p:cNvSpPr/>
          <p:nvPr/>
        </p:nvSpPr>
        <p:spPr>
          <a:xfrm>
            <a:off x="108000" y="158760"/>
            <a:ext cx="2951280" cy="8938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22" y="0"/>
                </a:lnTo>
                <a:lnTo>
                  <a:pt x="21600" y="10800"/>
                </a:lnTo>
                <a:lnTo>
                  <a:pt x="14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00"/>
          <p:cNvSpPr/>
          <p:nvPr/>
        </p:nvSpPr>
        <p:spPr>
          <a:xfrm>
            <a:off x="2050920" y="158760"/>
            <a:ext cx="180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WordArt 101"/>
          <p:cNvSpPr txBox="1"/>
          <p:nvPr/>
        </p:nvSpPr>
        <p:spPr>
          <a:xfrm>
            <a:off x="108000" y="260280"/>
            <a:ext cx="194292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华文新魏"/>
              </a:rPr>
              <a:t>练一练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华文新魏"/>
              <a:ea typeface="华文新魏"/>
            </a:endParaRPr>
          </a:p>
        </p:txBody>
      </p:sp>
      <p:sp>
        <p:nvSpPr>
          <p:cNvPr id="724" name="WordArt 102"/>
          <p:cNvSpPr txBox="1"/>
          <p:nvPr/>
        </p:nvSpPr>
        <p:spPr>
          <a:xfrm>
            <a:off x="3346560" y="334800"/>
            <a:ext cx="4321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华文彩云"/>
              </a:rPr>
              <a:t>先划再移后点</a:t>
            </a:r>
            <a:endParaRPr b="1" lang="en-US" sz="60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华文彩云"/>
              <a:ea typeface="华文彩云"/>
            </a:endParaRPr>
          </a:p>
        </p:txBody>
      </p:sp>
    </p:spTree>
  </p:cSld>
  <p:transition spd="slow">
    <p:checker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7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100"/>
                            </p:stCondLst>
                            <p:childTnLst>
                              <p:par>
                                <p:cTn id="44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1:12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2:55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