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3D0-2855-44DD-89CA-6DA1126C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ACB-C108-40E6-BC86-9073B967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B0A-5F2F-47E6-A25B-A600FE45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3B5-2F8E-4054-8FAC-7A68B832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DFBA-152C-4154-98D6-4FE6820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0F34-2708-44AA-82D5-3869F4E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D626-DE8C-4743-A353-5EAA3BE6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A23-0709-4E2D-B67D-F72BB8E6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FF1-60CB-4327-A0F6-8C0350F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CA9-4960-4124-8F14-AE1DD3F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FFEF-FDDE-441F-82CE-A7BB01F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13C-7AF4-4499-A950-85713B1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F8BE-F1B0-4C4D-95A4-9866EC3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092-28DB-40FF-833D-B2090FA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A2C-18E2-4FEA-94EF-B979BB4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20E-A100-4CDC-BA32-D8B709B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8C2F-4742-4EAA-87DC-8558A06E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0BD-CC26-427B-837F-0B9D1F55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4F7-DBA2-49B2-B118-D0494BF4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080-045D-49A2-A60C-E2C35FD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08F-227E-4262-8BCF-EAAB550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F80-771B-4E13-99AC-2E17A9C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23B-4CF5-4968-8669-46B5FB6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121-957A-4356-9672-5267162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54BB-90F9-4165-9A9E-696AC985D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533-7EE2-46C7-A4CD-5F267A6367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215-2441-422F-B44D-A9B7B64C7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ist.cn/ylzb/ylzb.asp?rb=6102" TargetMode="External"/><Relationship Id="rId2" Type="http://schemas.openxmlformats.org/officeDocument/2006/relationships/hyperlink" Target="http://www.tist.cn/ylzb/ylzb.asp?rb=6102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1.bbs.zol.com.cn/tips/show_pic.php?picid=1132294" TargetMode="External"/><Relationship Id="rId2" Type="http://schemas.openxmlformats.org/officeDocument/2006/relationships/hyperlink" Target="http://v1.bbs.zol.com.cn/tips/show_pic.php?picid=113229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"/>
          <p:cNvGrpSpPr/>
          <p:nvPr/>
        </p:nvGrpSpPr>
        <p:grpSpPr>
          <a:xfrm>
            <a:off x="0" y="1281240"/>
            <a:ext cx="9144000" cy="4297320"/>
            <a:chOff x="0" y="1281240"/>
            <a:chExt cx="9144000" cy="4297320"/>
          </a:xfrm>
        </p:grpSpPr>
        <p:sp>
          <p:nvSpPr>
            <p:cNvPr id="83" name="Rectangle 2"/>
            <p:cNvSpPr/>
            <p:nvPr/>
          </p:nvSpPr>
          <p:spPr>
            <a:xfrm>
              <a:off x="0" y="1281240"/>
              <a:ext cx="89614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0" y="1281240"/>
              <a:ext cx="9144000" cy="4297320"/>
              <a:chOff x="0" y="1281240"/>
              <a:chExt cx="9144000" cy="4297320"/>
            </a:xfrm>
          </p:grpSpPr>
          <p:sp>
            <p:nvSpPr>
              <p:cNvPr id="85" name="Rectangle 3"/>
              <p:cNvSpPr/>
              <p:nvPr/>
            </p:nvSpPr>
            <p:spPr>
              <a:xfrm>
                <a:off x="0" y="1281240"/>
                <a:ext cx="4465800" cy="15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"/>
              <p:cNvSpPr/>
              <p:nvPr/>
            </p:nvSpPr>
            <p:spPr>
              <a:xfrm>
                <a:off x="0" y="1281240"/>
                <a:ext cx="9144000" cy="42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6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5" descr="http://www.tist.cn/ylzb/admin/eedit/UploadFile/200647164828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37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838080" y="91440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雅鲁藏布大峡谷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45720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雅鲁藏布大峡谷是世界上最长的河流峡谷。在大峡谷，高等植物有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3700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种，昆虫也多达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2000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多种。大峡谷的核心区不仅瀑布成群，而且彩虹往往伴着瀑布，美得令人着迷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046400" y="76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珠穆朗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386240" y="1660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号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424400" y="257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山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348080" y="3489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游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348080" y="441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48080" y="531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水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根据意思选择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11271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不允许提出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形容姿态多种多样，各不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很少有人去的荒僻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0574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不容置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514600" y="3870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14600" y="56228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人迹罕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9"/>
          <p:cNvGrpSpPr/>
          <p:nvPr/>
        </p:nvGrpSpPr>
        <p:grpSpPr>
          <a:xfrm>
            <a:off x="1143000" y="1690560"/>
            <a:ext cx="6858000" cy="3476520"/>
            <a:chOff x="1143000" y="1690560"/>
            <a:chExt cx="6858000" cy="3476520"/>
          </a:xfrm>
        </p:grpSpPr>
        <p:sp>
          <p:nvSpPr>
            <p:cNvPr id="90" name="Rectangle 2"/>
            <p:cNvSpPr/>
            <p:nvPr/>
          </p:nvSpPr>
          <p:spPr>
            <a:xfrm>
              <a:off x="1143000" y="1690560"/>
              <a:ext cx="6858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1143000" y="1690560"/>
              <a:ext cx="3730680" cy="3476520"/>
              <a:chOff x="1143000" y="1690560"/>
              <a:chExt cx="3730680" cy="3476520"/>
            </a:xfrm>
          </p:grpSpPr>
          <p:sp>
            <p:nvSpPr>
              <p:cNvPr id="92" name="Rectangle 3"/>
              <p:cNvSpPr/>
              <p:nvPr/>
            </p:nvSpPr>
            <p:spPr>
              <a:xfrm>
                <a:off x="1143000" y="1690560"/>
                <a:ext cx="5256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4"/>
              <p:cNvSpPr/>
              <p:nvPr/>
            </p:nvSpPr>
            <p:spPr>
              <a:xfrm>
                <a:off x="1195560" y="1690560"/>
                <a:ext cx="352584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/>
                  </a:rPr>
                  <a:t>  </a:t>
                </a:r>
                <a:r>
                  <a:rPr b="1" lang="en-US" sz="20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4721400" y="1690560"/>
                <a:ext cx="15228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1143000" y="5059080"/>
                <a:ext cx="5256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6" name="Picture 5" descr="http://www.tist.cn/ylzb/images/ma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728640"/>
            <a:ext cx="70106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univs.cn/activities/uploadmana/uploadedfile/vp2005/denny907/vp2005-denny907-050815-39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03480" y="63180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84360" y="8604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6668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藏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univs.cn/activities/uploadmana/uploadedfile/vp2005/denny907/vp2005-denny907-050815-39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771920" y="101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昆仑雪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://univs.cn/activities/uploadmana/uploadedfile/vp2005/denny907/vp2005-denny907-050815-39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2076840" y="32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达拉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"/>
          <p:cNvGrpSpPr/>
          <p:nvPr/>
        </p:nvGrpSpPr>
        <p:grpSpPr>
          <a:xfrm>
            <a:off x="1135080" y="847800"/>
            <a:ext cx="6875280" cy="4997520"/>
            <a:chOff x="1135080" y="847800"/>
            <a:chExt cx="6875280" cy="4997520"/>
          </a:xfrm>
        </p:grpSpPr>
        <p:sp>
          <p:nvSpPr>
            <p:cNvPr id="106" name="Rectangle 2"/>
            <p:cNvSpPr/>
            <p:nvPr/>
          </p:nvSpPr>
          <p:spPr>
            <a:xfrm>
              <a:off x="1135080" y="847800"/>
              <a:ext cx="4232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6"/>
            <p:cNvGrpSpPr/>
            <p:nvPr/>
          </p:nvGrpSpPr>
          <p:grpSpPr>
            <a:xfrm>
              <a:off x="1135080" y="847800"/>
              <a:ext cx="6875280" cy="4997520"/>
              <a:chOff x="1135080" y="847800"/>
              <a:chExt cx="6875280" cy="4997520"/>
            </a:xfrm>
          </p:grpSpPr>
          <p:sp>
            <p:nvSpPr>
              <p:cNvPr id="108" name="Rectangle 5"/>
              <p:cNvSpPr/>
              <p:nvPr/>
            </p:nvSpPr>
            <p:spPr>
              <a:xfrm>
                <a:off x="1135080" y="847800"/>
                <a:ext cx="6875280" cy="499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"/>
              <p:cNvSpPr/>
              <p:nvPr/>
            </p:nvSpPr>
            <p:spPr>
              <a:xfrm>
                <a:off x="1168200" y="936720"/>
                <a:ext cx="6841800" cy="473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ea typeface="normal 宋体"/>
                    <a:hlinkClick r:id="rId1"/>
                  </a:rPr>
                  <a:t>  </a:t>
                </a:r>
                <a:r>
                  <a:rPr b="0" lang="en-US" sz="316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4" descr="珠穆朗玛峰（申精）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017000" y="57744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珠穆朗玛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www.dreams-travel.com/mzl_xz/xz-ytjd/images/rkz_ylzbriver/ylzbj_000.jpg"/>
          <p:cNvPicPr/>
          <p:nvPr/>
        </p:nvPicPr>
        <p:blipFill>
          <a:blip r:embed="rId1"/>
          <a:stretch/>
        </p:blipFill>
        <p:spPr>
          <a:xfrm>
            <a:off x="0" y="114480"/>
            <a:ext cx="4419720" cy="33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dreams-travel.com/mzl_xz/xz-ytjd/images/rkz_ylzbriver/ylzbj_001.jpg"/>
          <p:cNvPicPr/>
          <p:nvPr/>
        </p:nvPicPr>
        <p:blipFill>
          <a:blip r:embed="rId2"/>
          <a:stretch/>
        </p:blipFill>
        <p:spPr>
          <a:xfrm>
            <a:off x="4800600" y="152280"/>
            <a:ext cx="4343400" cy="326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http://www.dreams-travel.com/mzl_xz/xz-ytjd/images/rkz_ylzbriver/ylzbj_002.jpg"/>
          <p:cNvPicPr/>
          <p:nvPr/>
        </p:nvPicPr>
        <p:blipFill>
          <a:blip r:embed="rId3"/>
          <a:stretch/>
        </p:blipFill>
        <p:spPr>
          <a:xfrm>
            <a:off x="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www.dreams-travel.com/mzl_xz/xz-ytjd/images/rkz_ylzbriver/ylzbj_026.jpg"/>
          <p:cNvPicPr/>
          <p:nvPr/>
        </p:nvPicPr>
        <p:blipFill>
          <a:blip r:embed="rId4"/>
          <a:stretch/>
        </p:blipFill>
        <p:spPr>
          <a:xfrm>
            <a:off x="4952880" y="3741840"/>
            <a:ext cx="419112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4"/>
          <p:cNvSpPr/>
          <p:nvPr/>
        </p:nvSpPr>
        <p:spPr>
          <a:xfrm>
            <a:off x="380988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雅鲁藏布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2240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1224000" y="1790640"/>
            <a:ext cx="6697440" cy="3276720"/>
            <a:chOff x="1224000" y="1790640"/>
            <a:chExt cx="6697440" cy="3276720"/>
          </a:xfrm>
        </p:grpSpPr>
        <p:sp>
          <p:nvSpPr>
            <p:cNvPr id="119" name="Rectangle 7"/>
            <p:cNvSpPr/>
            <p:nvPr/>
          </p:nvSpPr>
          <p:spPr>
            <a:xfrm>
              <a:off x="1224000" y="1790640"/>
              <a:ext cx="6697440" cy="327672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6"/>
            <p:cNvGrpSpPr/>
            <p:nvPr/>
          </p:nvGrpSpPr>
          <p:grpSpPr>
            <a:xfrm>
              <a:off x="1224000" y="1790640"/>
              <a:ext cx="6697080" cy="3276720"/>
              <a:chOff x="1224000" y="1790640"/>
              <a:chExt cx="6697080" cy="327672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1224000" y="1790640"/>
                <a:ext cx="669708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1224000" y="1790640"/>
                <a:ext cx="6048360" cy="32767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99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Picture 5" descr="科技时代_中国最美十大峡谷：雅鲁藏布大峡谷(图)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800600" y="1295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黑体"/>
                <a:ea typeface="黑体"/>
              </a:rPr>
              <a:t>有关雅鲁藏布大峡谷你都知道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3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1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