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466-6806-4CDC-857F-0B435FBB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EFE-D61B-47E7-ADB2-DEDB7D7F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7F5-9A00-49A3-AB9F-DE265FF0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D4C-0045-4611-9582-D9CDE678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05E-12BE-4ED6-BD21-804CB5CD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441-5D45-4B87-B2B5-AAF90A9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84E5-3CD0-47F3-B474-45686501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89AB-BCA0-418E-B83A-4252F67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F7BD-0B85-4979-99B8-B52902B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A06-ABE2-49DD-9E34-A0ECB7E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7F3-6F34-46F2-AB05-83DAE36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B76-FF09-430E-B452-C6B453C4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AF1-7307-496F-BD4C-334DED7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19B-C0F4-4679-8E7F-6E7BE37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852-7612-4DC3-A778-A977761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6883-4AD5-48E7-AE54-7CC10342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FC09-FC66-4EF1-89FC-1771ECD7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44C-5A76-4AB0-879E-957FF52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B5A-7298-4238-B9EB-EDEC00A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46E-54BE-4799-B5E1-76E16FF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63-E912-4BCD-916A-2467013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B08-5A32-4A9A-BE0A-66F3EE6F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42C-E60D-40AC-9D7C-2413E4FA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FAB-E40B-4DAD-8CB6-52D48FF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115-4B49-4F5C-9BD1-C65339907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80F-7530-4BA1-A803-61CE604A985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801-ACB6-4B65-8277-E2D69F33087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61,9,&#24187;&#28783;&#29255; 9" TargetMode="External"/><Relationship Id="rId2" Type="http://schemas.openxmlformats.org/officeDocument/2006/relationships/hyperlink" Target="262,10,&#24187;&#28783;&#29255; 10" TargetMode="External"/><Relationship Id="rId3" Type="http://schemas.openxmlformats.org/officeDocument/2006/relationships/hyperlink" Target="305,16,&#24187;&#28783;&#29255; 16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2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reentx.com/viennar/duyidu/shitls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218.12.197.61/czres/EduResource/ResourcePlay.php?ResourceID=1000100017941&amp;NodeID=4479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1&amp;tn=baiduimagedetail&amp;word=%BA%A3%B6%D9&amp;in=5&amp;cl=2&amp;cm=1&amp;sc=0&amp;lm=-1&amp;pn=4&amp;rn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.baidu.com/i?ct=503316480&amp;z=1&amp;tn=baiduimagedetail&amp;word=&#298;%D4%FA%CC%D8&amp;in=10&amp;cl=2&amp;cm=1&amp;sc=0&amp;lm=-1&amp;pn=9&amp;rn=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.baidu.com/i?ct=503316480&amp;z=1&amp;tn=baiduimagedetail&amp;word=%CA&#27822;%CC%D8&amp;in=1&amp;cl=2&amp;cm=1&amp;sc=0&amp;lm=-1&amp;pn=0&amp;rn=1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多瑙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838080" y="5257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420280" y="14479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音乐之都维也纳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贝多芬《月光奏鸣曲》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174680" y="265032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贝多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月光奏鸣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舒伯特《小夜曲》手迹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6838920" y="258984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施特劳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蓝色多瑙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102200" y="265032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舒伯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夜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施特劳斯《蓝色多瑙河》手迹"/>
          <p:cNvPicPr/>
          <p:nvPr/>
        </p:nvPicPr>
        <p:blipFill>
          <a:blip r:embed="rId3"/>
          <a:stretch/>
        </p:blipFill>
        <p:spPr>
          <a:xfrm>
            <a:off x="6172200" y="266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9"/>
          <p:cNvSpPr/>
          <p:nvPr/>
        </p:nvSpPr>
        <p:spPr>
          <a:xfrm>
            <a:off x="1341360" y="600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贝多芬的钢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" descr="贝多芬的钢琴"/>
          <p:cNvPicPr/>
          <p:nvPr/>
        </p:nvPicPr>
        <p:blipFill>
          <a:blip r:embed="rId4"/>
          <a:stretch/>
        </p:blipFill>
        <p:spPr>
          <a:xfrm>
            <a:off x="304920" y="3581280"/>
            <a:ext cx="2895480" cy="226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神 童 莫 扎 特"/>
          <p:cNvPicPr/>
          <p:nvPr/>
        </p:nvPicPr>
        <p:blipFill>
          <a:blip r:embed="rId5"/>
          <a:stretch/>
        </p:blipFill>
        <p:spPr>
          <a:xfrm>
            <a:off x="3429000" y="3581280"/>
            <a:ext cx="2666880" cy="2235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2"/>
          <p:cNvSpPr/>
          <p:nvPr/>
        </p:nvSpPr>
        <p:spPr>
          <a:xfrm>
            <a:off x="4188600" y="60199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神 童 莫 扎 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舒 伯 特 作 曲 的 地 方"/>
          <p:cNvPicPr/>
          <p:nvPr/>
        </p:nvPicPr>
        <p:blipFill>
          <a:blip r:embed="rId6"/>
          <a:stretch/>
        </p:blipFill>
        <p:spPr>
          <a:xfrm>
            <a:off x="6248520" y="35812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7"/>
          <p:cNvSpPr/>
          <p:nvPr/>
        </p:nvSpPr>
        <p:spPr>
          <a:xfrm>
            <a:off x="7030800" y="6003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舒伯特作曲的地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7.wma" descr=""/>
          <p:cNvPicPr/>
          <p:nvPr/>
        </p:nvPicPr>
        <p:blipFill>
          <a:blip r:embed="rId7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239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09480" y="154944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欧洲古典音乐的摇篮。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世纪以来，世界上许多著名的音乐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如海顿、莫扎特、贝多芬、舒伯特、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特劳斯等，都在这里度过大部分音乐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涯，谱写了许多优美的乐章。维也纳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博物馆里，至今还陈列着他们的乐谱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手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.wma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426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85800" y="1219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铜像或大理石像。为了纪念乐坛大师，维也纳的许多街道、公园、礼堂、剧院、会议大厅等，也多用音乐家的名字命名。就连王宫花园的草坪上，也用鲜花组成了一个巨大的音乐符号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8.wma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463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1219320"/>
            <a:ext cx="838188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1"/>
              </a:rPr>
              <a:t>铜像或大理石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为了纪念乐坛大师，维也纳的许多街道、公园、礼堂、剧院、会议大厅等，也多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/>
              </a:rPr>
              <a:t>用音乐家的名字命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就连王宫花园的草坪上，也用鲜花组成了一个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3"/>
              </a:rPr>
              <a:t>巨大的音乐符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238880" y="5867280"/>
            <a:ext cx="762120" cy="381240"/>
          </a:xfrm>
          <a:custGeom>
            <a:avLst/>
            <a:gdLst>
              <a:gd name="textAreaLeft" fmla="*/ 23760 w 762120"/>
              <a:gd name="textAreaRight" fmla="*/ 738360 w 76212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809" y="1350"/>
                </a:lnTo>
                <a:lnTo>
                  <a:pt x="1350" y="135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809" y="20250"/>
                </a:lnTo>
                <a:lnTo>
                  <a:pt x="41809" y="135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09" y="2025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59" h="21600">
                <a:moveTo>
                  <a:pt x="25097" y="10800"/>
                </a:moveTo>
                <a:lnTo>
                  <a:pt x="14536" y="17844"/>
                </a:lnTo>
                <a:lnTo>
                  <a:pt x="14536" y="3756"/>
                </a:lnTo>
                <a:close/>
              </a:path>
              <a:path fill="darken" w="43159" h="21600">
                <a:moveTo>
                  <a:pt x="26952" y="3756"/>
                </a:moveTo>
                <a:lnTo>
                  <a:pt x="26952" y="17844"/>
                </a:lnTo>
                <a:lnTo>
                  <a:pt x="28623" y="17844"/>
                </a:lnTo>
                <a:lnTo>
                  <a:pt x="28623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dft2"/>
          <p:cNvPicPr/>
          <p:nvPr/>
        </p:nvPicPr>
        <p:blipFill>
          <a:blip r:embed="rId1"/>
          <a:stretch/>
        </p:blipFill>
        <p:spPr>
          <a:xfrm>
            <a:off x="4952880" y="3916440"/>
            <a:ext cx="3429000" cy="256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53"/>
          <p:cNvPicPr/>
          <p:nvPr/>
        </p:nvPicPr>
        <p:blipFill>
          <a:blip r:embed="rId2"/>
          <a:stretch/>
        </p:blipFill>
        <p:spPr>
          <a:xfrm>
            <a:off x="609480" y="3962520"/>
            <a:ext cx="4038840" cy="255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00"/>
          <p:cNvPicPr/>
          <p:nvPr/>
        </p:nvPicPr>
        <p:blipFill>
          <a:blip r:embed="rId3"/>
          <a:stretch/>
        </p:blipFill>
        <p:spPr>
          <a:xfrm>
            <a:off x="228600" y="304920"/>
            <a:ext cx="270684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smsgm"/>
          <p:cNvPicPr/>
          <p:nvPr/>
        </p:nvPicPr>
        <p:blipFill>
          <a:blip r:embed="rId4"/>
          <a:stretch/>
        </p:blipFill>
        <p:spPr>
          <a:xfrm>
            <a:off x="3114720" y="304920"/>
            <a:ext cx="260028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6"/>
          <p:cNvPicPr/>
          <p:nvPr/>
        </p:nvPicPr>
        <p:blipFill>
          <a:blip r:embed="rId5"/>
          <a:stretch/>
        </p:blipFill>
        <p:spPr>
          <a:xfrm>
            <a:off x="5932440" y="304920"/>
            <a:ext cx="26370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0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66"/>
          <p:cNvPicPr/>
          <p:nvPr/>
        </p:nvPicPr>
        <p:blipFill>
          <a:blip r:embed="rId1"/>
          <a:stretch/>
        </p:blipFill>
        <p:spPr>
          <a:xfrm>
            <a:off x="5257800" y="35053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589800" y="6064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舒伯特花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13"/>
          <p:cNvPicPr/>
          <p:nvPr/>
        </p:nvPicPr>
        <p:blipFill>
          <a:blip r:embed="rId2"/>
          <a:stretch/>
        </p:blipFill>
        <p:spPr>
          <a:xfrm>
            <a:off x="5257800" y="380880"/>
            <a:ext cx="3238560" cy="2159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6592320" y="27882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贝多芬广场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15"/>
          <p:cNvPicPr/>
          <p:nvPr/>
        </p:nvPicPr>
        <p:blipFill>
          <a:blip r:embed="rId3"/>
          <a:stretch/>
        </p:blipFill>
        <p:spPr>
          <a:xfrm>
            <a:off x="685800" y="380880"/>
            <a:ext cx="372744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2544120" y="61110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海顿街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维也纳市景2"/>
          <p:cNvPicPr/>
          <p:nvPr/>
        </p:nvPicPr>
        <p:blipFill>
          <a:blip r:embed="rId1"/>
          <a:stretch/>
        </p:blipFill>
        <p:spPr>
          <a:xfrm>
            <a:off x="0" y="-247680"/>
            <a:ext cx="9144000" cy="7423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876920" y="33980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85800" y="1219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铜像或大理石像。为了纪念乐坛大师，维也纳的许多街道、公园、礼堂、剧院、会议大厅等，也多用音乐家的名字命名。就连王宫花园的草坪上，也用鲜花组成了一个巨大的音乐符号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4.mp3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469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09480" y="2619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几乎一天也离不开音乐。人们在漫步时，随时可以听到那优雅轻快的华尔兹圆舞曲。夏天的夜晚，公园里还举行露天音乐演奏会，悠扬的乐声掺和着花草的芬芳，在晚风中飘溢、回荡。维也纳的许多家庭有着室内演奏的传统，尤其在合家欢乐的时候 ，总要演奏一番，优美的旋律传遍街头巷尾。更有趣的是，在举行集会、庆典甚至政府会议时，会前会后也要奏一曲古典音乐，这几乎成了惯例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3.wma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767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6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772400"/>
          </a:xfrm>
          <a:prstGeom prst="rect">
            <a:avLst/>
          </a:prstGeom>
          <a:ln w="0">
            <a:noFill/>
          </a:ln>
        </p:spPr>
      </p:pic>
      <p:pic>
        <p:nvPicPr>
          <p:cNvPr id="159" name="3.wma" descr=""/>
          <p:cNvPicPr/>
          <p:nvPr/>
        </p:nvPicPr>
        <p:blipFill>
          <a:blip r:embed="rId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97679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t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411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385440" y="5867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露天音乐演奏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ydct22"/>
          <p:cNvPicPr/>
          <p:nvPr/>
        </p:nvPicPr>
        <p:blipFill>
          <a:blip r:embed="rId1"/>
          <a:stretch/>
        </p:blipFill>
        <p:spPr>
          <a:xfrm>
            <a:off x="609480" y="700200"/>
            <a:ext cx="7925040" cy="4557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2950560" y="5546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家 庭 室 内 演 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20070710113245577"/>
          <p:cNvPicPr/>
          <p:nvPr/>
        </p:nvPicPr>
        <p:blipFill>
          <a:blip r:embed="rId1"/>
          <a:stretch/>
        </p:blipFill>
        <p:spPr>
          <a:xfrm>
            <a:off x="380880" y="309600"/>
            <a:ext cx="8305920" cy="6181560"/>
          </a:xfrm>
          <a:prstGeom prst="rect">
            <a:avLst/>
          </a:prstGeom>
          <a:ln w="0">
            <a:noFill/>
          </a:ln>
        </p:spPr>
      </p:pic>
      <p:pic>
        <p:nvPicPr>
          <p:cNvPr id="169" name="5.wma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158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图片1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6"/>
          <p:cNvPicPr/>
          <p:nvPr/>
        </p:nvPicPr>
        <p:blipFill>
          <a:blip r:embed="rId2"/>
          <a:stretch/>
        </p:blipFill>
        <p:spPr>
          <a:xfrm>
            <a:off x="228600" y="609480"/>
            <a:ext cx="4114800" cy="29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图片22"/>
          <p:cNvPicPr/>
          <p:nvPr/>
        </p:nvPicPr>
        <p:blipFill>
          <a:blip r:embed="rId3"/>
          <a:stretch/>
        </p:blipFill>
        <p:spPr>
          <a:xfrm>
            <a:off x="228600" y="3732120"/>
            <a:ext cx="4137120" cy="274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20070710113245577"/>
          <p:cNvPicPr/>
          <p:nvPr/>
        </p:nvPicPr>
        <p:blipFill>
          <a:blip r:embed="rId4"/>
          <a:stretch/>
        </p:blipFill>
        <p:spPr>
          <a:xfrm>
            <a:off x="4648320" y="3733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6.mp3" descr=""/>
          <p:cNvPicPr/>
          <p:nvPr/>
        </p:nvPicPr>
        <p:blipFill>
          <a:blip r:embed="rId5"/>
          <a:stretch/>
        </p:blipFill>
        <p:spPr>
          <a:xfrm>
            <a:off x="44197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129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457200" y="24382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时候，人们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619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几乎一天也离不开音乐。人们在漫步时，随时可以听到那优雅轻快的华尔兹圆舞曲。夏天的夜晚，公园里还举行露天音乐演奏会，悠扬的乐声掺和着花草的芬芳，在晚风中飘溢、回荡。维也纳的许多家庭有着室内演奏的传统，尤其在合家欢乐的时候 ，总要演奏一番，优美的旋律传遍街头巷尾。更有趣的是，在举行集会、庆典甚至政府会议时，会前会后也要奏一曲古典音乐，这几乎成了惯例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3.wma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767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828800" y="213372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20574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背诵课文的二、三、四自然段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进一步了解音乐家的生平和作品，选择欣赏几首世界名曲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90720" y="11430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维也纳市景2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876920" y="33980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之家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09480" y="154944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欧洲古典音乐的摇篮。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世纪以来，世界上许多著名的音乐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如海顿、莫扎特、贝多芬、舒伯特、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特劳斯等，都在这里度过大部分音乐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涯，谱写了许多优美的乐章。维也纳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博物馆里，至今还陈列着他们的乐谱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手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1549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hitl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048120"/>
            <a:ext cx="15829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0001000179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33680" y="3124080"/>
            <a:ext cx="1719000" cy="196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u=225598319,3967079682&amp;gp=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457200"/>
            <a:ext cx="173016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u=1523654921,3869069396&amp;gp=-3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"/>
            <a:ext cx="144648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u=809136926,514009636&amp;gp=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14800" y="304812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35812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海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72000" y="533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莫扎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4479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贝多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62520" y="5410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舒伯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324480" y="5410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施特劳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摇篮"/>
          <p:cNvPicPr/>
          <p:nvPr/>
        </p:nvPicPr>
        <p:blipFill>
          <a:blip r:embed="rId1"/>
          <a:stretch/>
        </p:blipFill>
        <p:spPr>
          <a:xfrm>
            <a:off x="762120" y="228600"/>
            <a:ext cx="3352680" cy="2682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191120" y="527040"/>
            <a:ext cx="525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从地图上看，奥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利的地形就像一把小提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古典乐派的三位代表人——海顿、莫扎特、贝多芬"/>
          <p:cNvPicPr/>
          <p:nvPr/>
        </p:nvPicPr>
        <p:blipFill>
          <a:blip r:embed="rId2"/>
          <a:stretch/>
        </p:blipFill>
        <p:spPr>
          <a:xfrm>
            <a:off x="4724280" y="27432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228600" y="450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十八世纪，海顿、莫扎特、贝多芬等著名音乐家在维也纳生活和创作，这里浓浓的音乐氛围给了他们创作的灵感和激情。维也纳成了欧洲古典音乐的发源地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3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2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