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ABB-6C63-4DA2-A41F-E0924333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6D0-8172-4321-98FE-BBEED89A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D42-571C-4E4A-809B-D0273501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36D-051B-4C93-AA37-A2EB5A14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BE97-189C-4D57-837E-46DA3220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7012-F475-4939-A79A-9BEC40F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6F15-520C-45CD-9A32-4788AD34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66F1-BF4E-4C4A-AB37-B3F832BD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BBD3-A3AC-4A42-AE4D-02C124FD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758B-1689-4738-8D64-A1218854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ACEF-69A6-4C1D-8C93-F12EB31F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B76-B9EE-47F8-9517-C4D85D3F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0A3B-B60D-402F-BE8C-899CA4EF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9A1C-208B-4D14-936C-C06E122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D298-A019-4F0A-8D30-530687E7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F26B-AF06-4A8D-B26F-752FDCF7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902A-D7CB-4F92-80E0-78922E15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4136-93FA-449E-BBFC-45881AFD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AFEF-936F-4EA4-A5D6-2DF9BF6D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1CC7-7AE5-4353-B6A6-B913985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DF72-AA1D-4686-BBD3-3C4E3D15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E2E65-0E3E-4A35-8512-4C1C034F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AE9-D535-472D-8576-47052F9F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B78B-60A4-462D-8007-B3BB3FF1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F54BF-50F1-481C-8F0A-692A6C1B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875D-5770-4127-ADA7-EAF4C0C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F0EE-90EA-440F-AEFB-36E49CFE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B6CA-6A73-4D87-A1EF-4282C22C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541F-F727-457F-B409-34BA5BD2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6AD0-3625-4200-B8AB-C3F65B27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2EE-6072-4150-A925-846DB189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5A9-D6EE-4B0E-82A3-5627E922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891-6CEC-4EDF-A403-914E4D8E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F28-70CB-4949-B1CD-1DF48AA2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E41-BE2B-483B-BCFB-11AE4425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779-0B7F-4EA6-AC13-7FFF9272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7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C20B-BAB7-417A-8B0D-1984D41D6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343C-A103-4888-B188-F1DF63131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C66A-EA30-4DD1-87D5-3DA19C913D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F244-6467-44B7-9ACC-8664ACDA9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833560" y="2008080"/>
            <a:ext cx="4475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    因数与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68360" y="14860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箭头表示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520560" y="2606760"/>
            <a:ext cx="7834320" cy="135000"/>
            <a:chOff x="520560" y="2606760"/>
            <a:chExt cx="7834320" cy="135000"/>
          </a:xfrm>
        </p:grpSpPr>
        <p:sp>
          <p:nvSpPr>
            <p:cNvPr id="187" name="Line 5"/>
            <p:cNvSpPr/>
            <p:nvPr/>
          </p:nvSpPr>
          <p:spPr>
            <a:xfrm>
              <a:off x="6127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"/>
            <p:cNvSpPr/>
            <p:nvPr/>
          </p:nvSpPr>
          <p:spPr>
            <a:xfrm>
              <a:off x="98568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>
              <a:off x="13604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17348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"/>
            <p:cNvSpPr/>
            <p:nvPr/>
          </p:nvSpPr>
          <p:spPr>
            <a:xfrm>
              <a:off x="210960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>
              <a:off x="248436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28591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>
              <a:off x="323208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36068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39812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435600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473076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510516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54799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585288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622764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660240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97680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3"/>
            <p:cNvSpPr/>
            <p:nvPr/>
          </p:nvSpPr>
          <p:spPr>
            <a:xfrm>
              <a:off x="735156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4"/>
            <p:cNvSpPr/>
            <p:nvPr/>
          </p:nvSpPr>
          <p:spPr>
            <a:xfrm>
              <a:off x="77263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5"/>
            <p:cNvSpPr/>
            <p:nvPr/>
          </p:nvSpPr>
          <p:spPr>
            <a:xfrm>
              <a:off x="8100720" y="2606760"/>
              <a:ext cx="0" cy="13500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6"/>
            <p:cNvSpPr/>
            <p:nvPr/>
          </p:nvSpPr>
          <p:spPr>
            <a:xfrm>
              <a:off x="520560" y="2741760"/>
              <a:ext cx="7834320" cy="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7"/>
          <p:cNvGrpSpPr/>
          <p:nvPr/>
        </p:nvGrpSpPr>
        <p:grpSpPr>
          <a:xfrm>
            <a:off x="468360" y="2716200"/>
            <a:ext cx="7870680" cy="459720"/>
            <a:chOff x="468360" y="2716200"/>
            <a:chExt cx="7870680" cy="459720"/>
          </a:xfrm>
        </p:grpSpPr>
        <p:sp>
          <p:nvSpPr>
            <p:cNvPr id="210" name="Rectangle 28"/>
            <p:cNvSpPr/>
            <p:nvPr/>
          </p:nvSpPr>
          <p:spPr>
            <a:xfrm>
              <a:off x="46836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9"/>
            <p:cNvSpPr/>
            <p:nvPr/>
          </p:nvSpPr>
          <p:spPr>
            <a:xfrm>
              <a:off x="83844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0"/>
            <p:cNvSpPr/>
            <p:nvPr/>
          </p:nvSpPr>
          <p:spPr>
            <a:xfrm>
              <a:off x="120960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1"/>
            <p:cNvSpPr/>
            <p:nvPr/>
          </p:nvSpPr>
          <p:spPr>
            <a:xfrm>
              <a:off x="158112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2"/>
            <p:cNvSpPr/>
            <p:nvPr/>
          </p:nvSpPr>
          <p:spPr>
            <a:xfrm>
              <a:off x="195120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33"/>
            <p:cNvSpPr/>
            <p:nvPr/>
          </p:nvSpPr>
          <p:spPr>
            <a:xfrm>
              <a:off x="232272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34"/>
            <p:cNvSpPr/>
            <p:nvPr/>
          </p:nvSpPr>
          <p:spPr>
            <a:xfrm>
              <a:off x="269388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35"/>
            <p:cNvSpPr/>
            <p:nvPr/>
          </p:nvSpPr>
          <p:spPr>
            <a:xfrm>
              <a:off x="306396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6"/>
            <p:cNvSpPr/>
            <p:nvPr/>
          </p:nvSpPr>
          <p:spPr>
            <a:xfrm>
              <a:off x="343548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7"/>
            <p:cNvSpPr/>
            <p:nvPr/>
          </p:nvSpPr>
          <p:spPr>
            <a:xfrm>
              <a:off x="3807000" y="271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8"/>
            <p:cNvSpPr/>
            <p:nvPr/>
          </p:nvSpPr>
          <p:spPr>
            <a:xfrm>
              <a:off x="410832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9"/>
            <p:cNvSpPr/>
            <p:nvPr/>
          </p:nvSpPr>
          <p:spPr>
            <a:xfrm>
              <a:off x="448308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0"/>
            <p:cNvSpPr/>
            <p:nvPr/>
          </p:nvSpPr>
          <p:spPr>
            <a:xfrm>
              <a:off x="485784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1"/>
            <p:cNvSpPr/>
            <p:nvPr/>
          </p:nvSpPr>
          <p:spPr>
            <a:xfrm>
              <a:off x="523260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2"/>
            <p:cNvSpPr/>
            <p:nvPr/>
          </p:nvSpPr>
          <p:spPr>
            <a:xfrm>
              <a:off x="560700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43"/>
            <p:cNvSpPr/>
            <p:nvPr/>
          </p:nvSpPr>
          <p:spPr>
            <a:xfrm>
              <a:off x="598176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4"/>
            <p:cNvSpPr/>
            <p:nvPr/>
          </p:nvSpPr>
          <p:spPr>
            <a:xfrm>
              <a:off x="635652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5"/>
            <p:cNvSpPr/>
            <p:nvPr/>
          </p:nvSpPr>
          <p:spPr>
            <a:xfrm>
              <a:off x="673092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46"/>
            <p:cNvSpPr/>
            <p:nvPr/>
          </p:nvSpPr>
          <p:spPr>
            <a:xfrm>
              <a:off x="710568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7"/>
            <p:cNvSpPr/>
            <p:nvPr/>
          </p:nvSpPr>
          <p:spPr>
            <a:xfrm>
              <a:off x="748044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48"/>
            <p:cNvSpPr/>
            <p:nvPr/>
          </p:nvSpPr>
          <p:spPr>
            <a:xfrm>
              <a:off x="7853400" y="271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Arc 49"/>
          <p:cNvSpPr/>
          <p:nvPr/>
        </p:nvSpPr>
        <p:spPr>
          <a:xfrm>
            <a:off x="619200" y="2311560"/>
            <a:ext cx="1104840" cy="288720"/>
          </a:xfrm>
          <a:custGeom>
            <a:avLst/>
            <a:gdLst/>
            <a:ahLst/>
            <a:rect l="l" t="t" r="r" b="b"/>
            <a:pathLst>
              <a:path fill="none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</a:path>
              <a:path stroke="0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  <a:lnTo>
                  <a:pt x="21078" y="21600"/>
                </a:lnTo>
                <a:lnTo>
                  <a:pt x="0" y="1688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bevel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50"/>
          <p:cNvSpPr/>
          <p:nvPr/>
        </p:nvSpPr>
        <p:spPr>
          <a:xfrm>
            <a:off x="1746360" y="2311560"/>
            <a:ext cx="1104840" cy="288720"/>
          </a:xfrm>
          <a:custGeom>
            <a:avLst/>
            <a:gdLst/>
            <a:ahLst/>
            <a:rect l="l" t="t" r="r" b="b"/>
            <a:pathLst>
              <a:path fill="none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</a:path>
              <a:path stroke="0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  <a:lnTo>
                  <a:pt x="21078" y="21600"/>
                </a:lnTo>
                <a:lnTo>
                  <a:pt x="0" y="1688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bevel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51"/>
          <p:cNvSpPr/>
          <p:nvPr/>
        </p:nvSpPr>
        <p:spPr>
          <a:xfrm>
            <a:off x="2873520" y="2311560"/>
            <a:ext cx="1104840" cy="288720"/>
          </a:xfrm>
          <a:custGeom>
            <a:avLst/>
            <a:gdLst/>
            <a:ahLst/>
            <a:rect l="l" t="t" r="r" b="b"/>
            <a:pathLst>
              <a:path fill="none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</a:path>
              <a:path stroke="0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  <a:lnTo>
                  <a:pt x="21078" y="21600"/>
                </a:lnTo>
                <a:lnTo>
                  <a:pt x="0" y="1688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bevel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52"/>
          <p:cNvSpPr/>
          <p:nvPr/>
        </p:nvSpPr>
        <p:spPr>
          <a:xfrm>
            <a:off x="3995640" y="2311560"/>
            <a:ext cx="1104840" cy="288720"/>
          </a:xfrm>
          <a:custGeom>
            <a:avLst/>
            <a:gdLst/>
            <a:ahLst/>
            <a:rect l="l" t="t" r="r" b="b"/>
            <a:pathLst>
              <a:path fill="none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</a:path>
              <a:path stroke="0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  <a:lnTo>
                  <a:pt x="21078" y="21600"/>
                </a:lnTo>
                <a:lnTo>
                  <a:pt x="0" y="1688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bevel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53"/>
          <p:cNvSpPr/>
          <p:nvPr/>
        </p:nvSpPr>
        <p:spPr>
          <a:xfrm>
            <a:off x="5121360" y="2311560"/>
            <a:ext cx="1104840" cy="288720"/>
          </a:xfrm>
          <a:custGeom>
            <a:avLst/>
            <a:gdLst/>
            <a:ahLst/>
            <a:rect l="l" t="t" r="r" b="b"/>
            <a:pathLst>
              <a:path fill="none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</a:path>
              <a:path stroke="0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  <a:lnTo>
                  <a:pt x="21078" y="21600"/>
                </a:lnTo>
                <a:lnTo>
                  <a:pt x="0" y="1688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bevel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54"/>
          <p:cNvSpPr/>
          <p:nvPr/>
        </p:nvSpPr>
        <p:spPr>
          <a:xfrm>
            <a:off x="6248520" y="2311560"/>
            <a:ext cx="1104840" cy="288720"/>
          </a:xfrm>
          <a:custGeom>
            <a:avLst/>
            <a:gdLst/>
            <a:ahLst/>
            <a:rect l="l" t="t" r="r" b="b"/>
            <a:pathLst>
              <a:path fill="none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</a:path>
              <a:path stroke="0" w="42678" h="21600">
                <a:moveTo>
                  <a:pt x="0" y="16880"/>
                </a:moveTo>
                <a:cubicBezTo>
                  <a:pt x="2209" y="7013"/>
                  <a:pt x="10967" y="0"/>
                  <a:pt x="21078" y="0"/>
                </a:cubicBezTo>
                <a:cubicBezTo>
                  <a:pt x="33007" y="0"/>
                  <a:pt x="42678" y="9670"/>
                  <a:pt x="42678" y="21600"/>
                </a:cubicBezTo>
                <a:lnTo>
                  <a:pt x="21078" y="21600"/>
                </a:lnTo>
                <a:lnTo>
                  <a:pt x="0" y="1688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bevel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68360" y="154152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有哪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826920" y="23335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倍数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5,  10,  15,  20,  25,  30,  35,  40,   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9"/>
          <p:cNvGrpSpPr/>
          <p:nvPr/>
        </p:nvGrpSpPr>
        <p:grpSpPr>
          <a:xfrm>
            <a:off x="1757520" y="3021120"/>
            <a:ext cx="5190480" cy="1560240"/>
            <a:chOff x="1757520" y="3021120"/>
            <a:chExt cx="5190480" cy="1560240"/>
          </a:xfrm>
        </p:grpSpPr>
        <p:pic>
          <p:nvPicPr>
            <p:cNvPr id="240" name="Picture 58" descr="P-036"/>
            <p:cNvPicPr/>
            <p:nvPr/>
          </p:nvPicPr>
          <p:blipFill>
            <a:blip r:embed="rId2"/>
            <a:stretch/>
          </p:blipFill>
          <p:spPr>
            <a:xfrm>
              <a:off x="1763640" y="3309840"/>
              <a:ext cx="3760200" cy="11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56"/>
            <p:cNvSpPr/>
            <p:nvPr/>
          </p:nvSpPr>
          <p:spPr>
            <a:xfrm>
              <a:off x="1757520" y="3284280"/>
              <a:ext cx="36064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个数的最小倍数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几？有最大倍数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Picture 57" descr="小精灵-05"/>
            <p:cNvPicPr/>
            <p:nvPr/>
          </p:nvPicPr>
          <p:blipFill>
            <a:blip r:embed="rId3"/>
            <a:stretch/>
          </p:blipFill>
          <p:spPr>
            <a:xfrm>
              <a:off x="5840280" y="3021120"/>
              <a:ext cx="110772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Rectangle 60"/>
          <p:cNvSpPr/>
          <p:nvPr/>
        </p:nvSpPr>
        <p:spPr>
          <a:xfrm>
            <a:off x="826920" y="479736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数的倍数的个数是无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33240" y="1440000"/>
            <a:ext cx="8115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几个因数的关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1 + 2 + 3 = 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样的数，叫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完全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叫完美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是完全数，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不是，因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+2+4=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完全数非常稀少，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人们在无穷无尽的自然数里，一共找到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完全数，其中较小的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 12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708360" y="893880"/>
            <a:ext cx="15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完全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986200" y="1989000"/>
            <a:ext cx="367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数和倍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-012"/>
          <p:cNvPicPr/>
          <p:nvPr/>
        </p:nvPicPr>
        <p:blipFill>
          <a:blip r:embed="rId2"/>
          <a:srcRect l="0" t="15267" r="0" b="19299"/>
          <a:stretch/>
        </p:blipFill>
        <p:spPr>
          <a:xfrm>
            <a:off x="1474920" y="1265400"/>
            <a:ext cx="612144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3995640" y="34146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33240" y="4076640"/>
            <a:ext cx="7826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因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倍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也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倍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-12"/>
          <p:cNvPicPr/>
          <p:nvPr/>
        </p:nvPicPr>
        <p:blipFill>
          <a:blip r:embed="rId2"/>
          <a:srcRect l="0" t="0" r="0" b="25029"/>
          <a:stretch/>
        </p:blipFill>
        <p:spPr>
          <a:xfrm>
            <a:off x="1403280" y="1197000"/>
            <a:ext cx="6408720" cy="2592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3708360" y="38466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116000" y="44942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因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倍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1332000" y="4941720"/>
            <a:ext cx="6473880" cy="1727280"/>
            <a:chOff x="1332000" y="4941720"/>
            <a:chExt cx="6473880" cy="1727280"/>
          </a:xfrm>
        </p:grpSpPr>
        <p:pic>
          <p:nvPicPr>
            <p:cNvPr id="132" name="Picture 10" descr="P-030"/>
            <p:cNvPicPr/>
            <p:nvPr/>
          </p:nvPicPr>
          <p:blipFill>
            <a:blip r:embed="rId3"/>
            <a:srcRect l="8789" t="0" r="0" b="0"/>
            <a:stretch/>
          </p:blipFill>
          <p:spPr>
            <a:xfrm>
              <a:off x="3276720" y="5373360"/>
              <a:ext cx="309564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P-030"/>
            <p:cNvPicPr/>
            <p:nvPr/>
          </p:nvPicPr>
          <p:blipFill>
            <a:blip r:embed="rId4"/>
            <a:srcRect l="-2330" t="0" r="38681" b="0"/>
            <a:stretch/>
          </p:blipFill>
          <p:spPr>
            <a:xfrm>
              <a:off x="1332000" y="5373360"/>
              <a:ext cx="216072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8"/>
            <p:cNvSpPr/>
            <p:nvPr/>
          </p:nvSpPr>
          <p:spPr>
            <a:xfrm>
              <a:off x="1403280" y="5387760"/>
              <a:ext cx="4943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还能找出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其他因数吗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12" descr="小精灵-021"/>
            <p:cNvPicPr/>
            <p:nvPr/>
          </p:nvPicPr>
          <p:blipFill>
            <a:blip r:embed="rId5"/>
            <a:srcRect l="-20112" t="-8344" r="-14140" b="-9178"/>
            <a:stretch/>
          </p:blipFill>
          <p:spPr>
            <a:xfrm flipH="1">
              <a:off x="6332760" y="4941720"/>
              <a:ext cx="1473120" cy="172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633240" y="1341360"/>
            <a:ext cx="8115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注意：为了方便，在研究因数和倍数的时候，我们所说的数一般指的是整数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不包括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0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2"/>
          <p:cNvGrpSpPr/>
          <p:nvPr/>
        </p:nvGrpSpPr>
        <p:grpSpPr>
          <a:xfrm>
            <a:off x="3516480" y="3284640"/>
            <a:ext cx="1992240" cy="1501200"/>
            <a:chOff x="3516480" y="3284640"/>
            <a:chExt cx="1992240" cy="1501200"/>
          </a:xfrm>
        </p:grpSpPr>
        <p:sp>
          <p:nvSpPr>
            <p:cNvPr id="138" name="Rectangle 8"/>
            <p:cNvSpPr/>
            <p:nvPr/>
          </p:nvSpPr>
          <p:spPr>
            <a:xfrm>
              <a:off x="3516480" y="3284640"/>
              <a:ext cx="1936800" cy="1472760"/>
            </a:xfrm>
            <a:prstGeom prst="rect">
              <a:avLst/>
            </a:prstGeom>
            <a:solidFill>
              <a:srgbClr val="ffc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3564000" y="3284640"/>
              <a:ext cx="194472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 = 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 = 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····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2"/>
          <p:cNvSpPr/>
          <p:nvPr/>
        </p:nvSpPr>
        <p:spPr>
          <a:xfrm>
            <a:off x="1420920" y="12477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有哪几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00000" y="5229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0"/>
          <p:cNvGrpSpPr/>
          <p:nvPr/>
        </p:nvGrpSpPr>
        <p:grpSpPr>
          <a:xfrm>
            <a:off x="611280" y="1197000"/>
            <a:ext cx="1024920" cy="569880"/>
            <a:chOff x="611280" y="1197000"/>
            <a:chExt cx="1024920" cy="569880"/>
          </a:xfrm>
        </p:grpSpPr>
        <p:pic>
          <p:nvPicPr>
            <p:cNvPr id="143" name="Picture 21" descr="小鱼"/>
            <p:cNvPicPr/>
            <p:nvPr/>
          </p:nvPicPr>
          <p:blipFill>
            <a:blip r:embed="rId2"/>
            <a:stretch/>
          </p:blipFill>
          <p:spPr>
            <a:xfrm>
              <a:off x="611280" y="1197000"/>
              <a:ext cx="81720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2"/>
            <p:cNvSpPr/>
            <p:nvPr/>
          </p:nvSpPr>
          <p:spPr>
            <a:xfrm>
              <a:off x="865080" y="1227240"/>
              <a:ext cx="77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716040" y="1808280"/>
            <a:ext cx="3178080" cy="3372840"/>
            <a:chOff x="716040" y="1808280"/>
            <a:chExt cx="3178080" cy="3372840"/>
          </a:xfrm>
        </p:grpSpPr>
        <p:pic>
          <p:nvPicPr>
            <p:cNvPr id="146" name="Picture 28" descr="气泡-05"/>
            <p:cNvPicPr/>
            <p:nvPr/>
          </p:nvPicPr>
          <p:blipFill>
            <a:blip r:embed="rId3"/>
            <a:srcRect l="-9836" t="-9020" r="-9603" b="-6376"/>
            <a:stretch/>
          </p:blipFill>
          <p:spPr>
            <a:xfrm flipH="1">
              <a:off x="716040" y="1808280"/>
              <a:ext cx="3178080" cy="166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14"/>
            <p:cNvSpPr/>
            <p:nvPr/>
          </p:nvSpPr>
          <p:spPr>
            <a:xfrm>
              <a:off x="1387440" y="1915920"/>
              <a:ext cx="1927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 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可以由哪两个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数相乘得到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24" descr="p-13"/>
            <p:cNvPicPr/>
            <p:nvPr/>
          </p:nvPicPr>
          <p:blipFill>
            <a:blip r:embed="rId4"/>
            <a:srcRect l="0" t="0" r="48933" b="0"/>
            <a:stretch/>
          </p:blipFill>
          <p:spPr>
            <a:xfrm>
              <a:off x="750960" y="3184200"/>
              <a:ext cx="2165400" cy="19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31"/>
          <p:cNvGrpSpPr/>
          <p:nvPr/>
        </p:nvGrpSpPr>
        <p:grpSpPr>
          <a:xfrm>
            <a:off x="5456160" y="2224080"/>
            <a:ext cx="3076560" cy="2697120"/>
            <a:chOff x="5456160" y="2224080"/>
            <a:chExt cx="3076560" cy="2697120"/>
          </a:xfrm>
        </p:grpSpPr>
        <p:pic>
          <p:nvPicPr>
            <p:cNvPr id="150" name="Picture 30" descr="P-046"/>
            <p:cNvPicPr/>
            <p:nvPr/>
          </p:nvPicPr>
          <p:blipFill>
            <a:blip r:embed="rId5"/>
            <a:stretch/>
          </p:blipFill>
          <p:spPr>
            <a:xfrm>
              <a:off x="5456160" y="2224080"/>
              <a:ext cx="289260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19"/>
            <p:cNvSpPr/>
            <p:nvPr/>
          </p:nvSpPr>
          <p:spPr>
            <a:xfrm>
              <a:off x="5481720" y="2278080"/>
              <a:ext cx="3051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是怎样想的呢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5" descr="p-13"/>
            <p:cNvPicPr/>
            <p:nvPr/>
          </p:nvPicPr>
          <p:blipFill>
            <a:blip r:embed="rId6"/>
            <a:srcRect l="56699" t="0" r="0" b="0"/>
            <a:stretch/>
          </p:blipFill>
          <p:spPr>
            <a:xfrm>
              <a:off x="6264360" y="2924280"/>
              <a:ext cx="1836720" cy="19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26"/>
          <p:cNvSpPr/>
          <p:nvPr/>
        </p:nvSpPr>
        <p:spPr>
          <a:xfrm>
            <a:off x="3016080" y="5229360"/>
            <a:ext cx="5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3924360" y="5229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4780080" y="5229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5678640" y="5229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6593040" y="5229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7367760" y="522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971640" y="1773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可以像下面这样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708360" y="25671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060720" y="3292560"/>
            <a:ext cx="2879640" cy="1649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684240" y="3632040"/>
            <a:ext cx="178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892080" y="1203480"/>
            <a:ext cx="7927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因数有哪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3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因数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 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6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因数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 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074600" y="5157720"/>
            <a:ext cx="59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数的因数的个数是有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1827360" y="3068640"/>
            <a:ext cx="6553080" cy="2089080"/>
            <a:chOff x="1827360" y="3068640"/>
            <a:chExt cx="6553080" cy="2089080"/>
          </a:xfrm>
        </p:grpSpPr>
        <p:pic>
          <p:nvPicPr>
            <p:cNvPr id="166" name="Picture 9" descr="P-036"/>
            <p:cNvPicPr/>
            <p:nvPr/>
          </p:nvPicPr>
          <p:blipFill>
            <a:blip r:embed="rId2"/>
            <a:stretch/>
          </p:blipFill>
          <p:spPr>
            <a:xfrm>
              <a:off x="1828800" y="3659040"/>
              <a:ext cx="491040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" descr="小精灵-017"/>
            <p:cNvPicPr/>
            <p:nvPr/>
          </p:nvPicPr>
          <p:blipFill>
            <a:blip r:embed="rId3"/>
            <a:srcRect l="-18897" t="-18850" r="-17639" b="-17606"/>
            <a:stretch/>
          </p:blipFill>
          <p:spPr>
            <a:xfrm>
              <a:off x="6661440" y="3068640"/>
              <a:ext cx="171900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6"/>
            <p:cNvSpPr/>
            <p:nvPr/>
          </p:nvSpPr>
          <p:spPr>
            <a:xfrm>
              <a:off x="1827360" y="3573360"/>
              <a:ext cx="518472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个数的最小因数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最大的因数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7"/>
          <p:cNvSpPr/>
          <p:nvPr/>
        </p:nvSpPr>
        <p:spPr>
          <a:xfrm>
            <a:off x="5445000" y="37180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15908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本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9"/>
          <p:cNvGrpSpPr/>
          <p:nvPr/>
        </p:nvGrpSpPr>
        <p:grpSpPr>
          <a:xfrm>
            <a:off x="5148360" y="4549680"/>
            <a:ext cx="2743200" cy="1832040"/>
            <a:chOff x="5148360" y="4549680"/>
            <a:chExt cx="2743200" cy="1832040"/>
          </a:xfrm>
        </p:grpSpPr>
        <p:sp>
          <p:nvSpPr>
            <p:cNvPr id="172" name="Oval 18"/>
            <p:cNvSpPr/>
            <p:nvPr/>
          </p:nvSpPr>
          <p:spPr>
            <a:xfrm>
              <a:off x="5148360" y="5130720"/>
              <a:ext cx="2743200" cy="1251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5619960" y="45496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倍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"/>
          <p:cNvSpPr/>
          <p:nvPr/>
        </p:nvSpPr>
        <p:spPr>
          <a:xfrm>
            <a:off x="1476360" y="12970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找出多少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900000" y="3789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倍数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5508720" y="54770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900000" y="4549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可以像右面这样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66720" y="1231920"/>
            <a:ext cx="1025640" cy="569880"/>
            <a:chOff x="666720" y="1231920"/>
            <a:chExt cx="1025640" cy="569880"/>
          </a:xfrm>
        </p:grpSpPr>
        <p:pic>
          <p:nvPicPr>
            <p:cNvPr id="179" name="Picture 15" descr="小鱼"/>
            <p:cNvPicPr/>
            <p:nvPr/>
          </p:nvPicPr>
          <p:blipFill>
            <a:blip r:embed="rId2"/>
            <a:stretch/>
          </p:blipFill>
          <p:spPr>
            <a:xfrm>
              <a:off x="666720" y="1231920"/>
              <a:ext cx="8175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16"/>
            <p:cNvSpPr/>
            <p:nvPr/>
          </p:nvSpPr>
          <p:spPr>
            <a:xfrm>
              <a:off x="920880" y="1262160"/>
              <a:ext cx="77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2195640" y="1989000"/>
            <a:ext cx="5073480" cy="2089080"/>
            <a:chOff x="2195640" y="1989000"/>
            <a:chExt cx="5073480" cy="2089080"/>
          </a:xfrm>
        </p:grpSpPr>
        <p:pic>
          <p:nvPicPr>
            <p:cNvPr id="182" name="Picture 20" descr="P-036"/>
            <p:cNvPicPr/>
            <p:nvPr/>
          </p:nvPicPr>
          <p:blipFill>
            <a:blip r:embed="rId3"/>
            <a:stretch/>
          </p:blipFill>
          <p:spPr>
            <a:xfrm>
              <a:off x="2195640" y="2249280"/>
              <a:ext cx="3697200" cy="11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11"/>
            <p:cNvSpPr/>
            <p:nvPr/>
          </p:nvSpPr>
          <p:spPr>
            <a:xfrm>
              <a:off x="2227320" y="2239920"/>
              <a:ext cx="33829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= 2      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 =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= 6      ·····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17" descr="p-14"/>
            <p:cNvPicPr/>
            <p:nvPr/>
          </p:nvPicPr>
          <p:blipFill>
            <a:blip r:embed="rId4"/>
            <a:stretch/>
          </p:blipFill>
          <p:spPr>
            <a:xfrm>
              <a:off x="6043680" y="1989000"/>
              <a:ext cx="1225440" cy="208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3:28:5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59Z</dcterms:modified>
  <cp:revision>7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