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595-C0A6-404A-8FEF-447EB861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DF1-CCAE-450D-B031-EDF267BD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18E-E820-41F2-B344-43A3B6AA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017-FC84-4852-8B54-E872B491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62D2-6000-4EE0-BA14-9426E82D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2A6B-BC2E-4F62-BCDC-E58B0FFD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BFA2-2CC8-4751-8826-2438FEE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DEF1-1179-45C8-9B59-9DA3C7E6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C076-51A1-4CE4-8ABB-5FCAEA2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7A40-B77F-4D03-AADB-96F6E1F5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E20E-D858-4F03-8C66-AA9488E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E30-6135-444A-93AA-1EDCFC48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4E4E-F29B-4D20-AD55-8F8FBA41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0FDC-01C8-4D66-8F97-1242F4DB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3666-3D45-40AC-BF72-24813ACC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4F14-46F0-4362-BB01-B0803612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E1D1-C9A9-49E9-82E3-A99C3B9A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D93-04AE-481C-846A-1926AF27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EE1-E2D3-4BB0-B9C2-7C3C4403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4D5-6DFD-4EE7-A478-02493784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35C-F3CE-4C94-9B16-3372A2BD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48D-099E-44E2-8C83-79E70512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372-FF13-4EA9-A8A8-E4D8E81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90D-00D9-4E29-A905-D119D75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C452-381C-4B33-B852-6C50C1FDF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DC2C-7C46-4607-A572-BF42E9F641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4265-48A6-4019-BB8E-833BCE2DBB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file:///tmp/home/.config/libreoffice/4/user/gallery/NOTIFY.WAV" TargetMode="External"/><Relationship Id="rId4" Type="http://schemas.microsoft.com/office/2007/relationships/media" Target="file:///tmp/home/.config/libreoffice/4/user/gallery/NOTIFY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e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627800" y="259092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627800" y="259092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132800" y="266688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1371600" y="312408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2895480" y="312408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5943600" y="312408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3048120" y="380988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392840" y="1324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有感情的朗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3679560" y="1981080"/>
            <a:ext cx="16131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读</a:t>
            </a:r>
            <a:endParaRPr b="0" lang="en-US" sz="1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327320" y="703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轻读课文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523880" y="1828800"/>
            <a:ext cx="67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哪些句子具体描写了青年画鱼画得很好，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[      ]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标出并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33520" y="16765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990720" y="609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3520" y="30481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496600" y="339408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什么叫“工笔细描”？请读有关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3520" y="46483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588760" y="504972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什么叫“挥笔速写”？请读有关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3733920" y="1066680"/>
            <a:ext cx="41148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143000" y="1752480"/>
            <a:ext cx="350532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1143000" y="2514600"/>
            <a:ext cx="243828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7543800" y="182880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990720" y="609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92840" y="31240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选择正确的解释并说明选择的理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765960" y="396252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看鱼看得很专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864960" y="45720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看鱼、画鱼很勤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981080" y="5181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画鱼很细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630240" y="57150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画鱼画得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315800" y="2620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14400" y="2895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611520" y="1295280"/>
            <a:ext cx="185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朗        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930720" y="27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7" descr="fesh"/>
          <p:cNvPicPr/>
          <p:nvPr/>
        </p:nvPicPr>
        <p:blipFill>
          <a:blip r:embed="rId1"/>
          <a:stretch/>
        </p:blipFill>
        <p:spPr>
          <a:xfrm>
            <a:off x="123840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fesh"/>
          <p:cNvPicPr/>
          <p:nvPr/>
        </p:nvPicPr>
        <p:blipFill>
          <a:blip r:embed="rId2"/>
          <a:stretch/>
        </p:blipFill>
        <p:spPr>
          <a:xfrm>
            <a:off x="1371600" y="160020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9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143000" y="28195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围观的人越来越多，大家赞叹着，议论着，唯一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有任何反应的是他自己。他好像和游鱼已经融为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体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356840" y="1324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朗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8"/>
          <p:cNvGrpSpPr/>
          <p:nvPr/>
        </p:nvGrpSpPr>
        <p:grpSpPr>
          <a:xfrm>
            <a:off x="2209680" y="3886200"/>
            <a:ext cx="1471680" cy="2057400"/>
            <a:chOff x="2209680" y="3886200"/>
            <a:chExt cx="1471680" cy="2057400"/>
          </a:xfrm>
        </p:grpSpPr>
        <p:pic>
          <p:nvPicPr>
            <p:cNvPr id="195" name="Object 15" descr=""/>
            <p:cNvPicPr/>
            <p:nvPr/>
          </p:nvPicPr>
          <p:blipFill>
            <a:blip r:embed="rId1"/>
            <a:stretch/>
          </p:blipFill>
          <p:spPr>
            <a:xfrm>
              <a:off x="2209680" y="4419720"/>
              <a:ext cx="14716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2678760" y="3886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99"/>
                  </a:solidFill>
                  <a:latin typeface="Times New Roman"/>
                </a:rPr>
                <a:t>？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 Box 17"/>
          <p:cNvSpPr/>
          <p:nvPr/>
        </p:nvSpPr>
        <p:spPr>
          <a:xfrm>
            <a:off x="4191120" y="449568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Times New Roman"/>
              </a:rPr>
              <a:t>青年是个怎样的人？你从哪些句子可以看出来？请找出直接描写的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Object 19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133020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800600" y="1523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69307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76165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22" descr="fesh"/>
          <p:cNvPicPr/>
          <p:nvPr/>
        </p:nvPicPr>
        <p:blipFill>
          <a:blip r:embed="rId1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4" descr="fesh"/>
          <p:cNvPicPr/>
          <p:nvPr/>
        </p:nvPicPr>
        <p:blipFill>
          <a:blip r:embed="rId3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5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6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685800" y="312408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鱼游到了心里”和“鱼游到了纸上”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97040" y="9795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让我想一想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905120" y="2438280"/>
            <a:ext cx="574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这篇课文主要讲作者在（          ）观鱼时，发现了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位（                 ）的青年，他（              ）看得非常专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             ）画得活灵活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8769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玉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629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举止特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22576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看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4158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191120" y="23302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449360" y="1187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填空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191120" y="23302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9307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76165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5" descr="fesh"/>
          <p:cNvPicPr/>
          <p:nvPr/>
        </p:nvPicPr>
        <p:blipFill>
          <a:blip r:embed="rId1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fesh"/>
          <p:cNvPicPr/>
          <p:nvPr/>
        </p:nvPicPr>
        <p:blipFill>
          <a:blip r:embed="rId3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8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6722640" y="3726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勤动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6"/>
          <p:cNvSpPr/>
          <p:nvPr/>
        </p:nvSpPr>
        <p:spPr>
          <a:xfrm>
            <a:off x="3096720" y="1752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把带点的词语写具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367720" y="28954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围观的人越来越多，大家赞叹着，议论着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876920" y="3276720"/>
            <a:ext cx="76176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6019920" y="3276720"/>
            <a:ext cx="83808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52568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该练习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>
            <a:hlinkClick r:id="" action="ppaction://hlinkshowjump?jump=firstslide"/>
          </p:cNvPr>
          <p:cNvSpPr/>
          <p:nvPr/>
        </p:nvSpPr>
        <p:spPr>
          <a:xfrm>
            <a:off x="3835800" y="121932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667960" y="3124080"/>
            <a:ext cx="434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830760" y="4815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主讲：太和联校廖羽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1127160" y="213372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、课文中哪个句子最能说明青年画鱼画得好。用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~~~”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线在 文中标出来。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57200" y="990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轻声朗读课文，边读边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219320" y="342900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、哪个句子最能说明青年看鱼很专心。用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——”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线在文中标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04920" y="19051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04920" y="32767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8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1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7" descr="fesh"/>
          <p:cNvPicPr/>
          <p:nvPr/>
        </p:nvPicPr>
        <p:blipFill>
          <a:blip r:embed="rId1"/>
          <a:stretch/>
        </p:blipFill>
        <p:spPr>
          <a:xfrm>
            <a:off x="1219320" y="161784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8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0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316880" y="798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默读课文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371600" y="2057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课文哪些句子描写出了青年爱鱼达到了忘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的境界，用（     ）标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80880" y="194940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4209120" y="1143000"/>
            <a:ext cx="8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5320" y="23209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696040" y="254952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“他”指谁？长得怎样，请找出有关句子读一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371600" y="304812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（他高高的身材，长得很秀气，一对大眼睛明亮得就像玉泉的水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373840" y="419112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“老是”是什么意思？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25320" y="376884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2"/>
          <p:cNvSpPr/>
          <p:nvPr/>
        </p:nvSpPr>
        <p:spPr>
          <a:xfrm>
            <a:off x="464292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0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5" descr="fesh"/>
          <p:cNvPicPr/>
          <p:nvPr/>
        </p:nvPicPr>
        <p:blipFill>
          <a:blip r:embed="rId1"/>
          <a:stretch/>
        </p:blipFill>
        <p:spPr>
          <a:xfrm>
            <a:off x="1219320" y="161784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7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4129560" y="762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2040" y="24685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选择正确的解释并说明你选择的理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078000" y="3165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画鱼画得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935080" y="4038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看鱼很专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941560" y="48006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画鱼很细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706560" y="54864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爱鱼达到了忘我的境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26504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9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2" descr="fesh"/>
          <p:cNvPicPr/>
          <p:nvPr/>
        </p:nvPicPr>
        <p:blipFill>
          <a:blip r:embed="rId1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4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1:37:0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3:05Z</dcterms:modified>
  <cp:revision>8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