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gif" ContentType="image/gif"/>
  <Override PartName="/ppt/media/image26.gif" ContentType="image/gif"/>
  <Override PartName="/ppt/media/image20.jpeg" ContentType="image/jpeg"/>
  <Override PartName="/ppt/media/image23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18.gif" ContentType="image/gif"/>
  <Override PartName="/ppt/media/image17.gif" ContentType="image/gif"/>
  <Override PartName="/ppt/media/image15.gif" ContentType="image/gif"/>
  <Override PartName="/ppt/media/image34.jpeg" ContentType="image/jpeg"/>
  <Override PartName="/ppt/media/image7.jpeg" ContentType="image/jpeg"/>
  <Override PartName="/ppt/media/image38.jpeg" ContentType="image/jpeg"/>
  <Override PartName="/ppt/media/image31.gif" ContentType="image/gif"/>
  <Override PartName="/ppt/media/image9.jpeg" ContentType="image/jpeg"/>
  <Override PartName="/ppt/media/image10.gif" ContentType="image/gif"/>
  <Override PartName="/ppt/media/image13.png" ContentType="image/png"/>
  <Override PartName="/ppt/media/image11.gif" ContentType="image/gif"/>
  <Override PartName="/ppt/media/image30.gif" ContentType="image/gif"/>
  <Override PartName="/ppt/media/image16.wmf" ContentType="image/x-wmf"/>
  <Override PartName="/ppt/media/image28.gif" ContentType="image/gif"/>
  <Override PartName="/ppt/media/image33.gif" ContentType="image/gif"/>
  <Override PartName="/ppt/media/image36.png" ContentType="image/png"/>
  <Override PartName="/ppt/media/image32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6.jpeg" ContentType="image/jpeg"/>
  <Override PartName="/ppt/media/image12.jpeg" ContentType="image/jpeg"/>
  <Override PartName="/ppt/media/image4.png" ContentType="image/png"/>
  <Override PartName="/ppt/media/image24.gif" ContentType="image/gif"/>
  <Override PartName="/ppt/media/image37.jpeg" ContentType="image/jpeg"/>
  <Override PartName="/ppt/media/image3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E3E-3D75-468E-873A-848E4A64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23A-0142-4DE8-BEC8-FDD1C26A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0ED0-0FD3-404A-9D9D-16C69291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5E3A-B1BB-446B-82A7-030AE57C7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F024-224D-4C8D-B2FC-9196F77F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0467-CD88-4A44-9384-9BDACF5C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BDEB-D0DA-43E5-AAAD-9D74FC94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40FD-D21D-4946-93D4-CDFF6BFA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9DA5-F75D-465E-981A-9E1A2D01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D81-470B-4645-83EE-AC1429D1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27C3-CA93-4F19-AE49-4B9E5157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129-B1AF-47C9-82E2-93D02989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DC24-130E-4280-AE7E-DAF7E65B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1DFA-FAB5-4266-A400-D3DB763A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32BA-9DC4-400C-9DED-C49F0BE8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ADC5-EA6E-4591-BF38-3C6BEDE3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C900-7348-4CED-BACA-B7178E48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A71-0A03-4054-A0E0-2428CABB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DCF-4785-4133-A094-441BE6C0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37C5-BF8A-4373-8BB7-A3F38C2C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B55F-B111-49AA-99A4-EC39B128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9D2-BD50-473C-92EB-40FCBF77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4BA-BB60-47E8-AC8A-4309508A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69C-6F4F-48B6-8F57-1465B429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C6C9-951D-4647-AB56-0184020A4F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4ED3-64D3-4BD8-936D-3A434F062DF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6FED-9A34-4A1D-BF5E-E703FC51EC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&#22833;&#26023;&#30097;&#37051;.DAT" TargetMode="Externa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97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8"/>
          <p:cNvSpPr txBox="1"/>
          <p:nvPr/>
        </p:nvSpPr>
        <p:spPr>
          <a:xfrm>
            <a:off x="1828800" y="1066680"/>
            <a:ext cx="5334120" cy="20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寓言四则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727360" y="5835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200400" y="6094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寓    言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2895480"/>
            <a:ext cx="579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赫耳墨斯和雕像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143000" y="441972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蚊子和狮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05"/>
          <p:cNvPicPr/>
          <p:nvPr/>
        </p:nvPicPr>
        <p:blipFill>
          <a:blip r:embed="rId1"/>
          <a:stretch/>
        </p:blipFill>
        <p:spPr>
          <a:xfrm>
            <a:off x="380880" y="380880"/>
            <a:ext cx="1752840" cy="1752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bird14.gif (1018 bytes)"/>
          <p:cNvPicPr/>
          <p:nvPr/>
        </p:nvPicPr>
        <p:blipFill>
          <a:blip r:embed="rId2"/>
          <a:stretch/>
        </p:blipFill>
        <p:spPr>
          <a:xfrm>
            <a:off x="685800" y="533520"/>
            <a:ext cx="411120" cy="41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神使赫尔墨斯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248520" y="34290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28-18-01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0" y="0"/>
            <a:ext cx="91440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228600" y="2133720"/>
            <a:ext cx="8610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他为什么挑了宙斯和赫拉的雕像来问价，请说出他此刻的心理？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6440" y="173160"/>
            <a:ext cx="877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赫耳墨斯为什么来到凡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838080"/>
            <a:ext cx="862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因为想赫耳墨斯知道他在人间受到多大的尊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52280" y="35053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Times New Roman"/>
              </a:rPr>
              <a:t>先问宙斯雕像的价格，大有跟最高的神一比高低的想法；知道价钱不高后，他十分满意。问赫拉雕像的价钱之后，他更觉得自己是商人的庇护神，人们对他会更尊重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028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26"/>
          <p:cNvSpPr/>
          <p:nvPr/>
        </p:nvSpPr>
        <p:spPr>
          <a:xfrm>
            <a:off x="228600" y="2590920"/>
            <a:ext cx="8763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一个简单的“笑”，传神地写出了赫耳墨斯微妙的内心世界：嘲笑宙斯雕像价格低，讥笑赫拉不如宙斯，暗想商人会把自己的身价抬得很高，这正是他</a:t>
            </a: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虚荣心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的具体表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27"/>
          <p:cNvSpPr/>
          <p:nvPr/>
        </p:nvSpPr>
        <p:spPr>
          <a:xfrm>
            <a:off x="228600" y="380880"/>
            <a:ext cx="855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3.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墨斯三次问话</a:t>
            </a: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66ff"/>
                </a:solidFill>
                <a:latin typeface="Times New Roman"/>
              </a:rPr>
              <a:t>神态、语气一样吗？为什么要“笑着问道”，这“笑”有什么含义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762120" y="30492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赫耳墨斯和雕像者 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8600" y="243828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笑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想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问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600200" y="5257800"/>
            <a:ext cx="609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爱慕虚荣而不被重视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>
            <a:off x="4191120" y="32767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847800" y="1447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</a:rPr>
              <a:t>情节发展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方正舒体"/>
              </a:rPr>
              <a:t>这样改动情节后寓意有没有变化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方正舒体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方正舒体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Arial Unicode MS"/>
                <a:ea typeface="方正舒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80880" y="1600200"/>
            <a:ext cx="83822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Times New Roman"/>
                <a:ea typeface="楷体_GB2312"/>
              </a:rPr>
              <a:t>赫耳墨斯和雕像者</a:t>
            </a:r>
            <a:r>
              <a:rPr b="0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Times New Roman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赫耳墨斯想知道他在人间受到多大尊重，就化作凡人，来到一个雕像者的店里。他看见宙斯的雕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像，问道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值多少钱</a:t>
            </a:r>
            <a:r>
              <a:rPr b="1" lang="en-US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雕像者说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一个银元。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赫耳墨斯又笑着问道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赫拉的雕像值多少钱</a:t>
            </a:r>
            <a:r>
              <a:rPr b="1" lang="en-US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雕像者说：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还要贵一点。</a:t>
            </a: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66ff"/>
                </a:solidFill>
                <a:latin typeface="Arial Unicode MS"/>
                <a:ea typeface="楷体_GB2312"/>
              </a:rPr>
              <a:t>赫耳墨斯听后，默不作声，悄然离去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33520" y="56386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ff"/>
                </a:solidFill>
                <a:latin typeface="Times New Roman"/>
                <a:ea typeface="华文隶书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  <a:ea typeface="华文隶书"/>
              </a:rPr>
              <a:t>明确：</a:t>
            </a:r>
            <a:r>
              <a:rPr b="1" lang="zh-CN" sz="2800" spc="-1" strike="noStrike">
                <a:solidFill>
                  <a:srgbClr val="008080"/>
                </a:solidFill>
                <a:latin typeface="宋体"/>
                <a:ea typeface="华文隶书"/>
              </a:rPr>
              <a:t>原文刻画了一个盲目自高自大者的形象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BD14981_"/>
          <p:cNvPicPr/>
          <p:nvPr/>
        </p:nvPicPr>
        <p:blipFill>
          <a:blip r:embed="rId2"/>
          <a:stretch/>
        </p:blipFill>
        <p:spPr>
          <a:xfrm>
            <a:off x="8305920" y="6114960"/>
            <a:ext cx="533160" cy="514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29-18-02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45720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二、分析情节、概括寓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05"/>
          <p:cNvPicPr/>
          <p:nvPr/>
        </p:nvPicPr>
        <p:blipFill>
          <a:blip r:embed="rId1"/>
          <a:stretch/>
        </p:blipFill>
        <p:spPr>
          <a:xfrm>
            <a:off x="6172200" y="4071960"/>
            <a:ext cx="297180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bird14.gif (1018 bytes)"/>
          <p:cNvPicPr/>
          <p:nvPr/>
        </p:nvPicPr>
        <p:blipFill>
          <a:blip r:embed="rId2"/>
          <a:stretch/>
        </p:blipFill>
        <p:spPr>
          <a:xfrm>
            <a:off x="6858000" y="5105520"/>
            <a:ext cx="487440" cy="4870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05"/>
          <p:cNvPicPr/>
          <p:nvPr/>
        </p:nvPicPr>
        <p:blipFill>
          <a:blip r:embed="rId3"/>
          <a:stretch/>
        </p:blipFill>
        <p:spPr>
          <a:xfrm>
            <a:off x="1676520" y="2362320"/>
            <a:ext cx="3352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838080" y="604800"/>
            <a:ext cx="6248520" cy="60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学习指导二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:(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蚊子和狮子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蚊子为什么能打败狮子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66ff"/>
                </a:solidFill>
                <a:latin typeface="Times New Roman"/>
              </a:rPr>
              <a:t>蚊子为什么会败给蜘蛛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点明寓意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934320" y="137160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智者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086600" y="32004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骄者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019920" y="502920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骄兵必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600200" y="457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《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蚊子和狮子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220968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蚊子：冲、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200400" y="190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229640" y="1676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扬长避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4419720" y="25909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6019920" y="22860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狮子：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742680" y="373392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蚊子：吹、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4229640" y="3352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骄傲自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4495680" y="43434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黑体"/>
              </a:rPr>
              <a:t>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7"/>
          <p:cNvSpPr/>
          <p:nvPr/>
        </p:nvSpPr>
        <p:spPr>
          <a:xfrm>
            <a:off x="6019920" y="3886200"/>
            <a:ext cx="28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蜘蛛：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209680" y="525780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骄兵必败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4191120" y="2590920"/>
            <a:ext cx="1447560" cy="152280"/>
          </a:xfrm>
          <a:prstGeom prst="rightArrow">
            <a:avLst>
              <a:gd name="adj1" fmla="val 50000"/>
              <a:gd name="adj2" fmla="val 2376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4"/>
          <p:cNvSpPr/>
          <p:nvPr/>
        </p:nvSpPr>
        <p:spPr>
          <a:xfrm>
            <a:off x="4267080" y="4267080"/>
            <a:ext cx="1524240" cy="152640"/>
          </a:xfrm>
          <a:prstGeom prst="rightArrow">
            <a:avLst>
              <a:gd name="adj1" fmla="val 50000"/>
              <a:gd name="adj2" fmla="val 24964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028" descr="z268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26"/>
          <p:cNvSpPr/>
          <p:nvPr/>
        </p:nvSpPr>
        <p:spPr>
          <a:xfrm>
            <a:off x="228600" y="457200"/>
            <a:ext cx="8464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寓言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是文学作品的一种体裁，是带有讽喻或讽刺的故事。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篇幅大都简短，主人公可以是人，可以是拟人化的生物或非生物，主题多是借此喻彼，借远喻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借古喻今，借小喻大，使深奥的道理从简单的故事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体现出来，具有鲜明的哲理性和讽刺性。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写法上常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运用夸张和拟人等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     </a:t>
            </a:r>
            <a:r>
              <a:rPr b="1" lang="zh-CN" sz="2800" spc="-1" strike="noStrike" u="sng">
                <a:solidFill>
                  <a:srgbClr val="990099"/>
                </a:solidFill>
                <a:uFillTx/>
                <a:latin typeface="Times New Roman"/>
              </a:rPr>
              <a:t>寓言早在我国春秋战国时代就已经盛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诸子百家著作中都有不少寓言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流传下来。外国寓言作品，著名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有古代希腊的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伊索寓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》</a:t>
            </a:r>
            <a:r>
              <a:rPr b="1" lang="zh-CN" sz="2000" spc="-1" strike="noStrike">
                <a:solidFill>
                  <a:srgbClr val="990099"/>
                </a:solidFill>
                <a:latin typeface="Times New Roman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法国的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拉封丹寓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俄国的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克雷洛夫寓言</a:t>
            </a: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Object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2993760" y="228600"/>
            <a:ext cx="275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蚊子和狮子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752480" y="1143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楷体_GB2312"/>
              </a:rPr>
              <a:t>蚊子径直朝狮子飞过去，趁狮子没有准备，张嘴就咬，而且专咬狮子鼻子周围没毛的地方。狮子气得用爪子把自己的脸都抓破了，也没抓到蚊子。蚊子战胜了狮子，就吹着喇叭，唱着凯歌飞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0" y="594360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这样改动情节后寓意有没有变化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为什么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304920" y="380880"/>
            <a:ext cx="830556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拓展思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续编寓言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赫耳墨斯听到自己的雕像作为添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白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之后，他的心情如何？他说了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蚊子战胜狮子，吹着喇叭、吹着凯歌飞走，却被蜘蛛网粘住了，以后还会发生什么故事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6"/>
          <p:cNvGrpSpPr/>
          <p:nvPr/>
        </p:nvGrpSpPr>
        <p:grpSpPr>
          <a:xfrm>
            <a:off x="1096920" y="3056040"/>
            <a:ext cx="6950160" cy="747720"/>
            <a:chOff x="1096920" y="3056040"/>
            <a:chExt cx="6950160" cy="747720"/>
          </a:xfrm>
        </p:grpSpPr>
        <p:sp>
          <p:nvSpPr>
            <p:cNvPr id="168" name="Rectangle 3"/>
            <p:cNvSpPr/>
            <p:nvPr/>
          </p:nvSpPr>
          <p:spPr>
            <a:xfrm>
              <a:off x="1096920" y="305604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1096920" y="3056040"/>
              <a:ext cx="695016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1096920" y="2917800"/>
            <a:ext cx="6950160" cy="1022400"/>
            <a:chOff x="1096920" y="2917800"/>
            <a:chExt cx="6950160" cy="1022400"/>
          </a:xfrm>
        </p:grpSpPr>
        <p:sp>
          <p:nvSpPr>
            <p:cNvPr id="171" name="Rectangle 7"/>
            <p:cNvSpPr/>
            <p:nvPr/>
          </p:nvSpPr>
          <p:spPr>
            <a:xfrm>
              <a:off x="1096920" y="291780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096920" y="2917800"/>
              <a:ext cx="695016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61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11" descr="Mu9j6cl8.gif (5006 字节)"/>
          <p:cNvPicPr/>
          <p:nvPr/>
        </p:nvPicPr>
        <p:blipFill>
          <a:blip r:embed="rId1"/>
          <a:stretch/>
        </p:blipFill>
        <p:spPr>
          <a:xfrm>
            <a:off x="7124760" y="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book3"/>
          <p:cNvPicPr/>
          <p:nvPr/>
        </p:nvPicPr>
        <p:blipFill>
          <a:blip r:embed="rId2"/>
          <a:stretch/>
        </p:blipFill>
        <p:spPr>
          <a:xfrm>
            <a:off x="7086600" y="5657760"/>
            <a:ext cx="2057400" cy="120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01-01-004-03.gif (13904 字节)"/>
          <p:cNvPicPr/>
          <p:nvPr/>
        </p:nvPicPr>
        <p:blipFill>
          <a:blip r:embed="rId3"/>
          <a:stretch/>
        </p:blipFill>
        <p:spPr>
          <a:xfrm>
            <a:off x="0" y="0"/>
            <a:ext cx="1828800" cy="971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M_042"/>
          <p:cNvPicPr/>
          <p:nvPr/>
        </p:nvPicPr>
        <p:blipFill>
          <a:blip r:embed="rId1"/>
          <a:stretch/>
        </p:blipFill>
        <p:spPr>
          <a:xfrm>
            <a:off x="304920" y="228600"/>
            <a:ext cx="266688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A2_099"/>
          <p:cNvPicPr/>
          <p:nvPr/>
        </p:nvPicPr>
        <p:blipFill>
          <a:blip r:embed="rId2"/>
          <a:stretch/>
        </p:blipFill>
        <p:spPr>
          <a:xfrm>
            <a:off x="0" y="3187800"/>
            <a:ext cx="3733920" cy="3670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A1_287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438280" y="32004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蚊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657600" y="205740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660033"/>
                </a:solidFill>
                <a:latin typeface="Times New Roman"/>
                <a:ea typeface="楷体_GB2312"/>
              </a:rPr>
              <a:t>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0" y="4952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191120" y="45720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任何时候都要谦虚谨慎，只有保持清醒的头脑，才能永远立于不败之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762120" y="685800"/>
            <a:ext cx="16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660066"/>
                </a:solidFill>
                <a:latin typeface="Times New Roman"/>
                <a:ea typeface="隶书"/>
              </a:rPr>
              <a:t>伊索寓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9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272880" y="1511280"/>
            <a:ext cx="8763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蚊子撞到蜘蛛网上，一动也不能动。它有战胜狮子的经历，而今要死在蜘蛛的手里，真是难过极了，懊悔极了。它懊悔自己战胜狮子以后太得意忘形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这时，蜘蛛一步步向蚊子爬了过来，张开大嘴，蚊子闭上眼睛等待着那可怕的时候。就在这时，从那棵高大的松树上掉下一滴松脂，不偏不倚正好落在蜘蛛身上，顷刻，蜘蛛就被松脂包住了，再也动弹不得。由于松脂的重量，蜘蛛网被拉破了，蚊子也因此得救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1069560" y="40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异向思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762120" y="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自编寓言故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018.gif (16684 字节)"/>
          <p:cNvPicPr/>
          <p:nvPr/>
        </p:nvPicPr>
        <p:blipFill>
          <a:blip r:embed="rId1"/>
          <a:stretch/>
        </p:blipFill>
        <p:spPr>
          <a:xfrm>
            <a:off x="533520" y="4211640"/>
            <a:ext cx="2646360" cy="2646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m1"/>
          <p:cNvPicPr/>
          <p:nvPr/>
        </p:nvPicPr>
        <p:blipFill>
          <a:blip r:embed="rId2"/>
          <a:stretch/>
        </p:blipFill>
        <p:spPr>
          <a:xfrm>
            <a:off x="3352680" y="4419720"/>
            <a:ext cx="3657600" cy="2438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990720" y="2743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嘴和眼睛的对话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57200" y="12193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提示：情节要合理具体，情节与寓意要一致，寓意能揭示一种生活道理。）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144800" y="304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树和斧子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3" descr="gj4"/>
          <p:cNvPicPr/>
          <p:nvPr/>
        </p:nvPicPr>
        <p:blipFill>
          <a:blip r:embed="rId1"/>
          <a:stretch/>
        </p:blipFill>
        <p:spPr>
          <a:xfrm>
            <a:off x="4724280" y="2819520"/>
            <a:ext cx="3886200" cy="2657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tree"/>
          <p:cNvPicPr/>
          <p:nvPr/>
        </p:nvPicPr>
        <p:blipFill>
          <a:blip r:embed="rId2"/>
          <a:stretch/>
        </p:blipFill>
        <p:spPr>
          <a:xfrm>
            <a:off x="838080" y="1219320"/>
            <a:ext cx="4391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01-09-011-10.gif (4488 字节)"/>
          <p:cNvPicPr/>
          <p:nvPr/>
        </p:nvPicPr>
        <p:blipFill>
          <a:blip r:embed="rId1"/>
          <a:stretch/>
        </p:blipFill>
        <p:spPr>
          <a:xfrm>
            <a:off x="6172200" y="380880"/>
            <a:ext cx="2133720" cy="2286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685800" y="6094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画笔和颜料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762120" y="342900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蜜蜂与花朵</a:t>
            </a: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144800" y="762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猫和老鼠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3" descr="08"/>
          <p:cNvPicPr/>
          <p:nvPr/>
        </p:nvPicPr>
        <p:blipFill>
          <a:blip r:embed="rId1"/>
          <a:stretch/>
        </p:blipFill>
        <p:spPr>
          <a:xfrm>
            <a:off x="5791320" y="685800"/>
            <a:ext cx="2903400" cy="30481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cat056.gif (19003 字节)"/>
          <p:cNvPicPr/>
          <p:nvPr/>
        </p:nvPicPr>
        <p:blipFill>
          <a:blip r:embed="rId2"/>
          <a:stretch/>
        </p:blipFill>
        <p:spPr>
          <a:xfrm>
            <a:off x="0" y="3048120"/>
            <a:ext cx="4800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60948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1096920" y="2664000"/>
            <a:ext cx="6950160" cy="1509480"/>
            <a:chOff x="1096920" y="2664000"/>
            <a:chExt cx="6950160" cy="1509480"/>
          </a:xfrm>
        </p:grpSpPr>
        <p:sp>
          <p:nvSpPr>
            <p:cNvPr id="203" name="Rectangle 3"/>
            <p:cNvSpPr/>
            <p:nvPr/>
          </p:nvSpPr>
          <p:spPr>
            <a:xfrm>
              <a:off x="1096920" y="2664000"/>
              <a:ext cx="69501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4"/>
            <p:cNvSpPr/>
            <p:nvPr/>
          </p:nvSpPr>
          <p:spPr>
            <a:xfrm>
              <a:off x="1096920" y="2664000"/>
              <a:ext cx="695016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3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" name="Picture 5" descr="01-14-002-03"/>
          <p:cNvPicPr/>
          <p:nvPr/>
        </p:nvPicPr>
        <p:blipFill>
          <a:blip r:embed="rId1"/>
          <a:stretch/>
        </p:blipFill>
        <p:spPr>
          <a:xfrm>
            <a:off x="6172200" y="1371600"/>
            <a:ext cx="1336680" cy="148608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10"/>
          <p:cNvGrpSpPr/>
          <p:nvPr/>
        </p:nvGrpSpPr>
        <p:grpSpPr>
          <a:xfrm>
            <a:off x="1096920" y="2778120"/>
            <a:ext cx="6950160" cy="1295280"/>
            <a:chOff x="1096920" y="2778120"/>
            <a:chExt cx="6950160" cy="1295280"/>
          </a:xfrm>
        </p:grpSpPr>
        <p:sp>
          <p:nvSpPr>
            <p:cNvPr id="207" name="Rectangle 7"/>
            <p:cNvSpPr/>
            <p:nvPr/>
          </p:nvSpPr>
          <p:spPr>
            <a:xfrm>
              <a:off x="1096920" y="277812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>
              <a:off x="1096920" y="2778120"/>
              <a:ext cx="69501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9" name="Picture 9" descr="01-14-003-16"/>
          <p:cNvPicPr/>
          <p:nvPr/>
        </p:nvPicPr>
        <p:blipFill>
          <a:blip r:embed="rId2"/>
          <a:stretch/>
        </p:blipFill>
        <p:spPr>
          <a:xfrm>
            <a:off x="914400" y="3962520"/>
            <a:ext cx="2057400" cy="201744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4"/>
          <p:cNvGrpSpPr/>
          <p:nvPr/>
        </p:nvGrpSpPr>
        <p:grpSpPr>
          <a:xfrm>
            <a:off x="1096920" y="2955960"/>
            <a:ext cx="6950160" cy="946080"/>
            <a:chOff x="1096920" y="2955960"/>
            <a:chExt cx="6950160" cy="946080"/>
          </a:xfrm>
        </p:grpSpPr>
        <p:sp>
          <p:nvSpPr>
            <p:cNvPr id="211" name="Rectangle 11"/>
            <p:cNvSpPr/>
            <p:nvPr/>
          </p:nvSpPr>
          <p:spPr>
            <a:xfrm>
              <a:off x="1096920" y="295596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2"/>
            <p:cNvSpPr/>
            <p:nvPr/>
          </p:nvSpPr>
          <p:spPr>
            <a:xfrm>
              <a:off x="1096920" y="2955960"/>
              <a:ext cx="695016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5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Picture 13" descr="01-14-004-28"/>
          <p:cNvPicPr/>
          <p:nvPr/>
        </p:nvPicPr>
        <p:blipFill>
          <a:blip r:embed="rId3"/>
          <a:stretch/>
        </p:blipFill>
        <p:spPr>
          <a:xfrm>
            <a:off x="5943600" y="3886200"/>
            <a:ext cx="1828800" cy="178452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8"/>
          <p:cNvGrpSpPr/>
          <p:nvPr/>
        </p:nvGrpSpPr>
        <p:grpSpPr>
          <a:xfrm>
            <a:off x="1096920" y="3108240"/>
            <a:ext cx="6950160" cy="641520"/>
            <a:chOff x="1096920" y="3108240"/>
            <a:chExt cx="6950160" cy="641520"/>
          </a:xfrm>
        </p:grpSpPr>
        <p:sp>
          <p:nvSpPr>
            <p:cNvPr id="215" name="Rectangle 15"/>
            <p:cNvSpPr/>
            <p:nvPr/>
          </p:nvSpPr>
          <p:spPr>
            <a:xfrm>
              <a:off x="1096920" y="3108240"/>
              <a:ext cx="6950160" cy="1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6"/>
            <p:cNvSpPr/>
            <p:nvPr/>
          </p:nvSpPr>
          <p:spPr>
            <a:xfrm>
              <a:off x="1096920" y="3108240"/>
              <a:ext cx="6950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Picture 17" descr="01-14-005-02"/>
          <p:cNvPicPr/>
          <p:nvPr/>
        </p:nvPicPr>
        <p:blipFill>
          <a:blip r:embed="rId4"/>
          <a:stretch/>
        </p:blipFill>
        <p:spPr>
          <a:xfrm>
            <a:off x="1066680" y="9144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9"/>
          <p:cNvSpPr/>
          <p:nvPr/>
        </p:nvSpPr>
        <p:spPr>
          <a:xfrm>
            <a:off x="2743200" y="3048120"/>
            <a:ext cx="37339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囱和浓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                                                                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04920" y="11844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韩非（约前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80—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前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33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），战国末期韩国人，著名思想家。他出身贵族，屡次上书韩王进谏，改革政治，实行富国强兵的政策，都未被采纳。后来，他得到秦始皇的赏识，在秦国任客卿。不久便被他的同学李斯等人谗言所陷，下狱后被迫自杀，死时才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47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岁。他著有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韩非子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一书，共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卷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55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篇。笔锋犀利，说理透辟，常用寓言故事阐明事理，富有说服力。其中许多寓言故事流传于世，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智子疑邻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</a:rPr>
              <a:t>就是其中的一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WordArt 3"/>
          <p:cNvSpPr txBox="1"/>
          <p:nvPr/>
        </p:nvSpPr>
        <p:spPr>
          <a:xfrm>
            <a:off x="3276720" y="3049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作者介绍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2"/>
          <p:cNvSpPr txBox="1"/>
          <p:nvPr/>
        </p:nvSpPr>
        <p:spPr>
          <a:xfrm rot="5400000">
            <a:off x="-1200240" y="2800080"/>
            <a:ext cx="4495680" cy="723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华文行楷"/>
              </a:rPr>
              <a:t>寓言的特点</a:t>
            </a:r>
            <a:endParaRPr b="1" lang="en-US" sz="54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7628400" y="914400"/>
            <a:ext cx="1277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寓”是“寄托”的意思。寓言，通常是把深刻的道理寓于简单的故事之中，借此喻彼，借小喻大，借古喻今，惯于运用拟人的手法，语言简洁锋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676520" y="91440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隶书"/>
              </a:rPr>
              <a:t>一、劝喻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676520" y="2743200"/>
            <a:ext cx="335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Times New Roman"/>
                <a:ea typeface="隶书"/>
              </a:rPr>
              <a:t>二、讽谏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533520" y="19810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宋国有个富人，因天下大雨，墙坍塌下来。他的儿子说：“如果不（赶紧）修筑它，一定会有盗贼进来。”隔壁的老人也这么说。（可是富人不听他们的话）这天晚上果然丢失了大量的财物，这家人很赞赏儿子聪明，却怀疑偷盗是隔壁那个老人干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WordArt 3"/>
          <p:cNvSpPr txBox="1"/>
          <p:nvPr/>
        </p:nvSpPr>
        <p:spPr>
          <a:xfrm>
            <a:off x="3048120" y="228600"/>
            <a:ext cx="2666880" cy="6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译文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865800" y="914400"/>
            <a:ext cx="16527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智子疑邻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380880" y="284040"/>
            <a:ext cx="807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智子疑邻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中开头写故事发生的背景，起什么作用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228600" y="17524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宋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是故事发生的地点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是被盗的原因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天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导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墙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墙坏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又为盗窃者提供了自由进出的条件。由此引出身份不同的两个人对这件事的相同看法：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不筑，必将有盗。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这是故事的要害处，因为故事的主旨不在于说明人的先见，而在于说明持相同看法的人却因身份不同（即与主人的亲疏关系不同）遭到不同对待。因此，待到预见成为事实，那富人便夸说自己的儿子聪明，而怀疑偷盗是邻父干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1066680" y="1523880"/>
            <a:ext cx="70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则寓言要说明一个什么道理？对正确的意见应采取怎样的态度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533520" y="3429000"/>
            <a:ext cx="81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听意见只应听正确的，而不要看这意见是什么人提出，对人不能持偏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116360" y="8334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5塞翁失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WordArt 7"/>
          <p:cNvSpPr txBox="1"/>
          <p:nvPr/>
        </p:nvSpPr>
        <p:spPr>
          <a:xfrm>
            <a:off x="5334120" y="3429000"/>
            <a:ext cx="3429000" cy="24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塞翁失马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7124040" y="5638680"/>
            <a:ext cx="15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淮南子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838080" y="1236600"/>
            <a:ext cx="723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塞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有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马无故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入胡。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皆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之，其父曰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何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福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数月，其马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胡骏马而归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皆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其父曰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何遽不能为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3089520" y="179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481640" y="17938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擅长、精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10"/>
          <p:cNvSpPr/>
          <p:nvPr/>
        </p:nvSpPr>
        <p:spPr>
          <a:xfrm>
            <a:off x="5181480" y="457200"/>
            <a:ext cx="2743200" cy="762120"/>
          </a:xfrm>
          <a:prstGeom prst="wedgeEllipseCallout">
            <a:avLst>
              <a:gd name="adj1" fmla="val -43226"/>
              <a:gd name="adj2" fmla="val 63958"/>
            </a:avLst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5930640" y="617400"/>
            <a:ext cx="129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216200" y="1738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逃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2816640" y="27608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3387960" y="27860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安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692316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怎么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2518200" y="36432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疑问语气词，吗、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5403240" y="3613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带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3162600" y="4656240"/>
            <a:ext cx="26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代词，指塞翁，译成“他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21"/>
          <p:cNvSpPr/>
          <p:nvPr/>
        </p:nvSpPr>
        <p:spPr>
          <a:xfrm>
            <a:off x="1745640" y="1720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靠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838080" y="990720"/>
            <a:ext cx="7162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富良马，其子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骑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堕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折其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皆吊之，其父曰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此何遽不为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乎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年，胡人大入塞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丁壮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引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而战。近塞之人，死者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十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独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跛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之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父子相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4092120" y="1471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喜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750360" y="3473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壮年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1416240" y="4387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拉开弓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6216840" y="45194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十分之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1577520" y="560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2511720" y="5586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5463720" y="1492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摔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2187000" y="3443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经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700160" y="55864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保全（性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3117240" y="55767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花朵1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457200" y="6094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塞翁失马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靠近长城一带的人们中，有一个精通术数的人。（一天）他家的马不知什么缘故逃到胡人那边去了，人们都来安慰他，他却说：“这难道不是福气吗？”过了几个月，他的那匹马（竟然）带领一群胡人的骏马回来了。人们都去祝贺他，他却说：“这难道不是祸害吗？”家里有的是好马，他儿子喜欢骑着玩，（有一天）从马上摔下来，摔断了大腿。人们都来安慰他，他却说：“这难道不是福气吗？”过了一年，胡人大举进攻，进了长城，壮年男子都拿起武器作战。靠近长城一带的人，绝大多数都战死沙场。他儿子就因为腿瘸的缘故（没有被征去打仗），父子得以保全生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2587680" y="512640"/>
            <a:ext cx="15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塞翁失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告诉我们一个什么哲理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380880" y="1171440"/>
            <a:ext cx="815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要说明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祸兮福所倚，福兮祸所伏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老子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》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58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章）这两句话的，阐述了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祸与福的对立统一关系：事情的好坏可以转化，要辨证地看待事物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成语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塞翁失马，焉知非福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就来自这个故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247920" y="3048120"/>
            <a:ext cx="19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塞翁失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你认为好事一定可以变坏事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228600" y="3733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好事变坏事或坏事变好事，都是要在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一定的条件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下。如，家庭突遭打击，变故，陷入困境，这是祸，但如果能从容、镇静，在困境中拼搏、奋起，那么，这又不失为一种宝贵的精神财富。当然，在困境中一蹶不振，丧失信心，甚至失去生活勇气，那么，这祸就只能是祸了。所以，要注意把握好转化的点、条件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96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304920" y="1447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宋体"/>
                <a:ea typeface="方正舒体"/>
              </a:rPr>
              <a:t>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伊索，公元前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6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宋体"/>
                <a:ea typeface="华文楷体"/>
              </a:rPr>
              <a:t>世纪的希腊寓言家。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他原是萨摩斯岛雅德蒙家的奴隶，后来被德尔斐人杀害。他死后德尔斐流行瘟疫，德尔斐人出钱赔偿他的生命，这笔钱被老雅德蒙的同名孙子领去。传说雅德蒙给他自由以后，他经常出入吕底亚国王克洛伊索斯的宫廷。 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13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世纪发现的一部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《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伊索传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的抄本中，他被描绘得丑陋不堪，从这部传记产生了很多有关他的流行故事。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495680" y="44197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元前</a:t>
            </a:r>
            <a:r>
              <a:rPr b="1" lang="en-US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5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世纪末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伊索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  <a:ea typeface="华文楷体"/>
              </a:rPr>
              <a:t>这个名字已为希腊人所熟知，希腊寓言开始都归在他的名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838080" y="380880"/>
            <a:ext cx="28958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79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伊索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slow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96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228600" y="2133720"/>
            <a:ext cx="862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《</a:t>
            </a: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伊索寓言</a:t>
            </a:r>
            <a:r>
              <a:rPr b="1" lang="en-US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》</a:t>
            </a: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大多是动物的故事，以动物寓人。伊索寓言形式短小精悍，比喻恰当，形象生动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WordArt 3" descr=""/>
          <p:cNvPicPr/>
          <p:nvPr/>
        </p:nvPicPr>
        <p:blipFill>
          <a:blip r:embed="rId2"/>
          <a:stretch/>
        </p:blipFill>
        <p:spPr>
          <a:xfrm>
            <a:off x="146160" y="603360"/>
            <a:ext cx="443232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029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26" descr="宙斯"/>
          <p:cNvPicPr/>
          <p:nvPr/>
        </p:nvPicPr>
        <p:blipFill>
          <a:blip r:embed="rId2"/>
          <a:stretch/>
        </p:blipFill>
        <p:spPr>
          <a:xfrm>
            <a:off x="0" y="0"/>
            <a:ext cx="2473200" cy="5334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027"/>
          <p:cNvSpPr/>
          <p:nvPr/>
        </p:nvSpPr>
        <p:spPr>
          <a:xfrm>
            <a:off x="304920" y="53341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宙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28"/>
          <p:cNvSpPr/>
          <p:nvPr/>
        </p:nvSpPr>
        <p:spPr>
          <a:xfrm>
            <a:off x="2514600" y="152280"/>
            <a:ext cx="6400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宙斯是希腊神话中众神之王。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希腊神话说他居住在奥林匹斯山，以雷电为武器，维持着天地间的秩序，公牛和鹰是他的标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他的兄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波士顿和哈德斯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分别掌管海洋和地狱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宙斯还和许多女神生下了不少儿女，如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火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赫费斯托、正义和艺术的保护者、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太阳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波罗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月神和狩猎之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尔迪美斯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旅行和商业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赫尔墨斯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美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芙洛神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战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阿雷斯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智慧之神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隶书"/>
              </a:rPr>
              <a:t>雅典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pic-pandola"/>
          <p:cNvPicPr/>
          <p:nvPr/>
        </p:nvPicPr>
        <p:blipFill>
          <a:blip r:embed="rId2"/>
          <a:stretch/>
        </p:blipFill>
        <p:spPr>
          <a:xfrm>
            <a:off x="0" y="0"/>
            <a:ext cx="3421080" cy="55627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838080" y="55627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赫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505320" y="4572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赫拉是希腊神话中的天后，主神宙斯的妻子。</a:t>
            </a:r>
            <a:r>
              <a:rPr b="1" lang="zh-CN" sz="4800" spc="-1" strike="noStrike">
                <a:solidFill>
                  <a:srgbClr val="9900cc"/>
                </a:solidFill>
                <a:latin typeface="Times New Roman"/>
                <a:ea typeface="隶书"/>
              </a:rPr>
              <a:t>罗马神话中称为朱诺，掌管婚姻和生育，是妇女的保护神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神使赫尔墨斯"/>
          <p:cNvPicPr/>
          <p:nvPr/>
        </p:nvPicPr>
        <p:blipFill>
          <a:blip r:embed="rId2"/>
          <a:stretch/>
        </p:blipFill>
        <p:spPr>
          <a:xfrm>
            <a:off x="0" y="0"/>
            <a:ext cx="308628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304920" y="49528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赫耳墨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352680" y="228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 u="sng">
                <a:solidFill>
                  <a:srgbClr val="9900cc"/>
                </a:solidFill>
                <a:uFillTx/>
                <a:latin typeface="Times New Roman"/>
                <a:ea typeface="隶书"/>
              </a:rPr>
              <a:t>赫尔墨斯，一译海尔梅斯，是希腊神话中众神的使者，亡灵的接引神。</a:t>
            </a:r>
            <a:r>
              <a:rPr b="1" lang="zh-CN" sz="3600" spc="-1" strike="noStrike">
                <a:solidFill>
                  <a:srgbClr val="9900cc"/>
                </a:solidFill>
                <a:latin typeface="Times New Roman"/>
                <a:ea typeface="隶书"/>
              </a:rPr>
              <a:t>罗马神话中称为墨丘利，掌管商业、交通、牧畜、竞技、演说以及欺诈、盗窃。他行走如飞，多才多艺，传说首创字母、数字、天文学、体育运动，发明古代的竖琴，并把种植橄榄树的技术传给人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029" descr="zuy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26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0" y="0"/>
            <a:ext cx="2949480" cy="52578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027"/>
          <p:cNvSpPr/>
          <p:nvPr/>
        </p:nvSpPr>
        <p:spPr>
          <a:xfrm>
            <a:off x="533520" y="5257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雅典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28"/>
          <p:cNvSpPr/>
          <p:nvPr/>
        </p:nvSpPr>
        <p:spPr>
          <a:xfrm>
            <a:off x="3124080" y="2286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Times New Roman"/>
                <a:ea typeface="隶书"/>
              </a:rPr>
              <a:t>智慧女神雅典娜的诞生是最为奇特的：传说她是从宙斯的头脑里长出来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15:59:07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32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