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809-9250-4FE1-BB22-0C6492EB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AEE-37EA-4632-AA1F-E04E7A2D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DDF-A05A-45EA-B9AF-C75803E4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97C-2D7D-4826-9381-3A55F2AE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BF9C-11D9-4FDE-9AAE-FAA7EC9F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AF84-1AF6-4013-894B-284A5543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09C4-97D2-4E86-9DF9-C4C8B8B6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AEDD-A206-4585-A433-B0D01597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D624-7DDF-4297-8C44-08DA8E06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B177-3FEA-46F8-81F3-68184CB5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EA2C-A1BF-4359-BEE9-0A28441B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4BE-1948-4F07-AF05-34065B57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875E-D807-484B-B766-C3E8BF3E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9788-31DF-4E6C-8C53-A90E9984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015C-70AC-4DD9-9E91-D3616BAD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F1B9-4CA3-4A9F-8101-C80EB8B1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CF50-346E-4EF6-BF38-706A4F77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8D2-82A1-4C4F-A316-BC643894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2C6-1105-409F-93DA-80CFF8B3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E31-D62E-49D6-BB7A-0F55974E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E1D2-7A7A-484D-9D1F-65A0387F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D61-7EC6-4F4C-BCD9-3BE7BE14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68A-C82C-4277-BA10-C4EB4E6E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A14-C040-4196-9F01-23AA5D3C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F046-D7D9-40FF-86E3-038CD7064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F640-314D-4791-B6C0-094203FD21F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E262-D2FC-4AAA-B634-40AFA310B9AB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yzzl_zhou.wav" TargetMode="External"/><Relationship Id="rId4" Type="http://schemas.openxmlformats.org/officeDocument/2006/relationships/hyperlink" Target="yzzl_bin.wav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990720" y="141768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自读课文，想一想在瑞士春天的燕子发生了什么样的事情？借助拼音认读生字，互相交流识字方法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8" name="Picture 5" descr="燕子专列"/>
          <p:cNvPicPr/>
          <p:nvPr/>
        </p:nvPicPr>
        <p:blipFill>
          <a:blip r:embed="rId3"/>
          <a:srcRect l="0" t="2185" r="0" b="3999"/>
          <a:stretch/>
        </p:blipFill>
        <p:spPr>
          <a:xfrm>
            <a:off x="2921040" y="3048120"/>
            <a:ext cx="2870280" cy="3429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6172200" y="3809880"/>
            <a:ext cx="60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燕子专列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3581280" y="15238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读 读 认 认</a:t>
            </a:r>
            <a:endParaRPr b="1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523880" y="2706840"/>
            <a:ext cx="6705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欧　洲　　瑞　士　　启　发　　特　殊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骤　然　　跋　涉　　濒　临　　覆　盖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　　　　　车　厢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346040" y="2286000"/>
            <a:ext cx="7188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ōu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　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3"/>
              </a:rPr>
              <a:t>zhōu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    ruì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　　　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qǐ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　　　　　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shū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zhòu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　　　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  <a:ea typeface="宋体"/>
              </a:rPr>
              <a:t>á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　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shè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　 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  <a:ea typeface="宋体"/>
                <a:hlinkClick r:id="rId4"/>
              </a:rPr>
              <a:t>bīn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　　　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fù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　　　　　　　　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xiān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宋体"/>
              </a:rPr>
              <a:t>g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581280" y="15238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读 读 写 写</a:t>
            </a:r>
            <a:endParaRPr b="1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676520" y="2209680"/>
            <a:ext cx="60958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州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洲　　株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殊　　聚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骤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证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政　　栽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载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676520" y="4049640"/>
            <a:ext cx="60958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瑞 士　　救 命　　舒 适　　启 发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跋 涉　　疲 倦　　踏步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1219320" y="137160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正确、流利、有感情地朗读课文，想一想：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219320" y="19209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● 燕子冬去春来，能长途飞行，为什么还要用列车专送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219320" y="297180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● 课文中“能够做出这个决定真了不起”，“这个决定”是什么？为什么说“做出这个决定真了不起”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　　● 瑞士的居民在这件事中是怎样做的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●课文主要传达了一种怎样的感情，你是从哪些句子体会到的？ 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小学语文(记叙文）04"/>
          <p:cNvPicPr/>
          <p:nvPr/>
        </p:nvPicPr>
        <p:blipFill>
          <a:blip r:embed="rId2"/>
          <a:stretch/>
        </p:blipFill>
        <p:spPr>
          <a:xfrm>
            <a:off x="1143000" y="917640"/>
            <a:ext cx="2079720" cy="606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3581280" y="1371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读 读 悟 悟</a:t>
            </a:r>
            <a:endParaRPr b="1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219320" y="190980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）听到消息后，居民们纷纷走出家门，冒着料峭的春寒，顶着满天飞舞的大雪，踏着冻得坚硬的山路，四处寻找冻僵的燕子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219320" y="3551400"/>
            <a:ext cx="7315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）一天下来，她一个人就救护了十几只燕子。她的脸冻得通红，手冻得僵硬，但她一点也不在乎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219320" y="515160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☆读读这两个句子，说说你从中体会到什么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914400" y="1905120"/>
            <a:ext cx="7315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☆ 你想对贝蒂说几句话吗？把你想说的写下来吧！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914400" y="358452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☆ 搜集相关的人类保护鸟类的资料，举办一个以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保护鸟类，爱护鸟类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为主题的活动。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保护鸟类"/>
          <p:cNvPicPr/>
          <p:nvPr/>
        </p:nvPicPr>
        <p:blipFill>
          <a:blip r:embed="rId3"/>
          <a:stretch/>
        </p:blipFill>
        <p:spPr>
          <a:xfrm>
            <a:off x="1600200" y="1712880"/>
            <a:ext cx="6000840" cy="3697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4175280" y="5653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保护鸟类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鸟类01"/>
          <p:cNvPicPr/>
          <p:nvPr/>
        </p:nvPicPr>
        <p:blipFill>
          <a:blip r:embed="rId3"/>
          <a:stretch/>
        </p:blipFill>
        <p:spPr>
          <a:xfrm>
            <a:off x="2438280" y="1641600"/>
            <a:ext cx="4591080" cy="42368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4109040" y="595800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鸟　类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鸟类02"/>
          <p:cNvPicPr/>
          <p:nvPr/>
        </p:nvPicPr>
        <p:blipFill>
          <a:blip r:embed="rId3"/>
          <a:stretch/>
        </p:blipFill>
        <p:spPr>
          <a:xfrm>
            <a:off x="1523880" y="1719360"/>
            <a:ext cx="6172200" cy="40719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4109040" y="595800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鸟　类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鸟类03"/>
          <p:cNvPicPr/>
          <p:nvPr/>
        </p:nvPicPr>
        <p:blipFill>
          <a:blip r:embed="rId3"/>
          <a:stretch/>
        </p:blipFill>
        <p:spPr>
          <a:xfrm>
            <a:off x="1905120" y="1569960"/>
            <a:ext cx="5410080" cy="4373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4109040" y="595800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鸟　类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欧洲"/>
          <p:cNvPicPr/>
          <p:nvPr/>
        </p:nvPicPr>
        <p:blipFill>
          <a:blip r:embed="rId3"/>
          <a:srcRect l="0" t="8370" r="0" b="0"/>
          <a:stretch/>
        </p:blipFill>
        <p:spPr>
          <a:xfrm>
            <a:off x="2362320" y="1523880"/>
            <a:ext cx="4351320" cy="4986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6934320" y="3200400"/>
            <a:ext cx="47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欧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洲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5943600" y="1219320"/>
            <a:ext cx="2514600" cy="1295280"/>
          </a:xfrm>
          <a:prstGeom prst="cloudCallout">
            <a:avLst>
              <a:gd name="adj1" fmla="val -43180"/>
              <a:gd name="adj2" fmla="val 73527"/>
            </a:avLst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你知道瑞士吗？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143000" y="10206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鸟类04"/>
          <p:cNvPicPr/>
          <p:nvPr/>
        </p:nvPicPr>
        <p:blipFill>
          <a:blip r:embed="rId3"/>
          <a:stretch/>
        </p:blipFill>
        <p:spPr>
          <a:xfrm>
            <a:off x="2133720" y="1752480"/>
            <a:ext cx="5321160" cy="39801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4"/>
          <p:cNvSpPr/>
          <p:nvPr/>
        </p:nvSpPr>
        <p:spPr>
          <a:xfrm>
            <a:off x="4109040" y="5958000"/>
            <a:ext cx="9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鸟　类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pic>
          <p:nvPicPr>
            <p:cNvPr id="1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瑞士"/>
          <p:cNvPicPr/>
          <p:nvPr/>
        </p:nvPicPr>
        <p:blipFill>
          <a:blip r:embed="rId3"/>
          <a:stretch/>
        </p:blipFill>
        <p:spPr>
          <a:xfrm>
            <a:off x="1371600" y="1523880"/>
            <a:ext cx="6400800" cy="4540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4038480" y="6019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瑞　士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990720" y="1568520"/>
            <a:ext cx="7407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　　瑞士位于欧洲中部，与法国、德国、奥地利、意大利和列支敦斯登接壤。瑞士成立于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1291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年，由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26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个州组成，是一个民主的联邦立宪制国家，首都设在伯尔尼。瑞士联邦各州都拥有较大的自主权。瑞士国土面积不大，为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41,284.6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平方公里，南北最大跨度为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220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公里，东西之间最大的距离为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348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公里。 瑞士总人口为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7,096,500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，其中外来人员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1,348,000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（占全国人口总人数的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19%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）。瑞士的官方语言有</a:t>
            </a:r>
            <a:r>
              <a:rPr b="1" lang="en-US" sz="2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种：德语、法语、意大利语和罗曼语。 </a:t>
            </a:r>
            <a:endParaRPr b="1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瑞士军刀"/>
          <p:cNvPicPr/>
          <p:nvPr/>
        </p:nvPicPr>
        <p:blipFill>
          <a:blip r:embed="rId3"/>
          <a:srcRect l="4241" t="1932" r="2741" b="1533"/>
          <a:stretch/>
        </p:blipFill>
        <p:spPr>
          <a:xfrm>
            <a:off x="2514600" y="1600200"/>
            <a:ext cx="3352680" cy="4781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6400800" y="3048120"/>
            <a:ext cx="60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瑞士军刀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026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27"/>
          <p:cNvSpPr/>
          <p:nvPr/>
        </p:nvSpPr>
        <p:spPr>
          <a:xfrm>
            <a:off x="3886200" y="5715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瑞士手表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6" name="Picture 1028" descr="瑞士手表"/>
          <p:cNvPicPr/>
          <p:nvPr/>
        </p:nvPicPr>
        <p:blipFill>
          <a:blip r:embed="rId3"/>
          <a:stretch/>
        </p:blipFill>
        <p:spPr>
          <a:xfrm>
            <a:off x="1752480" y="1673280"/>
            <a:ext cx="5600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瑞士01"/>
          <p:cNvPicPr/>
          <p:nvPr/>
        </p:nvPicPr>
        <p:blipFill>
          <a:blip r:embed="rId3"/>
          <a:srcRect l="2752" t="5699" r="5191" b="8981"/>
          <a:stretch/>
        </p:blipFill>
        <p:spPr>
          <a:xfrm>
            <a:off x="2057400" y="1828800"/>
            <a:ext cx="5105520" cy="3429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962520" y="556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瑞　士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3962520" y="556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瑞　士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2" name="Picture 5" descr="瑞士02"/>
          <p:cNvPicPr/>
          <p:nvPr/>
        </p:nvPicPr>
        <p:blipFill>
          <a:blip r:embed="rId3"/>
          <a:srcRect l="2954" t="2160" r="4239" b="6776"/>
          <a:stretch/>
        </p:blipFill>
        <p:spPr>
          <a:xfrm>
            <a:off x="2133720" y="18288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143000" y="96372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4038480" y="5867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瑞　士</a:t>
            </a:r>
            <a:endParaRPr b="1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5" name="Picture 4" descr="瑞士03"/>
          <p:cNvPicPr/>
          <p:nvPr/>
        </p:nvPicPr>
        <p:blipFill>
          <a:blip r:embed="rId3"/>
          <a:stretch/>
        </p:blipFill>
        <p:spPr>
          <a:xfrm>
            <a:off x="1143000" y="1600200"/>
            <a:ext cx="685800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9:04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