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A17-82A2-40AC-8617-207CA3D7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3FE-7013-4713-8764-05A8AEF9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687-5D5D-4CFC-B2D1-B81D9202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D72-2ABA-4611-B82D-8821FA7B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A4A-EC12-4E40-9E79-8AC8C48F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02D-FA97-47EE-B370-69779C80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4F5-959B-46B5-82E4-147E6BA4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DB3-CA94-489E-8B0D-BF595DA1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481-39E1-475E-8D81-BB4DDE39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596-C484-4D1B-98F7-2B9A015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7F6-01B9-4746-9781-ECBDCC3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CF1-ACD1-458D-8DC6-016B9AA7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D74-A037-4331-BE6A-935036E15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副本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竹"/>
          <p:cNvPicPr/>
          <p:nvPr/>
        </p:nvPicPr>
        <p:blipFill>
          <a:blip r:embed="rId2"/>
          <a:stretch/>
        </p:blipFill>
        <p:spPr>
          <a:xfrm>
            <a:off x="0" y="0"/>
            <a:ext cx="29876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8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"/>
          <p:cNvGrpSpPr/>
          <p:nvPr/>
        </p:nvGrpSpPr>
        <p:grpSpPr>
          <a:xfrm>
            <a:off x="5651640" y="4653000"/>
            <a:ext cx="3492360" cy="2205000"/>
            <a:chOff x="5651640" y="4653000"/>
            <a:chExt cx="3492360" cy="2205000"/>
          </a:xfrm>
        </p:grpSpPr>
        <p:sp>
          <p:nvSpPr>
            <p:cNvPr id="47" name="矩形 6"/>
            <p:cNvSpPr/>
            <p:nvPr/>
          </p:nvSpPr>
          <p:spPr>
            <a:xfrm>
              <a:off x="7740720" y="6166080"/>
              <a:ext cx="64764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2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3" descr="建筑"/>
            <p:cNvPicPr/>
            <p:nvPr/>
          </p:nvPicPr>
          <p:blipFill>
            <a:blip r:embed="rId17"/>
            <a:srcRect l="61808" t="67851" r="0" b="0"/>
            <a:stretch/>
          </p:blipFill>
          <p:spPr>
            <a:xfrm>
              <a:off x="5651640" y="4653000"/>
              <a:ext cx="3492360" cy="220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yu"/>
          <p:cNvPicPr/>
          <p:nvPr/>
        </p:nvPicPr>
        <p:blipFill>
          <a:blip r:embed="rId18"/>
          <a:srcRect l="51581" t="32154" r="0" b="0"/>
          <a:stretch/>
        </p:blipFill>
        <p:spPr>
          <a:xfrm>
            <a:off x="2340000" y="333360"/>
            <a:ext cx="3673440" cy="38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0551"/>
          <p:cNvPicPr/>
          <p:nvPr/>
        </p:nvPicPr>
        <p:blipFill>
          <a:blip r:embed="rId19"/>
          <a:stretch/>
        </p:blipFill>
        <p:spPr>
          <a:xfrm>
            <a:off x="0" y="4392720"/>
            <a:ext cx="2592360" cy="248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15:3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56:36Z</dcterms:modified>
  <cp:revision>2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