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F8C-7A0F-44DD-8D43-6F5DA08A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07D-7019-4108-910F-BCE04EA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CE0-3CD0-44D2-8F08-D0FFE849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7BB-E1B4-4AF1-9820-6467220C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CC8-6CCC-4C09-A152-98472857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33C-75ED-4A32-94A8-F9FB6312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DF4-2238-491E-A754-727995B9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488-44FA-456B-8D71-B2C9B777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6F9-A805-408A-9BF5-7AF697D2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13C-EC65-4C94-A6F2-47B5152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232-D79B-417C-A2BD-A03E95F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8B1-57B8-4973-9156-7E5D11E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FF15-AF58-4A3C-81EB-7A101F31D8F9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4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6.png"/>
          <p:cNvPicPr/>
          <p:nvPr/>
        </p:nvPicPr>
        <p:blipFill>
          <a:blip r:embed="rId2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5" descr="6.png"/>
          <p:cNvPicPr/>
          <p:nvPr/>
        </p:nvPicPr>
        <p:blipFill>
          <a:blip r:embed="rId1"/>
          <a:srcRect l="0" t="0" r="-2133" b="0"/>
          <a:stretch/>
        </p:blipFill>
        <p:spPr>
          <a:xfrm>
            <a:off x="5648400" y="0"/>
            <a:ext cx="4929120" cy="5143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7.png"/>
          <p:cNvPicPr/>
          <p:nvPr/>
        </p:nvPicPr>
        <p:blipFill>
          <a:blip r:embed="rId2"/>
          <a:stretch/>
        </p:blipFill>
        <p:spPr>
          <a:xfrm>
            <a:off x="7139160" y="2717640"/>
            <a:ext cx="200484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25.png"/>
          <p:cNvPicPr/>
          <p:nvPr/>
        </p:nvPicPr>
        <p:blipFill>
          <a:blip r:embed="rId1"/>
          <a:stretch/>
        </p:blipFill>
        <p:spPr>
          <a:xfrm>
            <a:off x="0" y="0"/>
            <a:ext cx="4844880" cy="4832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26.png"/>
          <p:cNvPicPr/>
          <p:nvPr/>
        </p:nvPicPr>
        <p:blipFill>
          <a:blip r:embed="rId2"/>
          <a:stretch/>
        </p:blipFill>
        <p:spPr>
          <a:xfrm>
            <a:off x="1438200" y="13636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28.png"/>
          <p:cNvPicPr/>
          <p:nvPr/>
        </p:nvPicPr>
        <p:blipFill>
          <a:blip r:embed="rId3"/>
          <a:stretch/>
        </p:blipFill>
        <p:spPr>
          <a:xfrm>
            <a:off x="2643120" y="219240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30.png"/>
          <p:cNvPicPr/>
          <p:nvPr/>
        </p:nvPicPr>
        <p:blipFill>
          <a:blip r:embed="rId4"/>
          <a:stretch/>
        </p:blipFill>
        <p:spPr>
          <a:xfrm>
            <a:off x="3726000" y="2629080"/>
            <a:ext cx="15714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1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 repeatCount="4000">
                                  <p:stCondLst>
                                    <p:cond delay="1400"/>
                                  </p:stCondLst>
                                  <p:childTnLst>
                                    <p:animRot by="-10799880">
                                      <p:cBhvr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1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3000">
                                  <p:stCondLst>
                                    <p:cond delay="1200"/>
                                  </p:stCondLst>
                                  <p:childTnLst>
                                    <p:animRot by="-21599879">
                                      <p:cBhvr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 repeatCount="3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-21599879">
                                      <p:cBhvr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16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17:09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