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5759450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36720" y="685440"/>
            <a:ext cx="4984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A156B20-0080-4CDE-90BB-552E204609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36720" y="685800"/>
            <a:ext cx="498456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1F6B0C1-EA5F-44D5-A560-DAC06D57CD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776-60C1-46B5-A35B-FE76992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1A1-FAE9-4C54-8E2B-C551B13C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5626A-C9C0-4F4C-9BA4-173F9932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6EFEE-DD06-4E41-BE1D-DC41E592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FF6EE-37AE-4F55-A739-4D0C681B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A292-D483-42B7-B304-0B08943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E9F5-B272-4F5D-8948-A3FCB5F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F4333-E133-468D-88FF-56F3DC75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C5B1A-5911-4FA5-90A6-3B7F19F8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E8819-98BD-495B-A5C7-DC188425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7F5A3-A7BC-4037-BFCB-C1B93E4B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FC027-7922-49C1-BA7A-8A241EE9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BAE-CBC2-44F2-A6BC-EDB29366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1D8D2-31E4-4CD1-B7EA-AA6D6EE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FAAAF-162E-428B-BF33-14C45827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44052-311C-4BC2-870F-43281D7F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803F0-B63B-407A-8F95-EF1D59F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BAE89-41E3-4ABA-A587-23006C3E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3A8EE-CC46-4040-955E-357B023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F60DF-D126-4DC9-97DC-BD6DE23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A55C3-A4EA-44C3-AE12-07A2306B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43FA1-BC32-45E8-A489-AE72CFF2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D23EA-0458-4B39-B5C5-6E3BACFD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F1A-F70B-45C6-B709-E2D9D208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D615A-9DF7-43A1-A613-B6381110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2AD8-1617-4E67-AC4B-29ABF386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E687E-B78C-4A59-AC47-800606F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189F-E9EE-4C89-9FC8-786CBE90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6F3B3-00FF-475C-8FEF-315C332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D0A86-939C-42BA-9386-73B3FAB9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C58C6-B223-4AE1-A40D-AF09D28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814C4-A870-46F1-8989-C665D0B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F0B03-11E4-4CB4-A27C-045CD45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68AE5-C04A-4955-9E4E-2668CCC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648E-849C-41C7-B7BE-D7F8730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D1B0D-FD81-4532-A74B-E85A698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FD3B7-CCAD-45E6-9B5D-0FBD115F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78E07-EBF1-4A4A-BA8F-66B4FC95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212ED-FEAD-432E-9735-DCBAE494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3782B-BA0D-420B-8758-98A097A6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451AF-2CFF-43BE-9880-4E9FA8B6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D3CCF-45BA-4640-B4B7-DF3003E7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DB609-D039-404E-A81D-FC7FBFA6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0CCA9-E5AB-42F8-994A-170A6163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12A7E-5349-46F6-80FB-2F5DAC6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EBF7-C1E3-49D0-8909-1B316B6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42428-54B0-4A31-A541-3DA92EFD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9AADD-5A48-400F-B542-AAA1C13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8CBD0-5026-4B41-8B6C-31A9A62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95A38-2D4E-4184-BBEE-775C6B48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3EDF1-52FA-4374-9256-63D7669B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41393-FB6E-4479-83CF-B6E65320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8D78F-BBE7-45D1-82AD-3C7C1004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E8397-4F6B-4D12-B01F-2A5B6782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13279-2309-4425-9BEC-F52062EF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7B6CF-A07D-4EC4-87C9-959DE04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02DD-BB66-421F-B1C6-264A860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E5EB5-6E91-408A-8D86-C0280C9E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AB969-130A-408B-AE11-C5A015A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320D2-5007-4E5A-BB7E-FC5C1F35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A174B-82A0-4F68-98F4-BE4943FA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864EB-EB5C-4A10-B323-9E3D571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F9EAE-048B-4C84-9020-E775EDEA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09435-2892-4C8E-AD54-AEFF3208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F90-1705-4C58-9091-CEEEE03F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AEBD-3254-499E-9585-5B957911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7D71-DD19-4855-A4B4-E4D715E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442A-AF51-4096-8D18-5323B1A5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5E4-501B-4FF6-A6B5-78266A30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AE1-6DD4-4BF9-A1B0-42CD73B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B01E-ACE9-4492-B296-133B1C3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3CE3-905B-4B5C-9AFF-85DE0C4A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0D9-FB08-4CA2-8285-393F5F43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3D2D-3905-4707-BE7C-A2E0CAE4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FD59-A060-4874-A639-73E0B0A1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1BE9-C0C4-4B06-A05A-C2DDEA54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A168-1C34-4057-94C3-5AA5039B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C5CA-A4F6-45E6-B592-E145689B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45B8-1770-4607-AC1C-FB000DE3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79E-35F6-46C2-80A6-B4EECAFE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A9CC-34EB-4CA6-8EE8-024F4B6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E441-FBF1-4A48-B366-6DD6EFEF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6A24-7D81-48C7-970F-0ED5CC6E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9FAC8-AC0E-4C56-B186-A28DE4E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452A-E228-497C-9059-1310E2D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B01B-3B2E-4133-9013-3FA6557A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72E2-7DF2-46D7-9228-7E7FB7E3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F7D88-2DEA-4AB1-A210-293E6E6B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85D7-B2DE-4475-8970-6BFC73E4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9B08-7C56-4FF8-B1F1-B25ADCB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C75-1DB4-447B-9932-28795F0B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787F-7340-40AC-98A2-62166495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0394-C7FC-4BFD-A476-A733824F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0C03-1D72-42B6-BA92-DF380676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7C3A-3116-4D9B-8644-297F0181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80D4-A5B5-45F9-B2B7-97F22DA6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EF04-8B0B-4890-966E-CAB797D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047D0-91B5-4977-86BB-48BF69D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1EBB-9240-4E3F-A8B5-7328B50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355D4-F0D1-4C59-A0DF-B7C42D61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EB83-0469-48E1-AC7F-3179B667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110-D2B9-4BD5-ADE4-0C9CADA1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83775-84DA-4C7A-A7B9-EA21EEE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31C5-76EC-4803-B623-8395991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BCAA-E19A-4160-8C4A-F3301ED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537A-06AE-4AF0-873D-31D99C35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CC016-74BE-40E5-B19A-4C45D8B0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950CF-DFBD-4FAB-8314-1684B6D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1685-BE14-46D5-B316-864D4F00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74079-7C61-4D3E-B3A7-562F99E5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627D-E8AD-4A3F-8E5F-8EB411CE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73AE-AFBE-484E-9B8A-51321A30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7B0-F3EA-47E4-8380-6776EC3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EFB1F-7919-46FB-BB9D-47906EB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2CEB8-54A6-43E4-9C5C-03384891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68D9F-CDC1-427B-82CD-E09E19E5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F03E7-03E5-4774-A941-434F28A6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785B-820D-4DE4-8AB6-86C8944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3B1B3-707C-45F3-97A0-44D49398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B2008-36CB-43BB-A0F5-24AB6BC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4A11-5A37-4E55-A250-8253258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7C7C-A13F-4104-B7DC-508AF4BF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EE741-0AE8-4121-BAC6-EECAA1C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6D4-683F-4F0D-9CB9-9B94B02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31D2-A138-4600-B7FD-F83D267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AD95-6A14-490E-9CD2-0D4A4502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A9D07-2205-4D0E-8536-2C315233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E346-FD6F-4083-9E60-CEF76916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7000-691F-4054-8E87-FBEA5F3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DCAEF-E58F-46C5-9928-D7DC304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A304-93BC-4886-837F-58A1226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AFD2D-44FA-42CD-A750-FC750FFE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9BD9B-86B3-453A-A68E-4A0C149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00EB0-F830-486F-8FDF-8403522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A4E-D773-402D-A59D-856E1F0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3BE4-3F91-495B-A681-AE782AB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2722-1E3B-43D1-800A-640BECB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8EF39-B1C0-4888-B88B-F7F0187E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00E95-B136-4F50-89DB-F99AC457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CFCC-BB51-4299-ADEB-92C93C68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2ACCD-7C46-48B0-AEA6-474475E1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F037-CFFF-4FED-B85A-8D71C5D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78519-4BBF-46B8-9AA8-51D51790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CB5A0-3251-418B-8354-FDE93A5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49998-0D5A-4FCE-8E0B-2602DB20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9AF-E495-4960-A378-E1BF6D19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86920" y="158760"/>
            <a:ext cx="518652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A0EB-ED08-477B-976C-B7A13A5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4F7AD-0816-4094-8D25-B56D561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F04D9-683E-4074-833A-4AEB5CC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874C8-562F-430F-A644-74AC36E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86920" y="2289240"/>
            <a:ext cx="518652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87464-DA5A-4C6F-BA31-3E8BC7F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944800" y="92340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8692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944800" y="2289240"/>
            <a:ext cx="253080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8280-72CB-4479-A378-CEEB2189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04048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794040" y="92340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8692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04048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3794040" y="2289240"/>
            <a:ext cx="166968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18555-EAB2-4205-8F7E-301E6204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97AC1-A7E8-4CBC-B775-B7A8AB8C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03B4-96BD-412D-9F25-C057A34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D962-B56A-4144-87CC-8179ABF2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t">
            <a:normAutofit/>
          </a:bodyPr>
          <a:p>
            <a:pPr marL="208080" indent="-208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17280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693720" indent="-138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138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1249200" indent="-13788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zh-CN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669840"/>
            <a:ext cx="182412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669840"/>
            <a:ext cx="1344600" cy="211320"/>
          </a:xfrm>
          <a:prstGeom prst="rect">
            <a:avLst/>
          </a:prstGeom>
          <a:noFill/>
          <a:ln w="0">
            <a:noFill/>
          </a:ln>
        </p:spPr>
        <p:txBody>
          <a:bodyPr lIns="55440" rIns="55440" tIns="27720" bIns="27720" anchor="ctr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08CF66B-0934-4BB7-8261-52A1E732B9CD}" type="slidenum">
              <a:rPr b="0" lang="zh-CN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85507B3-314E-4CA5-A299-136DEAB26E46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58993C9-65FC-4239-827A-6586445C4F4F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4388EBA-7AF8-4522-829E-AB6657FEB031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F33366E-098F-491C-B799-D59C8F5D5157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CF78A90-4F05-4A38-B59F-07254CA4C408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B0D1C9B8-CFE2-4695-A04C-B7718F911FB7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88A7BA8-0DA2-4876-90B4-71B8AA54CB53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F877A66D-CEE7-4887-BFCF-86031CF77542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439F43FD-800E-426F-9C2F-30C29BF07ED9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A7370BEC-DE54-43B5-9BCF-735D758CDCDF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D7D15458-50C1-4077-A2EA-05D878446039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A812A822-9C2F-4135-A98A-51F4232EBEAD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AF70892A-EF7C-4C86-9FA6-F9BB08B1470B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8BB2B5EE-F6E3-44D7-A700-ED8591558B13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5767D429-9EA1-44C1-8911-59D811AF7F8D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7E62EAC1-838F-4C60-B273-3D5F51B7F981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CEF04B4E-0077-4A50-98C2-9AC199B5C72C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32EC327E-4A38-45B7-855A-89F976BB7145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9A665B43-8060-4AF0-A700-909FD4E8B518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2A728F1-C9C8-490B-824A-E3485F394CF6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4FC60D73-8BD3-4ADF-8E6A-C1EA003A26BE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87FA0E2-ECB2-494D-A439-279D57271919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6920" y="158760"/>
            <a:ext cx="518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86920" y="923400"/>
            <a:ext cx="518652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28692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29666501-DD43-48F0-927D-E69221EF8668}" type="datetime">
              <a:rPr b="0" lang="zh-CN" sz="8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968120" y="3606480"/>
            <a:ext cx="18241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128840" y="3606480"/>
            <a:ext cx="1344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  <a:defRPr b="0" lang="zh-CN" sz="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fld id="{151B46CE-CB40-4CC5-916E-A27BD7B2DD1F}" type="slidenum">
              <a:rPr b="0" lang="zh-CN" sz="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9"/>
          <p:cNvSpPr/>
          <p:nvPr/>
        </p:nvSpPr>
        <p:spPr>
          <a:xfrm>
            <a:off x="181080" y="3567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D:\wang\昵图下截\1282790395433_zcool.com.cn\82122768.jpg"/>
          <p:cNvPicPr/>
          <p:nvPr/>
        </p:nvPicPr>
        <p:blipFill>
          <a:blip r:embed="rId16"/>
          <a:srcRect l="3601" t="0" r="0" b="0"/>
          <a:stretch/>
        </p:blipFill>
        <p:spPr>
          <a:xfrm>
            <a:off x="0" y="-25560"/>
            <a:ext cx="5778360" cy="39862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17"/>
          <a:stretch/>
        </p:blipFill>
        <p:spPr>
          <a:xfrm>
            <a:off x="3106800" y="1405080"/>
            <a:ext cx="1463760" cy="245268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18"/>
          <a:stretch/>
        </p:blipFill>
        <p:spPr>
          <a:xfrm rot="1107000">
            <a:off x="1224000" y="181080"/>
            <a:ext cx="506520" cy="358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"/>
          <p:cNvPicPr/>
          <p:nvPr/>
        </p:nvPicPr>
        <p:blipFill>
          <a:blip r:embed="rId19"/>
          <a:stretch/>
        </p:blipFill>
        <p:spPr>
          <a:xfrm>
            <a:off x="4176720" y="2844720"/>
            <a:ext cx="754200" cy="86364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"/>
          <p:cNvPicPr/>
          <p:nvPr/>
        </p:nvPicPr>
        <p:blipFill>
          <a:blip r:embed="rId20"/>
          <a:stretch/>
        </p:blipFill>
        <p:spPr>
          <a:xfrm>
            <a:off x="0" y="2406600"/>
            <a:ext cx="1698480" cy="1557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8" descr=""/>
          <p:cNvPicPr/>
          <p:nvPr/>
        </p:nvPicPr>
        <p:blipFill>
          <a:blip r:embed="rId21"/>
          <a:stretch/>
        </p:blipFill>
        <p:spPr>
          <a:xfrm rot="2697000">
            <a:off x="1824120" y="186840"/>
            <a:ext cx="336600" cy="23976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9" descr=""/>
          <p:cNvPicPr/>
          <p:nvPr/>
        </p:nvPicPr>
        <p:blipFill>
          <a:blip r:embed="rId22"/>
          <a:stretch/>
        </p:blipFill>
        <p:spPr>
          <a:xfrm rot="399600">
            <a:off x="2344680" y="195120"/>
            <a:ext cx="222480" cy="158760"/>
          </a:xfrm>
          <a:prstGeom prst="rect">
            <a:avLst/>
          </a:prstGeom>
          <a:ln w="0">
            <a:noFill/>
          </a:ln>
        </p:spPr>
      </p:pic>
      <p:pic>
        <p:nvPicPr>
          <p:cNvPr id="548" name="TextBox 7" descr=""/>
          <p:cNvPicPr/>
          <p:nvPr/>
        </p:nvPicPr>
        <p:blipFill>
          <a:blip r:embed="rId23"/>
          <a:stretch/>
        </p:blipFill>
        <p:spPr>
          <a:xfrm>
            <a:off x="504720" y="901800"/>
            <a:ext cx="2766960" cy="1844640"/>
          </a:xfrm>
          <a:prstGeom prst="rect">
            <a:avLst/>
          </a:prstGeom>
          <a:ln w="0">
            <a:noFill/>
          </a:ln>
        </p:spPr>
      </p:pic>
      <p:sp>
        <p:nvSpPr>
          <p:cNvPr id="549" name="直接连接符 11"/>
          <p:cNvSpPr/>
          <p:nvPr/>
        </p:nvSpPr>
        <p:spPr>
          <a:xfrm>
            <a:off x="2808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11"/>
          <p:cNvGrpSpPr/>
          <p:nvPr/>
        </p:nvGrpSpPr>
        <p:grpSpPr>
          <a:xfrm>
            <a:off x="1512720" y="1044720"/>
            <a:ext cx="943200" cy="1511280"/>
            <a:chOff x="1512720" y="1044720"/>
            <a:chExt cx="943200" cy="1511280"/>
          </a:xfrm>
        </p:grpSpPr>
        <p:sp>
          <p:nvSpPr>
            <p:cNvPr id="551" name="直接连接符 13"/>
            <p:cNvSpPr/>
            <p:nvPr/>
          </p:nvSpPr>
          <p:spPr>
            <a:xfrm>
              <a:off x="24559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4"/>
            <p:cNvSpPr/>
            <p:nvPr/>
          </p:nvSpPr>
          <p:spPr>
            <a:xfrm>
              <a:off x="2138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5"/>
            <p:cNvSpPr/>
            <p:nvPr/>
          </p:nvSpPr>
          <p:spPr>
            <a:xfrm>
              <a:off x="181404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接连接符 16"/>
            <p:cNvSpPr/>
            <p:nvPr/>
          </p:nvSpPr>
          <p:spPr>
            <a:xfrm>
              <a:off x="1512720" y="1044720"/>
              <a:ext cx="0" cy="1511280"/>
            </a:xfrm>
            <a:prstGeom prst="line">
              <a:avLst/>
            </a:prstGeom>
            <a:ln w="1260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直接连接符 17"/>
          <p:cNvSpPr/>
          <p:nvPr/>
        </p:nvSpPr>
        <p:spPr>
          <a:xfrm>
            <a:off x="1152360" y="1044720"/>
            <a:ext cx="0" cy="863280"/>
          </a:xfrm>
          <a:prstGeom prst="line">
            <a:avLst/>
          </a:prstGeom>
          <a:ln w="1260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239760" y="0"/>
            <a:ext cx="4889520" cy="3960720"/>
            <a:chOff x="239760" y="0"/>
            <a:chExt cx="4889520" cy="3960720"/>
          </a:xfrm>
        </p:grpSpPr>
        <p:sp>
          <p:nvSpPr>
            <p:cNvPr id="557" name="矩形 4"/>
            <p:cNvSpPr/>
            <p:nvPr/>
          </p:nvSpPr>
          <p:spPr>
            <a:xfrm>
              <a:off x="602640" y="0"/>
              <a:ext cx="3962520" cy="4442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9760" y="990000"/>
              <a:ext cx="4889520" cy="29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1346760" y="2040480"/>
              <a:ext cx="269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37"/>
                </a:spcBef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3:37:3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3-16T09:04:1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  <property fmtid="{D5CDD505-2E9C-101B-9397-08002B2CF9AE}" pid="3" name="VIP等级">
    <vt:lpwstr>3</vt:lpwstr>
  </property>
  <property fmtid="{D5CDD505-2E9C-101B-9397-08002B2CF9AE}" pid="4" name="价格">
    <vt:lpwstr>1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PPT 格式 背景 节日 节庆 喜庆 庆祝 祝贺 祝福 祝愿 中秋 八月十五 月饼 V3</vt:lpwstr>
  </property>
  <property fmtid="{D5CDD505-2E9C-101B-9397-08002B2CF9AE}" pid="8" name="操作代码">
    <vt:lpwstr>2</vt:lpwstr>
  </property>
  <property fmtid="{D5CDD505-2E9C-101B-9397-08002B2CF9AE}" pid="9" name="是否可购买">
    <vt:lpwstr>2</vt:lpwstr>
  </property>
  <property fmtid="{D5CDD505-2E9C-101B-9397-08002B2CF9AE}" pid="10" name="显示VIP等级">
    <vt:lpwstr>3</vt:lpwstr>
  </property>
  <property fmtid="{D5CDD505-2E9C-101B-9397-08002B2CF9AE}" pid="11" name="标题">
    <vt:lpwstr>中秋节庆模板</vt:lpwstr>
  </property>
  <property fmtid="{D5CDD505-2E9C-101B-9397-08002B2CF9AE}" pid="12" name="模板ID">
    <vt:lpwstr>A30220121126B35</vt:lpwstr>
  </property>
  <property fmtid="{D5CDD505-2E9C-101B-9397-08002B2CF9AE}" pid="13" name="模板缩略图">
    <vt:lpwstr>A30220121126B35.png</vt:lpwstr>
  </property>
  <property fmtid="{D5CDD505-2E9C-101B-9397-08002B2CF9AE}" pid="14" name="相关案例">
    <vt:lpwstr>854</vt:lpwstr>
  </property>
  <property fmtid="{D5CDD505-2E9C-101B-9397-08002B2CF9AE}" pid="15" name="缩略图标题">
    <vt:lpwstr>中秋节庆模板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21126B3501</vt:lpwstr>
  </property>
  <property fmtid="{D5CDD505-2E9C-101B-9397-08002B2CF9AE}" pid="18" name="附件缩略图">
    <vt:lpwstr>A30220121126B3501.png</vt:lpwstr>
  </property>
  <property fmtid="{D5CDD505-2E9C-101B-9397-08002B2CF9AE}" pid="19" name="附件路径">
    <vt:lpwstr>A30220121126B3501.dotx</vt:lpwstr>
  </property>
</Properties>
</file>