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C92-4137-458F-85F8-5B8EE3E5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07EC-4AC6-49D4-9C4B-87F77A69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825-038B-48A2-A23F-05E2A487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43F-516D-44E8-9868-CF0BE033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EDC8-56C8-48CF-8F17-8FF1678D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839E-81C3-4142-83CE-AF0455FE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0F40-2598-472C-8A23-B2210CF0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0775-2687-4727-BFF7-6045724D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8659-6554-46F4-B093-C420DC3C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0EF3-AC57-40B9-B678-9FB585C1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6EC6-702E-4570-9A6B-C73FDD81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DA4-B7C1-4266-AF6B-6A064445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9FD4-1EE0-4147-885C-47E41807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1D5D-3B7F-48C1-B2A8-9BD475B2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B225-0B6B-4CB3-B4B5-327BD5B5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FFFC-FD5B-4E15-8A5C-05786C53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66F2-9357-4A7F-A6C3-A3806ECC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F51-4517-4820-9F19-2792B8F7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856-8868-4667-9EB1-64FB8436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F5E-8FDE-4DAC-B7C3-00D6ABE2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55C-F603-4507-B555-19A96D6C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7DC-795E-4FB3-8208-A82D9DD6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FD2-D47B-4D48-8854-8F32CD38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EA9B-8ECD-4382-905A-F5ABBB4C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BC0F-E9E4-4928-AD1C-98DF05918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976A-3E88-4377-B963-728D9911B0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A444-1D4E-4988-837A-3E845DAFA0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440sports_1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755640" y="549360"/>
            <a:ext cx="3384720" cy="277524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隶书"/>
                <a:ea typeface="隶书"/>
              </a:rPr>
              <a:t>励 志 赠 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584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50920" y="4292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会时常提醒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24000" y="508464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有根  就没有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4000" y="58770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一切由建立星级心态及求变的意愿开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11503680898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3635280" y="54936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我心里总是想着什么，     就会从行动中体现出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403280" y="508464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我总是想着这样，就会有这样的感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84360" y="57340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跟着感觉去做，就得到这样的结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%5Bwallco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1079640" y="134136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生命就如迂回飞镖，抛掷出去又往回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79280" y="549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生命就象回声一样，高喊时就反射回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梅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8187120" y="2133720"/>
            <a:ext cx="69804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华文新魏"/>
              </a:rPr>
              <a:t>不经一番寒彻骨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6950520" y="2133720"/>
            <a:ext cx="1215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华文新魏"/>
              </a:rPr>
              <a:t>怎得梅花扑鼻香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085080" y="2133720"/>
            <a:ext cx="1215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华文新魏"/>
              </a:rPr>
              <a:t>不经磨练与尝试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098320" y="2133720"/>
            <a:ext cx="13388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  <a:ea typeface="华文新魏"/>
              </a:rPr>
              <a:t>我怎能成长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trips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zuqiu18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4716360" y="333360"/>
            <a:ext cx="4427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只要你放手去干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精力就会接踵而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1503680924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827520" y="692280"/>
            <a:ext cx="17334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新魏"/>
              </a:rPr>
              <a:t>当机立断千万莫延误 但求不虚行此人生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713560" y="692280"/>
            <a:ext cx="17334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新魏"/>
              </a:rPr>
              <a:t>只此一回潇洒人生路                               红心义举尽为人服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大雁群飞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322200" y="44226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没有人知道那山有多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859280" y="44226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没有人知道那水有多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89080" y="522936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没有人知道一个人的欲望有多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287280" y="6021360"/>
            <a:ext cx="60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也没有人知道一个团队的潜能有多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1440sports_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2195640" y="404640"/>
            <a:ext cx="561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团结、努力、协作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是通向胜利的桥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11491307842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684360" y="62064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改变世界最快的途径就是改变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11503680913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2771640" y="4724280"/>
            <a:ext cx="41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成功者，                      做别人不愿意做的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55640" y="5805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做别人不敢做的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932360" y="5805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做别人做不到的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1484593707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770400" y="333360"/>
            <a:ext cx="6678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每个人都应有积极、进取的心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400760" y="260280"/>
            <a:ext cx="115524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一个人成功的关键取决于他的心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1440sports_1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3056040" y="188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再长的路，一步步也能走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258920" y="836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再短的路，不迈开双脚也无法到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1648572455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08400" y="189000"/>
            <a:ext cx="1155240" cy="64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维护客户的利益是我门追求的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976760" y="189000"/>
            <a:ext cx="1155240" cy="64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正直诚实的人格是我们坚守的信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440sports_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250920" y="479736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我们相信终身的学习，与时俱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84360" y="551664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自我的教育是唯一的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116000" y="62373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个人所有的成长都是自我的成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split dir="in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biz4u2466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296280" y="547560"/>
            <a:ext cx="375804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在寿险工作上，       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永远要考虑双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32040" y="504720"/>
            <a:ext cx="127764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我的利益就是你的利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-90360" y="520560"/>
            <a:ext cx="127764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你的成功既是我的成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11484593432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2627280" y="3500280"/>
            <a:ext cx="63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你在人生中可能犯的最大错误就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总是担心自己会犯错误而没有行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150368091812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84360" y="5516640"/>
            <a:ext cx="619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华文新魏"/>
              </a:rPr>
              <a:t>方法总比困难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33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0" y="3429000"/>
            <a:ext cx="41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华文新魏"/>
              </a:rPr>
              <a:t>思想指导行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22100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华文新魏"/>
              </a:rPr>
              <a:t>行动决定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398920" y="508464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华文新魏"/>
              </a:rPr>
              <a:t>习惯造就命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11531952495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3400560" y="0"/>
            <a:ext cx="127764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我思考什么，我就成为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142000" y="0"/>
            <a:ext cx="127764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我将成为我预见中的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881280" y="0"/>
            <a:ext cx="1277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我思，因此我成为，然后我行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5:57:09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3:38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