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F7D1-8746-4076-9E56-B3F35705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3D1-9921-42EE-AB2B-4BABC7B9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A2C-357B-4F65-BF28-D0A91F7E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1C85-C60D-4B63-83CA-8DB13533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B7DA-FCE3-479A-9FCF-C7B1C80F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552D-6E82-43A8-B211-9EF88923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CA68-BBA4-4846-919F-52F9697B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460C-B748-4196-B7DC-4F145523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C41B-E0AE-4D81-84FA-A60C985E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39AF-6BF8-4F1A-839A-2103202B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2D59-7EFA-43A9-A516-8CA6091E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A10-170C-41FB-9A80-CC23CDDB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8CE3-7063-4CE3-B9C8-07A90845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2348-56D9-4A58-8777-95F75F77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A703-FA4F-4601-A6F2-352DD391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31F5-AC87-4B89-B745-13FD6A4F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2F28-A740-4F49-8812-27E32888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1650-DAB5-44B8-90F2-66F98842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FC8-D915-4834-BEF6-D08E44D6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40FF-CFE7-404B-B1F1-39A8528C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C4D-EFEB-4763-9E33-4F63BC2C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410-E7B1-407B-8A11-F26ECBBD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284D-823C-4C34-A926-EC4FA2FE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D90-1DC4-474D-B71A-83EF7B90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6E30-07D5-49A5-958A-F6E2F647E2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3DD4-1DD8-4356-9B40-56BAAF302E1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CC64-54FA-455E-B8F6-94033AC0C6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瀑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990720" y="83808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cc"/>
                </a:solidFill>
                <a:latin typeface="华文新魏"/>
                <a:ea typeface="华文新魏"/>
              </a:rPr>
              <a:t>紫藤萝瀑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334120" y="2438280"/>
            <a:ext cx="213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华文新魏"/>
                <a:ea typeface="华文新魏"/>
              </a:rPr>
              <a:t>宗璞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26"/>
          <p:cNvSpPr/>
          <p:nvPr/>
        </p:nvSpPr>
        <p:spPr>
          <a:xfrm>
            <a:off x="380880" y="11430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B1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.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盛开的花像一个</a:t>
            </a:r>
            <a:r>
              <a:rPr b="1" lang="en-US" sz="3600" spc="-1" strike="noStrike" u="sng">
                <a:solidFill>
                  <a:srgbClr val="00ffff"/>
                </a:solidFill>
                <a:uFillTx/>
                <a:latin typeface="Times New Roman"/>
                <a:ea typeface="楷体_GB2312"/>
              </a:rPr>
              <a:t>张满了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的小小的帆，帆下带着尖底的舱，船舱</a:t>
            </a:r>
            <a:r>
              <a:rPr b="1" lang="en-US" sz="3600" spc="-1" strike="noStrike" u="sng">
                <a:solidFill>
                  <a:srgbClr val="00ffff"/>
                </a:solidFill>
                <a:uFillTx/>
                <a:latin typeface="Times New Roman"/>
                <a:ea typeface="楷体_GB2312"/>
              </a:rPr>
              <a:t>鼓鼓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的；又像一个</a:t>
            </a:r>
            <a:r>
              <a:rPr b="1" lang="en-US" sz="3600" spc="-1" strike="noStrike" u="sng">
                <a:solidFill>
                  <a:srgbClr val="00ffff"/>
                </a:solidFill>
                <a:uFillTx/>
                <a:latin typeface="Times New Roman"/>
                <a:ea typeface="楷体_GB2312"/>
              </a:rPr>
              <a:t>忍俊不禁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的笑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32"/>
          <p:cNvSpPr/>
          <p:nvPr/>
        </p:nvSpPr>
        <p:spPr>
          <a:xfrm>
            <a:off x="380880" y="3809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效果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: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修饰词的使用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突出了花的娇媚情态和待放长久的生命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030"/>
          <p:cNvSpPr/>
          <p:nvPr/>
        </p:nvSpPr>
        <p:spPr>
          <a:xfrm>
            <a:off x="380880" y="1523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C1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.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（像一条瀑布……。）只是深深浅浅的紫，仿佛在流动，在欢笑，在不停的生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32"/>
          <p:cNvSpPr/>
          <p:nvPr/>
        </p:nvSpPr>
        <p:spPr>
          <a:xfrm>
            <a:off x="304920" y="3581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效果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:</a:t>
            </a:r>
            <a:r>
              <a:rPr b="1" lang="zh-CN" sz="44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动词的使用使静态的花色和花态跃动起来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,</a:t>
            </a:r>
            <a:r>
              <a:rPr b="1" lang="zh-CN" sz="44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生趣盎然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228600" y="838080"/>
            <a:ext cx="3962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我在开花！”它们在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我在开花！”它们嚷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457200" y="281952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张满了的，鼓鼓的，忍俊不禁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28600" y="44956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在流动，在欢笑，在生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962520" y="11430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99"/>
                </a:solidFill>
                <a:latin typeface="Times New Roman"/>
                <a:ea typeface="华文行楷"/>
              </a:rPr>
              <a:t>（语言</a:t>
            </a:r>
            <a:r>
              <a:rPr b="0" lang="en-US" sz="2800" spc="-1" strike="noStrike">
                <a:solidFill>
                  <a:srgbClr val="00ff99"/>
                </a:solidFill>
                <a:latin typeface="Times New Roman"/>
                <a:ea typeface="华文行楷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809880" y="3048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99"/>
                </a:solidFill>
                <a:latin typeface="Times New Roman"/>
                <a:ea typeface="华文行楷"/>
              </a:rPr>
              <a:t>（修饰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733920" y="4495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99"/>
                </a:solidFill>
                <a:latin typeface="Times New Roman"/>
                <a:ea typeface="华文行楷"/>
              </a:rPr>
              <a:t>（静</a:t>
            </a:r>
            <a:r>
              <a:rPr b="0" lang="en-US" sz="2800" spc="-1" strike="noStrike">
                <a:solidFill>
                  <a:srgbClr val="00ff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ff99"/>
                </a:solidFill>
                <a:latin typeface="Times New Roman"/>
                <a:ea typeface="华文行楷"/>
              </a:rPr>
              <a:t>动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7440120" y="1219320"/>
            <a:ext cx="7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欢腾、喜悦的童趣旺盛、长久的生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629400" y="3049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观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华文行楷"/>
                <a:ea typeface="华文行楷"/>
              </a:rPr>
              <a:t>      </a:t>
            </a:r>
            <a:r>
              <a:rPr b="1" lang="zh-CN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阅读</a:t>
            </a:r>
            <a:r>
              <a:rPr b="1" lang="en-US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7-9</a:t>
            </a:r>
            <a:r>
              <a:rPr b="1" lang="zh-CN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段</a:t>
            </a:r>
            <a:r>
              <a:rPr b="1" lang="en-US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,</a:t>
            </a:r>
            <a:r>
              <a:rPr b="1" lang="zh-CN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思考下列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52280" y="17524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概括指出这段文字写了什么内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80880" y="3429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这段内容与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1-6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段在文字上是怎样过渡的？找出过渡性语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304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华文行楷"/>
                <a:ea typeface="华文行楷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3809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4.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这样的感受和认识与“观花”部分所展现的藤萝花欢腾、喜悦的童趣和旺盛、长久的生命力有没有联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457200" y="1219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3. 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在作者观赏藤萝花的时候，对于痛失小弟的现实和藤萝花凋零的经历有着怎样的感受和认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6"/>
          <p:cNvSpPr/>
          <p:nvPr/>
        </p:nvSpPr>
        <p:spPr>
          <a:xfrm>
            <a:off x="168588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228600"/>
            <a:ext cx="253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背景介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80880" y="10666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宗璞一家在文化大革命中深受迫害，“焦虑和悲痛”一直压在她的心上，本文写于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1982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年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5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月，当时作者的小弟身患绝症，作者非常悲痛。（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1982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年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10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月小弟病逝）作者徘徊于庭院中，只见到一株盛开的藤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照片 005"/>
          <p:cNvPicPr/>
          <p:nvPr/>
        </p:nvPicPr>
        <p:blipFill>
          <a:blip r:embed="rId1"/>
          <a:stretch/>
        </p:blipFill>
        <p:spPr>
          <a:xfrm>
            <a:off x="0" y="380988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28600" y="3049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《哭小弟》片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80880" y="10666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可是他去了，过早的去了，这一年多真像是一个梦，是一个永远不能令人相信的梦。我总觉得他还会回来，从我的那冬夏一律显得十分荒凉的后院走到我窗下，叫一声“小姊——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照片 005"/>
          <p:cNvPicPr/>
          <p:nvPr/>
        </p:nvPicPr>
        <p:blipFill>
          <a:blip r:embed="rId1"/>
          <a:stretch/>
        </p:blipFill>
        <p:spPr>
          <a:xfrm>
            <a:off x="0" y="380988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304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华文行楷"/>
                <a:ea typeface="华文行楷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28600" y="3809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4.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这样的感受和认识与“观花”部分所展现的藤萝花欢腾、喜悦的童趣和旺盛、长久的生命力有没有联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57200" y="1219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3. 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在作者观赏藤萝花的时候，对于痛失小弟的现实和藤萝花凋零的经历有着怎样的感受和认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685800" y="1371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观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105520" y="12952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忆花        （人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4191120" y="1600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31240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欢腾、喜悦的情趣旺盛、蓬勃的生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334120" y="312408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抚慰内心伤痛惊叹藤萝复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4267080" y="3581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971800" y="228600"/>
            <a:ext cx="313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紫藤萝瀑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133720" y="17524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繁茂、生命的绵延长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981080" y="3352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花和人都会遇到各种各样的不幸，但生命的长河是无止境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057400" y="5715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生命的美好、顽强、永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343400" y="9907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4495680" y="10666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67080" y="106668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4343400" y="1066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419720" y="51814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4343400" y="2590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800600" y="152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华文行楷"/>
                <a:ea typeface="华文行楷"/>
              </a:rPr>
              <a:t>      </a:t>
            </a:r>
            <a:r>
              <a:rPr b="1" lang="zh-CN" sz="4000" spc="-1" strike="noStrike">
                <a:solidFill>
                  <a:srgbClr val="00ffff"/>
                </a:solidFill>
                <a:latin typeface="华文行楷"/>
                <a:ea typeface="华文行楷"/>
              </a:rPr>
              <a:t>宗璞</a:t>
            </a:r>
            <a:r>
              <a:rPr b="1" lang="zh-CN" sz="3200" spc="-1" strike="noStrike">
                <a:solidFill>
                  <a:srgbClr val="00ffff"/>
                </a:solidFill>
                <a:latin typeface="华文行楷"/>
                <a:ea typeface="华文行楷"/>
              </a:rPr>
              <a:t>，当代著名女作家，自幼生长于清华园，她所特有的知识女性的才情、儒雅的气质，以及柔中带刚的恪守，均得益于她得天独厚的文化生活背景。她的散文情深意长，隽永如水。代表作《铁箫人语》深受海内外读者喜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宗璞"/>
          <p:cNvPicPr/>
          <p:nvPr/>
        </p:nvPicPr>
        <p:blipFill>
          <a:blip r:embed="rId1"/>
          <a:stretch/>
        </p:blipFill>
        <p:spPr>
          <a:xfrm>
            <a:off x="0" y="0"/>
            <a:ext cx="444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838080" y="1676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观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4343400" y="1600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忆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086600" y="1676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悟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6172200" y="18288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3124080" y="19051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31240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欢腾、喜悦的情趣旺盛、蓬勃的生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3581280" y="312408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抚慰内心伤痛惊叹藤萝复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6781680" y="3124080"/>
            <a:ext cx="21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生命的美好、顽强、永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4"/>
          <p:cNvSpPr/>
          <p:nvPr/>
        </p:nvSpPr>
        <p:spPr>
          <a:xfrm>
            <a:off x="3200400" y="35053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6172200" y="35812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瀑布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"/>
          <p:cNvSpPr/>
          <p:nvPr/>
        </p:nvSpPr>
        <p:spPr>
          <a:xfrm>
            <a:off x="3481560" y="6094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紫藤萝瀑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4191120" y="16765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295280" y="266688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花和人都会遇到各种各样的不幸，但生命的长河是无止境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4191120" y="43434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4309920" y="54864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沉舟侧畔千帆过，病树前头万木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914400" y="457200"/>
            <a:ext cx="3809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2280" y="533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）那浅紫色的二月兰，是那样矮小，那样默默无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7391520" y="12952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二月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0" y="22096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）一阵风过，草面漾出绿色的波浪，薄如蝉翼的娇嫩的紫花在一片绿波中歪着头，带着调皮，却丝毫不知道自己显得很奇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7238880" y="33526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木槿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0" y="43434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）在晨光熹微或暮色朦胧中，一柄柄白花擎起，隐约如绿波上的白帆，不知驶向何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781680" y="5562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玉簪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瀑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228600" y="838080"/>
            <a:ext cx="579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紫藤萝瀑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876920" y="2438280"/>
            <a:ext cx="213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宗璞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预习题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方正舒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1.</a:t>
            </a:r>
            <a:r>
              <a:rPr b="0" lang="en-US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找出文中集中描写藤萝花的语段</a:t>
            </a:r>
            <a:r>
              <a:rPr b="0" lang="en-US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,</a:t>
            </a:r>
            <a:r>
              <a:rPr b="0" lang="en-US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反复诵读</a:t>
            </a:r>
            <a:r>
              <a:rPr b="0" lang="en-US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2.</a:t>
            </a:r>
            <a:r>
              <a:rPr b="0" lang="en-US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展现在作者面前的藤萝花有什么特点</a:t>
            </a:r>
            <a:r>
              <a:rPr b="0" lang="en-US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?</a:t>
            </a:r>
            <a:r>
              <a:rPr b="0" lang="en-US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结合文中一两处你最喜欢的语句</a:t>
            </a:r>
            <a:r>
              <a:rPr b="0" lang="en-US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,</a:t>
            </a:r>
            <a:r>
              <a:rPr b="0" lang="en-US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试从描写角度          和修辞方法加以分析</a:t>
            </a:r>
            <a:r>
              <a:rPr b="0" lang="en-US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12760" y="80640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描写角度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733920" y="91440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花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429000" y="27432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花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114800" y="46483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花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4800600" y="19051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4876920" y="38098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6553080" y="9144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花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6705720" y="27432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花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400800" y="4648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花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28600" y="3049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  <a:ea typeface="华文行楷"/>
              </a:rPr>
              <a:t>描写手法：比喻、拟人修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0" y="1143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茂盛、生机勃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04920" y="1676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(1)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从未见过开得这样盛的藤萝，只见一片辉煌的淡紫色，</a:t>
            </a:r>
            <a:r>
              <a:rPr b="1" lang="en-US" sz="2800" spc="-1" strike="noStrike" u="sng">
                <a:solidFill>
                  <a:srgbClr val="00ffff"/>
                </a:solidFill>
                <a:uFillTx/>
                <a:latin typeface="Times New Roman"/>
                <a:ea typeface="楷体_GB2312"/>
              </a:rPr>
              <a:t>像一条瀑布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，从空中垂下，不见其发端，也不见其终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0" y="31240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）花朵一串挨着一串，一朵接着一朵，</a:t>
            </a:r>
            <a:r>
              <a:rPr b="1" lang="zh-CN" sz="2800" spc="-1" strike="noStrike" u="sng">
                <a:solidFill>
                  <a:srgbClr val="00ffff"/>
                </a:solidFill>
                <a:uFillTx/>
                <a:latin typeface="Times New Roman"/>
              </a:rPr>
              <a:t>彼此推着挤着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，好不活泼热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28600" y="4191120"/>
            <a:ext cx="23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美丽、娇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52280" y="47242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）只是深深浅浅的紫，仿佛在流动，在欢笑，在不 停地生长。</a:t>
            </a:r>
            <a:r>
              <a:rPr b="1" lang="zh-CN" sz="2800" spc="-1" strike="noStrike" u="sng">
                <a:solidFill>
                  <a:srgbClr val="00ffff"/>
                </a:solidFill>
                <a:uFillTx/>
                <a:latin typeface="Times New Roman"/>
                <a:ea typeface="楷体_GB2312"/>
              </a:rPr>
              <a:t>紫色的大条幅上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，泛着点点银光，</a:t>
            </a:r>
            <a:r>
              <a:rPr b="1" lang="zh-CN" sz="2800" spc="-1" strike="noStrike" u="sng">
                <a:solidFill>
                  <a:srgbClr val="00ffff"/>
                </a:solidFill>
                <a:uFillTx/>
                <a:latin typeface="Times New Roman"/>
                <a:ea typeface="楷体_GB2312"/>
              </a:rPr>
              <a:t>就像迸溅的水花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28600" y="6095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）每一朵盛开的花，</a:t>
            </a:r>
            <a:r>
              <a:rPr b="1" lang="zh-CN" sz="2800" spc="-1" strike="noStrike" u="sng">
                <a:solidFill>
                  <a:srgbClr val="00ffff"/>
                </a:solidFill>
                <a:uFillTx/>
                <a:latin typeface="Times New Roman"/>
              </a:rPr>
              <a:t>又像一个忍俊不禁的笑容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533520" y="31240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B1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盛开的花像一个张满了的小小的帆，帆下带着尖底的舱，船舱鼓鼓的；又像一个忍俊不禁的笑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80880" y="41911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2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盛开的花像一个小小的帆，帆下带着尖底的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04920" y="5257800"/>
            <a:ext cx="75960" cy="1219320"/>
          </a:xfrm>
          <a:custGeom>
            <a:avLst/>
            <a:gdLst>
              <a:gd name="textAreaLeft" fmla="*/ 48600 w 75960"/>
              <a:gd name="textAreaRight" fmla="*/ 76320 w 759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7200" y="5181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C1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（像一条瀑布……。）只是深深浅浅的紫，仿佛在流动，在欢笑，在不停的生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2711520" y="61722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2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（像一条瀑布……。）只是深深浅浅的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304920" y="3352680"/>
            <a:ext cx="75960" cy="1219320"/>
          </a:xfrm>
          <a:custGeom>
            <a:avLst/>
            <a:gdLst>
              <a:gd name="textAreaLeft" fmla="*/ 48600 w 75960"/>
              <a:gd name="textAreaRight" fmla="*/ 76320 w 759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533520" y="2286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A1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花朵一串挨着一串，一朵接着一朵，彼此推着挤着，好不活泼热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990720" y="99072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我在开花！”它们在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我在开花！”它们嚷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609480" y="20574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2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花朵一串挨着一串，一朵接着一朵，彼此推着挤着，好不活泼热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4"/>
          <p:cNvSpPr/>
          <p:nvPr/>
        </p:nvSpPr>
        <p:spPr>
          <a:xfrm>
            <a:off x="228600" y="38088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27"/>
          <p:cNvSpPr/>
          <p:nvPr/>
        </p:nvSpPr>
        <p:spPr>
          <a:xfrm>
            <a:off x="457200" y="609480"/>
            <a:ext cx="82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A1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.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花朵一串挨着一串，一朵接着一朵，彼此推着挤着，好不活泼热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1143000" y="1981080"/>
            <a:ext cx="566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我在开花！”它们在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我在开花！”它们嚷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31"/>
          <p:cNvSpPr/>
          <p:nvPr/>
        </p:nvSpPr>
        <p:spPr>
          <a:xfrm>
            <a:off x="611280" y="47242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效果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: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通过语言描写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突出花儿们内心的喜悦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天真烂漫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童态可掬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50:4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0:42Z</dcterms:modified>
  <cp:revision>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