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63EAF-3D46-4123-B8DE-E5679225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91ECC-E259-4C84-9711-DC878F44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99845-CBA3-4EFC-8A71-39516F6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A6AA8-84B9-42E9-8809-B210101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ADF3D-1292-4594-B585-F7F2E1A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40012-C92F-49BD-9EAB-EC4D5484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71BAA-2018-49A0-9245-DF66E54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BB8A5-13D4-4126-BC45-77450EE2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6EBAA-79AE-4640-A114-03F5F9F3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72432-37CF-4334-B2C3-82143CD3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FFB49-7874-4D3C-ADE3-FE9BC790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BF411-F9DC-45AA-9F69-DE3DA949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FF0C7-0709-409A-8E10-0631911D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BC621-0D5B-457F-B52F-72D4DC0D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D3935-77DA-46B3-909C-07C60ABA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C8071-ECA8-48EE-8CD5-D958D439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A55DD-294E-4A88-8C4A-F6391E0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2178E-815F-4EF1-BCF8-7236554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92960-5BC5-4AF8-8ACF-4BACA40B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801A8-8405-4ACE-AD4C-82D4C03F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F9DEC-20F8-4333-834D-2924249C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2DE-11C9-4BB7-BBEA-0F0138DB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DC6-812A-4FE4-B20C-5317C193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3F6-B3BC-4579-9B73-06E98188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ECA-89D7-4356-9DC2-8A298C54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E6C-89C4-4C3A-BFE7-9D71A585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743-29C6-4A20-8301-571E75EC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36F-1DA5-42B1-8736-B743D92F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38F-334B-4581-B926-8AF9C5CA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5E7-3A2F-40D8-87F7-9362CA3D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04D-30DA-4266-80E0-4861A31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C81-9D0A-40EC-9740-34C3ED6D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634-660F-4723-8192-14145E71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1CFCD-53F3-4902-B640-2901BEFB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E4A29-4E94-48E1-B4FF-04FFD7C1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FEDC7-5CFE-4CB4-87FF-57E7F526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12830-72A5-46E0-B59F-1173768E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789FE-2D73-4EE6-B5D7-DAD92219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360D8-C164-4475-8977-E7E24DD4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50454-0810-4EF4-92D9-F155FF4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98A9F-57CF-499F-AEDD-DA8C9EFF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C4AB6-542B-4DAF-BE9A-908A81DD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873B0-15F2-40D1-8391-D21D9C8C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35D3B-C316-4080-97F6-718F85B7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C79A6-7B13-4F94-97E4-5FD45A3B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EF7F-2281-4589-BB62-A8B9D8FD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C947E-917F-4D34-82E7-8AB83C28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C468-BCB4-4A6B-8BAB-BB6EACB4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E305-EBC3-44A6-AE43-DB534309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E252-611E-4CB1-91E4-146B6DB9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BB91-0A51-434F-8BF7-1C3C70BB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7EB8E-7B94-488F-BCD0-28409DE2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2445-2351-46A1-AF50-AA103E7D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C154-4B2A-4860-A2E5-6F9CCD2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1FE3-7EA1-4A31-9759-AB704AEA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D8E9-1C2D-4F0A-94B8-741E2024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D69C-154D-4B21-9948-00DC18B9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3292-6D48-4A88-95AE-F310E44D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808F-0E79-44E8-8E90-AF259921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DA49-44A7-4979-B332-E95A088A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33780-D198-4FFB-BB30-3CFC8C13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4F50-1B43-4331-85AA-7E51F304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409E7-A9E0-4D22-87E5-9ABA9E2D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8927-4A1D-4C40-BAC2-EFF57A48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DF31-2B0C-4963-AD6A-F6ACB34F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17C7-76EE-4577-8E87-C33A902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D4C8-05EA-4B3C-BB81-376BD902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7A177-47FC-4EBB-A960-ECA85738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6C34-5E8A-4CAF-95DF-0176745F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1531C-8191-4FA1-AEEF-9B250694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ABA53-5964-46BB-8563-46A6A157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AD3F6-8479-446A-91CD-0CF4108A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446D-81ED-4054-AF10-E76ED5E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FD667-1CF5-420D-BD95-9B9765A9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329B2-2421-4BED-9B42-52276CBE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551D-8B12-46D4-AD90-D3DDEED3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7F38A-C937-41CB-8A40-A5E13883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A6CEB-5C6D-4215-BB16-7081245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D8506-128D-4493-9E77-0CE39004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85551-DB86-430E-8EA4-675D0CDB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3394-D184-42A8-A046-F8D97CA9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F9C5F-D683-4BA9-9709-78160035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6075-0BE2-4B01-AFEC-B93C96AF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FF21-DA1C-4C02-B1F3-41F1F1CB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69E07-6A8F-4F7E-B3D5-B0A4B23A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14CD7-5350-419D-B981-A8F31B74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6545-D199-48AC-902D-00FA6C9F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BEA4F-D178-4EC3-9D0F-D971D5F4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17AD6-0E22-4EA2-820D-022C9A7C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DD79C-52AC-4782-B995-CF87DFD9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A238B-CEC8-4BC7-965C-FD944680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14CD-0C24-407A-9791-2CDD47D5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6C62-0479-469C-87FF-D6EB6489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E8392-6811-4D58-A793-4F7907F9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ED32F-BE51-4818-A0B5-15A94C90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1BD4-B83B-4DFD-8639-93357E85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1C3D-AA61-480C-ACB5-F61DAEBC58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F535-99AA-4A22-8B1F-B84C8C9197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7290-CD85-4A5A-A321-0D86FB0DBA8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 flipV="1">
            <a:off x="469800" y="1479240"/>
            <a:ext cx="8229600" cy="20520"/>
          </a:xfrm>
          <a:prstGeom prst="line">
            <a:avLst/>
          </a:prstGeom>
          <a:ln cap="rnd" w="3492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5"/>
          </p:nvPr>
        </p:nvSpPr>
        <p:spPr>
          <a:xfrm>
            <a:off x="64274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FD1-FB58-4A56-966E-E8A7769830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414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8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248B-5339-4A26-BFAD-4D2F5659E9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6F8F-8AA8-42CF-A25D-4400F60350BB}" type="slidenum">
              <a:rPr b="1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4031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213B-495E-4205-86F0-BDE6BF6947EA}" type="slidenum">
              <a:rPr b="0" lang="zh-CN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E281-D818-403B-9327-120A05B5F1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148B-FDD9-478E-9E08-192EBC7022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5977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个人简历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6720" y="909360"/>
            <a:ext cx="41529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姓    名：胡亚梅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性    别：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出生年月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992.2.13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政治面貌：党员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学    历：大学专课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专    业：计算机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毕业学校：徐州工业职业技术             学院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联系电话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150943434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电子邮箱：</a:t>
            </a:r>
            <a:r>
              <a:rPr b="0" lang="en-US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792585643@qq.com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家庭地址：东台市东台填垛团村八组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4" descr="DSCN0825"/>
          <p:cNvPicPr/>
          <p:nvPr/>
        </p:nvPicPr>
        <p:blipFill>
          <a:blip r:embed="rId2"/>
          <a:stretch/>
        </p:blipFill>
        <p:spPr>
          <a:xfrm>
            <a:off x="3997440" y="155736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DSCN0829"/>
          <p:cNvPicPr/>
          <p:nvPr/>
        </p:nvPicPr>
        <p:blipFill>
          <a:blip r:embed="rId3"/>
          <a:stretch/>
        </p:blipFill>
        <p:spPr>
          <a:xfrm>
            <a:off x="6492960" y="3068640"/>
            <a:ext cx="2111400" cy="1585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DSCN0833"/>
          <p:cNvPicPr/>
          <p:nvPr/>
        </p:nvPicPr>
        <p:blipFill>
          <a:blip r:embed="rId4"/>
          <a:stretch/>
        </p:blipFill>
        <p:spPr>
          <a:xfrm>
            <a:off x="5580000" y="5229360"/>
            <a:ext cx="1873440" cy="1404720"/>
          </a:xfrm>
          <a:prstGeom prst="rect">
            <a:avLst/>
          </a:prstGeom>
          <a:ln w="0">
            <a:noFill/>
          </a:ln>
        </p:spPr>
      </p:pic>
      <p:sp>
        <p:nvSpPr>
          <p:cNvPr id="415" name="矩形 9"/>
          <p:cNvSpPr/>
          <p:nvPr/>
        </p:nvSpPr>
        <p:spPr>
          <a:xfrm>
            <a:off x="7439040" y="30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2f2f2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4c14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4031"/>
              </a:solidFill>
              <a:latin typeface="微软雅黑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4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9930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4cc"/>
                </a:solidFill>
                <a:latin typeface="微软雅黑"/>
              </a:rPr>
              <a:t>       </a:t>
            </a:r>
            <a:r>
              <a:rPr b="0" lang="zh-CN" sz="3200" spc="-1" strike="noStrike">
                <a:solidFill>
                  <a:srgbClr val="1984cc"/>
                </a:solidFill>
                <a:latin typeface="微软雅黑"/>
              </a:rPr>
              <a:t>专业介绍</a:t>
            </a:r>
            <a:endParaRPr b="0" lang="en-US" sz="3200" spc="-1" strike="noStrike">
              <a:solidFill>
                <a:srgbClr val="1984cc"/>
              </a:solidFill>
              <a:latin typeface="微软雅黑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7008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虚拟仿真技术，或称为模拟技术，就是用一个系统模仿另一个真实系统的技术。从狭义上讲，是指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4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年代伴随着计算机技术的发展而逐步形成的一类试验研究的新技术；从广义上来说，仿真则是在人类认识自然界客观规律的历程中一直被有效地使用着。由于计算机技术的发展，仿真技术逐步自成体系，成为继数学推理、科学实验之后人类认识自然界客观规律的第三类基本方法，而且正在发展成为人类认识、改造和创造客观世界的一项通用性、战略性技术。</a:t>
            </a:r>
            <a:endParaRPr b="0" lang="en-US" sz="1800" spc="-1" strike="noStrike">
              <a:solidFill>
                <a:srgbClr val="4d4d4d"/>
              </a:solidFill>
              <a:latin typeface="微软雅黑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88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虚拟现实技术，简称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VR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，是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2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世纪</a:t>
            </a:r>
            <a:r>
              <a:rPr b="0" lang="en-US" sz="1800" spc="-1" strike="noStrike">
                <a:solidFill>
                  <a:srgbClr val="4d4d4d"/>
                </a:solidFill>
                <a:latin typeface="微软雅黑"/>
              </a:rPr>
              <a:t>80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</a:rPr>
              <a:t>年代新崛起的一种综合集成技术，涉及计算机图形学、人机交互技术、传感技术、人工智能等。它由计算机硬件、软件以及各种传感器构成的三维信息的人工环境——虚拟环境，可以逼真地模拟现实世界（甚至是不存在的）的事物和环境，人投入到这种环境中，立即有“亲临其境”的感觉，并可亲自操作，自然地与虚拟环境进行交互。虚拟仿真技术具有以下四个基本特性：沉浸性、交互性、虚幻性、逼真性。</a:t>
            </a:r>
            <a:endParaRPr b="0" lang="en-US" sz="1800" spc="-1" strike="noStrike">
              <a:solidFill>
                <a:srgbClr val="4d4d4d"/>
              </a:solidFill>
              <a:latin typeface="微软雅黑"/>
            </a:endParaRPr>
          </a:p>
        </p:txBody>
      </p:sp>
    </p:spTree>
  </p:cSld>
  <p:transition advTm="5000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3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3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2" dur="3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2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2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2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2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</a:rPr>
              <a:t>主修课程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360" y="1701720"/>
            <a:ext cx="7786800" cy="48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计算机辅助工程制图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AD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）、计算机网络及应、高等数学、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ASP.NE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开发应用 、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语言程序设计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Excel VB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动画设计与制作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 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AS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统计分析系统 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Visual Basic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程序设计 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信息系统设计基础 、互联网概论  、计算机基础与应用 、计算机网络  、计算机网络实践、平面图像处理、手机编程与手机游戏设计 、数据库编程技术、数字图像处理与特效、计算机应用基础、多煤体技术、计算机应用基础、网页设计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 spd="slow" advTm="5000"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5" dur="3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3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5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5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64" dur="5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5120" y="23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c414f"/>
                </a:solidFill>
                <a:latin typeface="Arial"/>
              </a:rPr>
              <a:t>自我介绍</a:t>
            </a:r>
            <a:endParaRPr b="0" lang="en-US" sz="3200" spc="-1" strike="noStrike">
              <a:solidFill>
                <a:srgbClr val="5c414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本人性格热情开朗，待人友好，为人诚实谦虚。工作勤奋，认真负责，能吃苦耐劳，尽职尽责，有耐心。具有亲和力，平易近人，善于与人沟通。活泼开朗、乐观向上、兴趣广泛、适应力强、勤奋好学、脚踏实地、认真负责、坚毅不拔、吃苦耐劳、勇于迎接新挑战 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学习刻苦认真，成绩优秀，品学兼优，此外，还积极参加课外文体活动，以增加自己的阅历，提高自己的能力。在工作中体会办事方式，锻炼口才和人际交往能力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c41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414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5c414f"/>
                </a:solidFill>
                <a:latin typeface="Arial"/>
              </a:rPr>
              <a:t>大学生涯，使我具备良好的心理素质，让我在竞争中拥有更大的优势，让我在人生事业中走得更高更远。获得了“优秀大学生”和“优秀毕业生”的称号。</a:t>
            </a:r>
            <a:endParaRPr b="0" lang="en-US" sz="2400" spc="-1" strike="noStrike">
              <a:solidFill>
                <a:srgbClr val="5c414f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05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0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5" dur="2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3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3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3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42" dur="5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47" dur="5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52" dur="5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能力与特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专业能力：掌握了工业工程的基本知识，如网页制作、动画制作等等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计算机能力：熟</a:t>
            </a: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Office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等应用办公软件、计算机网络及多媒体知识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语言能力：有良好的沟通技能，交际能力较强、英语</a:t>
            </a: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级 ，听说读写能力较强、粤话、普通话标准、流利，且具备较好的理解能力、书面与口头交流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27160" y="1347840"/>
            <a:ext cx="38070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Verdana"/>
                <a:ea typeface="宋体"/>
              </a:rPr>
              <a:t>	</a:t>
            </a: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综合能力：  ◇责任心强，有独立工作能力强，吃苦耐劳，有团队精神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具有良好的策划、组织、协调、管理能力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做事细心和有条理，尤其胜任财务、秘书、资料整理等方面工作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5338"/>
                </a:solidFill>
                <a:latin typeface="Verdana"/>
                <a:ea typeface="宋体"/>
              </a:rPr>
              <a:t>数学运算能力较好，思考、逻辑能力较强。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日期占位符 3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www.1ppt.co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经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96720" y="15573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2.9-2005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垛团小学           小学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5.9-2008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明德外国语学      初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08.9-2011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东台市第二职业高中     高中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  <a:ea typeface="宋体"/>
              </a:rPr>
              <a:t>2011.9-2014.7  </a:t>
            </a:r>
            <a:r>
              <a:rPr b="0" lang="zh-CN" sz="2800" spc="-1" strike="noStrike">
                <a:solidFill>
                  <a:srgbClr val="23387d"/>
                </a:solidFill>
                <a:latin typeface="Verdana"/>
                <a:ea typeface="宋体"/>
              </a:rPr>
              <a:t>徐州工业职业技术学院  专科       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2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2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3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2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2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3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2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2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3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2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2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3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2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2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0,-103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79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技能证书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级                            ◆ 计算机一级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计算机冈位证书               ◆ 计算机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4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9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3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2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2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3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2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2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荣誉证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340000" y="1412640"/>
            <a:ext cx="65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垛团小学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学生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-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评为明德外国语学校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学员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样被称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秀干事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度在明德外国语学校称为优秀团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在徐州工业职业技术学院中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“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讲比赛中得第二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6720" y="299700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                    </a:t>
            </a:r>
            <a:r>
              <a:rPr b="0" lang="zh-CN" sz="7200" spc="-1" strike="noStrike">
                <a:solidFill>
                  <a:srgbClr val="003300"/>
                </a:solidFill>
                <a:latin typeface="Verdana"/>
              </a:rPr>
              <a:t>谢谢观看！</a:t>
            </a:r>
            <a:endParaRPr b="0" lang="en-US" sz="7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 advTm="5000">
    <p:random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23:22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