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C34-B4AA-4DCF-A17D-35081A21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8B7-7B5C-4987-9385-C21D1026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DD2-A12B-4434-A2F2-A3628EC3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B35-2A3B-46D3-B379-8E47A2F1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D94-3C0E-43CF-9A53-82F53BD7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77A-80F4-4989-B3E1-05D58517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548-2F75-4698-806E-D9721F6F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91C-3271-4D60-B039-A52FD8B1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4E5-389C-4E2C-B572-4F8FDBE9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EE1-4D50-45CE-A08A-E9A3BC7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AA1-958C-48DF-A43C-8D95122E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3BC-561F-42A4-9802-7759A048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506B-B30D-49FA-8096-C24D7535711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23CD-0DA4-47F9-9BF2-AFA2B6CD84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673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5121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01220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22660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0121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36960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9407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72680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344088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86904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158364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58388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44096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9772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7266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15520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2720" y="6237360"/>
            <a:ext cx="649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48697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6549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0127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42267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25837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5119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26C-ACA8-49CA-AACE-2E2561EDB0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www.eeppt.com</dc:creator>
  <dc:description>ppt模板下载网站 http://www.eeppt.com</dc:description>
  <dc:language>en-US</dc:language>
  <cp:lastModifiedBy/>
  <dcterms:modified xsi:type="dcterms:W3CDTF">2015-05-22T15:41:21Z</dcterms:modified>
  <cp:revision>1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